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078-B0B2-489B-85F3-89565967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20F-E0D3-47BF-911E-D12AE883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588-96F9-45EA-9D99-D27DACB9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D88-CE53-497F-85CD-F7E5E7E8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18C-EFF5-431F-BFF5-6834E564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442-082D-401E-9BAA-B5C43EAF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AFA-A7A1-407E-ABB1-20693C21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A81-6F51-4AD1-B16B-F8FFF44E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AF3-C48A-4053-9D57-20BA259F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340-2517-442A-92B6-8635195C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E52-4A00-4127-857A-BE78436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CB3-19C7-4D99-BFEC-91CD2BF2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198F78EF-723A-4194-BAC8-DAAFE86E8D46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idol_cake.jpg"/>
          <p:cNvPicPr/>
          <p:nvPr/>
        </p:nvPicPr>
        <p:blipFill>
          <a:blip r:embed="rId1"/>
          <a:stretch/>
        </p:blipFill>
        <p:spPr>
          <a:xfrm>
            <a:off x="0" y="3240"/>
            <a:ext cx="10693440" cy="4319892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196920" y="193680"/>
            <a:ext cx="9451800" cy="9423360"/>
            <a:chOff x="196920" y="193680"/>
            <a:chExt cx="9451800" cy="9423360"/>
          </a:xfrm>
        </p:grpSpPr>
        <p:sp>
          <p:nvSpPr>
            <p:cNvPr id="43" name="Freeform 5"/>
            <p:cNvSpPr/>
            <p:nvPr/>
          </p:nvSpPr>
          <p:spPr>
            <a:xfrm>
              <a:off x="196920" y="193680"/>
              <a:ext cx="6114960" cy="6064200"/>
            </a:xfrm>
            <a:custGeom>
              <a:avLst/>
              <a:gdLst>
                <a:gd name="textAreaLeft" fmla="*/ 0 w 6114960"/>
                <a:gd name="textAreaRight" fmla="*/ 6115320 w 6114960"/>
                <a:gd name="textAreaTop" fmla="*/ 0 h 6064200"/>
                <a:gd name="textAreaBottom" fmla="*/ 6064560 h 6064200"/>
              </a:gdLst>
              <a:ahLst/>
              <a:rect l="textAreaLeft" t="textAreaTop" r="textAreaRight" b="textAreaBottom"/>
              <a:pathLst>
                <a:path w="3852" h="3820">
                  <a:moveTo>
                    <a:pt x="3782" y="246"/>
                  </a:moveTo>
                  <a:lnTo>
                    <a:pt x="3766" y="230"/>
                  </a:lnTo>
                  <a:lnTo>
                    <a:pt x="3742" y="206"/>
                  </a:lnTo>
                  <a:lnTo>
                    <a:pt x="3726" y="198"/>
                  </a:lnTo>
                  <a:lnTo>
                    <a:pt x="3702" y="182"/>
                  </a:lnTo>
                  <a:lnTo>
                    <a:pt x="3678" y="174"/>
                  </a:lnTo>
                  <a:lnTo>
                    <a:pt x="3654" y="166"/>
                  </a:lnTo>
                  <a:lnTo>
                    <a:pt x="3622" y="158"/>
                  </a:lnTo>
                  <a:lnTo>
                    <a:pt x="3600" y="158"/>
                  </a:lnTo>
                  <a:lnTo>
                    <a:pt x="3576" y="158"/>
                  </a:lnTo>
                  <a:lnTo>
                    <a:pt x="3544" y="158"/>
                  </a:lnTo>
                  <a:lnTo>
                    <a:pt x="3520" y="158"/>
                  </a:lnTo>
                  <a:lnTo>
                    <a:pt x="3496" y="166"/>
                  </a:lnTo>
                  <a:lnTo>
                    <a:pt x="3472" y="166"/>
                  </a:lnTo>
                  <a:lnTo>
                    <a:pt x="3440" y="174"/>
                  </a:lnTo>
                  <a:lnTo>
                    <a:pt x="3416" y="182"/>
                  </a:lnTo>
                  <a:lnTo>
                    <a:pt x="3392" y="190"/>
                  </a:lnTo>
                  <a:lnTo>
                    <a:pt x="3378" y="198"/>
                  </a:lnTo>
                  <a:lnTo>
                    <a:pt x="3362" y="214"/>
                  </a:lnTo>
                  <a:lnTo>
                    <a:pt x="3346" y="222"/>
                  </a:lnTo>
                  <a:lnTo>
                    <a:pt x="3330" y="230"/>
                  </a:lnTo>
                  <a:lnTo>
                    <a:pt x="3322" y="238"/>
                  </a:lnTo>
                  <a:lnTo>
                    <a:pt x="3306" y="254"/>
                  </a:lnTo>
                  <a:lnTo>
                    <a:pt x="3298" y="262"/>
                  </a:lnTo>
                  <a:lnTo>
                    <a:pt x="3282" y="276"/>
                  </a:lnTo>
                  <a:lnTo>
                    <a:pt x="3274" y="292"/>
                  </a:lnTo>
                  <a:lnTo>
                    <a:pt x="3266" y="300"/>
                  </a:lnTo>
                  <a:lnTo>
                    <a:pt x="3258" y="316"/>
                  </a:lnTo>
                  <a:lnTo>
                    <a:pt x="3250" y="332"/>
                  </a:lnTo>
                  <a:lnTo>
                    <a:pt x="3242" y="348"/>
                  </a:lnTo>
                  <a:lnTo>
                    <a:pt x="3242" y="364"/>
                  </a:lnTo>
                  <a:lnTo>
                    <a:pt x="3234" y="380"/>
                  </a:lnTo>
                  <a:lnTo>
                    <a:pt x="3234" y="396"/>
                  </a:lnTo>
                  <a:lnTo>
                    <a:pt x="3218" y="372"/>
                  </a:lnTo>
                  <a:lnTo>
                    <a:pt x="3202" y="356"/>
                  </a:lnTo>
                  <a:lnTo>
                    <a:pt x="3186" y="332"/>
                  </a:lnTo>
                  <a:lnTo>
                    <a:pt x="3172" y="316"/>
                  </a:lnTo>
                  <a:lnTo>
                    <a:pt x="3148" y="300"/>
                  </a:lnTo>
                  <a:lnTo>
                    <a:pt x="3132" y="284"/>
                  </a:lnTo>
                  <a:lnTo>
                    <a:pt x="3116" y="270"/>
                  </a:lnTo>
                  <a:lnTo>
                    <a:pt x="3092" y="254"/>
                  </a:lnTo>
                  <a:lnTo>
                    <a:pt x="3076" y="238"/>
                  </a:lnTo>
                  <a:lnTo>
                    <a:pt x="3052" y="230"/>
                  </a:lnTo>
                  <a:lnTo>
                    <a:pt x="3036" y="214"/>
                  </a:lnTo>
                  <a:lnTo>
                    <a:pt x="3012" y="206"/>
                  </a:lnTo>
                  <a:lnTo>
                    <a:pt x="2996" y="198"/>
                  </a:lnTo>
                  <a:lnTo>
                    <a:pt x="2972" y="190"/>
                  </a:lnTo>
                  <a:lnTo>
                    <a:pt x="2958" y="182"/>
                  </a:lnTo>
                  <a:lnTo>
                    <a:pt x="2934" y="182"/>
                  </a:lnTo>
                  <a:lnTo>
                    <a:pt x="2902" y="174"/>
                  </a:lnTo>
                  <a:lnTo>
                    <a:pt x="2870" y="166"/>
                  </a:lnTo>
                  <a:lnTo>
                    <a:pt x="2838" y="166"/>
                  </a:lnTo>
                  <a:lnTo>
                    <a:pt x="2814" y="166"/>
                  </a:lnTo>
                  <a:lnTo>
                    <a:pt x="2782" y="166"/>
                  </a:lnTo>
                  <a:lnTo>
                    <a:pt x="2750" y="174"/>
                  </a:lnTo>
                  <a:lnTo>
                    <a:pt x="2720" y="182"/>
                  </a:lnTo>
                  <a:lnTo>
                    <a:pt x="2696" y="190"/>
                  </a:lnTo>
                  <a:lnTo>
                    <a:pt x="2672" y="198"/>
                  </a:lnTo>
                  <a:lnTo>
                    <a:pt x="2640" y="206"/>
                  </a:lnTo>
                  <a:lnTo>
                    <a:pt x="2616" y="222"/>
                  </a:lnTo>
                  <a:lnTo>
                    <a:pt x="2592" y="238"/>
                  </a:lnTo>
                  <a:lnTo>
                    <a:pt x="2568" y="246"/>
                  </a:lnTo>
                  <a:lnTo>
                    <a:pt x="2552" y="262"/>
                  </a:lnTo>
                  <a:lnTo>
                    <a:pt x="2528" y="276"/>
                  </a:lnTo>
                  <a:lnTo>
                    <a:pt x="2514" y="300"/>
                  </a:lnTo>
                  <a:lnTo>
                    <a:pt x="2514" y="292"/>
                  </a:lnTo>
                  <a:lnTo>
                    <a:pt x="2514" y="284"/>
                  </a:lnTo>
                  <a:lnTo>
                    <a:pt x="2514" y="276"/>
                  </a:lnTo>
                  <a:lnTo>
                    <a:pt x="2514" y="270"/>
                  </a:lnTo>
                  <a:lnTo>
                    <a:pt x="2514" y="262"/>
                  </a:lnTo>
                  <a:lnTo>
                    <a:pt x="2514" y="254"/>
                  </a:lnTo>
                  <a:lnTo>
                    <a:pt x="2514" y="246"/>
                  </a:lnTo>
                  <a:lnTo>
                    <a:pt x="2514" y="238"/>
                  </a:lnTo>
                  <a:lnTo>
                    <a:pt x="2506" y="230"/>
                  </a:lnTo>
                  <a:lnTo>
                    <a:pt x="2506" y="222"/>
                  </a:lnTo>
                  <a:lnTo>
                    <a:pt x="2506" y="214"/>
                  </a:lnTo>
                  <a:lnTo>
                    <a:pt x="2498" y="214"/>
                  </a:lnTo>
                  <a:lnTo>
                    <a:pt x="2498" y="206"/>
                  </a:lnTo>
                  <a:lnTo>
                    <a:pt x="2490" y="206"/>
                  </a:lnTo>
                  <a:lnTo>
                    <a:pt x="2490" y="198"/>
                  </a:lnTo>
                  <a:lnTo>
                    <a:pt x="2482" y="198"/>
                  </a:lnTo>
                  <a:lnTo>
                    <a:pt x="2482" y="190"/>
                  </a:lnTo>
                  <a:lnTo>
                    <a:pt x="2474" y="190"/>
                  </a:lnTo>
                  <a:lnTo>
                    <a:pt x="2474" y="182"/>
                  </a:lnTo>
                  <a:lnTo>
                    <a:pt x="2466" y="174"/>
                  </a:lnTo>
                  <a:lnTo>
                    <a:pt x="2458" y="174"/>
                  </a:lnTo>
                  <a:lnTo>
                    <a:pt x="2450" y="166"/>
                  </a:lnTo>
                  <a:lnTo>
                    <a:pt x="2442" y="158"/>
                  </a:lnTo>
                  <a:lnTo>
                    <a:pt x="2434" y="158"/>
                  </a:lnTo>
                  <a:lnTo>
                    <a:pt x="2426" y="158"/>
                  </a:lnTo>
                  <a:lnTo>
                    <a:pt x="2426" y="150"/>
                  </a:lnTo>
                  <a:lnTo>
                    <a:pt x="2418" y="150"/>
                  </a:lnTo>
                  <a:lnTo>
                    <a:pt x="2410" y="150"/>
                  </a:lnTo>
                  <a:lnTo>
                    <a:pt x="2402" y="142"/>
                  </a:lnTo>
                  <a:lnTo>
                    <a:pt x="2394" y="142"/>
                  </a:lnTo>
                  <a:lnTo>
                    <a:pt x="2386" y="142"/>
                  </a:lnTo>
                  <a:lnTo>
                    <a:pt x="2378" y="142"/>
                  </a:lnTo>
                  <a:lnTo>
                    <a:pt x="2370" y="142"/>
                  </a:lnTo>
                  <a:lnTo>
                    <a:pt x="2362" y="142"/>
                  </a:lnTo>
                  <a:lnTo>
                    <a:pt x="2354" y="142"/>
                  </a:lnTo>
                  <a:lnTo>
                    <a:pt x="2346" y="142"/>
                  </a:lnTo>
                  <a:lnTo>
                    <a:pt x="2338" y="142"/>
                  </a:lnTo>
                  <a:lnTo>
                    <a:pt x="2330" y="142"/>
                  </a:lnTo>
                  <a:lnTo>
                    <a:pt x="2322" y="150"/>
                  </a:lnTo>
                  <a:lnTo>
                    <a:pt x="2314" y="150"/>
                  </a:lnTo>
                  <a:lnTo>
                    <a:pt x="2308" y="158"/>
                  </a:lnTo>
                  <a:lnTo>
                    <a:pt x="2300" y="158"/>
                  </a:lnTo>
                  <a:lnTo>
                    <a:pt x="2292" y="166"/>
                  </a:lnTo>
                  <a:lnTo>
                    <a:pt x="2284" y="174"/>
                  </a:lnTo>
                  <a:lnTo>
                    <a:pt x="2276" y="182"/>
                  </a:lnTo>
                  <a:lnTo>
                    <a:pt x="2268" y="182"/>
                  </a:lnTo>
                  <a:lnTo>
                    <a:pt x="2260" y="198"/>
                  </a:lnTo>
                  <a:lnTo>
                    <a:pt x="2252" y="206"/>
                  </a:lnTo>
                  <a:lnTo>
                    <a:pt x="2244" y="214"/>
                  </a:lnTo>
                  <a:lnTo>
                    <a:pt x="2244" y="222"/>
                  </a:lnTo>
                  <a:lnTo>
                    <a:pt x="2236" y="238"/>
                  </a:lnTo>
                  <a:lnTo>
                    <a:pt x="2228" y="246"/>
                  </a:lnTo>
                  <a:lnTo>
                    <a:pt x="2220" y="262"/>
                  </a:lnTo>
                  <a:lnTo>
                    <a:pt x="2212" y="276"/>
                  </a:lnTo>
                  <a:lnTo>
                    <a:pt x="2212" y="284"/>
                  </a:lnTo>
                  <a:lnTo>
                    <a:pt x="2204" y="300"/>
                  </a:lnTo>
                  <a:lnTo>
                    <a:pt x="2196" y="316"/>
                  </a:lnTo>
                  <a:lnTo>
                    <a:pt x="2196" y="332"/>
                  </a:lnTo>
                  <a:lnTo>
                    <a:pt x="2188" y="340"/>
                  </a:lnTo>
                  <a:lnTo>
                    <a:pt x="2180" y="356"/>
                  </a:lnTo>
                  <a:lnTo>
                    <a:pt x="2180" y="372"/>
                  </a:lnTo>
                  <a:lnTo>
                    <a:pt x="2172" y="388"/>
                  </a:lnTo>
                  <a:lnTo>
                    <a:pt x="2164" y="348"/>
                  </a:lnTo>
                  <a:lnTo>
                    <a:pt x="2148" y="308"/>
                  </a:lnTo>
                  <a:lnTo>
                    <a:pt x="2124" y="276"/>
                  </a:lnTo>
                  <a:lnTo>
                    <a:pt x="2100" y="238"/>
                  </a:lnTo>
                  <a:lnTo>
                    <a:pt x="2078" y="206"/>
                  </a:lnTo>
                  <a:lnTo>
                    <a:pt x="2046" y="174"/>
                  </a:lnTo>
                  <a:lnTo>
                    <a:pt x="2014" y="142"/>
                  </a:lnTo>
                  <a:lnTo>
                    <a:pt x="1974" y="118"/>
                  </a:lnTo>
                  <a:lnTo>
                    <a:pt x="1934" y="86"/>
                  </a:lnTo>
                  <a:lnTo>
                    <a:pt x="1894" y="70"/>
                  </a:lnTo>
                  <a:lnTo>
                    <a:pt x="1856" y="48"/>
                  </a:lnTo>
                  <a:lnTo>
                    <a:pt x="1816" y="32"/>
                  </a:lnTo>
                  <a:lnTo>
                    <a:pt x="1768" y="16"/>
                  </a:lnTo>
                  <a:lnTo>
                    <a:pt x="1720" y="8"/>
                  </a:lnTo>
                  <a:lnTo>
                    <a:pt x="1680" y="0"/>
                  </a:lnTo>
                  <a:lnTo>
                    <a:pt x="1634" y="0"/>
                  </a:lnTo>
                  <a:lnTo>
                    <a:pt x="1626" y="0"/>
                  </a:lnTo>
                  <a:lnTo>
                    <a:pt x="1618" y="0"/>
                  </a:lnTo>
                  <a:lnTo>
                    <a:pt x="1610" y="0"/>
                  </a:lnTo>
                  <a:lnTo>
                    <a:pt x="1602" y="0"/>
                  </a:lnTo>
                  <a:lnTo>
                    <a:pt x="1594" y="0"/>
                  </a:lnTo>
                  <a:lnTo>
                    <a:pt x="1586" y="0"/>
                  </a:lnTo>
                  <a:lnTo>
                    <a:pt x="1578" y="0"/>
                  </a:lnTo>
                  <a:lnTo>
                    <a:pt x="1570" y="0"/>
                  </a:lnTo>
                  <a:lnTo>
                    <a:pt x="1562" y="8"/>
                  </a:lnTo>
                  <a:lnTo>
                    <a:pt x="1554" y="8"/>
                  </a:lnTo>
                  <a:lnTo>
                    <a:pt x="1546" y="8"/>
                  </a:lnTo>
                  <a:lnTo>
                    <a:pt x="1538" y="8"/>
                  </a:lnTo>
                  <a:lnTo>
                    <a:pt x="1530" y="8"/>
                  </a:lnTo>
                  <a:lnTo>
                    <a:pt x="1482" y="24"/>
                  </a:lnTo>
                  <a:lnTo>
                    <a:pt x="1436" y="32"/>
                  </a:lnTo>
                  <a:lnTo>
                    <a:pt x="1396" y="48"/>
                  </a:lnTo>
                  <a:lnTo>
                    <a:pt x="1348" y="62"/>
                  </a:lnTo>
                  <a:lnTo>
                    <a:pt x="1308" y="86"/>
                  </a:lnTo>
                  <a:lnTo>
                    <a:pt x="1276" y="110"/>
                  </a:lnTo>
                  <a:lnTo>
                    <a:pt x="1236" y="134"/>
                  </a:lnTo>
                  <a:lnTo>
                    <a:pt x="1206" y="158"/>
                  </a:lnTo>
                  <a:lnTo>
                    <a:pt x="1174" y="182"/>
                  </a:lnTo>
                  <a:lnTo>
                    <a:pt x="1142" y="214"/>
                  </a:lnTo>
                  <a:lnTo>
                    <a:pt x="1118" y="246"/>
                  </a:lnTo>
                  <a:lnTo>
                    <a:pt x="1094" y="270"/>
                  </a:lnTo>
                  <a:lnTo>
                    <a:pt x="1070" y="300"/>
                  </a:lnTo>
                  <a:lnTo>
                    <a:pt x="1054" y="332"/>
                  </a:lnTo>
                  <a:lnTo>
                    <a:pt x="1030" y="364"/>
                  </a:lnTo>
                  <a:lnTo>
                    <a:pt x="1016" y="396"/>
                  </a:lnTo>
                  <a:lnTo>
                    <a:pt x="1008" y="412"/>
                  </a:lnTo>
                  <a:lnTo>
                    <a:pt x="992" y="428"/>
                  </a:lnTo>
                  <a:lnTo>
                    <a:pt x="984" y="444"/>
                  </a:lnTo>
                  <a:lnTo>
                    <a:pt x="968" y="460"/>
                  </a:lnTo>
                  <a:lnTo>
                    <a:pt x="960" y="468"/>
                  </a:lnTo>
                  <a:lnTo>
                    <a:pt x="944" y="484"/>
                  </a:lnTo>
                  <a:lnTo>
                    <a:pt x="928" y="492"/>
                  </a:lnTo>
                  <a:lnTo>
                    <a:pt x="912" y="498"/>
                  </a:lnTo>
                  <a:lnTo>
                    <a:pt x="896" y="514"/>
                  </a:lnTo>
                  <a:lnTo>
                    <a:pt x="880" y="522"/>
                  </a:lnTo>
                  <a:lnTo>
                    <a:pt x="864" y="530"/>
                  </a:lnTo>
                  <a:lnTo>
                    <a:pt x="848" y="538"/>
                  </a:lnTo>
                  <a:lnTo>
                    <a:pt x="824" y="538"/>
                  </a:lnTo>
                  <a:lnTo>
                    <a:pt x="808" y="546"/>
                  </a:lnTo>
                  <a:lnTo>
                    <a:pt x="794" y="554"/>
                  </a:lnTo>
                  <a:lnTo>
                    <a:pt x="778" y="554"/>
                  </a:lnTo>
                  <a:lnTo>
                    <a:pt x="762" y="554"/>
                  </a:lnTo>
                  <a:lnTo>
                    <a:pt x="754" y="562"/>
                  </a:lnTo>
                  <a:lnTo>
                    <a:pt x="746" y="562"/>
                  </a:lnTo>
                  <a:lnTo>
                    <a:pt x="730" y="562"/>
                  </a:lnTo>
                  <a:lnTo>
                    <a:pt x="722" y="562"/>
                  </a:lnTo>
                  <a:lnTo>
                    <a:pt x="714" y="562"/>
                  </a:lnTo>
                  <a:lnTo>
                    <a:pt x="698" y="554"/>
                  </a:lnTo>
                  <a:lnTo>
                    <a:pt x="690" y="554"/>
                  </a:lnTo>
                  <a:lnTo>
                    <a:pt x="682" y="554"/>
                  </a:lnTo>
                  <a:lnTo>
                    <a:pt x="674" y="554"/>
                  </a:lnTo>
                  <a:lnTo>
                    <a:pt x="666" y="546"/>
                  </a:lnTo>
                  <a:lnTo>
                    <a:pt x="658" y="546"/>
                  </a:lnTo>
                  <a:lnTo>
                    <a:pt x="650" y="538"/>
                  </a:lnTo>
                  <a:lnTo>
                    <a:pt x="642" y="538"/>
                  </a:lnTo>
                  <a:lnTo>
                    <a:pt x="634" y="530"/>
                  </a:lnTo>
                  <a:lnTo>
                    <a:pt x="626" y="530"/>
                  </a:lnTo>
                  <a:lnTo>
                    <a:pt x="618" y="514"/>
                  </a:lnTo>
                  <a:lnTo>
                    <a:pt x="602" y="506"/>
                  </a:lnTo>
                  <a:lnTo>
                    <a:pt x="594" y="498"/>
                  </a:lnTo>
                  <a:lnTo>
                    <a:pt x="588" y="484"/>
                  </a:lnTo>
                  <a:lnTo>
                    <a:pt x="588" y="476"/>
                  </a:lnTo>
                  <a:lnTo>
                    <a:pt x="580" y="460"/>
                  </a:lnTo>
                  <a:lnTo>
                    <a:pt x="572" y="452"/>
                  </a:lnTo>
                  <a:lnTo>
                    <a:pt x="572" y="444"/>
                  </a:lnTo>
                  <a:lnTo>
                    <a:pt x="572" y="436"/>
                  </a:lnTo>
                  <a:lnTo>
                    <a:pt x="572" y="420"/>
                  </a:lnTo>
                  <a:lnTo>
                    <a:pt x="572" y="412"/>
                  </a:lnTo>
                  <a:lnTo>
                    <a:pt x="572" y="404"/>
                  </a:lnTo>
                  <a:lnTo>
                    <a:pt x="572" y="388"/>
                  </a:lnTo>
                  <a:lnTo>
                    <a:pt x="572" y="380"/>
                  </a:lnTo>
                  <a:lnTo>
                    <a:pt x="572" y="372"/>
                  </a:lnTo>
                  <a:lnTo>
                    <a:pt x="572" y="364"/>
                  </a:lnTo>
                  <a:lnTo>
                    <a:pt x="580" y="356"/>
                  </a:lnTo>
                  <a:lnTo>
                    <a:pt x="580" y="348"/>
                  </a:lnTo>
                  <a:lnTo>
                    <a:pt x="580" y="340"/>
                  </a:lnTo>
                  <a:lnTo>
                    <a:pt x="588" y="332"/>
                  </a:lnTo>
                  <a:lnTo>
                    <a:pt x="594" y="324"/>
                  </a:lnTo>
                  <a:lnTo>
                    <a:pt x="594" y="316"/>
                  </a:lnTo>
                  <a:lnTo>
                    <a:pt x="602" y="308"/>
                  </a:lnTo>
                  <a:lnTo>
                    <a:pt x="610" y="300"/>
                  </a:lnTo>
                  <a:lnTo>
                    <a:pt x="610" y="292"/>
                  </a:lnTo>
                  <a:lnTo>
                    <a:pt x="618" y="284"/>
                  </a:lnTo>
                  <a:lnTo>
                    <a:pt x="626" y="284"/>
                  </a:lnTo>
                  <a:lnTo>
                    <a:pt x="634" y="276"/>
                  </a:lnTo>
                  <a:lnTo>
                    <a:pt x="642" y="270"/>
                  </a:lnTo>
                  <a:lnTo>
                    <a:pt x="650" y="270"/>
                  </a:lnTo>
                  <a:lnTo>
                    <a:pt x="658" y="262"/>
                  </a:lnTo>
                  <a:lnTo>
                    <a:pt x="666" y="262"/>
                  </a:lnTo>
                  <a:lnTo>
                    <a:pt x="674" y="254"/>
                  </a:lnTo>
                  <a:lnTo>
                    <a:pt x="682" y="254"/>
                  </a:lnTo>
                  <a:lnTo>
                    <a:pt x="690" y="254"/>
                  </a:lnTo>
                  <a:lnTo>
                    <a:pt x="706" y="254"/>
                  </a:lnTo>
                  <a:lnTo>
                    <a:pt x="714" y="254"/>
                  </a:lnTo>
                  <a:lnTo>
                    <a:pt x="722" y="254"/>
                  </a:lnTo>
                  <a:lnTo>
                    <a:pt x="738" y="262"/>
                  </a:lnTo>
                  <a:lnTo>
                    <a:pt x="746" y="262"/>
                  </a:lnTo>
                  <a:lnTo>
                    <a:pt x="754" y="270"/>
                  </a:lnTo>
                  <a:lnTo>
                    <a:pt x="762" y="270"/>
                  </a:lnTo>
                  <a:lnTo>
                    <a:pt x="778" y="276"/>
                  </a:lnTo>
                  <a:lnTo>
                    <a:pt x="786" y="284"/>
                  </a:lnTo>
                  <a:lnTo>
                    <a:pt x="794" y="284"/>
                  </a:lnTo>
                  <a:lnTo>
                    <a:pt x="794" y="292"/>
                  </a:lnTo>
                  <a:lnTo>
                    <a:pt x="802" y="300"/>
                  </a:lnTo>
                  <a:lnTo>
                    <a:pt x="808" y="308"/>
                  </a:lnTo>
                  <a:lnTo>
                    <a:pt x="808" y="316"/>
                  </a:lnTo>
                  <a:lnTo>
                    <a:pt x="816" y="324"/>
                  </a:lnTo>
                  <a:lnTo>
                    <a:pt x="816" y="332"/>
                  </a:lnTo>
                  <a:lnTo>
                    <a:pt x="816" y="340"/>
                  </a:lnTo>
                  <a:lnTo>
                    <a:pt x="816" y="356"/>
                  </a:lnTo>
                  <a:lnTo>
                    <a:pt x="824" y="364"/>
                  </a:lnTo>
                  <a:lnTo>
                    <a:pt x="824" y="372"/>
                  </a:lnTo>
                  <a:lnTo>
                    <a:pt x="816" y="380"/>
                  </a:lnTo>
                  <a:lnTo>
                    <a:pt x="816" y="388"/>
                  </a:lnTo>
                  <a:lnTo>
                    <a:pt x="816" y="396"/>
                  </a:lnTo>
                  <a:lnTo>
                    <a:pt x="816" y="404"/>
                  </a:lnTo>
                  <a:lnTo>
                    <a:pt x="808" y="412"/>
                  </a:lnTo>
                  <a:lnTo>
                    <a:pt x="802" y="420"/>
                  </a:lnTo>
                  <a:lnTo>
                    <a:pt x="802" y="436"/>
                  </a:lnTo>
                  <a:lnTo>
                    <a:pt x="794" y="436"/>
                  </a:lnTo>
                  <a:lnTo>
                    <a:pt x="786" y="444"/>
                  </a:lnTo>
                  <a:lnTo>
                    <a:pt x="778" y="452"/>
                  </a:lnTo>
                  <a:lnTo>
                    <a:pt x="770" y="460"/>
                  </a:lnTo>
                  <a:lnTo>
                    <a:pt x="762" y="460"/>
                  </a:lnTo>
                  <a:lnTo>
                    <a:pt x="754" y="468"/>
                  </a:lnTo>
                  <a:lnTo>
                    <a:pt x="746" y="468"/>
                  </a:lnTo>
                  <a:lnTo>
                    <a:pt x="738" y="468"/>
                  </a:lnTo>
                  <a:lnTo>
                    <a:pt x="730" y="468"/>
                  </a:lnTo>
                  <a:lnTo>
                    <a:pt x="722" y="468"/>
                  </a:lnTo>
                  <a:lnTo>
                    <a:pt x="714" y="468"/>
                  </a:lnTo>
                  <a:lnTo>
                    <a:pt x="706" y="468"/>
                  </a:lnTo>
                  <a:lnTo>
                    <a:pt x="698" y="468"/>
                  </a:lnTo>
                  <a:lnTo>
                    <a:pt x="690" y="460"/>
                  </a:lnTo>
                  <a:lnTo>
                    <a:pt x="682" y="460"/>
                  </a:lnTo>
                  <a:lnTo>
                    <a:pt x="674" y="452"/>
                  </a:lnTo>
                  <a:lnTo>
                    <a:pt x="666" y="444"/>
                  </a:lnTo>
                  <a:lnTo>
                    <a:pt x="658" y="436"/>
                  </a:lnTo>
                  <a:lnTo>
                    <a:pt x="650" y="436"/>
                  </a:lnTo>
                  <a:lnTo>
                    <a:pt x="650" y="428"/>
                  </a:lnTo>
                  <a:lnTo>
                    <a:pt x="650" y="420"/>
                  </a:lnTo>
                  <a:lnTo>
                    <a:pt x="642" y="420"/>
                  </a:lnTo>
                  <a:lnTo>
                    <a:pt x="642" y="412"/>
                  </a:lnTo>
                  <a:lnTo>
                    <a:pt x="642" y="404"/>
                  </a:lnTo>
                  <a:lnTo>
                    <a:pt x="642" y="396"/>
                  </a:lnTo>
                  <a:lnTo>
                    <a:pt x="642" y="388"/>
                  </a:lnTo>
                  <a:lnTo>
                    <a:pt x="650" y="388"/>
                  </a:lnTo>
                  <a:lnTo>
                    <a:pt x="650" y="380"/>
                  </a:lnTo>
                  <a:lnTo>
                    <a:pt x="650" y="372"/>
                  </a:lnTo>
                  <a:lnTo>
                    <a:pt x="658" y="372"/>
                  </a:lnTo>
                  <a:lnTo>
                    <a:pt x="658" y="364"/>
                  </a:lnTo>
                  <a:lnTo>
                    <a:pt x="666" y="364"/>
                  </a:lnTo>
                  <a:lnTo>
                    <a:pt x="666" y="356"/>
                  </a:lnTo>
                  <a:lnTo>
                    <a:pt x="674" y="356"/>
                  </a:lnTo>
                  <a:lnTo>
                    <a:pt x="674" y="348"/>
                  </a:lnTo>
                  <a:lnTo>
                    <a:pt x="682" y="348"/>
                  </a:lnTo>
                  <a:lnTo>
                    <a:pt x="690" y="348"/>
                  </a:lnTo>
                  <a:lnTo>
                    <a:pt x="698" y="348"/>
                  </a:lnTo>
                  <a:lnTo>
                    <a:pt x="706" y="348"/>
                  </a:lnTo>
                  <a:lnTo>
                    <a:pt x="706" y="356"/>
                  </a:lnTo>
                  <a:lnTo>
                    <a:pt x="714" y="356"/>
                  </a:lnTo>
                  <a:lnTo>
                    <a:pt x="714" y="364"/>
                  </a:lnTo>
                  <a:lnTo>
                    <a:pt x="722" y="372"/>
                  </a:lnTo>
                  <a:lnTo>
                    <a:pt x="722" y="380"/>
                  </a:lnTo>
                  <a:lnTo>
                    <a:pt x="714" y="380"/>
                  </a:lnTo>
                  <a:lnTo>
                    <a:pt x="714" y="388"/>
                  </a:lnTo>
                  <a:lnTo>
                    <a:pt x="714" y="396"/>
                  </a:lnTo>
                  <a:lnTo>
                    <a:pt x="706" y="396"/>
                  </a:lnTo>
                  <a:lnTo>
                    <a:pt x="706" y="404"/>
                  </a:lnTo>
                  <a:lnTo>
                    <a:pt x="730" y="428"/>
                  </a:lnTo>
                  <a:lnTo>
                    <a:pt x="738" y="428"/>
                  </a:lnTo>
                  <a:lnTo>
                    <a:pt x="738" y="420"/>
                  </a:lnTo>
                  <a:lnTo>
                    <a:pt x="746" y="412"/>
                  </a:lnTo>
                  <a:lnTo>
                    <a:pt x="746" y="404"/>
                  </a:lnTo>
                  <a:lnTo>
                    <a:pt x="754" y="396"/>
                  </a:lnTo>
                  <a:lnTo>
                    <a:pt x="754" y="388"/>
                  </a:lnTo>
                  <a:lnTo>
                    <a:pt x="754" y="380"/>
                  </a:lnTo>
                  <a:lnTo>
                    <a:pt x="754" y="372"/>
                  </a:lnTo>
                  <a:lnTo>
                    <a:pt x="754" y="364"/>
                  </a:lnTo>
                  <a:lnTo>
                    <a:pt x="754" y="356"/>
                  </a:lnTo>
                  <a:lnTo>
                    <a:pt x="754" y="348"/>
                  </a:lnTo>
                  <a:lnTo>
                    <a:pt x="746" y="348"/>
                  </a:lnTo>
                  <a:lnTo>
                    <a:pt x="746" y="340"/>
                  </a:lnTo>
                  <a:lnTo>
                    <a:pt x="746" y="332"/>
                  </a:lnTo>
                  <a:lnTo>
                    <a:pt x="738" y="332"/>
                  </a:lnTo>
                  <a:lnTo>
                    <a:pt x="730" y="324"/>
                  </a:lnTo>
                  <a:lnTo>
                    <a:pt x="722" y="316"/>
                  </a:lnTo>
                  <a:lnTo>
                    <a:pt x="714" y="316"/>
                  </a:lnTo>
                  <a:lnTo>
                    <a:pt x="706" y="316"/>
                  </a:lnTo>
                  <a:lnTo>
                    <a:pt x="706" y="308"/>
                  </a:lnTo>
                  <a:lnTo>
                    <a:pt x="698" y="308"/>
                  </a:lnTo>
                  <a:lnTo>
                    <a:pt x="690" y="308"/>
                  </a:lnTo>
                  <a:lnTo>
                    <a:pt x="682" y="308"/>
                  </a:lnTo>
                  <a:lnTo>
                    <a:pt x="674" y="308"/>
                  </a:lnTo>
                  <a:lnTo>
                    <a:pt x="674" y="316"/>
                  </a:lnTo>
                  <a:lnTo>
                    <a:pt x="666" y="316"/>
                  </a:lnTo>
                  <a:lnTo>
                    <a:pt x="658" y="316"/>
                  </a:lnTo>
                  <a:lnTo>
                    <a:pt x="658" y="324"/>
                  </a:lnTo>
                  <a:lnTo>
                    <a:pt x="650" y="324"/>
                  </a:lnTo>
                  <a:lnTo>
                    <a:pt x="642" y="332"/>
                  </a:lnTo>
                  <a:lnTo>
                    <a:pt x="634" y="332"/>
                  </a:lnTo>
                  <a:lnTo>
                    <a:pt x="634" y="340"/>
                  </a:lnTo>
                  <a:lnTo>
                    <a:pt x="626" y="340"/>
                  </a:lnTo>
                  <a:lnTo>
                    <a:pt x="626" y="348"/>
                  </a:lnTo>
                  <a:lnTo>
                    <a:pt x="626" y="356"/>
                  </a:lnTo>
                  <a:lnTo>
                    <a:pt x="618" y="356"/>
                  </a:lnTo>
                  <a:lnTo>
                    <a:pt x="618" y="364"/>
                  </a:lnTo>
                  <a:lnTo>
                    <a:pt x="610" y="372"/>
                  </a:lnTo>
                  <a:lnTo>
                    <a:pt x="610" y="380"/>
                  </a:lnTo>
                  <a:lnTo>
                    <a:pt x="610" y="388"/>
                  </a:lnTo>
                  <a:lnTo>
                    <a:pt x="602" y="396"/>
                  </a:lnTo>
                  <a:lnTo>
                    <a:pt x="602" y="404"/>
                  </a:lnTo>
                  <a:lnTo>
                    <a:pt x="602" y="412"/>
                  </a:lnTo>
                  <a:lnTo>
                    <a:pt x="602" y="420"/>
                  </a:lnTo>
                  <a:lnTo>
                    <a:pt x="610" y="420"/>
                  </a:lnTo>
                  <a:lnTo>
                    <a:pt x="610" y="428"/>
                  </a:lnTo>
                  <a:lnTo>
                    <a:pt x="610" y="436"/>
                  </a:lnTo>
                  <a:lnTo>
                    <a:pt x="618" y="444"/>
                  </a:lnTo>
                  <a:lnTo>
                    <a:pt x="618" y="452"/>
                  </a:lnTo>
                  <a:lnTo>
                    <a:pt x="626" y="452"/>
                  </a:lnTo>
                  <a:lnTo>
                    <a:pt x="626" y="460"/>
                  </a:lnTo>
                  <a:lnTo>
                    <a:pt x="634" y="468"/>
                  </a:lnTo>
                  <a:lnTo>
                    <a:pt x="642" y="476"/>
                  </a:lnTo>
                  <a:lnTo>
                    <a:pt x="650" y="484"/>
                  </a:lnTo>
                  <a:lnTo>
                    <a:pt x="658" y="492"/>
                  </a:lnTo>
                  <a:lnTo>
                    <a:pt x="674" y="492"/>
                  </a:lnTo>
                  <a:lnTo>
                    <a:pt x="682" y="498"/>
                  </a:lnTo>
                  <a:lnTo>
                    <a:pt x="698" y="506"/>
                  </a:lnTo>
                  <a:lnTo>
                    <a:pt x="706" y="506"/>
                  </a:lnTo>
                  <a:lnTo>
                    <a:pt x="714" y="506"/>
                  </a:lnTo>
                  <a:lnTo>
                    <a:pt x="730" y="506"/>
                  </a:lnTo>
                  <a:lnTo>
                    <a:pt x="738" y="506"/>
                  </a:lnTo>
                  <a:lnTo>
                    <a:pt x="754" y="506"/>
                  </a:lnTo>
                  <a:lnTo>
                    <a:pt x="762" y="498"/>
                  </a:lnTo>
                  <a:lnTo>
                    <a:pt x="770" y="498"/>
                  </a:lnTo>
                  <a:lnTo>
                    <a:pt x="786" y="492"/>
                  </a:lnTo>
                  <a:lnTo>
                    <a:pt x="794" y="484"/>
                  </a:lnTo>
                  <a:lnTo>
                    <a:pt x="808" y="476"/>
                  </a:lnTo>
                  <a:lnTo>
                    <a:pt x="816" y="468"/>
                  </a:lnTo>
                  <a:lnTo>
                    <a:pt x="824" y="460"/>
                  </a:lnTo>
                  <a:lnTo>
                    <a:pt x="832" y="444"/>
                  </a:lnTo>
                  <a:lnTo>
                    <a:pt x="840" y="436"/>
                  </a:lnTo>
                  <a:lnTo>
                    <a:pt x="848" y="420"/>
                  </a:lnTo>
                  <a:lnTo>
                    <a:pt x="848" y="412"/>
                  </a:lnTo>
                  <a:lnTo>
                    <a:pt x="856" y="396"/>
                  </a:lnTo>
                  <a:lnTo>
                    <a:pt x="856" y="388"/>
                  </a:lnTo>
                  <a:lnTo>
                    <a:pt x="856" y="372"/>
                  </a:lnTo>
                  <a:lnTo>
                    <a:pt x="856" y="364"/>
                  </a:lnTo>
                  <a:lnTo>
                    <a:pt x="856" y="348"/>
                  </a:lnTo>
                  <a:lnTo>
                    <a:pt x="856" y="340"/>
                  </a:lnTo>
                  <a:lnTo>
                    <a:pt x="856" y="324"/>
                  </a:lnTo>
                  <a:lnTo>
                    <a:pt x="848" y="316"/>
                  </a:lnTo>
                  <a:lnTo>
                    <a:pt x="848" y="300"/>
                  </a:lnTo>
                  <a:lnTo>
                    <a:pt x="840" y="292"/>
                  </a:lnTo>
                  <a:lnTo>
                    <a:pt x="832" y="284"/>
                  </a:lnTo>
                  <a:lnTo>
                    <a:pt x="824" y="276"/>
                  </a:lnTo>
                  <a:lnTo>
                    <a:pt x="816" y="262"/>
                  </a:lnTo>
                  <a:lnTo>
                    <a:pt x="808" y="254"/>
                  </a:lnTo>
                  <a:lnTo>
                    <a:pt x="794" y="246"/>
                  </a:lnTo>
                  <a:lnTo>
                    <a:pt x="786" y="238"/>
                  </a:lnTo>
                  <a:lnTo>
                    <a:pt x="770" y="230"/>
                  </a:lnTo>
                  <a:lnTo>
                    <a:pt x="762" y="230"/>
                  </a:lnTo>
                  <a:lnTo>
                    <a:pt x="746" y="222"/>
                  </a:lnTo>
                  <a:lnTo>
                    <a:pt x="730" y="222"/>
                  </a:lnTo>
                  <a:lnTo>
                    <a:pt x="722" y="214"/>
                  </a:lnTo>
                  <a:lnTo>
                    <a:pt x="706" y="214"/>
                  </a:lnTo>
                  <a:lnTo>
                    <a:pt x="690" y="214"/>
                  </a:lnTo>
                  <a:lnTo>
                    <a:pt x="674" y="214"/>
                  </a:lnTo>
                  <a:lnTo>
                    <a:pt x="658" y="222"/>
                  </a:lnTo>
                  <a:lnTo>
                    <a:pt x="650" y="230"/>
                  </a:lnTo>
                  <a:lnTo>
                    <a:pt x="642" y="230"/>
                  </a:lnTo>
                  <a:lnTo>
                    <a:pt x="626" y="238"/>
                  </a:lnTo>
                  <a:lnTo>
                    <a:pt x="618" y="238"/>
                  </a:lnTo>
                  <a:lnTo>
                    <a:pt x="610" y="246"/>
                  </a:lnTo>
                  <a:lnTo>
                    <a:pt x="602" y="254"/>
                  </a:lnTo>
                  <a:lnTo>
                    <a:pt x="594" y="262"/>
                  </a:lnTo>
                  <a:lnTo>
                    <a:pt x="588" y="270"/>
                  </a:lnTo>
                  <a:lnTo>
                    <a:pt x="580" y="276"/>
                  </a:lnTo>
                  <a:lnTo>
                    <a:pt x="572" y="284"/>
                  </a:lnTo>
                  <a:lnTo>
                    <a:pt x="564" y="292"/>
                  </a:lnTo>
                  <a:lnTo>
                    <a:pt x="564" y="308"/>
                  </a:lnTo>
                  <a:lnTo>
                    <a:pt x="556" y="316"/>
                  </a:lnTo>
                  <a:lnTo>
                    <a:pt x="548" y="324"/>
                  </a:lnTo>
                  <a:lnTo>
                    <a:pt x="548" y="332"/>
                  </a:lnTo>
                  <a:lnTo>
                    <a:pt x="540" y="340"/>
                  </a:lnTo>
                  <a:lnTo>
                    <a:pt x="540" y="356"/>
                  </a:lnTo>
                  <a:lnTo>
                    <a:pt x="540" y="364"/>
                  </a:lnTo>
                  <a:lnTo>
                    <a:pt x="532" y="372"/>
                  </a:lnTo>
                  <a:lnTo>
                    <a:pt x="532" y="380"/>
                  </a:lnTo>
                  <a:lnTo>
                    <a:pt x="532" y="388"/>
                  </a:lnTo>
                  <a:lnTo>
                    <a:pt x="532" y="404"/>
                  </a:lnTo>
                  <a:lnTo>
                    <a:pt x="532" y="412"/>
                  </a:lnTo>
                  <a:lnTo>
                    <a:pt x="532" y="420"/>
                  </a:lnTo>
                  <a:lnTo>
                    <a:pt x="532" y="436"/>
                  </a:lnTo>
                  <a:lnTo>
                    <a:pt x="532" y="444"/>
                  </a:lnTo>
                  <a:lnTo>
                    <a:pt x="540" y="460"/>
                  </a:lnTo>
                  <a:lnTo>
                    <a:pt x="540" y="468"/>
                  </a:lnTo>
                  <a:lnTo>
                    <a:pt x="548" y="476"/>
                  </a:lnTo>
                  <a:lnTo>
                    <a:pt x="548" y="492"/>
                  </a:lnTo>
                  <a:lnTo>
                    <a:pt x="556" y="498"/>
                  </a:lnTo>
                  <a:lnTo>
                    <a:pt x="564" y="514"/>
                  </a:lnTo>
                  <a:lnTo>
                    <a:pt x="572" y="522"/>
                  </a:lnTo>
                  <a:lnTo>
                    <a:pt x="500" y="452"/>
                  </a:lnTo>
                  <a:lnTo>
                    <a:pt x="404" y="238"/>
                  </a:lnTo>
                  <a:lnTo>
                    <a:pt x="174" y="142"/>
                  </a:lnTo>
                  <a:lnTo>
                    <a:pt x="270" y="372"/>
                  </a:lnTo>
                  <a:lnTo>
                    <a:pt x="476" y="476"/>
                  </a:lnTo>
                  <a:lnTo>
                    <a:pt x="1008" y="1014"/>
                  </a:lnTo>
                  <a:lnTo>
                    <a:pt x="984" y="1006"/>
                  </a:lnTo>
                  <a:lnTo>
                    <a:pt x="952" y="990"/>
                  </a:lnTo>
                  <a:lnTo>
                    <a:pt x="928" y="982"/>
                  </a:lnTo>
                  <a:lnTo>
                    <a:pt x="896" y="974"/>
                  </a:lnTo>
                  <a:lnTo>
                    <a:pt x="864" y="966"/>
                  </a:lnTo>
                  <a:lnTo>
                    <a:pt x="840" y="958"/>
                  </a:lnTo>
                  <a:lnTo>
                    <a:pt x="808" y="950"/>
                  </a:lnTo>
                  <a:lnTo>
                    <a:pt x="778" y="942"/>
                  </a:lnTo>
                  <a:lnTo>
                    <a:pt x="746" y="942"/>
                  </a:lnTo>
                  <a:lnTo>
                    <a:pt x="714" y="934"/>
                  </a:lnTo>
                  <a:lnTo>
                    <a:pt x="682" y="934"/>
                  </a:lnTo>
                  <a:lnTo>
                    <a:pt x="650" y="934"/>
                  </a:lnTo>
                  <a:lnTo>
                    <a:pt x="618" y="934"/>
                  </a:lnTo>
                  <a:lnTo>
                    <a:pt x="588" y="942"/>
                  </a:lnTo>
                  <a:lnTo>
                    <a:pt x="556" y="942"/>
                  </a:lnTo>
                  <a:lnTo>
                    <a:pt x="524" y="950"/>
                  </a:lnTo>
                  <a:lnTo>
                    <a:pt x="516" y="950"/>
                  </a:lnTo>
                  <a:lnTo>
                    <a:pt x="508" y="950"/>
                  </a:lnTo>
                  <a:lnTo>
                    <a:pt x="500" y="950"/>
                  </a:lnTo>
                  <a:lnTo>
                    <a:pt x="492" y="958"/>
                  </a:lnTo>
                  <a:lnTo>
                    <a:pt x="500" y="942"/>
                  </a:lnTo>
                  <a:lnTo>
                    <a:pt x="508" y="934"/>
                  </a:lnTo>
                  <a:lnTo>
                    <a:pt x="516" y="920"/>
                  </a:lnTo>
                  <a:lnTo>
                    <a:pt x="532" y="912"/>
                  </a:lnTo>
                  <a:lnTo>
                    <a:pt x="540" y="896"/>
                  </a:lnTo>
                  <a:lnTo>
                    <a:pt x="548" y="888"/>
                  </a:lnTo>
                  <a:lnTo>
                    <a:pt x="548" y="872"/>
                  </a:lnTo>
                  <a:lnTo>
                    <a:pt x="556" y="856"/>
                  </a:lnTo>
                  <a:lnTo>
                    <a:pt x="564" y="848"/>
                  </a:lnTo>
                  <a:lnTo>
                    <a:pt x="572" y="832"/>
                  </a:lnTo>
                  <a:lnTo>
                    <a:pt x="580" y="816"/>
                  </a:lnTo>
                  <a:lnTo>
                    <a:pt x="580" y="808"/>
                  </a:lnTo>
                  <a:lnTo>
                    <a:pt x="588" y="792"/>
                  </a:lnTo>
                  <a:lnTo>
                    <a:pt x="588" y="776"/>
                  </a:lnTo>
                  <a:lnTo>
                    <a:pt x="594" y="768"/>
                  </a:lnTo>
                  <a:lnTo>
                    <a:pt x="594" y="752"/>
                  </a:lnTo>
                  <a:lnTo>
                    <a:pt x="594" y="736"/>
                  </a:lnTo>
                  <a:lnTo>
                    <a:pt x="594" y="728"/>
                  </a:lnTo>
                  <a:lnTo>
                    <a:pt x="594" y="712"/>
                  </a:lnTo>
                  <a:lnTo>
                    <a:pt x="594" y="698"/>
                  </a:lnTo>
                  <a:lnTo>
                    <a:pt x="594" y="690"/>
                  </a:lnTo>
                  <a:lnTo>
                    <a:pt x="594" y="674"/>
                  </a:lnTo>
                  <a:lnTo>
                    <a:pt x="594" y="666"/>
                  </a:lnTo>
                  <a:lnTo>
                    <a:pt x="594" y="650"/>
                  </a:lnTo>
                  <a:lnTo>
                    <a:pt x="588" y="642"/>
                  </a:lnTo>
                  <a:lnTo>
                    <a:pt x="588" y="634"/>
                  </a:lnTo>
                  <a:lnTo>
                    <a:pt x="580" y="618"/>
                  </a:lnTo>
                  <a:lnTo>
                    <a:pt x="580" y="610"/>
                  </a:lnTo>
                  <a:lnTo>
                    <a:pt x="572" y="602"/>
                  </a:lnTo>
                  <a:lnTo>
                    <a:pt x="572" y="594"/>
                  </a:lnTo>
                  <a:lnTo>
                    <a:pt x="564" y="586"/>
                  </a:lnTo>
                  <a:lnTo>
                    <a:pt x="556" y="578"/>
                  </a:lnTo>
                  <a:lnTo>
                    <a:pt x="540" y="562"/>
                  </a:lnTo>
                  <a:lnTo>
                    <a:pt x="532" y="546"/>
                  </a:lnTo>
                  <a:lnTo>
                    <a:pt x="516" y="538"/>
                  </a:lnTo>
                  <a:lnTo>
                    <a:pt x="500" y="530"/>
                  </a:lnTo>
                  <a:lnTo>
                    <a:pt x="492" y="522"/>
                  </a:lnTo>
                  <a:lnTo>
                    <a:pt x="476" y="514"/>
                  </a:lnTo>
                  <a:lnTo>
                    <a:pt x="460" y="506"/>
                  </a:lnTo>
                  <a:lnTo>
                    <a:pt x="452" y="506"/>
                  </a:lnTo>
                  <a:lnTo>
                    <a:pt x="436" y="506"/>
                  </a:lnTo>
                  <a:lnTo>
                    <a:pt x="420" y="498"/>
                  </a:lnTo>
                  <a:lnTo>
                    <a:pt x="412" y="498"/>
                  </a:lnTo>
                  <a:lnTo>
                    <a:pt x="396" y="498"/>
                  </a:lnTo>
                  <a:lnTo>
                    <a:pt x="388" y="506"/>
                  </a:lnTo>
                  <a:lnTo>
                    <a:pt x="372" y="506"/>
                  </a:lnTo>
                  <a:lnTo>
                    <a:pt x="366" y="506"/>
                  </a:lnTo>
                  <a:lnTo>
                    <a:pt x="358" y="506"/>
                  </a:lnTo>
                  <a:lnTo>
                    <a:pt x="350" y="514"/>
                  </a:lnTo>
                  <a:lnTo>
                    <a:pt x="334" y="514"/>
                  </a:lnTo>
                  <a:lnTo>
                    <a:pt x="326" y="522"/>
                  </a:lnTo>
                  <a:lnTo>
                    <a:pt x="318" y="522"/>
                  </a:lnTo>
                  <a:lnTo>
                    <a:pt x="310" y="530"/>
                  </a:lnTo>
                  <a:lnTo>
                    <a:pt x="294" y="538"/>
                  </a:lnTo>
                  <a:lnTo>
                    <a:pt x="286" y="538"/>
                  </a:lnTo>
                  <a:lnTo>
                    <a:pt x="278" y="546"/>
                  </a:lnTo>
                  <a:lnTo>
                    <a:pt x="270" y="554"/>
                  </a:lnTo>
                  <a:lnTo>
                    <a:pt x="262" y="562"/>
                  </a:lnTo>
                  <a:lnTo>
                    <a:pt x="254" y="570"/>
                  </a:lnTo>
                  <a:lnTo>
                    <a:pt x="246" y="578"/>
                  </a:lnTo>
                  <a:lnTo>
                    <a:pt x="238" y="594"/>
                  </a:lnTo>
                  <a:lnTo>
                    <a:pt x="238" y="602"/>
                  </a:lnTo>
                  <a:lnTo>
                    <a:pt x="230" y="610"/>
                  </a:lnTo>
                  <a:lnTo>
                    <a:pt x="222" y="618"/>
                  </a:lnTo>
                  <a:lnTo>
                    <a:pt x="222" y="634"/>
                  </a:lnTo>
                  <a:lnTo>
                    <a:pt x="214" y="650"/>
                  </a:lnTo>
                  <a:lnTo>
                    <a:pt x="214" y="658"/>
                  </a:lnTo>
                  <a:lnTo>
                    <a:pt x="214" y="674"/>
                  </a:lnTo>
                  <a:lnTo>
                    <a:pt x="214" y="690"/>
                  </a:lnTo>
                  <a:lnTo>
                    <a:pt x="214" y="706"/>
                  </a:lnTo>
                  <a:lnTo>
                    <a:pt x="222" y="712"/>
                  </a:lnTo>
                  <a:lnTo>
                    <a:pt x="230" y="728"/>
                  </a:lnTo>
                  <a:lnTo>
                    <a:pt x="230" y="744"/>
                  </a:lnTo>
                  <a:lnTo>
                    <a:pt x="238" y="752"/>
                  </a:lnTo>
                  <a:lnTo>
                    <a:pt x="246" y="768"/>
                  </a:lnTo>
                  <a:lnTo>
                    <a:pt x="254" y="776"/>
                  </a:lnTo>
                  <a:lnTo>
                    <a:pt x="262" y="784"/>
                  </a:lnTo>
                  <a:lnTo>
                    <a:pt x="270" y="800"/>
                  </a:lnTo>
                  <a:lnTo>
                    <a:pt x="286" y="808"/>
                  </a:lnTo>
                  <a:lnTo>
                    <a:pt x="294" y="808"/>
                  </a:lnTo>
                  <a:lnTo>
                    <a:pt x="302" y="816"/>
                  </a:lnTo>
                  <a:lnTo>
                    <a:pt x="318" y="816"/>
                  </a:lnTo>
                  <a:lnTo>
                    <a:pt x="326" y="824"/>
                  </a:lnTo>
                  <a:lnTo>
                    <a:pt x="334" y="824"/>
                  </a:lnTo>
                  <a:lnTo>
                    <a:pt x="350" y="824"/>
                  </a:lnTo>
                  <a:lnTo>
                    <a:pt x="358" y="832"/>
                  </a:lnTo>
                  <a:lnTo>
                    <a:pt x="372" y="832"/>
                  </a:lnTo>
                  <a:lnTo>
                    <a:pt x="388" y="824"/>
                  </a:lnTo>
                  <a:lnTo>
                    <a:pt x="396" y="824"/>
                  </a:lnTo>
                  <a:lnTo>
                    <a:pt x="412" y="824"/>
                  </a:lnTo>
                  <a:lnTo>
                    <a:pt x="420" y="816"/>
                  </a:lnTo>
                  <a:lnTo>
                    <a:pt x="436" y="816"/>
                  </a:lnTo>
                  <a:lnTo>
                    <a:pt x="444" y="808"/>
                  </a:lnTo>
                  <a:lnTo>
                    <a:pt x="452" y="800"/>
                  </a:lnTo>
                  <a:lnTo>
                    <a:pt x="468" y="792"/>
                  </a:lnTo>
                  <a:lnTo>
                    <a:pt x="476" y="776"/>
                  </a:lnTo>
                  <a:lnTo>
                    <a:pt x="484" y="768"/>
                  </a:lnTo>
                  <a:lnTo>
                    <a:pt x="492" y="752"/>
                  </a:lnTo>
                  <a:lnTo>
                    <a:pt x="500" y="744"/>
                  </a:lnTo>
                  <a:lnTo>
                    <a:pt x="500" y="728"/>
                  </a:lnTo>
                  <a:lnTo>
                    <a:pt x="508" y="720"/>
                  </a:lnTo>
                  <a:lnTo>
                    <a:pt x="508" y="712"/>
                  </a:lnTo>
                  <a:lnTo>
                    <a:pt x="508" y="698"/>
                  </a:lnTo>
                  <a:lnTo>
                    <a:pt x="508" y="690"/>
                  </a:lnTo>
                  <a:lnTo>
                    <a:pt x="508" y="674"/>
                  </a:lnTo>
                  <a:lnTo>
                    <a:pt x="500" y="666"/>
                  </a:lnTo>
                  <a:lnTo>
                    <a:pt x="500" y="658"/>
                  </a:lnTo>
                  <a:lnTo>
                    <a:pt x="492" y="642"/>
                  </a:lnTo>
                  <a:lnTo>
                    <a:pt x="492" y="634"/>
                  </a:lnTo>
                  <a:lnTo>
                    <a:pt x="484" y="626"/>
                  </a:lnTo>
                  <a:lnTo>
                    <a:pt x="476" y="610"/>
                  </a:lnTo>
                  <a:lnTo>
                    <a:pt x="468" y="602"/>
                  </a:lnTo>
                  <a:lnTo>
                    <a:pt x="460" y="602"/>
                  </a:lnTo>
                  <a:lnTo>
                    <a:pt x="460" y="594"/>
                  </a:lnTo>
                  <a:lnTo>
                    <a:pt x="452" y="594"/>
                  </a:lnTo>
                  <a:lnTo>
                    <a:pt x="444" y="586"/>
                  </a:lnTo>
                  <a:lnTo>
                    <a:pt x="436" y="586"/>
                  </a:lnTo>
                  <a:lnTo>
                    <a:pt x="436" y="578"/>
                  </a:lnTo>
                  <a:lnTo>
                    <a:pt x="428" y="578"/>
                  </a:lnTo>
                  <a:lnTo>
                    <a:pt x="420" y="578"/>
                  </a:lnTo>
                  <a:lnTo>
                    <a:pt x="412" y="578"/>
                  </a:lnTo>
                  <a:lnTo>
                    <a:pt x="404" y="578"/>
                  </a:lnTo>
                  <a:lnTo>
                    <a:pt x="396" y="578"/>
                  </a:lnTo>
                  <a:lnTo>
                    <a:pt x="388" y="578"/>
                  </a:lnTo>
                  <a:lnTo>
                    <a:pt x="380" y="578"/>
                  </a:lnTo>
                  <a:lnTo>
                    <a:pt x="372" y="586"/>
                  </a:lnTo>
                  <a:lnTo>
                    <a:pt x="366" y="586"/>
                  </a:lnTo>
                  <a:lnTo>
                    <a:pt x="358" y="586"/>
                  </a:lnTo>
                  <a:lnTo>
                    <a:pt x="358" y="594"/>
                  </a:lnTo>
                  <a:lnTo>
                    <a:pt x="350" y="594"/>
                  </a:lnTo>
                  <a:lnTo>
                    <a:pt x="342" y="602"/>
                  </a:lnTo>
                  <a:lnTo>
                    <a:pt x="334" y="610"/>
                  </a:lnTo>
                  <a:lnTo>
                    <a:pt x="326" y="618"/>
                  </a:lnTo>
                  <a:lnTo>
                    <a:pt x="318" y="626"/>
                  </a:lnTo>
                  <a:lnTo>
                    <a:pt x="318" y="634"/>
                  </a:lnTo>
                  <a:lnTo>
                    <a:pt x="318" y="642"/>
                  </a:lnTo>
                  <a:lnTo>
                    <a:pt x="310" y="642"/>
                  </a:lnTo>
                  <a:lnTo>
                    <a:pt x="310" y="650"/>
                  </a:lnTo>
                  <a:lnTo>
                    <a:pt x="310" y="658"/>
                  </a:lnTo>
                  <a:lnTo>
                    <a:pt x="310" y="666"/>
                  </a:lnTo>
                  <a:lnTo>
                    <a:pt x="310" y="674"/>
                  </a:lnTo>
                  <a:lnTo>
                    <a:pt x="318" y="682"/>
                  </a:lnTo>
                  <a:lnTo>
                    <a:pt x="318" y="690"/>
                  </a:lnTo>
                  <a:lnTo>
                    <a:pt x="326" y="698"/>
                  </a:lnTo>
                  <a:lnTo>
                    <a:pt x="326" y="706"/>
                  </a:lnTo>
                  <a:lnTo>
                    <a:pt x="334" y="706"/>
                  </a:lnTo>
                  <a:lnTo>
                    <a:pt x="334" y="712"/>
                  </a:lnTo>
                  <a:lnTo>
                    <a:pt x="342" y="712"/>
                  </a:lnTo>
                  <a:lnTo>
                    <a:pt x="342" y="720"/>
                  </a:lnTo>
                  <a:lnTo>
                    <a:pt x="350" y="720"/>
                  </a:lnTo>
                  <a:lnTo>
                    <a:pt x="358" y="720"/>
                  </a:lnTo>
                  <a:lnTo>
                    <a:pt x="358" y="728"/>
                  </a:lnTo>
                  <a:lnTo>
                    <a:pt x="366" y="728"/>
                  </a:lnTo>
                  <a:lnTo>
                    <a:pt x="372" y="728"/>
                  </a:lnTo>
                  <a:lnTo>
                    <a:pt x="380" y="728"/>
                  </a:lnTo>
                  <a:lnTo>
                    <a:pt x="388" y="720"/>
                  </a:lnTo>
                  <a:lnTo>
                    <a:pt x="396" y="720"/>
                  </a:lnTo>
                  <a:lnTo>
                    <a:pt x="404" y="720"/>
                  </a:lnTo>
                  <a:lnTo>
                    <a:pt x="412" y="712"/>
                  </a:lnTo>
                  <a:lnTo>
                    <a:pt x="420" y="712"/>
                  </a:lnTo>
                  <a:lnTo>
                    <a:pt x="420" y="706"/>
                  </a:lnTo>
                  <a:lnTo>
                    <a:pt x="428" y="706"/>
                  </a:lnTo>
                  <a:lnTo>
                    <a:pt x="404" y="674"/>
                  </a:lnTo>
                  <a:lnTo>
                    <a:pt x="396" y="682"/>
                  </a:lnTo>
                  <a:lnTo>
                    <a:pt x="388" y="682"/>
                  </a:lnTo>
                  <a:lnTo>
                    <a:pt x="388" y="690"/>
                  </a:lnTo>
                  <a:lnTo>
                    <a:pt x="380" y="690"/>
                  </a:lnTo>
                  <a:lnTo>
                    <a:pt x="372" y="690"/>
                  </a:lnTo>
                  <a:lnTo>
                    <a:pt x="366" y="690"/>
                  </a:lnTo>
                  <a:lnTo>
                    <a:pt x="366" y="682"/>
                  </a:lnTo>
                  <a:lnTo>
                    <a:pt x="358" y="682"/>
                  </a:lnTo>
                  <a:lnTo>
                    <a:pt x="358" y="674"/>
                  </a:lnTo>
                  <a:lnTo>
                    <a:pt x="350" y="674"/>
                  </a:lnTo>
                  <a:lnTo>
                    <a:pt x="350" y="666"/>
                  </a:lnTo>
                  <a:lnTo>
                    <a:pt x="350" y="658"/>
                  </a:lnTo>
                  <a:lnTo>
                    <a:pt x="350" y="650"/>
                  </a:lnTo>
                  <a:lnTo>
                    <a:pt x="350" y="642"/>
                  </a:lnTo>
                  <a:lnTo>
                    <a:pt x="358" y="642"/>
                  </a:lnTo>
                  <a:lnTo>
                    <a:pt x="358" y="634"/>
                  </a:lnTo>
                  <a:lnTo>
                    <a:pt x="366" y="634"/>
                  </a:lnTo>
                  <a:lnTo>
                    <a:pt x="366" y="626"/>
                  </a:lnTo>
                  <a:lnTo>
                    <a:pt x="372" y="626"/>
                  </a:lnTo>
                  <a:lnTo>
                    <a:pt x="380" y="618"/>
                  </a:lnTo>
                  <a:lnTo>
                    <a:pt x="388" y="618"/>
                  </a:lnTo>
                  <a:lnTo>
                    <a:pt x="396" y="618"/>
                  </a:lnTo>
                  <a:lnTo>
                    <a:pt x="396" y="610"/>
                  </a:lnTo>
                  <a:lnTo>
                    <a:pt x="404" y="610"/>
                  </a:lnTo>
                  <a:lnTo>
                    <a:pt x="412" y="610"/>
                  </a:lnTo>
                  <a:lnTo>
                    <a:pt x="412" y="618"/>
                  </a:lnTo>
                  <a:lnTo>
                    <a:pt x="420" y="618"/>
                  </a:lnTo>
                  <a:lnTo>
                    <a:pt x="428" y="618"/>
                  </a:lnTo>
                  <a:lnTo>
                    <a:pt x="436" y="626"/>
                  </a:lnTo>
                  <a:lnTo>
                    <a:pt x="444" y="634"/>
                  </a:lnTo>
                  <a:lnTo>
                    <a:pt x="452" y="642"/>
                  </a:lnTo>
                  <a:lnTo>
                    <a:pt x="460" y="650"/>
                  </a:lnTo>
                  <a:lnTo>
                    <a:pt x="460" y="658"/>
                  </a:lnTo>
                  <a:lnTo>
                    <a:pt x="468" y="666"/>
                  </a:lnTo>
                  <a:lnTo>
                    <a:pt x="468" y="674"/>
                  </a:lnTo>
                  <a:lnTo>
                    <a:pt x="468" y="682"/>
                  </a:lnTo>
                  <a:lnTo>
                    <a:pt x="468" y="690"/>
                  </a:lnTo>
                  <a:lnTo>
                    <a:pt x="468" y="698"/>
                  </a:lnTo>
                  <a:lnTo>
                    <a:pt x="468" y="706"/>
                  </a:lnTo>
                  <a:lnTo>
                    <a:pt x="468" y="712"/>
                  </a:lnTo>
                  <a:lnTo>
                    <a:pt x="468" y="720"/>
                  </a:lnTo>
                  <a:lnTo>
                    <a:pt x="460" y="728"/>
                  </a:lnTo>
                  <a:lnTo>
                    <a:pt x="460" y="736"/>
                  </a:lnTo>
                  <a:lnTo>
                    <a:pt x="452" y="744"/>
                  </a:lnTo>
                  <a:lnTo>
                    <a:pt x="444" y="752"/>
                  </a:lnTo>
                  <a:lnTo>
                    <a:pt x="436" y="760"/>
                  </a:lnTo>
                  <a:lnTo>
                    <a:pt x="428" y="768"/>
                  </a:lnTo>
                  <a:lnTo>
                    <a:pt x="420" y="776"/>
                  </a:lnTo>
                  <a:lnTo>
                    <a:pt x="412" y="784"/>
                  </a:lnTo>
                  <a:lnTo>
                    <a:pt x="404" y="784"/>
                  </a:lnTo>
                  <a:lnTo>
                    <a:pt x="396" y="784"/>
                  </a:lnTo>
                  <a:lnTo>
                    <a:pt x="388" y="792"/>
                  </a:lnTo>
                  <a:lnTo>
                    <a:pt x="380" y="792"/>
                  </a:lnTo>
                  <a:lnTo>
                    <a:pt x="372" y="792"/>
                  </a:lnTo>
                  <a:lnTo>
                    <a:pt x="366" y="792"/>
                  </a:lnTo>
                  <a:lnTo>
                    <a:pt x="350" y="792"/>
                  </a:lnTo>
                  <a:lnTo>
                    <a:pt x="342" y="792"/>
                  </a:lnTo>
                  <a:lnTo>
                    <a:pt x="334" y="784"/>
                  </a:lnTo>
                  <a:lnTo>
                    <a:pt x="326" y="784"/>
                  </a:lnTo>
                  <a:lnTo>
                    <a:pt x="318" y="784"/>
                  </a:lnTo>
                  <a:lnTo>
                    <a:pt x="310" y="776"/>
                  </a:lnTo>
                  <a:lnTo>
                    <a:pt x="302" y="776"/>
                  </a:lnTo>
                  <a:lnTo>
                    <a:pt x="294" y="768"/>
                  </a:lnTo>
                  <a:lnTo>
                    <a:pt x="286" y="760"/>
                  </a:lnTo>
                  <a:lnTo>
                    <a:pt x="286" y="752"/>
                  </a:lnTo>
                  <a:lnTo>
                    <a:pt x="278" y="744"/>
                  </a:lnTo>
                  <a:lnTo>
                    <a:pt x="270" y="736"/>
                  </a:lnTo>
                  <a:lnTo>
                    <a:pt x="262" y="728"/>
                  </a:lnTo>
                  <a:lnTo>
                    <a:pt x="262" y="712"/>
                  </a:lnTo>
                  <a:lnTo>
                    <a:pt x="254" y="706"/>
                  </a:lnTo>
                  <a:lnTo>
                    <a:pt x="254" y="698"/>
                  </a:lnTo>
                  <a:lnTo>
                    <a:pt x="254" y="690"/>
                  </a:lnTo>
                  <a:lnTo>
                    <a:pt x="254" y="674"/>
                  </a:lnTo>
                  <a:lnTo>
                    <a:pt x="254" y="666"/>
                  </a:lnTo>
                  <a:lnTo>
                    <a:pt x="254" y="658"/>
                  </a:lnTo>
                  <a:lnTo>
                    <a:pt x="254" y="642"/>
                  </a:lnTo>
                  <a:lnTo>
                    <a:pt x="262" y="634"/>
                  </a:lnTo>
                  <a:lnTo>
                    <a:pt x="262" y="626"/>
                  </a:lnTo>
                  <a:lnTo>
                    <a:pt x="270" y="618"/>
                  </a:lnTo>
                  <a:lnTo>
                    <a:pt x="270" y="610"/>
                  </a:lnTo>
                  <a:lnTo>
                    <a:pt x="278" y="602"/>
                  </a:lnTo>
                  <a:lnTo>
                    <a:pt x="286" y="594"/>
                  </a:lnTo>
                  <a:lnTo>
                    <a:pt x="286" y="586"/>
                  </a:lnTo>
                  <a:lnTo>
                    <a:pt x="294" y="586"/>
                  </a:lnTo>
                  <a:lnTo>
                    <a:pt x="302" y="578"/>
                  </a:lnTo>
                  <a:lnTo>
                    <a:pt x="310" y="570"/>
                  </a:lnTo>
                  <a:lnTo>
                    <a:pt x="318" y="562"/>
                  </a:lnTo>
                  <a:lnTo>
                    <a:pt x="326" y="562"/>
                  </a:lnTo>
                  <a:lnTo>
                    <a:pt x="334" y="554"/>
                  </a:lnTo>
                  <a:lnTo>
                    <a:pt x="342" y="554"/>
                  </a:lnTo>
                  <a:lnTo>
                    <a:pt x="350" y="546"/>
                  </a:lnTo>
                  <a:lnTo>
                    <a:pt x="358" y="546"/>
                  </a:lnTo>
                  <a:lnTo>
                    <a:pt x="366" y="546"/>
                  </a:lnTo>
                  <a:lnTo>
                    <a:pt x="372" y="538"/>
                  </a:lnTo>
                  <a:lnTo>
                    <a:pt x="380" y="538"/>
                  </a:lnTo>
                  <a:lnTo>
                    <a:pt x="388" y="538"/>
                  </a:lnTo>
                  <a:lnTo>
                    <a:pt x="404" y="538"/>
                  </a:lnTo>
                  <a:lnTo>
                    <a:pt x="412" y="538"/>
                  </a:lnTo>
                  <a:lnTo>
                    <a:pt x="420" y="538"/>
                  </a:lnTo>
                  <a:lnTo>
                    <a:pt x="428" y="538"/>
                  </a:lnTo>
                  <a:lnTo>
                    <a:pt x="444" y="538"/>
                  </a:lnTo>
                  <a:lnTo>
                    <a:pt x="452" y="546"/>
                  </a:lnTo>
                  <a:lnTo>
                    <a:pt x="460" y="546"/>
                  </a:lnTo>
                  <a:lnTo>
                    <a:pt x="476" y="554"/>
                  </a:lnTo>
                  <a:lnTo>
                    <a:pt x="484" y="562"/>
                  </a:lnTo>
                  <a:lnTo>
                    <a:pt x="492" y="570"/>
                  </a:lnTo>
                  <a:lnTo>
                    <a:pt x="508" y="578"/>
                  </a:lnTo>
                  <a:lnTo>
                    <a:pt x="516" y="586"/>
                  </a:lnTo>
                  <a:lnTo>
                    <a:pt x="524" y="602"/>
                  </a:lnTo>
                  <a:lnTo>
                    <a:pt x="532" y="602"/>
                  </a:lnTo>
                  <a:lnTo>
                    <a:pt x="540" y="610"/>
                  </a:lnTo>
                  <a:lnTo>
                    <a:pt x="540" y="618"/>
                  </a:lnTo>
                  <a:lnTo>
                    <a:pt x="548" y="626"/>
                  </a:lnTo>
                  <a:lnTo>
                    <a:pt x="548" y="634"/>
                  </a:lnTo>
                  <a:lnTo>
                    <a:pt x="556" y="642"/>
                  </a:lnTo>
                  <a:lnTo>
                    <a:pt x="556" y="650"/>
                  </a:lnTo>
                  <a:lnTo>
                    <a:pt x="556" y="666"/>
                  </a:lnTo>
                  <a:lnTo>
                    <a:pt x="556" y="674"/>
                  </a:lnTo>
                  <a:lnTo>
                    <a:pt x="564" y="682"/>
                  </a:lnTo>
                  <a:lnTo>
                    <a:pt x="564" y="690"/>
                  </a:lnTo>
                  <a:lnTo>
                    <a:pt x="564" y="706"/>
                  </a:lnTo>
                  <a:lnTo>
                    <a:pt x="564" y="712"/>
                  </a:lnTo>
                  <a:lnTo>
                    <a:pt x="564" y="720"/>
                  </a:lnTo>
                  <a:lnTo>
                    <a:pt x="564" y="736"/>
                  </a:lnTo>
                  <a:lnTo>
                    <a:pt x="556" y="744"/>
                  </a:lnTo>
                  <a:lnTo>
                    <a:pt x="556" y="760"/>
                  </a:lnTo>
                  <a:lnTo>
                    <a:pt x="548" y="784"/>
                  </a:lnTo>
                  <a:lnTo>
                    <a:pt x="548" y="800"/>
                  </a:lnTo>
                  <a:lnTo>
                    <a:pt x="540" y="816"/>
                  </a:lnTo>
                  <a:lnTo>
                    <a:pt x="532" y="832"/>
                  </a:lnTo>
                  <a:lnTo>
                    <a:pt x="524" y="848"/>
                  </a:lnTo>
                  <a:lnTo>
                    <a:pt x="516" y="864"/>
                  </a:lnTo>
                  <a:lnTo>
                    <a:pt x="500" y="880"/>
                  </a:lnTo>
                  <a:lnTo>
                    <a:pt x="492" y="896"/>
                  </a:lnTo>
                  <a:lnTo>
                    <a:pt x="484" y="912"/>
                  </a:lnTo>
                  <a:lnTo>
                    <a:pt x="468" y="926"/>
                  </a:lnTo>
                  <a:lnTo>
                    <a:pt x="452" y="942"/>
                  </a:lnTo>
                  <a:lnTo>
                    <a:pt x="444" y="950"/>
                  </a:lnTo>
                  <a:lnTo>
                    <a:pt x="428" y="966"/>
                  </a:lnTo>
                  <a:lnTo>
                    <a:pt x="412" y="974"/>
                  </a:lnTo>
                  <a:lnTo>
                    <a:pt x="396" y="990"/>
                  </a:lnTo>
                  <a:lnTo>
                    <a:pt x="366" y="1006"/>
                  </a:lnTo>
                  <a:lnTo>
                    <a:pt x="334" y="1022"/>
                  </a:lnTo>
                  <a:lnTo>
                    <a:pt x="302" y="1046"/>
                  </a:lnTo>
                  <a:lnTo>
                    <a:pt x="270" y="1062"/>
                  </a:lnTo>
                  <a:lnTo>
                    <a:pt x="246" y="1094"/>
                  </a:lnTo>
                  <a:lnTo>
                    <a:pt x="214" y="1118"/>
                  </a:lnTo>
                  <a:lnTo>
                    <a:pt x="182" y="1148"/>
                  </a:lnTo>
                  <a:lnTo>
                    <a:pt x="158" y="1172"/>
                  </a:lnTo>
                  <a:lnTo>
                    <a:pt x="136" y="1212"/>
                  </a:lnTo>
                  <a:lnTo>
                    <a:pt x="112" y="1244"/>
                  </a:lnTo>
                  <a:lnTo>
                    <a:pt x="88" y="1284"/>
                  </a:lnTo>
                  <a:lnTo>
                    <a:pt x="64" y="1324"/>
                  </a:lnTo>
                  <a:lnTo>
                    <a:pt x="48" y="1362"/>
                  </a:lnTo>
                  <a:lnTo>
                    <a:pt x="32" y="1410"/>
                  </a:lnTo>
                  <a:lnTo>
                    <a:pt x="16" y="1458"/>
                  </a:lnTo>
                  <a:lnTo>
                    <a:pt x="8" y="1506"/>
                  </a:lnTo>
                  <a:lnTo>
                    <a:pt x="8" y="1514"/>
                  </a:lnTo>
                  <a:lnTo>
                    <a:pt x="8" y="1522"/>
                  </a:lnTo>
                  <a:lnTo>
                    <a:pt x="0" y="1530"/>
                  </a:lnTo>
                  <a:lnTo>
                    <a:pt x="0" y="1538"/>
                  </a:lnTo>
                  <a:lnTo>
                    <a:pt x="0" y="1546"/>
                  </a:lnTo>
                  <a:lnTo>
                    <a:pt x="0" y="1554"/>
                  </a:lnTo>
                  <a:lnTo>
                    <a:pt x="0" y="1562"/>
                  </a:lnTo>
                  <a:lnTo>
                    <a:pt x="0" y="1568"/>
                  </a:lnTo>
                  <a:lnTo>
                    <a:pt x="0" y="1576"/>
                  </a:lnTo>
                  <a:lnTo>
                    <a:pt x="0" y="1584"/>
                  </a:lnTo>
                  <a:lnTo>
                    <a:pt x="0" y="1592"/>
                  </a:lnTo>
                  <a:lnTo>
                    <a:pt x="0" y="1600"/>
                  </a:lnTo>
                  <a:lnTo>
                    <a:pt x="0" y="1648"/>
                  </a:lnTo>
                  <a:lnTo>
                    <a:pt x="8" y="1696"/>
                  </a:lnTo>
                  <a:lnTo>
                    <a:pt x="16" y="1744"/>
                  </a:lnTo>
                  <a:lnTo>
                    <a:pt x="32" y="1784"/>
                  </a:lnTo>
                  <a:lnTo>
                    <a:pt x="48" y="1830"/>
                  </a:lnTo>
                  <a:lnTo>
                    <a:pt x="72" y="1870"/>
                  </a:lnTo>
                  <a:lnTo>
                    <a:pt x="88" y="1910"/>
                  </a:lnTo>
                  <a:lnTo>
                    <a:pt x="112" y="1950"/>
                  </a:lnTo>
                  <a:lnTo>
                    <a:pt x="144" y="1982"/>
                  </a:lnTo>
                  <a:lnTo>
                    <a:pt x="174" y="2012"/>
                  </a:lnTo>
                  <a:lnTo>
                    <a:pt x="206" y="2044"/>
                  </a:lnTo>
                  <a:lnTo>
                    <a:pt x="238" y="2076"/>
                  </a:lnTo>
                  <a:lnTo>
                    <a:pt x="278" y="2100"/>
                  </a:lnTo>
                  <a:lnTo>
                    <a:pt x="310" y="2116"/>
                  </a:lnTo>
                  <a:lnTo>
                    <a:pt x="350" y="2132"/>
                  </a:lnTo>
                  <a:lnTo>
                    <a:pt x="388" y="2148"/>
                  </a:lnTo>
                  <a:lnTo>
                    <a:pt x="372" y="2148"/>
                  </a:lnTo>
                  <a:lnTo>
                    <a:pt x="358" y="2156"/>
                  </a:lnTo>
                  <a:lnTo>
                    <a:pt x="342" y="2156"/>
                  </a:lnTo>
                  <a:lnTo>
                    <a:pt x="326" y="2164"/>
                  </a:lnTo>
                  <a:lnTo>
                    <a:pt x="318" y="2164"/>
                  </a:lnTo>
                  <a:lnTo>
                    <a:pt x="302" y="2172"/>
                  </a:lnTo>
                  <a:lnTo>
                    <a:pt x="286" y="2180"/>
                  </a:lnTo>
                  <a:lnTo>
                    <a:pt x="270" y="2188"/>
                  </a:lnTo>
                  <a:lnTo>
                    <a:pt x="262" y="2188"/>
                  </a:lnTo>
                  <a:lnTo>
                    <a:pt x="246" y="2196"/>
                  </a:lnTo>
                  <a:lnTo>
                    <a:pt x="238" y="2204"/>
                  </a:lnTo>
                  <a:lnTo>
                    <a:pt x="222" y="2212"/>
                  </a:lnTo>
                  <a:lnTo>
                    <a:pt x="214" y="2218"/>
                  </a:lnTo>
                  <a:lnTo>
                    <a:pt x="206" y="2226"/>
                  </a:lnTo>
                  <a:lnTo>
                    <a:pt x="198" y="2234"/>
                  </a:lnTo>
                  <a:lnTo>
                    <a:pt x="190" y="2242"/>
                  </a:lnTo>
                  <a:lnTo>
                    <a:pt x="182" y="2242"/>
                  </a:lnTo>
                  <a:lnTo>
                    <a:pt x="174" y="2250"/>
                  </a:lnTo>
                  <a:lnTo>
                    <a:pt x="166" y="2258"/>
                  </a:lnTo>
                  <a:lnTo>
                    <a:pt x="166" y="2266"/>
                  </a:lnTo>
                  <a:lnTo>
                    <a:pt x="158" y="2274"/>
                  </a:lnTo>
                  <a:lnTo>
                    <a:pt x="152" y="2282"/>
                  </a:lnTo>
                  <a:lnTo>
                    <a:pt x="152" y="2290"/>
                  </a:lnTo>
                  <a:lnTo>
                    <a:pt x="152" y="2298"/>
                  </a:lnTo>
                  <a:lnTo>
                    <a:pt x="144" y="2306"/>
                  </a:lnTo>
                  <a:lnTo>
                    <a:pt x="144" y="2314"/>
                  </a:lnTo>
                  <a:lnTo>
                    <a:pt x="144" y="2322"/>
                  </a:lnTo>
                  <a:lnTo>
                    <a:pt x="144" y="2330"/>
                  </a:lnTo>
                  <a:lnTo>
                    <a:pt x="144" y="2338"/>
                  </a:lnTo>
                  <a:lnTo>
                    <a:pt x="144" y="2346"/>
                  </a:lnTo>
                  <a:lnTo>
                    <a:pt x="144" y="2354"/>
                  </a:lnTo>
                  <a:lnTo>
                    <a:pt x="144" y="2362"/>
                  </a:lnTo>
                  <a:lnTo>
                    <a:pt x="144" y="2370"/>
                  </a:lnTo>
                  <a:lnTo>
                    <a:pt x="152" y="2378"/>
                  </a:lnTo>
                  <a:lnTo>
                    <a:pt x="152" y="2386"/>
                  </a:lnTo>
                  <a:lnTo>
                    <a:pt x="152" y="2394"/>
                  </a:lnTo>
                  <a:lnTo>
                    <a:pt x="158" y="2402"/>
                  </a:lnTo>
                  <a:lnTo>
                    <a:pt x="158" y="2410"/>
                  </a:lnTo>
                  <a:lnTo>
                    <a:pt x="158" y="2418"/>
                  </a:lnTo>
                  <a:lnTo>
                    <a:pt x="166" y="2418"/>
                  </a:lnTo>
                  <a:lnTo>
                    <a:pt x="166" y="2426"/>
                  </a:lnTo>
                  <a:lnTo>
                    <a:pt x="174" y="2432"/>
                  </a:lnTo>
                  <a:lnTo>
                    <a:pt x="174" y="2440"/>
                  </a:lnTo>
                  <a:lnTo>
                    <a:pt x="182" y="2440"/>
                  </a:lnTo>
                  <a:lnTo>
                    <a:pt x="182" y="2448"/>
                  </a:lnTo>
                  <a:lnTo>
                    <a:pt x="190" y="2448"/>
                  </a:lnTo>
                  <a:lnTo>
                    <a:pt x="190" y="2456"/>
                  </a:lnTo>
                  <a:lnTo>
                    <a:pt x="198" y="2456"/>
                  </a:lnTo>
                  <a:lnTo>
                    <a:pt x="198" y="2464"/>
                  </a:lnTo>
                  <a:lnTo>
                    <a:pt x="206" y="2464"/>
                  </a:lnTo>
                  <a:lnTo>
                    <a:pt x="214" y="2472"/>
                  </a:lnTo>
                  <a:lnTo>
                    <a:pt x="222" y="2472"/>
                  </a:lnTo>
                  <a:lnTo>
                    <a:pt x="230" y="2480"/>
                  </a:lnTo>
                  <a:lnTo>
                    <a:pt x="238" y="2480"/>
                  </a:lnTo>
                  <a:lnTo>
                    <a:pt x="246" y="2480"/>
                  </a:lnTo>
                  <a:lnTo>
                    <a:pt x="254" y="2488"/>
                  </a:lnTo>
                  <a:lnTo>
                    <a:pt x="262" y="2488"/>
                  </a:lnTo>
                  <a:lnTo>
                    <a:pt x="270" y="2488"/>
                  </a:lnTo>
                  <a:lnTo>
                    <a:pt x="278" y="2488"/>
                  </a:lnTo>
                  <a:lnTo>
                    <a:pt x="286" y="2488"/>
                  </a:lnTo>
                  <a:lnTo>
                    <a:pt x="294" y="2488"/>
                  </a:lnTo>
                  <a:lnTo>
                    <a:pt x="302" y="2488"/>
                  </a:lnTo>
                  <a:lnTo>
                    <a:pt x="278" y="2504"/>
                  </a:lnTo>
                  <a:lnTo>
                    <a:pt x="262" y="2520"/>
                  </a:lnTo>
                  <a:lnTo>
                    <a:pt x="246" y="2544"/>
                  </a:lnTo>
                  <a:lnTo>
                    <a:pt x="238" y="2568"/>
                  </a:lnTo>
                  <a:lnTo>
                    <a:pt x="222" y="2592"/>
                  </a:lnTo>
                  <a:lnTo>
                    <a:pt x="206" y="2616"/>
                  </a:lnTo>
                  <a:lnTo>
                    <a:pt x="198" y="2640"/>
                  </a:lnTo>
                  <a:lnTo>
                    <a:pt x="190" y="2662"/>
                  </a:lnTo>
                  <a:lnTo>
                    <a:pt x="182" y="2694"/>
                  </a:lnTo>
                  <a:lnTo>
                    <a:pt x="174" y="2718"/>
                  </a:lnTo>
                  <a:lnTo>
                    <a:pt x="166" y="2750"/>
                  </a:lnTo>
                  <a:lnTo>
                    <a:pt x="166" y="2782"/>
                  </a:lnTo>
                  <a:lnTo>
                    <a:pt x="166" y="2814"/>
                  </a:lnTo>
                  <a:lnTo>
                    <a:pt x="166" y="2846"/>
                  </a:lnTo>
                  <a:lnTo>
                    <a:pt x="174" y="2876"/>
                  </a:lnTo>
                  <a:lnTo>
                    <a:pt x="182" y="2908"/>
                  </a:lnTo>
                  <a:lnTo>
                    <a:pt x="182" y="2924"/>
                  </a:lnTo>
                  <a:lnTo>
                    <a:pt x="190" y="2948"/>
                  </a:lnTo>
                  <a:lnTo>
                    <a:pt x="198" y="2964"/>
                  </a:lnTo>
                  <a:lnTo>
                    <a:pt x="206" y="2988"/>
                  </a:lnTo>
                  <a:lnTo>
                    <a:pt x="214" y="3004"/>
                  </a:lnTo>
                  <a:lnTo>
                    <a:pt x="230" y="3028"/>
                  </a:lnTo>
                  <a:lnTo>
                    <a:pt x="238" y="3044"/>
                  </a:lnTo>
                  <a:lnTo>
                    <a:pt x="254" y="3068"/>
                  </a:lnTo>
                  <a:lnTo>
                    <a:pt x="270" y="3082"/>
                  </a:lnTo>
                  <a:lnTo>
                    <a:pt x="286" y="3106"/>
                  </a:lnTo>
                  <a:lnTo>
                    <a:pt x="302" y="3122"/>
                  </a:lnTo>
                  <a:lnTo>
                    <a:pt x="318" y="3138"/>
                  </a:lnTo>
                  <a:lnTo>
                    <a:pt x="334" y="3154"/>
                  </a:lnTo>
                  <a:lnTo>
                    <a:pt x="358" y="3170"/>
                  </a:lnTo>
                  <a:lnTo>
                    <a:pt x="372" y="3186"/>
                  </a:lnTo>
                  <a:lnTo>
                    <a:pt x="396" y="3202"/>
                  </a:lnTo>
                  <a:lnTo>
                    <a:pt x="380" y="3202"/>
                  </a:lnTo>
                  <a:lnTo>
                    <a:pt x="366" y="3210"/>
                  </a:lnTo>
                  <a:lnTo>
                    <a:pt x="350" y="3218"/>
                  </a:lnTo>
                  <a:lnTo>
                    <a:pt x="334" y="3218"/>
                  </a:lnTo>
                  <a:lnTo>
                    <a:pt x="318" y="3226"/>
                  </a:lnTo>
                  <a:lnTo>
                    <a:pt x="302" y="3234"/>
                  </a:lnTo>
                  <a:lnTo>
                    <a:pt x="294" y="3242"/>
                  </a:lnTo>
                  <a:lnTo>
                    <a:pt x="278" y="3258"/>
                  </a:lnTo>
                  <a:lnTo>
                    <a:pt x="262" y="3266"/>
                  </a:lnTo>
                  <a:lnTo>
                    <a:pt x="254" y="3282"/>
                  </a:lnTo>
                  <a:lnTo>
                    <a:pt x="238" y="3290"/>
                  </a:lnTo>
                  <a:lnTo>
                    <a:pt x="230" y="3304"/>
                  </a:lnTo>
                  <a:lnTo>
                    <a:pt x="222" y="3320"/>
                  </a:lnTo>
                  <a:lnTo>
                    <a:pt x="214" y="3336"/>
                  </a:lnTo>
                  <a:lnTo>
                    <a:pt x="198" y="3352"/>
                  </a:lnTo>
                  <a:lnTo>
                    <a:pt x="190" y="3368"/>
                  </a:lnTo>
                  <a:lnTo>
                    <a:pt x="182" y="3392"/>
                  </a:lnTo>
                  <a:lnTo>
                    <a:pt x="174" y="3416"/>
                  </a:lnTo>
                  <a:lnTo>
                    <a:pt x="166" y="3440"/>
                  </a:lnTo>
                  <a:lnTo>
                    <a:pt x="158" y="3464"/>
                  </a:lnTo>
                  <a:lnTo>
                    <a:pt x="158" y="3496"/>
                  </a:lnTo>
                  <a:lnTo>
                    <a:pt x="158" y="3518"/>
                  </a:lnTo>
                  <a:lnTo>
                    <a:pt x="158" y="3542"/>
                  </a:lnTo>
                  <a:lnTo>
                    <a:pt x="158" y="3574"/>
                  </a:lnTo>
                  <a:lnTo>
                    <a:pt x="158" y="3598"/>
                  </a:lnTo>
                  <a:lnTo>
                    <a:pt x="166" y="3622"/>
                  </a:lnTo>
                  <a:lnTo>
                    <a:pt x="174" y="3646"/>
                  </a:lnTo>
                  <a:lnTo>
                    <a:pt x="182" y="3670"/>
                  </a:lnTo>
                  <a:lnTo>
                    <a:pt x="198" y="3694"/>
                  </a:lnTo>
                  <a:lnTo>
                    <a:pt x="206" y="3718"/>
                  </a:lnTo>
                  <a:lnTo>
                    <a:pt x="230" y="3732"/>
                  </a:lnTo>
                  <a:lnTo>
                    <a:pt x="246" y="3756"/>
                  </a:lnTo>
                  <a:lnTo>
                    <a:pt x="262" y="3764"/>
                  </a:lnTo>
                  <a:lnTo>
                    <a:pt x="278" y="3780"/>
                  </a:lnTo>
                  <a:lnTo>
                    <a:pt x="294" y="3788"/>
                  </a:lnTo>
                  <a:lnTo>
                    <a:pt x="310" y="3796"/>
                  </a:lnTo>
                  <a:lnTo>
                    <a:pt x="326" y="3804"/>
                  </a:lnTo>
                  <a:lnTo>
                    <a:pt x="342" y="3812"/>
                  </a:lnTo>
                  <a:lnTo>
                    <a:pt x="358" y="3812"/>
                  </a:lnTo>
                  <a:lnTo>
                    <a:pt x="372" y="3820"/>
                  </a:lnTo>
                  <a:lnTo>
                    <a:pt x="388" y="3820"/>
                  </a:lnTo>
                  <a:lnTo>
                    <a:pt x="404" y="3820"/>
                  </a:lnTo>
                  <a:lnTo>
                    <a:pt x="412" y="3820"/>
                  </a:lnTo>
                  <a:lnTo>
                    <a:pt x="428" y="3820"/>
                  </a:lnTo>
                  <a:lnTo>
                    <a:pt x="444" y="3820"/>
                  </a:lnTo>
                  <a:lnTo>
                    <a:pt x="452" y="3820"/>
                  </a:lnTo>
                  <a:lnTo>
                    <a:pt x="468" y="3820"/>
                  </a:lnTo>
                  <a:lnTo>
                    <a:pt x="484" y="3820"/>
                  </a:lnTo>
                  <a:lnTo>
                    <a:pt x="492" y="3812"/>
                  </a:lnTo>
                  <a:lnTo>
                    <a:pt x="508" y="3812"/>
                  </a:lnTo>
                  <a:lnTo>
                    <a:pt x="516" y="3804"/>
                  </a:lnTo>
                  <a:lnTo>
                    <a:pt x="524" y="3804"/>
                  </a:lnTo>
                  <a:lnTo>
                    <a:pt x="540" y="3796"/>
                  </a:lnTo>
                  <a:lnTo>
                    <a:pt x="548" y="3788"/>
                  </a:lnTo>
                  <a:lnTo>
                    <a:pt x="556" y="3780"/>
                  </a:lnTo>
                  <a:lnTo>
                    <a:pt x="572" y="3772"/>
                  </a:lnTo>
                  <a:lnTo>
                    <a:pt x="580" y="3764"/>
                  </a:lnTo>
                  <a:lnTo>
                    <a:pt x="588" y="3756"/>
                  </a:lnTo>
                  <a:lnTo>
                    <a:pt x="594" y="3748"/>
                  </a:lnTo>
                  <a:lnTo>
                    <a:pt x="602" y="3740"/>
                  </a:lnTo>
                  <a:lnTo>
                    <a:pt x="610" y="3732"/>
                  </a:lnTo>
                  <a:lnTo>
                    <a:pt x="618" y="3718"/>
                  </a:lnTo>
                  <a:lnTo>
                    <a:pt x="626" y="3710"/>
                  </a:lnTo>
                  <a:lnTo>
                    <a:pt x="634" y="3702"/>
                  </a:lnTo>
                  <a:lnTo>
                    <a:pt x="642" y="3686"/>
                  </a:lnTo>
                  <a:lnTo>
                    <a:pt x="642" y="3670"/>
                  </a:lnTo>
                  <a:lnTo>
                    <a:pt x="650" y="3654"/>
                  </a:lnTo>
                  <a:lnTo>
                    <a:pt x="650" y="3638"/>
                  </a:lnTo>
                  <a:lnTo>
                    <a:pt x="650" y="3622"/>
                  </a:lnTo>
                  <a:lnTo>
                    <a:pt x="650" y="3606"/>
                  </a:lnTo>
                  <a:lnTo>
                    <a:pt x="642" y="3590"/>
                  </a:lnTo>
                  <a:lnTo>
                    <a:pt x="642" y="3574"/>
                  </a:lnTo>
                  <a:lnTo>
                    <a:pt x="634" y="3558"/>
                  </a:lnTo>
                  <a:lnTo>
                    <a:pt x="626" y="3542"/>
                  </a:lnTo>
                  <a:lnTo>
                    <a:pt x="618" y="3526"/>
                  </a:lnTo>
                  <a:lnTo>
                    <a:pt x="610" y="3518"/>
                  </a:lnTo>
                  <a:lnTo>
                    <a:pt x="602" y="3504"/>
                  </a:lnTo>
                  <a:lnTo>
                    <a:pt x="588" y="3496"/>
                  </a:lnTo>
                  <a:lnTo>
                    <a:pt x="580" y="3488"/>
                  </a:lnTo>
                  <a:lnTo>
                    <a:pt x="572" y="3480"/>
                  </a:lnTo>
                  <a:lnTo>
                    <a:pt x="556" y="3472"/>
                  </a:lnTo>
                  <a:lnTo>
                    <a:pt x="548" y="3464"/>
                  </a:lnTo>
                  <a:lnTo>
                    <a:pt x="532" y="3464"/>
                  </a:lnTo>
                  <a:lnTo>
                    <a:pt x="516" y="3456"/>
                  </a:lnTo>
                  <a:lnTo>
                    <a:pt x="508" y="3456"/>
                  </a:lnTo>
                  <a:lnTo>
                    <a:pt x="492" y="3456"/>
                  </a:lnTo>
                  <a:lnTo>
                    <a:pt x="476" y="3448"/>
                  </a:lnTo>
                  <a:lnTo>
                    <a:pt x="468" y="3448"/>
                  </a:lnTo>
                  <a:lnTo>
                    <a:pt x="452" y="3456"/>
                  </a:lnTo>
                  <a:lnTo>
                    <a:pt x="436" y="3456"/>
                  </a:lnTo>
                  <a:lnTo>
                    <a:pt x="420" y="3464"/>
                  </a:lnTo>
                  <a:lnTo>
                    <a:pt x="412" y="3464"/>
                  </a:lnTo>
                  <a:lnTo>
                    <a:pt x="396" y="3472"/>
                  </a:lnTo>
                  <a:lnTo>
                    <a:pt x="380" y="3480"/>
                  </a:lnTo>
                  <a:lnTo>
                    <a:pt x="372" y="3496"/>
                  </a:lnTo>
                  <a:lnTo>
                    <a:pt x="358" y="3504"/>
                  </a:lnTo>
                  <a:lnTo>
                    <a:pt x="350" y="3518"/>
                  </a:lnTo>
                  <a:lnTo>
                    <a:pt x="342" y="3526"/>
                  </a:lnTo>
                  <a:lnTo>
                    <a:pt x="334" y="3542"/>
                  </a:lnTo>
                  <a:lnTo>
                    <a:pt x="326" y="3550"/>
                  </a:lnTo>
                  <a:lnTo>
                    <a:pt x="326" y="3566"/>
                  </a:lnTo>
                  <a:lnTo>
                    <a:pt x="318" y="3574"/>
                  </a:lnTo>
                  <a:lnTo>
                    <a:pt x="318" y="3590"/>
                  </a:lnTo>
                  <a:lnTo>
                    <a:pt x="318" y="3606"/>
                  </a:lnTo>
                  <a:lnTo>
                    <a:pt x="318" y="3614"/>
                  </a:lnTo>
                  <a:lnTo>
                    <a:pt x="326" y="3630"/>
                  </a:lnTo>
                  <a:lnTo>
                    <a:pt x="326" y="3638"/>
                  </a:lnTo>
                  <a:lnTo>
                    <a:pt x="334" y="3654"/>
                  </a:lnTo>
                  <a:lnTo>
                    <a:pt x="334" y="3670"/>
                  </a:lnTo>
                  <a:lnTo>
                    <a:pt x="342" y="3678"/>
                  </a:lnTo>
                  <a:lnTo>
                    <a:pt x="350" y="3694"/>
                  </a:lnTo>
                  <a:lnTo>
                    <a:pt x="366" y="3702"/>
                  </a:lnTo>
                  <a:lnTo>
                    <a:pt x="366" y="3710"/>
                  </a:lnTo>
                  <a:lnTo>
                    <a:pt x="372" y="3710"/>
                  </a:lnTo>
                  <a:lnTo>
                    <a:pt x="372" y="3718"/>
                  </a:lnTo>
                  <a:lnTo>
                    <a:pt x="380" y="3718"/>
                  </a:lnTo>
                  <a:lnTo>
                    <a:pt x="380" y="3724"/>
                  </a:lnTo>
                  <a:lnTo>
                    <a:pt x="388" y="3724"/>
                  </a:lnTo>
                  <a:lnTo>
                    <a:pt x="396" y="3724"/>
                  </a:lnTo>
                  <a:lnTo>
                    <a:pt x="404" y="3732"/>
                  </a:lnTo>
                  <a:lnTo>
                    <a:pt x="412" y="3732"/>
                  </a:lnTo>
                  <a:lnTo>
                    <a:pt x="420" y="3732"/>
                  </a:lnTo>
                  <a:lnTo>
                    <a:pt x="428" y="3732"/>
                  </a:lnTo>
                  <a:lnTo>
                    <a:pt x="436" y="3732"/>
                  </a:lnTo>
                  <a:lnTo>
                    <a:pt x="444" y="3732"/>
                  </a:lnTo>
                  <a:lnTo>
                    <a:pt x="452" y="3732"/>
                  </a:lnTo>
                  <a:lnTo>
                    <a:pt x="460" y="3732"/>
                  </a:lnTo>
                  <a:lnTo>
                    <a:pt x="468" y="3724"/>
                  </a:lnTo>
                  <a:lnTo>
                    <a:pt x="476" y="3724"/>
                  </a:lnTo>
                  <a:lnTo>
                    <a:pt x="484" y="3724"/>
                  </a:lnTo>
                  <a:lnTo>
                    <a:pt x="492" y="3718"/>
                  </a:lnTo>
                  <a:lnTo>
                    <a:pt x="500" y="3710"/>
                  </a:lnTo>
                  <a:lnTo>
                    <a:pt x="508" y="3702"/>
                  </a:lnTo>
                  <a:lnTo>
                    <a:pt x="516" y="3702"/>
                  </a:lnTo>
                  <a:lnTo>
                    <a:pt x="516" y="3694"/>
                  </a:lnTo>
                  <a:lnTo>
                    <a:pt x="524" y="3694"/>
                  </a:lnTo>
                  <a:lnTo>
                    <a:pt x="524" y="3686"/>
                  </a:lnTo>
                  <a:lnTo>
                    <a:pt x="532" y="3678"/>
                  </a:lnTo>
                  <a:lnTo>
                    <a:pt x="532" y="3670"/>
                  </a:lnTo>
                  <a:lnTo>
                    <a:pt x="532" y="3662"/>
                  </a:lnTo>
                  <a:lnTo>
                    <a:pt x="540" y="3654"/>
                  </a:lnTo>
                  <a:lnTo>
                    <a:pt x="540" y="3646"/>
                  </a:lnTo>
                  <a:lnTo>
                    <a:pt x="540" y="3638"/>
                  </a:lnTo>
                  <a:lnTo>
                    <a:pt x="540" y="3630"/>
                  </a:lnTo>
                  <a:lnTo>
                    <a:pt x="532" y="3622"/>
                  </a:lnTo>
                  <a:lnTo>
                    <a:pt x="532" y="3614"/>
                  </a:lnTo>
                  <a:lnTo>
                    <a:pt x="532" y="3606"/>
                  </a:lnTo>
                  <a:lnTo>
                    <a:pt x="524" y="3606"/>
                  </a:lnTo>
                  <a:lnTo>
                    <a:pt x="524" y="3598"/>
                  </a:lnTo>
                  <a:lnTo>
                    <a:pt x="516" y="3598"/>
                  </a:lnTo>
                  <a:lnTo>
                    <a:pt x="516" y="3590"/>
                  </a:lnTo>
                  <a:lnTo>
                    <a:pt x="508" y="3582"/>
                  </a:lnTo>
                  <a:lnTo>
                    <a:pt x="500" y="3582"/>
                  </a:lnTo>
                  <a:lnTo>
                    <a:pt x="500" y="3574"/>
                  </a:lnTo>
                  <a:lnTo>
                    <a:pt x="492" y="3574"/>
                  </a:lnTo>
                  <a:lnTo>
                    <a:pt x="484" y="3574"/>
                  </a:lnTo>
                  <a:lnTo>
                    <a:pt x="476" y="3566"/>
                  </a:lnTo>
                  <a:lnTo>
                    <a:pt x="468" y="3566"/>
                  </a:lnTo>
                  <a:lnTo>
                    <a:pt x="460" y="3566"/>
                  </a:lnTo>
                  <a:lnTo>
                    <a:pt x="452" y="3574"/>
                  </a:lnTo>
                  <a:lnTo>
                    <a:pt x="444" y="3574"/>
                  </a:lnTo>
                  <a:lnTo>
                    <a:pt x="436" y="3574"/>
                  </a:lnTo>
                  <a:lnTo>
                    <a:pt x="428" y="3582"/>
                  </a:lnTo>
                  <a:lnTo>
                    <a:pt x="420" y="3582"/>
                  </a:lnTo>
                  <a:lnTo>
                    <a:pt x="412" y="3590"/>
                  </a:lnTo>
                  <a:lnTo>
                    <a:pt x="436" y="3622"/>
                  </a:lnTo>
                  <a:lnTo>
                    <a:pt x="436" y="3614"/>
                  </a:lnTo>
                  <a:lnTo>
                    <a:pt x="444" y="3614"/>
                  </a:lnTo>
                  <a:lnTo>
                    <a:pt x="452" y="3614"/>
                  </a:lnTo>
                  <a:lnTo>
                    <a:pt x="452" y="3606"/>
                  </a:lnTo>
                  <a:lnTo>
                    <a:pt x="460" y="3606"/>
                  </a:lnTo>
                  <a:lnTo>
                    <a:pt x="468" y="3606"/>
                  </a:lnTo>
                  <a:lnTo>
                    <a:pt x="476" y="3606"/>
                  </a:lnTo>
                  <a:lnTo>
                    <a:pt x="484" y="3606"/>
                  </a:lnTo>
                  <a:lnTo>
                    <a:pt x="484" y="3614"/>
                  </a:lnTo>
                  <a:lnTo>
                    <a:pt x="492" y="3614"/>
                  </a:lnTo>
                  <a:lnTo>
                    <a:pt x="492" y="3622"/>
                  </a:lnTo>
                  <a:lnTo>
                    <a:pt x="500" y="3630"/>
                  </a:lnTo>
                  <a:lnTo>
                    <a:pt x="500" y="3638"/>
                  </a:lnTo>
                  <a:lnTo>
                    <a:pt x="500" y="3646"/>
                  </a:lnTo>
                  <a:lnTo>
                    <a:pt x="500" y="3654"/>
                  </a:lnTo>
                  <a:lnTo>
                    <a:pt x="500" y="3662"/>
                  </a:lnTo>
                  <a:lnTo>
                    <a:pt x="492" y="3662"/>
                  </a:lnTo>
                  <a:lnTo>
                    <a:pt x="492" y="3670"/>
                  </a:lnTo>
                  <a:lnTo>
                    <a:pt x="484" y="3678"/>
                  </a:lnTo>
                  <a:lnTo>
                    <a:pt x="476" y="3686"/>
                  </a:lnTo>
                  <a:lnTo>
                    <a:pt x="468" y="3686"/>
                  </a:lnTo>
                  <a:lnTo>
                    <a:pt x="460" y="3694"/>
                  </a:lnTo>
                  <a:lnTo>
                    <a:pt x="452" y="3694"/>
                  </a:lnTo>
                  <a:lnTo>
                    <a:pt x="444" y="3694"/>
                  </a:lnTo>
                  <a:lnTo>
                    <a:pt x="444" y="3702"/>
                  </a:lnTo>
                  <a:lnTo>
                    <a:pt x="436" y="3702"/>
                  </a:lnTo>
                  <a:lnTo>
                    <a:pt x="428" y="3702"/>
                  </a:lnTo>
                  <a:lnTo>
                    <a:pt x="420" y="3702"/>
                  </a:lnTo>
                  <a:lnTo>
                    <a:pt x="420" y="3694"/>
                  </a:lnTo>
                  <a:lnTo>
                    <a:pt x="412" y="3694"/>
                  </a:lnTo>
                  <a:lnTo>
                    <a:pt x="404" y="3694"/>
                  </a:lnTo>
                  <a:lnTo>
                    <a:pt x="404" y="3686"/>
                  </a:lnTo>
                  <a:lnTo>
                    <a:pt x="396" y="3686"/>
                  </a:lnTo>
                  <a:lnTo>
                    <a:pt x="388" y="3686"/>
                  </a:lnTo>
                  <a:lnTo>
                    <a:pt x="388" y="3678"/>
                  </a:lnTo>
                  <a:lnTo>
                    <a:pt x="380" y="3670"/>
                  </a:lnTo>
                  <a:lnTo>
                    <a:pt x="372" y="3662"/>
                  </a:lnTo>
                  <a:lnTo>
                    <a:pt x="366" y="3654"/>
                  </a:lnTo>
                  <a:lnTo>
                    <a:pt x="366" y="3646"/>
                  </a:lnTo>
                  <a:lnTo>
                    <a:pt x="358" y="3630"/>
                  </a:lnTo>
                  <a:lnTo>
                    <a:pt x="358" y="3622"/>
                  </a:lnTo>
                  <a:lnTo>
                    <a:pt x="358" y="3614"/>
                  </a:lnTo>
                  <a:lnTo>
                    <a:pt x="358" y="3606"/>
                  </a:lnTo>
                  <a:lnTo>
                    <a:pt x="358" y="3590"/>
                  </a:lnTo>
                  <a:lnTo>
                    <a:pt x="358" y="3582"/>
                  </a:lnTo>
                  <a:lnTo>
                    <a:pt x="358" y="3574"/>
                  </a:lnTo>
                  <a:lnTo>
                    <a:pt x="366" y="3566"/>
                  </a:lnTo>
                  <a:lnTo>
                    <a:pt x="366" y="3558"/>
                  </a:lnTo>
                  <a:lnTo>
                    <a:pt x="372" y="3542"/>
                  </a:lnTo>
                  <a:lnTo>
                    <a:pt x="380" y="3534"/>
                  </a:lnTo>
                  <a:lnTo>
                    <a:pt x="388" y="3526"/>
                  </a:lnTo>
                  <a:lnTo>
                    <a:pt x="396" y="3518"/>
                  </a:lnTo>
                  <a:lnTo>
                    <a:pt x="404" y="3510"/>
                  </a:lnTo>
                  <a:lnTo>
                    <a:pt x="420" y="3504"/>
                  </a:lnTo>
                  <a:lnTo>
                    <a:pt x="428" y="3496"/>
                  </a:lnTo>
                  <a:lnTo>
                    <a:pt x="436" y="3496"/>
                  </a:lnTo>
                  <a:lnTo>
                    <a:pt x="444" y="3488"/>
                  </a:lnTo>
                  <a:lnTo>
                    <a:pt x="460" y="3488"/>
                  </a:lnTo>
                  <a:lnTo>
                    <a:pt x="468" y="3488"/>
                  </a:lnTo>
                  <a:lnTo>
                    <a:pt x="476" y="3488"/>
                  </a:lnTo>
                  <a:lnTo>
                    <a:pt x="492" y="3488"/>
                  </a:lnTo>
                  <a:lnTo>
                    <a:pt x="500" y="3488"/>
                  </a:lnTo>
                  <a:lnTo>
                    <a:pt x="508" y="3496"/>
                  </a:lnTo>
                  <a:lnTo>
                    <a:pt x="524" y="3496"/>
                  </a:lnTo>
                  <a:lnTo>
                    <a:pt x="532" y="3496"/>
                  </a:lnTo>
                  <a:lnTo>
                    <a:pt x="540" y="3504"/>
                  </a:lnTo>
                  <a:lnTo>
                    <a:pt x="548" y="3510"/>
                  </a:lnTo>
                  <a:lnTo>
                    <a:pt x="556" y="3510"/>
                  </a:lnTo>
                  <a:lnTo>
                    <a:pt x="564" y="3518"/>
                  </a:lnTo>
                  <a:lnTo>
                    <a:pt x="572" y="3526"/>
                  </a:lnTo>
                  <a:lnTo>
                    <a:pt x="580" y="3542"/>
                  </a:lnTo>
                  <a:lnTo>
                    <a:pt x="588" y="3550"/>
                  </a:lnTo>
                  <a:lnTo>
                    <a:pt x="594" y="3558"/>
                  </a:lnTo>
                  <a:lnTo>
                    <a:pt x="602" y="3574"/>
                  </a:lnTo>
                  <a:lnTo>
                    <a:pt x="602" y="3582"/>
                  </a:lnTo>
                  <a:lnTo>
                    <a:pt x="610" y="3598"/>
                  </a:lnTo>
                  <a:lnTo>
                    <a:pt x="610" y="3606"/>
                  </a:lnTo>
                  <a:lnTo>
                    <a:pt x="610" y="3622"/>
                  </a:lnTo>
                  <a:lnTo>
                    <a:pt x="610" y="3638"/>
                  </a:lnTo>
                  <a:lnTo>
                    <a:pt x="610" y="3646"/>
                  </a:lnTo>
                  <a:lnTo>
                    <a:pt x="610" y="3662"/>
                  </a:lnTo>
                  <a:lnTo>
                    <a:pt x="610" y="3670"/>
                  </a:lnTo>
                  <a:lnTo>
                    <a:pt x="602" y="3686"/>
                  </a:lnTo>
                  <a:lnTo>
                    <a:pt x="594" y="3694"/>
                  </a:lnTo>
                  <a:lnTo>
                    <a:pt x="594" y="3702"/>
                  </a:lnTo>
                  <a:lnTo>
                    <a:pt x="588" y="3710"/>
                  </a:lnTo>
                  <a:lnTo>
                    <a:pt x="580" y="3718"/>
                  </a:lnTo>
                  <a:lnTo>
                    <a:pt x="572" y="3724"/>
                  </a:lnTo>
                  <a:lnTo>
                    <a:pt x="564" y="3732"/>
                  </a:lnTo>
                  <a:lnTo>
                    <a:pt x="556" y="3740"/>
                  </a:lnTo>
                  <a:lnTo>
                    <a:pt x="548" y="3748"/>
                  </a:lnTo>
                  <a:lnTo>
                    <a:pt x="540" y="3748"/>
                  </a:lnTo>
                  <a:lnTo>
                    <a:pt x="532" y="3756"/>
                  </a:lnTo>
                  <a:lnTo>
                    <a:pt x="524" y="3764"/>
                  </a:lnTo>
                  <a:lnTo>
                    <a:pt x="508" y="3764"/>
                  </a:lnTo>
                  <a:lnTo>
                    <a:pt x="500" y="3772"/>
                  </a:lnTo>
                  <a:lnTo>
                    <a:pt x="492" y="3772"/>
                  </a:lnTo>
                  <a:lnTo>
                    <a:pt x="484" y="3780"/>
                  </a:lnTo>
                  <a:lnTo>
                    <a:pt x="476" y="3780"/>
                  </a:lnTo>
                  <a:lnTo>
                    <a:pt x="468" y="3780"/>
                  </a:lnTo>
                  <a:lnTo>
                    <a:pt x="452" y="3780"/>
                  </a:lnTo>
                  <a:lnTo>
                    <a:pt x="444" y="3780"/>
                  </a:lnTo>
                  <a:lnTo>
                    <a:pt x="428" y="3788"/>
                  </a:lnTo>
                  <a:lnTo>
                    <a:pt x="420" y="3788"/>
                  </a:lnTo>
                  <a:lnTo>
                    <a:pt x="404" y="3788"/>
                  </a:lnTo>
                  <a:lnTo>
                    <a:pt x="396" y="3780"/>
                  </a:lnTo>
                  <a:lnTo>
                    <a:pt x="380" y="3780"/>
                  </a:lnTo>
                  <a:lnTo>
                    <a:pt x="372" y="3780"/>
                  </a:lnTo>
                  <a:lnTo>
                    <a:pt x="358" y="3772"/>
                  </a:lnTo>
                  <a:lnTo>
                    <a:pt x="342" y="3772"/>
                  </a:lnTo>
                  <a:lnTo>
                    <a:pt x="334" y="3764"/>
                  </a:lnTo>
                  <a:lnTo>
                    <a:pt x="318" y="3756"/>
                  </a:lnTo>
                  <a:lnTo>
                    <a:pt x="302" y="3748"/>
                  </a:lnTo>
                  <a:lnTo>
                    <a:pt x="286" y="3740"/>
                  </a:lnTo>
                  <a:lnTo>
                    <a:pt x="270" y="3724"/>
                  </a:lnTo>
                  <a:lnTo>
                    <a:pt x="254" y="3710"/>
                  </a:lnTo>
                  <a:lnTo>
                    <a:pt x="238" y="3694"/>
                  </a:lnTo>
                  <a:lnTo>
                    <a:pt x="230" y="3678"/>
                  </a:lnTo>
                  <a:lnTo>
                    <a:pt x="214" y="3654"/>
                  </a:lnTo>
                  <a:lnTo>
                    <a:pt x="206" y="3630"/>
                  </a:lnTo>
                  <a:lnTo>
                    <a:pt x="206" y="3614"/>
                  </a:lnTo>
                  <a:lnTo>
                    <a:pt x="198" y="3590"/>
                  </a:lnTo>
                  <a:lnTo>
                    <a:pt x="198" y="3566"/>
                  </a:lnTo>
                  <a:lnTo>
                    <a:pt x="198" y="3542"/>
                  </a:lnTo>
                  <a:lnTo>
                    <a:pt x="198" y="3518"/>
                  </a:lnTo>
                  <a:lnTo>
                    <a:pt x="198" y="3496"/>
                  </a:lnTo>
                  <a:lnTo>
                    <a:pt x="198" y="3472"/>
                  </a:lnTo>
                  <a:lnTo>
                    <a:pt x="206" y="3448"/>
                  </a:lnTo>
                  <a:lnTo>
                    <a:pt x="214" y="3424"/>
                  </a:lnTo>
                  <a:lnTo>
                    <a:pt x="222" y="3400"/>
                  </a:lnTo>
                  <a:lnTo>
                    <a:pt x="230" y="3384"/>
                  </a:lnTo>
                  <a:lnTo>
                    <a:pt x="230" y="3376"/>
                  </a:lnTo>
                  <a:lnTo>
                    <a:pt x="238" y="3360"/>
                  </a:lnTo>
                  <a:lnTo>
                    <a:pt x="246" y="3352"/>
                  </a:lnTo>
                  <a:lnTo>
                    <a:pt x="254" y="3336"/>
                  </a:lnTo>
                  <a:lnTo>
                    <a:pt x="262" y="3328"/>
                  </a:lnTo>
                  <a:lnTo>
                    <a:pt x="270" y="3312"/>
                  </a:lnTo>
                  <a:lnTo>
                    <a:pt x="286" y="3296"/>
                  </a:lnTo>
                  <a:lnTo>
                    <a:pt x="294" y="3290"/>
                  </a:lnTo>
                  <a:lnTo>
                    <a:pt x="310" y="3274"/>
                  </a:lnTo>
                  <a:lnTo>
                    <a:pt x="326" y="3266"/>
                  </a:lnTo>
                  <a:lnTo>
                    <a:pt x="342" y="3258"/>
                  </a:lnTo>
                  <a:lnTo>
                    <a:pt x="366" y="3250"/>
                  </a:lnTo>
                  <a:lnTo>
                    <a:pt x="380" y="3242"/>
                  </a:lnTo>
                  <a:lnTo>
                    <a:pt x="404" y="3242"/>
                  </a:lnTo>
                  <a:lnTo>
                    <a:pt x="428" y="3234"/>
                  </a:lnTo>
                  <a:lnTo>
                    <a:pt x="452" y="3234"/>
                  </a:lnTo>
                  <a:lnTo>
                    <a:pt x="452" y="3242"/>
                  </a:lnTo>
                  <a:lnTo>
                    <a:pt x="460" y="3242"/>
                  </a:lnTo>
                  <a:lnTo>
                    <a:pt x="468" y="3242"/>
                  </a:lnTo>
                  <a:lnTo>
                    <a:pt x="468" y="3250"/>
                  </a:lnTo>
                  <a:lnTo>
                    <a:pt x="476" y="3250"/>
                  </a:lnTo>
                  <a:lnTo>
                    <a:pt x="484" y="3250"/>
                  </a:lnTo>
                  <a:lnTo>
                    <a:pt x="492" y="3258"/>
                  </a:lnTo>
                  <a:lnTo>
                    <a:pt x="500" y="3258"/>
                  </a:lnTo>
                  <a:lnTo>
                    <a:pt x="508" y="3258"/>
                  </a:lnTo>
                  <a:lnTo>
                    <a:pt x="508" y="3266"/>
                  </a:lnTo>
                  <a:lnTo>
                    <a:pt x="516" y="3266"/>
                  </a:lnTo>
                  <a:lnTo>
                    <a:pt x="524" y="3266"/>
                  </a:lnTo>
                  <a:lnTo>
                    <a:pt x="564" y="3274"/>
                  </a:lnTo>
                  <a:lnTo>
                    <a:pt x="594" y="3282"/>
                  </a:lnTo>
                  <a:lnTo>
                    <a:pt x="634" y="3290"/>
                  </a:lnTo>
                  <a:lnTo>
                    <a:pt x="666" y="3296"/>
                  </a:lnTo>
                  <a:lnTo>
                    <a:pt x="698" y="3296"/>
                  </a:lnTo>
                  <a:lnTo>
                    <a:pt x="730" y="3296"/>
                  </a:lnTo>
                  <a:lnTo>
                    <a:pt x="770" y="3296"/>
                  </a:lnTo>
                  <a:lnTo>
                    <a:pt x="802" y="3290"/>
                  </a:lnTo>
                  <a:lnTo>
                    <a:pt x="832" y="3282"/>
                  </a:lnTo>
                  <a:lnTo>
                    <a:pt x="864" y="3274"/>
                  </a:lnTo>
                  <a:lnTo>
                    <a:pt x="896" y="3266"/>
                  </a:lnTo>
                  <a:lnTo>
                    <a:pt x="928" y="3258"/>
                  </a:lnTo>
                  <a:lnTo>
                    <a:pt x="960" y="3242"/>
                  </a:lnTo>
                  <a:lnTo>
                    <a:pt x="992" y="3226"/>
                  </a:lnTo>
                  <a:lnTo>
                    <a:pt x="1030" y="3202"/>
                  </a:lnTo>
                  <a:lnTo>
                    <a:pt x="1062" y="3186"/>
                  </a:lnTo>
                  <a:lnTo>
                    <a:pt x="1094" y="3162"/>
                  </a:lnTo>
                  <a:lnTo>
                    <a:pt x="1118" y="3146"/>
                  </a:lnTo>
                  <a:lnTo>
                    <a:pt x="1150" y="3122"/>
                  </a:lnTo>
                  <a:lnTo>
                    <a:pt x="1174" y="3098"/>
                  </a:lnTo>
                  <a:lnTo>
                    <a:pt x="1206" y="3074"/>
                  </a:lnTo>
                  <a:lnTo>
                    <a:pt x="1230" y="3052"/>
                  </a:lnTo>
                  <a:lnTo>
                    <a:pt x="1252" y="3028"/>
                  </a:lnTo>
                  <a:lnTo>
                    <a:pt x="1276" y="3004"/>
                  </a:lnTo>
                  <a:lnTo>
                    <a:pt x="1300" y="2972"/>
                  </a:lnTo>
                  <a:lnTo>
                    <a:pt x="1324" y="2948"/>
                  </a:lnTo>
                  <a:lnTo>
                    <a:pt x="1340" y="2916"/>
                  </a:lnTo>
                  <a:lnTo>
                    <a:pt x="1364" y="2884"/>
                  </a:lnTo>
                  <a:lnTo>
                    <a:pt x="1388" y="2854"/>
                  </a:lnTo>
                  <a:lnTo>
                    <a:pt x="1404" y="2822"/>
                  </a:lnTo>
                  <a:lnTo>
                    <a:pt x="1420" y="2790"/>
                  </a:lnTo>
                  <a:lnTo>
                    <a:pt x="1436" y="2758"/>
                  </a:lnTo>
                  <a:lnTo>
                    <a:pt x="1450" y="2734"/>
                  </a:lnTo>
                  <a:lnTo>
                    <a:pt x="1458" y="2710"/>
                  </a:lnTo>
                  <a:lnTo>
                    <a:pt x="1466" y="2686"/>
                  </a:lnTo>
                  <a:lnTo>
                    <a:pt x="1474" y="2670"/>
                  </a:lnTo>
                  <a:lnTo>
                    <a:pt x="1482" y="2646"/>
                  </a:lnTo>
                  <a:lnTo>
                    <a:pt x="1490" y="2624"/>
                  </a:lnTo>
                  <a:lnTo>
                    <a:pt x="1498" y="2600"/>
                  </a:lnTo>
                  <a:lnTo>
                    <a:pt x="1506" y="2576"/>
                  </a:lnTo>
                  <a:lnTo>
                    <a:pt x="1514" y="2560"/>
                  </a:lnTo>
                  <a:lnTo>
                    <a:pt x="1522" y="2536"/>
                  </a:lnTo>
                  <a:lnTo>
                    <a:pt x="1522" y="2512"/>
                  </a:lnTo>
                  <a:lnTo>
                    <a:pt x="1530" y="2488"/>
                  </a:lnTo>
                  <a:lnTo>
                    <a:pt x="1538" y="2464"/>
                  </a:lnTo>
                  <a:lnTo>
                    <a:pt x="1538" y="2440"/>
                  </a:lnTo>
                  <a:lnTo>
                    <a:pt x="1546" y="2418"/>
                  </a:lnTo>
                  <a:lnTo>
                    <a:pt x="1546" y="2394"/>
                  </a:lnTo>
                  <a:lnTo>
                    <a:pt x="1562" y="2322"/>
                  </a:lnTo>
                  <a:lnTo>
                    <a:pt x="1562" y="2258"/>
                  </a:lnTo>
                  <a:lnTo>
                    <a:pt x="1570" y="2196"/>
                  </a:lnTo>
                  <a:lnTo>
                    <a:pt x="1570" y="2132"/>
                  </a:lnTo>
                  <a:lnTo>
                    <a:pt x="1562" y="2068"/>
                  </a:lnTo>
                  <a:lnTo>
                    <a:pt x="1562" y="1998"/>
                  </a:lnTo>
                  <a:lnTo>
                    <a:pt x="1554" y="1934"/>
                  </a:lnTo>
                  <a:lnTo>
                    <a:pt x="1538" y="1870"/>
                  </a:lnTo>
                  <a:lnTo>
                    <a:pt x="1530" y="1806"/>
                  </a:lnTo>
                  <a:lnTo>
                    <a:pt x="1514" y="1744"/>
                  </a:lnTo>
                  <a:lnTo>
                    <a:pt x="1490" y="1680"/>
                  </a:lnTo>
                  <a:lnTo>
                    <a:pt x="1466" y="1616"/>
                  </a:lnTo>
                  <a:lnTo>
                    <a:pt x="1444" y="1554"/>
                  </a:lnTo>
                  <a:lnTo>
                    <a:pt x="1420" y="1490"/>
                  </a:lnTo>
                  <a:lnTo>
                    <a:pt x="1388" y="1434"/>
                  </a:lnTo>
                  <a:lnTo>
                    <a:pt x="1356" y="1370"/>
                  </a:lnTo>
                  <a:lnTo>
                    <a:pt x="1444" y="1458"/>
                  </a:lnTo>
                  <a:lnTo>
                    <a:pt x="1498" y="1592"/>
                  </a:lnTo>
                  <a:lnTo>
                    <a:pt x="1704" y="1696"/>
                  </a:lnTo>
                  <a:lnTo>
                    <a:pt x="1610" y="1490"/>
                  </a:lnTo>
                  <a:lnTo>
                    <a:pt x="1466" y="1434"/>
                  </a:lnTo>
                  <a:lnTo>
                    <a:pt x="1380" y="1340"/>
                  </a:lnTo>
                  <a:lnTo>
                    <a:pt x="1436" y="1378"/>
                  </a:lnTo>
                  <a:lnTo>
                    <a:pt x="1498" y="1410"/>
                  </a:lnTo>
                  <a:lnTo>
                    <a:pt x="1562" y="1434"/>
                  </a:lnTo>
                  <a:lnTo>
                    <a:pt x="1626" y="1458"/>
                  </a:lnTo>
                  <a:lnTo>
                    <a:pt x="1688" y="1482"/>
                  </a:lnTo>
                  <a:lnTo>
                    <a:pt x="1752" y="1506"/>
                  </a:lnTo>
                  <a:lnTo>
                    <a:pt x="1824" y="1522"/>
                  </a:lnTo>
                  <a:lnTo>
                    <a:pt x="1886" y="1538"/>
                  </a:lnTo>
                  <a:lnTo>
                    <a:pt x="1950" y="1554"/>
                  </a:lnTo>
                  <a:lnTo>
                    <a:pt x="2022" y="1562"/>
                  </a:lnTo>
                  <a:lnTo>
                    <a:pt x="2086" y="1562"/>
                  </a:lnTo>
                  <a:lnTo>
                    <a:pt x="2148" y="1568"/>
                  </a:lnTo>
                  <a:lnTo>
                    <a:pt x="2220" y="1568"/>
                  </a:lnTo>
                  <a:lnTo>
                    <a:pt x="2284" y="1568"/>
                  </a:lnTo>
                  <a:lnTo>
                    <a:pt x="2354" y="1562"/>
                  </a:lnTo>
                  <a:lnTo>
                    <a:pt x="2418" y="1554"/>
                  </a:lnTo>
                  <a:lnTo>
                    <a:pt x="2442" y="1546"/>
                  </a:lnTo>
                  <a:lnTo>
                    <a:pt x="2466" y="1546"/>
                  </a:lnTo>
                  <a:lnTo>
                    <a:pt x="2490" y="1538"/>
                  </a:lnTo>
                  <a:lnTo>
                    <a:pt x="2514" y="1530"/>
                  </a:lnTo>
                  <a:lnTo>
                    <a:pt x="2536" y="1530"/>
                  </a:lnTo>
                  <a:lnTo>
                    <a:pt x="2560" y="1522"/>
                  </a:lnTo>
                  <a:lnTo>
                    <a:pt x="2584" y="1514"/>
                  </a:lnTo>
                  <a:lnTo>
                    <a:pt x="2608" y="1506"/>
                  </a:lnTo>
                  <a:lnTo>
                    <a:pt x="2632" y="1498"/>
                  </a:lnTo>
                  <a:lnTo>
                    <a:pt x="2656" y="1490"/>
                  </a:lnTo>
                  <a:lnTo>
                    <a:pt x="2680" y="1482"/>
                  </a:lnTo>
                  <a:lnTo>
                    <a:pt x="2696" y="1474"/>
                  </a:lnTo>
                  <a:lnTo>
                    <a:pt x="2720" y="1466"/>
                  </a:lnTo>
                  <a:lnTo>
                    <a:pt x="2742" y="1458"/>
                  </a:lnTo>
                  <a:lnTo>
                    <a:pt x="2766" y="1450"/>
                  </a:lnTo>
                  <a:lnTo>
                    <a:pt x="2782" y="1442"/>
                  </a:lnTo>
                  <a:lnTo>
                    <a:pt x="2814" y="1418"/>
                  </a:lnTo>
                  <a:lnTo>
                    <a:pt x="2854" y="1402"/>
                  </a:lnTo>
                  <a:lnTo>
                    <a:pt x="2886" y="1386"/>
                  </a:lnTo>
                  <a:lnTo>
                    <a:pt x="2918" y="1362"/>
                  </a:lnTo>
                  <a:lnTo>
                    <a:pt x="2942" y="1348"/>
                  </a:lnTo>
                  <a:lnTo>
                    <a:pt x="2972" y="1324"/>
                  </a:lnTo>
                  <a:lnTo>
                    <a:pt x="3004" y="1300"/>
                  </a:lnTo>
                  <a:lnTo>
                    <a:pt x="3028" y="1276"/>
                  </a:lnTo>
                  <a:lnTo>
                    <a:pt x="3060" y="1252"/>
                  </a:lnTo>
                  <a:lnTo>
                    <a:pt x="3084" y="1228"/>
                  </a:lnTo>
                  <a:lnTo>
                    <a:pt x="3108" y="1204"/>
                  </a:lnTo>
                  <a:lnTo>
                    <a:pt x="3132" y="1172"/>
                  </a:lnTo>
                  <a:lnTo>
                    <a:pt x="3156" y="1148"/>
                  </a:lnTo>
                  <a:lnTo>
                    <a:pt x="3178" y="1118"/>
                  </a:lnTo>
                  <a:lnTo>
                    <a:pt x="3194" y="1094"/>
                  </a:lnTo>
                  <a:lnTo>
                    <a:pt x="3218" y="1062"/>
                  </a:lnTo>
                  <a:lnTo>
                    <a:pt x="3234" y="1030"/>
                  </a:lnTo>
                  <a:lnTo>
                    <a:pt x="3250" y="990"/>
                  </a:lnTo>
                  <a:lnTo>
                    <a:pt x="3266" y="958"/>
                  </a:lnTo>
                  <a:lnTo>
                    <a:pt x="3282" y="926"/>
                  </a:lnTo>
                  <a:lnTo>
                    <a:pt x="3298" y="896"/>
                  </a:lnTo>
                  <a:lnTo>
                    <a:pt x="3306" y="864"/>
                  </a:lnTo>
                  <a:lnTo>
                    <a:pt x="3314" y="832"/>
                  </a:lnTo>
                  <a:lnTo>
                    <a:pt x="3322" y="800"/>
                  </a:lnTo>
                  <a:lnTo>
                    <a:pt x="3322" y="768"/>
                  </a:lnTo>
                  <a:lnTo>
                    <a:pt x="3322" y="736"/>
                  </a:lnTo>
                  <a:lnTo>
                    <a:pt x="3322" y="698"/>
                  </a:lnTo>
                  <a:lnTo>
                    <a:pt x="3322" y="666"/>
                  </a:lnTo>
                  <a:lnTo>
                    <a:pt x="3314" y="634"/>
                  </a:lnTo>
                  <a:lnTo>
                    <a:pt x="3314" y="594"/>
                  </a:lnTo>
                  <a:lnTo>
                    <a:pt x="3306" y="562"/>
                  </a:lnTo>
                  <a:lnTo>
                    <a:pt x="3290" y="522"/>
                  </a:lnTo>
                  <a:lnTo>
                    <a:pt x="3290" y="514"/>
                  </a:lnTo>
                  <a:lnTo>
                    <a:pt x="3290" y="506"/>
                  </a:lnTo>
                  <a:lnTo>
                    <a:pt x="3282" y="498"/>
                  </a:lnTo>
                  <a:lnTo>
                    <a:pt x="3282" y="492"/>
                  </a:lnTo>
                  <a:lnTo>
                    <a:pt x="3282" y="484"/>
                  </a:lnTo>
                  <a:lnTo>
                    <a:pt x="3274" y="476"/>
                  </a:lnTo>
                  <a:lnTo>
                    <a:pt x="3274" y="468"/>
                  </a:lnTo>
                  <a:lnTo>
                    <a:pt x="3274" y="460"/>
                  </a:lnTo>
                  <a:lnTo>
                    <a:pt x="3266" y="460"/>
                  </a:lnTo>
                  <a:lnTo>
                    <a:pt x="3266" y="452"/>
                  </a:lnTo>
                  <a:lnTo>
                    <a:pt x="3266" y="428"/>
                  </a:lnTo>
                  <a:lnTo>
                    <a:pt x="3266" y="404"/>
                  </a:lnTo>
                  <a:lnTo>
                    <a:pt x="3274" y="380"/>
                  </a:lnTo>
                  <a:lnTo>
                    <a:pt x="3274" y="364"/>
                  </a:lnTo>
                  <a:lnTo>
                    <a:pt x="3282" y="340"/>
                  </a:lnTo>
                  <a:lnTo>
                    <a:pt x="3298" y="324"/>
                  </a:lnTo>
                  <a:lnTo>
                    <a:pt x="3306" y="308"/>
                  </a:lnTo>
                  <a:lnTo>
                    <a:pt x="3314" y="292"/>
                  </a:lnTo>
                  <a:lnTo>
                    <a:pt x="3330" y="284"/>
                  </a:lnTo>
                  <a:lnTo>
                    <a:pt x="3338" y="270"/>
                  </a:lnTo>
                  <a:lnTo>
                    <a:pt x="3354" y="262"/>
                  </a:lnTo>
                  <a:lnTo>
                    <a:pt x="3370" y="254"/>
                  </a:lnTo>
                  <a:lnTo>
                    <a:pt x="3378" y="246"/>
                  </a:lnTo>
                  <a:lnTo>
                    <a:pt x="3392" y="238"/>
                  </a:lnTo>
                  <a:lnTo>
                    <a:pt x="3400" y="230"/>
                  </a:lnTo>
                  <a:lnTo>
                    <a:pt x="3408" y="230"/>
                  </a:lnTo>
                  <a:lnTo>
                    <a:pt x="3432" y="214"/>
                  </a:lnTo>
                  <a:lnTo>
                    <a:pt x="3456" y="206"/>
                  </a:lnTo>
                  <a:lnTo>
                    <a:pt x="3480" y="206"/>
                  </a:lnTo>
                  <a:lnTo>
                    <a:pt x="3504" y="198"/>
                  </a:lnTo>
                  <a:lnTo>
                    <a:pt x="3528" y="198"/>
                  </a:lnTo>
                  <a:lnTo>
                    <a:pt x="3552" y="190"/>
                  </a:lnTo>
                  <a:lnTo>
                    <a:pt x="3576" y="190"/>
                  </a:lnTo>
                  <a:lnTo>
                    <a:pt x="3600" y="198"/>
                  </a:lnTo>
                  <a:lnTo>
                    <a:pt x="3622" y="198"/>
                  </a:lnTo>
                  <a:lnTo>
                    <a:pt x="3638" y="206"/>
                  </a:lnTo>
                  <a:lnTo>
                    <a:pt x="3662" y="206"/>
                  </a:lnTo>
                  <a:lnTo>
                    <a:pt x="3686" y="214"/>
                  </a:lnTo>
                  <a:lnTo>
                    <a:pt x="3702" y="230"/>
                  </a:lnTo>
                  <a:lnTo>
                    <a:pt x="3726" y="238"/>
                  </a:lnTo>
                  <a:lnTo>
                    <a:pt x="3742" y="254"/>
                  </a:lnTo>
                  <a:lnTo>
                    <a:pt x="3758" y="270"/>
                  </a:lnTo>
                  <a:lnTo>
                    <a:pt x="3766" y="284"/>
                  </a:lnTo>
                  <a:lnTo>
                    <a:pt x="3774" y="300"/>
                  </a:lnTo>
                  <a:lnTo>
                    <a:pt x="3790" y="316"/>
                  </a:lnTo>
                  <a:lnTo>
                    <a:pt x="3798" y="324"/>
                  </a:lnTo>
                  <a:lnTo>
                    <a:pt x="3798" y="340"/>
                  </a:lnTo>
                  <a:lnTo>
                    <a:pt x="3806" y="356"/>
                  </a:lnTo>
                  <a:lnTo>
                    <a:pt x="3806" y="372"/>
                  </a:lnTo>
                  <a:lnTo>
                    <a:pt x="3814" y="380"/>
                  </a:lnTo>
                  <a:lnTo>
                    <a:pt x="3814" y="396"/>
                  </a:lnTo>
                  <a:lnTo>
                    <a:pt x="3814" y="404"/>
                  </a:lnTo>
                  <a:lnTo>
                    <a:pt x="3814" y="420"/>
                  </a:lnTo>
                  <a:lnTo>
                    <a:pt x="3814" y="428"/>
                  </a:lnTo>
                  <a:lnTo>
                    <a:pt x="3814" y="444"/>
                  </a:lnTo>
                  <a:lnTo>
                    <a:pt x="3814" y="452"/>
                  </a:lnTo>
                  <a:lnTo>
                    <a:pt x="3814" y="460"/>
                  </a:lnTo>
                  <a:lnTo>
                    <a:pt x="3814" y="476"/>
                  </a:lnTo>
                  <a:lnTo>
                    <a:pt x="3806" y="484"/>
                  </a:lnTo>
                  <a:lnTo>
                    <a:pt x="3806" y="492"/>
                  </a:lnTo>
                  <a:lnTo>
                    <a:pt x="3798" y="498"/>
                  </a:lnTo>
                  <a:lnTo>
                    <a:pt x="3798" y="506"/>
                  </a:lnTo>
                  <a:lnTo>
                    <a:pt x="3790" y="522"/>
                  </a:lnTo>
                  <a:lnTo>
                    <a:pt x="3790" y="530"/>
                  </a:lnTo>
                  <a:lnTo>
                    <a:pt x="3782" y="538"/>
                  </a:lnTo>
                  <a:lnTo>
                    <a:pt x="3774" y="546"/>
                  </a:lnTo>
                  <a:lnTo>
                    <a:pt x="3766" y="554"/>
                  </a:lnTo>
                  <a:lnTo>
                    <a:pt x="3758" y="562"/>
                  </a:lnTo>
                  <a:lnTo>
                    <a:pt x="3750" y="570"/>
                  </a:lnTo>
                  <a:lnTo>
                    <a:pt x="3742" y="578"/>
                  </a:lnTo>
                  <a:lnTo>
                    <a:pt x="3734" y="586"/>
                  </a:lnTo>
                  <a:lnTo>
                    <a:pt x="3726" y="594"/>
                  </a:lnTo>
                  <a:lnTo>
                    <a:pt x="3718" y="594"/>
                  </a:lnTo>
                  <a:lnTo>
                    <a:pt x="3710" y="602"/>
                  </a:lnTo>
                  <a:lnTo>
                    <a:pt x="3702" y="610"/>
                  </a:lnTo>
                  <a:lnTo>
                    <a:pt x="3686" y="610"/>
                  </a:lnTo>
                  <a:lnTo>
                    <a:pt x="3678" y="610"/>
                  </a:lnTo>
                  <a:lnTo>
                    <a:pt x="3662" y="610"/>
                  </a:lnTo>
                  <a:lnTo>
                    <a:pt x="3654" y="610"/>
                  </a:lnTo>
                  <a:lnTo>
                    <a:pt x="3638" y="610"/>
                  </a:lnTo>
                  <a:lnTo>
                    <a:pt x="3622" y="610"/>
                  </a:lnTo>
                  <a:lnTo>
                    <a:pt x="3614" y="602"/>
                  </a:lnTo>
                  <a:lnTo>
                    <a:pt x="3600" y="602"/>
                  </a:lnTo>
                  <a:lnTo>
                    <a:pt x="3592" y="594"/>
                  </a:lnTo>
                  <a:lnTo>
                    <a:pt x="3576" y="586"/>
                  </a:lnTo>
                  <a:lnTo>
                    <a:pt x="3568" y="578"/>
                  </a:lnTo>
                  <a:lnTo>
                    <a:pt x="3560" y="570"/>
                  </a:lnTo>
                  <a:lnTo>
                    <a:pt x="3552" y="562"/>
                  </a:lnTo>
                  <a:lnTo>
                    <a:pt x="3544" y="554"/>
                  </a:lnTo>
                  <a:lnTo>
                    <a:pt x="3536" y="546"/>
                  </a:lnTo>
                  <a:lnTo>
                    <a:pt x="3536" y="538"/>
                  </a:lnTo>
                  <a:lnTo>
                    <a:pt x="3528" y="530"/>
                  </a:lnTo>
                  <a:lnTo>
                    <a:pt x="3528" y="522"/>
                  </a:lnTo>
                  <a:lnTo>
                    <a:pt x="3520" y="506"/>
                  </a:lnTo>
                  <a:lnTo>
                    <a:pt x="3520" y="498"/>
                  </a:lnTo>
                  <a:lnTo>
                    <a:pt x="3520" y="492"/>
                  </a:lnTo>
                  <a:lnTo>
                    <a:pt x="3520" y="476"/>
                  </a:lnTo>
                  <a:lnTo>
                    <a:pt x="3520" y="468"/>
                  </a:lnTo>
                  <a:lnTo>
                    <a:pt x="3520" y="460"/>
                  </a:lnTo>
                  <a:lnTo>
                    <a:pt x="3520" y="444"/>
                  </a:lnTo>
                  <a:lnTo>
                    <a:pt x="3528" y="436"/>
                  </a:lnTo>
                  <a:lnTo>
                    <a:pt x="3528" y="428"/>
                  </a:lnTo>
                  <a:lnTo>
                    <a:pt x="3536" y="420"/>
                  </a:lnTo>
                  <a:lnTo>
                    <a:pt x="3544" y="404"/>
                  </a:lnTo>
                  <a:lnTo>
                    <a:pt x="3552" y="396"/>
                  </a:lnTo>
                  <a:lnTo>
                    <a:pt x="3560" y="388"/>
                  </a:lnTo>
                  <a:lnTo>
                    <a:pt x="3568" y="380"/>
                  </a:lnTo>
                  <a:lnTo>
                    <a:pt x="3576" y="372"/>
                  </a:lnTo>
                  <a:lnTo>
                    <a:pt x="3584" y="364"/>
                  </a:lnTo>
                  <a:lnTo>
                    <a:pt x="3592" y="364"/>
                  </a:lnTo>
                  <a:lnTo>
                    <a:pt x="3606" y="356"/>
                  </a:lnTo>
                  <a:lnTo>
                    <a:pt x="3614" y="356"/>
                  </a:lnTo>
                  <a:lnTo>
                    <a:pt x="3622" y="356"/>
                  </a:lnTo>
                  <a:lnTo>
                    <a:pt x="3630" y="356"/>
                  </a:lnTo>
                  <a:lnTo>
                    <a:pt x="3638" y="356"/>
                  </a:lnTo>
                  <a:lnTo>
                    <a:pt x="3654" y="356"/>
                  </a:lnTo>
                  <a:lnTo>
                    <a:pt x="3662" y="364"/>
                  </a:lnTo>
                  <a:lnTo>
                    <a:pt x="3670" y="364"/>
                  </a:lnTo>
                  <a:lnTo>
                    <a:pt x="3678" y="372"/>
                  </a:lnTo>
                  <a:lnTo>
                    <a:pt x="3686" y="372"/>
                  </a:lnTo>
                  <a:lnTo>
                    <a:pt x="3694" y="380"/>
                  </a:lnTo>
                  <a:lnTo>
                    <a:pt x="3710" y="388"/>
                  </a:lnTo>
                  <a:lnTo>
                    <a:pt x="3710" y="396"/>
                  </a:lnTo>
                  <a:lnTo>
                    <a:pt x="3718" y="396"/>
                  </a:lnTo>
                  <a:lnTo>
                    <a:pt x="3718" y="404"/>
                  </a:lnTo>
                  <a:lnTo>
                    <a:pt x="3718" y="412"/>
                  </a:lnTo>
                  <a:lnTo>
                    <a:pt x="3726" y="412"/>
                  </a:lnTo>
                  <a:lnTo>
                    <a:pt x="3726" y="420"/>
                  </a:lnTo>
                  <a:lnTo>
                    <a:pt x="3726" y="428"/>
                  </a:lnTo>
                  <a:lnTo>
                    <a:pt x="3726" y="436"/>
                  </a:lnTo>
                  <a:lnTo>
                    <a:pt x="3726" y="444"/>
                  </a:lnTo>
                  <a:lnTo>
                    <a:pt x="3726" y="452"/>
                  </a:lnTo>
                  <a:lnTo>
                    <a:pt x="3718" y="460"/>
                  </a:lnTo>
                  <a:lnTo>
                    <a:pt x="3718" y="468"/>
                  </a:lnTo>
                  <a:lnTo>
                    <a:pt x="3710" y="476"/>
                  </a:lnTo>
                  <a:lnTo>
                    <a:pt x="3702" y="484"/>
                  </a:lnTo>
                  <a:lnTo>
                    <a:pt x="3702" y="492"/>
                  </a:lnTo>
                  <a:lnTo>
                    <a:pt x="3694" y="492"/>
                  </a:lnTo>
                  <a:lnTo>
                    <a:pt x="3694" y="498"/>
                  </a:lnTo>
                  <a:lnTo>
                    <a:pt x="3686" y="498"/>
                  </a:lnTo>
                  <a:lnTo>
                    <a:pt x="3678" y="498"/>
                  </a:lnTo>
                  <a:lnTo>
                    <a:pt x="3670" y="498"/>
                  </a:lnTo>
                  <a:lnTo>
                    <a:pt x="3662" y="498"/>
                  </a:lnTo>
                  <a:lnTo>
                    <a:pt x="3654" y="498"/>
                  </a:lnTo>
                  <a:lnTo>
                    <a:pt x="3654" y="492"/>
                  </a:lnTo>
                  <a:lnTo>
                    <a:pt x="3646" y="492"/>
                  </a:lnTo>
                  <a:lnTo>
                    <a:pt x="3638" y="484"/>
                  </a:lnTo>
                  <a:lnTo>
                    <a:pt x="3638" y="476"/>
                  </a:lnTo>
                  <a:lnTo>
                    <a:pt x="3638" y="468"/>
                  </a:lnTo>
                  <a:lnTo>
                    <a:pt x="3638" y="460"/>
                  </a:lnTo>
                  <a:lnTo>
                    <a:pt x="3638" y="452"/>
                  </a:lnTo>
                  <a:lnTo>
                    <a:pt x="3646" y="444"/>
                  </a:lnTo>
                  <a:lnTo>
                    <a:pt x="3646" y="436"/>
                  </a:lnTo>
                  <a:lnTo>
                    <a:pt x="3622" y="412"/>
                  </a:lnTo>
                  <a:lnTo>
                    <a:pt x="3614" y="412"/>
                  </a:lnTo>
                  <a:lnTo>
                    <a:pt x="3614" y="420"/>
                  </a:lnTo>
                  <a:lnTo>
                    <a:pt x="3606" y="428"/>
                  </a:lnTo>
                  <a:lnTo>
                    <a:pt x="3606" y="436"/>
                  </a:lnTo>
                  <a:lnTo>
                    <a:pt x="3600" y="444"/>
                  </a:lnTo>
                  <a:lnTo>
                    <a:pt x="3600" y="452"/>
                  </a:lnTo>
                  <a:lnTo>
                    <a:pt x="3600" y="460"/>
                  </a:lnTo>
                  <a:lnTo>
                    <a:pt x="3600" y="468"/>
                  </a:lnTo>
                  <a:lnTo>
                    <a:pt x="3600" y="476"/>
                  </a:lnTo>
                  <a:lnTo>
                    <a:pt x="3600" y="484"/>
                  </a:lnTo>
                  <a:lnTo>
                    <a:pt x="3600" y="492"/>
                  </a:lnTo>
                  <a:lnTo>
                    <a:pt x="3606" y="498"/>
                  </a:lnTo>
                  <a:lnTo>
                    <a:pt x="3606" y="506"/>
                  </a:lnTo>
                  <a:lnTo>
                    <a:pt x="3614" y="506"/>
                  </a:lnTo>
                  <a:lnTo>
                    <a:pt x="3614" y="514"/>
                  </a:lnTo>
                  <a:lnTo>
                    <a:pt x="3622" y="514"/>
                  </a:lnTo>
                  <a:lnTo>
                    <a:pt x="3622" y="522"/>
                  </a:lnTo>
                  <a:lnTo>
                    <a:pt x="3630" y="522"/>
                  </a:lnTo>
                  <a:lnTo>
                    <a:pt x="3638" y="522"/>
                  </a:lnTo>
                  <a:lnTo>
                    <a:pt x="3638" y="530"/>
                  </a:lnTo>
                  <a:lnTo>
                    <a:pt x="3646" y="530"/>
                  </a:lnTo>
                  <a:lnTo>
                    <a:pt x="3654" y="530"/>
                  </a:lnTo>
                  <a:lnTo>
                    <a:pt x="3654" y="538"/>
                  </a:lnTo>
                  <a:lnTo>
                    <a:pt x="3662" y="538"/>
                  </a:lnTo>
                  <a:lnTo>
                    <a:pt x="3670" y="538"/>
                  </a:lnTo>
                  <a:lnTo>
                    <a:pt x="3678" y="538"/>
                  </a:lnTo>
                  <a:lnTo>
                    <a:pt x="3686" y="538"/>
                  </a:lnTo>
                  <a:lnTo>
                    <a:pt x="3694" y="538"/>
                  </a:lnTo>
                  <a:lnTo>
                    <a:pt x="3694" y="530"/>
                  </a:lnTo>
                  <a:lnTo>
                    <a:pt x="3702" y="530"/>
                  </a:lnTo>
                  <a:lnTo>
                    <a:pt x="3710" y="530"/>
                  </a:lnTo>
                  <a:lnTo>
                    <a:pt x="3710" y="522"/>
                  </a:lnTo>
                  <a:lnTo>
                    <a:pt x="3718" y="522"/>
                  </a:lnTo>
                  <a:lnTo>
                    <a:pt x="3726" y="514"/>
                  </a:lnTo>
                  <a:lnTo>
                    <a:pt x="3734" y="514"/>
                  </a:lnTo>
                  <a:lnTo>
                    <a:pt x="3734" y="506"/>
                  </a:lnTo>
                  <a:lnTo>
                    <a:pt x="3742" y="498"/>
                  </a:lnTo>
                  <a:lnTo>
                    <a:pt x="3742" y="492"/>
                  </a:lnTo>
                  <a:lnTo>
                    <a:pt x="3750" y="484"/>
                  </a:lnTo>
                  <a:lnTo>
                    <a:pt x="3750" y="476"/>
                  </a:lnTo>
                  <a:lnTo>
                    <a:pt x="3758" y="468"/>
                  </a:lnTo>
                  <a:lnTo>
                    <a:pt x="3758" y="460"/>
                  </a:lnTo>
                  <a:lnTo>
                    <a:pt x="3758" y="452"/>
                  </a:lnTo>
                  <a:lnTo>
                    <a:pt x="3766" y="452"/>
                  </a:lnTo>
                  <a:lnTo>
                    <a:pt x="3766" y="444"/>
                  </a:lnTo>
                  <a:lnTo>
                    <a:pt x="3766" y="436"/>
                  </a:lnTo>
                  <a:lnTo>
                    <a:pt x="3766" y="428"/>
                  </a:lnTo>
                  <a:lnTo>
                    <a:pt x="3766" y="420"/>
                  </a:lnTo>
                  <a:lnTo>
                    <a:pt x="3766" y="412"/>
                  </a:lnTo>
                  <a:lnTo>
                    <a:pt x="3758" y="404"/>
                  </a:lnTo>
                  <a:lnTo>
                    <a:pt x="3758" y="396"/>
                  </a:lnTo>
                  <a:lnTo>
                    <a:pt x="3758" y="388"/>
                  </a:lnTo>
                  <a:lnTo>
                    <a:pt x="3750" y="380"/>
                  </a:lnTo>
                  <a:lnTo>
                    <a:pt x="3750" y="372"/>
                  </a:lnTo>
                  <a:lnTo>
                    <a:pt x="3742" y="372"/>
                  </a:lnTo>
                  <a:lnTo>
                    <a:pt x="3734" y="364"/>
                  </a:lnTo>
                  <a:lnTo>
                    <a:pt x="3718" y="348"/>
                  </a:lnTo>
                  <a:lnTo>
                    <a:pt x="3710" y="340"/>
                  </a:lnTo>
                  <a:lnTo>
                    <a:pt x="3694" y="332"/>
                  </a:lnTo>
                  <a:lnTo>
                    <a:pt x="3686" y="332"/>
                  </a:lnTo>
                  <a:lnTo>
                    <a:pt x="3670" y="324"/>
                  </a:lnTo>
                  <a:lnTo>
                    <a:pt x="3662" y="324"/>
                  </a:lnTo>
                  <a:lnTo>
                    <a:pt x="3646" y="316"/>
                  </a:lnTo>
                  <a:lnTo>
                    <a:pt x="3630" y="316"/>
                  </a:lnTo>
                  <a:lnTo>
                    <a:pt x="3622" y="316"/>
                  </a:lnTo>
                  <a:lnTo>
                    <a:pt x="3606" y="316"/>
                  </a:lnTo>
                  <a:lnTo>
                    <a:pt x="3600" y="324"/>
                  </a:lnTo>
                  <a:lnTo>
                    <a:pt x="3584" y="324"/>
                  </a:lnTo>
                  <a:lnTo>
                    <a:pt x="3568" y="332"/>
                  </a:lnTo>
                  <a:lnTo>
                    <a:pt x="3560" y="340"/>
                  </a:lnTo>
                  <a:lnTo>
                    <a:pt x="3544" y="348"/>
                  </a:lnTo>
                  <a:lnTo>
                    <a:pt x="3536" y="356"/>
                  </a:lnTo>
                  <a:lnTo>
                    <a:pt x="3520" y="372"/>
                  </a:lnTo>
                  <a:lnTo>
                    <a:pt x="3512" y="380"/>
                  </a:lnTo>
                  <a:lnTo>
                    <a:pt x="3504" y="396"/>
                  </a:lnTo>
                  <a:lnTo>
                    <a:pt x="3496" y="412"/>
                  </a:lnTo>
                  <a:lnTo>
                    <a:pt x="3488" y="420"/>
                  </a:lnTo>
                  <a:lnTo>
                    <a:pt x="3488" y="436"/>
                  </a:lnTo>
                  <a:lnTo>
                    <a:pt x="3480" y="452"/>
                  </a:lnTo>
                  <a:lnTo>
                    <a:pt x="3480" y="468"/>
                  </a:lnTo>
                  <a:lnTo>
                    <a:pt x="3480" y="476"/>
                  </a:lnTo>
                  <a:lnTo>
                    <a:pt x="3480" y="492"/>
                  </a:lnTo>
                  <a:lnTo>
                    <a:pt x="3480" y="506"/>
                  </a:lnTo>
                  <a:lnTo>
                    <a:pt x="3488" y="522"/>
                  </a:lnTo>
                  <a:lnTo>
                    <a:pt x="3488" y="530"/>
                  </a:lnTo>
                  <a:lnTo>
                    <a:pt x="3496" y="546"/>
                  </a:lnTo>
                  <a:lnTo>
                    <a:pt x="3496" y="554"/>
                  </a:lnTo>
                  <a:lnTo>
                    <a:pt x="3504" y="570"/>
                  </a:lnTo>
                  <a:lnTo>
                    <a:pt x="3512" y="578"/>
                  </a:lnTo>
                  <a:lnTo>
                    <a:pt x="3520" y="594"/>
                  </a:lnTo>
                  <a:lnTo>
                    <a:pt x="3536" y="602"/>
                  </a:lnTo>
                  <a:lnTo>
                    <a:pt x="3544" y="610"/>
                  </a:lnTo>
                  <a:lnTo>
                    <a:pt x="3560" y="618"/>
                  </a:lnTo>
                  <a:lnTo>
                    <a:pt x="3568" y="626"/>
                  </a:lnTo>
                  <a:lnTo>
                    <a:pt x="3584" y="634"/>
                  </a:lnTo>
                  <a:lnTo>
                    <a:pt x="3600" y="642"/>
                  </a:lnTo>
                  <a:lnTo>
                    <a:pt x="3614" y="642"/>
                  </a:lnTo>
                  <a:lnTo>
                    <a:pt x="3630" y="650"/>
                  </a:lnTo>
                  <a:lnTo>
                    <a:pt x="3646" y="650"/>
                  </a:lnTo>
                  <a:lnTo>
                    <a:pt x="3662" y="650"/>
                  </a:lnTo>
                  <a:lnTo>
                    <a:pt x="3678" y="650"/>
                  </a:lnTo>
                  <a:lnTo>
                    <a:pt x="3694" y="642"/>
                  </a:lnTo>
                  <a:lnTo>
                    <a:pt x="3710" y="642"/>
                  </a:lnTo>
                  <a:lnTo>
                    <a:pt x="3726" y="634"/>
                  </a:lnTo>
                  <a:lnTo>
                    <a:pt x="3734" y="626"/>
                  </a:lnTo>
                  <a:lnTo>
                    <a:pt x="3750" y="626"/>
                  </a:lnTo>
                  <a:lnTo>
                    <a:pt x="3758" y="618"/>
                  </a:lnTo>
                  <a:lnTo>
                    <a:pt x="3766" y="610"/>
                  </a:lnTo>
                  <a:lnTo>
                    <a:pt x="3782" y="602"/>
                  </a:lnTo>
                  <a:lnTo>
                    <a:pt x="3790" y="586"/>
                  </a:lnTo>
                  <a:lnTo>
                    <a:pt x="3798" y="578"/>
                  </a:lnTo>
                  <a:lnTo>
                    <a:pt x="3806" y="570"/>
                  </a:lnTo>
                  <a:lnTo>
                    <a:pt x="3814" y="562"/>
                  </a:lnTo>
                  <a:lnTo>
                    <a:pt x="3820" y="546"/>
                  </a:lnTo>
                  <a:lnTo>
                    <a:pt x="3828" y="538"/>
                  </a:lnTo>
                  <a:lnTo>
                    <a:pt x="3828" y="522"/>
                  </a:lnTo>
                  <a:lnTo>
                    <a:pt x="3836" y="514"/>
                  </a:lnTo>
                  <a:lnTo>
                    <a:pt x="3836" y="498"/>
                  </a:lnTo>
                  <a:lnTo>
                    <a:pt x="3844" y="492"/>
                  </a:lnTo>
                  <a:lnTo>
                    <a:pt x="3844" y="484"/>
                  </a:lnTo>
                  <a:lnTo>
                    <a:pt x="3844" y="468"/>
                  </a:lnTo>
                  <a:lnTo>
                    <a:pt x="3852" y="452"/>
                  </a:lnTo>
                  <a:lnTo>
                    <a:pt x="3852" y="444"/>
                  </a:lnTo>
                  <a:lnTo>
                    <a:pt x="3852" y="428"/>
                  </a:lnTo>
                  <a:lnTo>
                    <a:pt x="3852" y="412"/>
                  </a:lnTo>
                  <a:lnTo>
                    <a:pt x="3852" y="396"/>
                  </a:lnTo>
                  <a:lnTo>
                    <a:pt x="3852" y="388"/>
                  </a:lnTo>
                  <a:lnTo>
                    <a:pt x="3844" y="372"/>
                  </a:lnTo>
                  <a:lnTo>
                    <a:pt x="3844" y="356"/>
                  </a:lnTo>
                  <a:lnTo>
                    <a:pt x="3836" y="340"/>
                  </a:lnTo>
                  <a:lnTo>
                    <a:pt x="3828" y="324"/>
                  </a:lnTo>
                  <a:lnTo>
                    <a:pt x="3828" y="308"/>
                  </a:lnTo>
                  <a:lnTo>
                    <a:pt x="3814" y="292"/>
                  </a:lnTo>
                  <a:lnTo>
                    <a:pt x="3806" y="276"/>
                  </a:lnTo>
                  <a:lnTo>
                    <a:pt x="3798" y="262"/>
                  </a:lnTo>
                  <a:lnTo>
                    <a:pt x="3782" y="246"/>
                  </a:lnTo>
                  <a:lnTo>
                    <a:pt x="3782" y="246"/>
                  </a:lnTo>
                  <a:close/>
                  <a:moveTo>
                    <a:pt x="2300" y="214"/>
                  </a:moveTo>
                  <a:lnTo>
                    <a:pt x="2300" y="206"/>
                  </a:lnTo>
                  <a:lnTo>
                    <a:pt x="2308" y="206"/>
                  </a:lnTo>
                  <a:lnTo>
                    <a:pt x="2308" y="198"/>
                  </a:lnTo>
                  <a:lnTo>
                    <a:pt x="2314" y="198"/>
                  </a:lnTo>
                  <a:lnTo>
                    <a:pt x="2314" y="190"/>
                  </a:lnTo>
                  <a:lnTo>
                    <a:pt x="2322" y="190"/>
                  </a:lnTo>
                  <a:lnTo>
                    <a:pt x="2330" y="190"/>
                  </a:lnTo>
                  <a:lnTo>
                    <a:pt x="2330" y="182"/>
                  </a:lnTo>
                  <a:lnTo>
                    <a:pt x="2338" y="182"/>
                  </a:lnTo>
                  <a:lnTo>
                    <a:pt x="2346" y="182"/>
                  </a:lnTo>
                  <a:lnTo>
                    <a:pt x="2354" y="182"/>
                  </a:lnTo>
                  <a:lnTo>
                    <a:pt x="2362" y="174"/>
                  </a:lnTo>
                  <a:lnTo>
                    <a:pt x="2370" y="182"/>
                  </a:lnTo>
                  <a:lnTo>
                    <a:pt x="2378" y="182"/>
                  </a:lnTo>
                  <a:lnTo>
                    <a:pt x="2386" y="182"/>
                  </a:lnTo>
                  <a:lnTo>
                    <a:pt x="2394" y="182"/>
                  </a:lnTo>
                  <a:lnTo>
                    <a:pt x="2402" y="182"/>
                  </a:lnTo>
                  <a:lnTo>
                    <a:pt x="2410" y="182"/>
                  </a:lnTo>
                  <a:lnTo>
                    <a:pt x="2410" y="190"/>
                  </a:lnTo>
                  <a:lnTo>
                    <a:pt x="2418" y="190"/>
                  </a:lnTo>
                  <a:lnTo>
                    <a:pt x="2426" y="190"/>
                  </a:lnTo>
                  <a:lnTo>
                    <a:pt x="2426" y="198"/>
                  </a:lnTo>
                  <a:lnTo>
                    <a:pt x="2434" y="198"/>
                  </a:lnTo>
                  <a:lnTo>
                    <a:pt x="2442" y="206"/>
                  </a:lnTo>
                  <a:lnTo>
                    <a:pt x="2450" y="214"/>
                  </a:lnTo>
                  <a:lnTo>
                    <a:pt x="2458" y="222"/>
                  </a:lnTo>
                  <a:lnTo>
                    <a:pt x="2466" y="222"/>
                  </a:lnTo>
                  <a:lnTo>
                    <a:pt x="2466" y="230"/>
                  </a:lnTo>
                  <a:lnTo>
                    <a:pt x="2474" y="238"/>
                  </a:lnTo>
                  <a:lnTo>
                    <a:pt x="2474" y="246"/>
                  </a:lnTo>
                  <a:lnTo>
                    <a:pt x="2474" y="254"/>
                  </a:lnTo>
                  <a:lnTo>
                    <a:pt x="2482" y="262"/>
                  </a:lnTo>
                  <a:lnTo>
                    <a:pt x="2482" y="270"/>
                  </a:lnTo>
                  <a:lnTo>
                    <a:pt x="2482" y="276"/>
                  </a:lnTo>
                  <a:lnTo>
                    <a:pt x="2482" y="284"/>
                  </a:lnTo>
                  <a:lnTo>
                    <a:pt x="2474" y="292"/>
                  </a:lnTo>
                  <a:lnTo>
                    <a:pt x="2474" y="300"/>
                  </a:lnTo>
                  <a:lnTo>
                    <a:pt x="2474" y="308"/>
                  </a:lnTo>
                  <a:lnTo>
                    <a:pt x="2466" y="316"/>
                  </a:lnTo>
                  <a:lnTo>
                    <a:pt x="2466" y="324"/>
                  </a:lnTo>
                  <a:lnTo>
                    <a:pt x="2458" y="332"/>
                  </a:lnTo>
                  <a:lnTo>
                    <a:pt x="2458" y="340"/>
                  </a:lnTo>
                  <a:lnTo>
                    <a:pt x="2450" y="340"/>
                  </a:lnTo>
                  <a:lnTo>
                    <a:pt x="2442" y="348"/>
                  </a:lnTo>
                  <a:lnTo>
                    <a:pt x="2434" y="348"/>
                  </a:lnTo>
                  <a:lnTo>
                    <a:pt x="2434" y="356"/>
                  </a:lnTo>
                  <a:lnTo>
                    <a:pt x="2426" y="356"/>
                  </a:lnTo>
                  <a:lnTo>
                    <a:pt x="2418" y="356"/>
                  </a:lnTo>
                  <a:lnTo>
                    <a:pt x="2410" y="356"/>
                  </a:lnTo>
                  <a:lnTo>
                    <a:pt x="2402" y="356"/>
                  </a:lnTo>
                  <a:lnTo>
                    <a:pt x="2386" y="356"/>
                  </a:lnTo>
                  <a:lnTo>
                    <a:pt x="2378" y="348"/>
                  </a:lnTo>
                  <a:lnTo>
                    <a:pt x="2370" y="348"/>
                  </a:lnTo>
                  <a:lnTo>
                    <a:pt x="2362" y="348"/>
                  </a:lnTo>
                  <a:lnTo>
                    <a:pt x="2354" y="340"/>
                  </a:lnTo>
                  <a:lnTo>
                    <a:pt x="2346" y="340"/>
                  </a:lnTo>
                  <a:lnTo>
                    <a:pt x="2346" y="332"/>
                  </a:lnTo>
                  <a:lnTo>
                    <a:pt x="2338" y="332"/>
                  </a:lnTo>
                  <a:lnTo>
                    <a:pt x="2338" y="324"/>
                  </a:lnTo>
                  <a:lnTo>
                    <a:pt x="2330" y="324"/>
                  </a:lnTo>
                  <a:lnTo>
                    <a:pt x="2330" y="316"/>
                  </a:lnTo>
                  <a:lnTo>
                    <a:pt x="2330" y="308"/>
                  </a:lnTo>
                  <a:lnTo>
                    <a:pt x="2330" y="300"/>
                  </a:lnTo>
                  <a:lnTo>
                    <a:pt x="2330" y="292"/>
                  </a:lnTo>
                  <a:lnTo>
                    <a:pt x="2330" y="284"/>
                  </a:lnTo>
                  <a:lnTo>
                    <a:pt x="2330" y="276"/>
                  </a:lnTo>
                  <a:lnTo>
                    <a:pt x="2330" y="270"/>
                  </a:lnTo>
                  <a:lnTo>
                    <a:pt x="2338" y="270"/>
                  </a:lnTo>
                  <a:lnTo>
                    <a:pt x="2338" y="262"/>
                  </a:lnTo>
                  <a:lnTo>
                    <a:pt x="2346" y="262"/>
                  </a:lnTo>
                  <a:lnTo>
                    <a:pt x="2354" y="262"/>
                  </a:lnTo>
                  <a:lnTo>
                    <a:pt x="2354" y="254"/>
                  </a:lnTo>
                  <a:lnTo>
                    <a:pt x="2362" y="254"/>
                  </a:lnTo>
                  <a:lnTo>
                    <a:pt x="2370" y="254"/>
                  </a:lnTo>
                  <a:lnTo>
                    <a:pt x="2378" y="254"/>
                  </a:lnTo>
                  <a:lnTo>
                    <a:pt x="2394" y="222"/>
                  </a:lnTo>
                  <a:lnTo>
                    <a:pt x="2386" y="222"/>
                  </a:lnTo>
                  <a:lnTo>
                    <a:pt x="2386" y="214"/>
                  </a:lnTo>
                  <a:lnTo>
                    <a:pt x="2378" y="214"/>
                  </a:lnTo>
                  <a:lnTo>
                    <a:pt x="2370" y="214"/>
                  </a:lnTo>
                  <a:lnTo>
                    <a:pt x="2362" y="214"/>
                  </a:lnTo>
                  <a:lnTo>
                    <a:pt x="2354" y="214"/>
                  </a:lnTo>
                  <a:lnTo>
                    <a:pt x="2354" y="222"/>
                  </a:lnTo>
                  <a:lnTo>
                    <a:pt x="2346" y="222"/>
                  </a:lnTo>
                  <a:lnTo>
                    <a:pt x="2338" y="222"/>
                  </a:lnTo>
                  <a:lnTo>
                    <a:pt x="2330" y="230"/>
                  </a:lnTo>
                  <a:lnTo>
                    <a:pt x="2322" y="230"/>
                  </a:lnTo>
                  <a:lnTo>
                    <a:pt x="2322" y="238"/>
                  </a:lnTo>
                  <a:lnTo>
                    <a:pt x="2314" y="238"/>
                  </a:lnTo>
                  <a:lnTo>
                    <a:pt x="2314" y="246"/>
                  </a:lnTo>
                  <a:lnTo>
                    <a:pt x="2308" y="246"/>
                  </a:lnTo>
                  <a:lnTo>
                    <a:pt x="2308" y="254"/>
                  </a:lnTo>
                  <a:lnTo>
                    <a:pt x="2300" y="262"/>
                  </a:lnTo>
                  <a:lnTo>
                    <a:pt x="2300" y="270"/>
                  </a:lnTo>
                  <a:lnTo>
                    <a:pt x="2292" y="270"/>
                  </a:lnTo>
                  <a:lnTo>
                    <a:pt x="2292" y="276"/>
                  </a:lnTo>
                  <a:lnTo>
                    <a:pt x="2292" y="284"/>
                  </a:lnTo>
                  <a:lnTo>
                    <a:pt x="2292" y="292"/>
                  </a:lnTo>
                  <a:lnTo>
                    <a:pt x="2292" y="300"/>
                  </a:lnTo>
                  <a:lnTo>
                    <a:pt x="2292" y="308"/>
                  </a:lnTo>
                  <a:lnTo>
                    <a:pt x="2292" y="316"/>
                  </a:lnTo>
                  <a:lnTo>
                    <a:pt x="2292" y="324"/>
                  </a:lnTo>
                  <a:lnTo>
                    <a:pt x="2300" y="332"/>
                  </a:lnTo>
                  <a:lnTo>
                    <a:pt x="2300" y="340"/>
                  </a:lnTo>
                  <a:lnTo>
                    <a:pt x="2308" y="348"/>
                  </a:lnTo>
                  <a:lnTo>
                    <a:pt x="2314" y="356"/>
                  </a:lnTo>
                  <a:lnTo>
                    <a:pt x="2314" y="364"/>
                  </a:lnTo>
                  <a:lnTo>
                    <a:pt x="2322" y="364"/>
                  </a:lnTo>
                  <a:lnTo>
                    <a:pt x="2338" y="372"/>
                  </a:lnTo>
                  <a:lnTo>
                    <a:pt x="2346" y="380"/>
                  </a:lnTo>
                  <a:lnTo>
                    <a:pt x="2362" y="380"/>
                  </a:lnTo>
                  <a:lnTo>
                    <a:pt x="2370" y="388"/>
                  </a:lnTo>
                  <a:lnTo>
                    <a:pt x="2378" y="388"/>
                  </a:lnTo>
                  <a:lnTo>
                    <a:pt x="2386" y="388"/>
                  </a:lnTo>
                  <a:lnTo>
                    <a:pt x="2394" y="388"/>
                  </a:lnTo>
                  <a:lnTo>
                    <a:pt x="2402" y="388"/>
                  </a:lnTo>
                  <a:lnTo>
                    <a:pt x="2410" y="388"/>
                  </a:lnTo>
                  <a:lnTo>
                    <a:pt x="2418" y="388"/>
                  </a:lnTo>
                  <a:lnTo>
                    <a:pt x="2426" y="388"/>
                  </a:lnTo>
                  <a:lnTo>
                    <a:pt x="2434" y="388"/>
                  </a:lnTo>
                  <a:lnTo>
                    <a:pt x="2442" y="388"/>
                  </a:lnTo>
                  <a:lnTo>
                    <a:pt x="2450" y="388"/>
                  </a:lnTo>
                  <a:lnTo>
                    <a:pt x="2442" y="396"/>
                  </a:lnTo>
                  <a:lnTo>
                    <a:pt x="2434" y="412"/>
                  </a:lnTo>
                  <a:lnTo>
                    <a:pt x="2426" y="428"/>
                  </a:lnTo>
                  <a:lnTo>
                    <a:pt x="2426" y="444"/>
                  </a:lnTo>
                  <a:lnTo>
                    <a:pt x="2418" y="452"/>
                  </a:lnTo>
                  <a:lnTo>
                    <a:pt x="2410" y="468"/>
                  </a:lnTo>
                  <a:lnTo>
                    <a:pt x="2410" y="484"/>
                  </a:lnTo>
                  <a:lnTo>
                    <a:pt x="2410" y="498"/>
                  </a:lnTo>
                  <a:lnTo>
                    <a:pt x="2402" y="514"/>
                  </a:lnTo>
                  <a:lnTo>
                    <a:pt x="2402" y="530"/>
                  </a:lnTo>
                  <a:lnTo>
                    <a:pt x="2402" y="546"/>
                  </a:lnTo>
                  <a:lnTo>
                    <a:pt x="2402" y="562"/>
                  </a:lnTo>
                  <a:lnTo>
                    <a:pt x="2402" y="578"/>
                  </a:lnTo>
                  <a:lnTo>
                    <a:pt x="2402" y="586"/>
                  </a:lnTo>
                  <a:lnTo>
                    <a:pt x="2402" y="602"/>
                  </a:lnTo>
                  <a:lnTo>
                    <a:pt x="2402" y="618"/>
                  </a:lnTo>
                  <a:lnTo>
                    <a:pt x="2410" y="634"/>
                  </a:lnTo>
                  <a:lnTo>
                    <a:pt x="2410" y="658"/>
                  </a:lnTo>
                  <a:lnTo>
                    <a:pt x="2410" y="674"/>
                  </a:lnTo>
                  <a:lnTo>
                    <a:pt x="2418" y="690"/>
                  </a:lnTo>
                  <a:lnTo>
                    <a:pt x="2426" y="706"/>
                  </a:lnTo>
                  <a:lnTo>
                    <a:pt x="2434" y="720"/>
                  </a:lnTo>
                  <a:lnTo>
                    <a:pt x="2442" y="728"/>
                  </a:lnTo>
                  <a:lnTo>
                    <a:pt x="2450" y="744"/>
                  </a:lnTo>
                  <a:lnTo>
                    <a:pt x="2458" y="760"/>
                  </a:lnTo>
                  <a:lnTo>
                    <a:pt x="2466" y="776"/>
                  </a:lnTo>
                  <a:lnTo>
                    <a:pt x="2474" y="784"/>
                  </a:lnTo>
                  <a:lnTo>
                    <a:pt x="2490" y="800"/>
                  </a:lnTo>
                  <a:lnTo>
                    <a:pt x="2498" y="808"/>
                  </a:lnTo>
                  <a:lnTo>
                    <a:pt x="2506" y="824"/>
                  </a:lnTo>
                  <a:lnTo>
                    <a:pt x="2522" y="832"/>
                  </a:lnTo>
                  <a:lnTo>
                    <a:pt x="2536" y="840"/>
                  </a:lnTo>
                  <a:lnTo>
                    <a:pt x="2544" y="848"/>
                  </a:lnTo>
                  <a:lnTo>
                    <a:pt x="2560" y="856"/>
                  </a:lnTo>
                  <a:lnTo>
                    <a:pt x="2576" y="864"/>
                  </a:lnTo>
                  <a:lnTo>
                    <a:pt x="2592" y="872"/>
                  </a:lnTo>
                  <a:lnTo>
                    <a:pt x="2600" y="880"/>
                  </a:lnTo>
                  <a:lnTo>
                    <a:pt x="2616" y="880"/>
                  </a:lnTo>
                  <a:lnTo>
                    <a:pt x="2632" y="880"/>
                  </a:lnTo>
                  <a:lnTo>
                    <a:pt x="2648" y="888"/>
                  </a:lnTo>
                  <a:lnTo>
                    <a:pt x="2664" y="888"/>
                  </a:lnTo>
                  <a:lnTo>
                    <a:pt x="2680" y="888"/>
                  </a:lnTo>
                  <a:lnTo>
                    <a:pt x="2696" y="888"/>
                  </a:lnTo>
                  <a:lnTo>
                    <a:pt x="2712" y="880"/>
                  </a:lnTo>
                  <a:lnTo>
                    <a:pt x="2720" y="880"/>
                  </a:lnTo>
                  <a:lnTo>
                    <a:pt x="2736" y="880"/>
                  </a:lnTo>
                  <a:lnTo>
                    <a:pt x="2750" y="872"/>
                  </a:lnTo>
                  <a:lnTo>
                    <a:pt x="2766" y="864"/>
                  </a:lnTo>
                  <a:lnTo>
                    <a:pt x="2782" y="856"/>
                  </a:lnTo>
                  <a:lnTo>
                    <a:pt x="2790" y="856"/>
                  </a:lnTo>
                  <a:lnTo>
                    <a:pt x="2806" y="848"/>
                  </a:lnTo>
                  <a:lnTo>
                    <a:pt x="2814" y="832"/>
                  </a:lnTo>
                  <a:lnTo>
                    <a:pt x="2830" y="824"/>
                  </a:lnTo>
                  <a:lnTo>
                    <a:pt x="2838" y="816"/>
                  </a:lnTo>
                  <a:lnTo>
                    <a:pt x="2846" y="808"/>
                  </a:lnTo>
                  <a:lnTo>
                    <a:pt x="2854" y="800"/>
                  </a:lnTo>
                  <a:lnTo>
                    <a:pt x="2862" y="784"/>
                  </a:lnTo>
                  <a:lnTo>
                    <a:pt x="2870" y="776"/>
                  </a:lnTo>
                  <a:lnTo>
                    <a:pt x="2878" y="760"/>
                  </a:lnTo>
                  <a:lnTo>
                    <a:pt x="2886" y="752"/>
                  </a:lnTo>
                  <a:lnTo>
                    <a:pt x="2886" y="736"/>
                  </a:lnTo>
                  <a:lnTo>
                    <a:pt x="2894" y="728"/>
                  </a:lnTo>
                  <a:lnTo>
                    <a:pt x="2894" y="712"/>
                  </a:lnTo>
                  <a:lnTo>
                    <a:pt x="2894" y="706"/>
                  </a:lnTo>
                  <a:lnTo>
                    <a:pt x="2894" y="690"/>
                  </a:lnTo>
                  <a:lnTo>
                    <a:pt x="2894" y="682"/>
                  </a:lnTo>
                  <a:lnTo>
                    <a:pt x="2894" y="674"/>
                  </a:lnTo>
                  <a:lnTo>
                    <a:pt x="2894" y="666"/>
                  </a:lnTo>
                  <a:lnTo>
                    <a:pt x="2894" y="658"/>
                  </a:lnTo>
                  <a:lnTo>
                    <a:pt x="2894" y="642"/>
                  </a:lnTo>
                  <a:lnTo>
                    <a:pt x="2886" y="634"/>
                  </a:lnTo>
                  <a:lnTo>
                    <a:pt x="2886" y="626"/>
                  </a:lnTo>
                  <a:lnTo>
                    <a:pt x="2878" y="618"/>
                  </a:lnTo>
                  <a:lnTo>
                    <a:pt x="2878" y="610"/>
                  </a:lnTo>
                  <a:lnTo>
                    <a:pt x="2870" y="602"/>
                  </a:lnTo>
                  <a:lnTo>
                    <a:pt x="2862" y="594"/>
                  </a:lnTo>
                  <a:lnTo>
                    <a:pt x="2862" y="586"/>
                  </a:lnTo>
                  <a:lnTo>
                    <a:pt x="2854" y="578"/>
                  </a:lnTo>
                  <a:lnTo>
                    <a:pt x="2846" y="570"/>
                  </a:lnTo>
                  <a:lnTo>
                    <a:pt x="2838" y="562"/>
                  </a:lnTo>
                  <a:lnTo>
                    <a:pt x="2830" y="554"/>
                  </a:lnTo>
                  <a:lnTo>
                    <a:pt x="2822" y="546"/>
                  </a:lnTo>
                  <a:lnTo>
                    <a:pt x="2814" y="546"/>
                  </a:lnTo>
                  <a:lnTo>
                    <a:pt x="2806" y="538"/>
                  </a:lnTo>
                  <a:lnTo>
                    <a:pt x="2798" y="530"/>
                  </a:lnTo>
                  <a:lnTo>
                    <a:pt x="2790" y="530"/>
                  </a:lnTo>
                  <a:lnTo>
                    <a:pt x="2774" y="522"/>
                  </a:lnTo>
                  <a:lnTo>
                    <a:pt x="2766" y="522"/>
                  </a:lnTo>
                  <a:lnTo>
                    <a:pt x="2758" y="522"/>
                  </a:lnTo>
                  <a:lnTo>
                    <a:pt x="2750" y="514"/>
                  </a:lnTo>
                  <a:lnTo>
                    <a:pt x="2742" y="514"/>
                  </a:lnTo>
                  <a:lnTo>
                    <a:pt x="2736" y="514"/>
                  </a:lnTo>
                  <a:lnTo>
                    <a:pt x="2728" y="514"/>
                  </a:lnTo>
                  <a:lnTo>
                    <a:pt x="2720" y="514"/>
                  </a:lnTo>
                  <a:lnTo>
                    <a:pt x="2704" y="514"/>
                  </a:lnTo>
                  <a:lnTo>
                    <a:pt x="2696" y="514"/>
                  </a:lnTo>
                  <a:lnTo>
                    <a:pt x="2696" y="522"/>
                  </a:lnTo>
                  <a:lnTo>
                    <a:pt x="2688" y="522"/>
                  </a:lnTo>
                  <a:lnTo>
                    <a:pt x="2680" y="522"/>
                  </a:lnTo>
                  <a:lnTo>
                    <a:pt x="2672" y="530"/>
                  </a:lnTo>
                  <a:lnTo>
                    <a:pt x="2664" y="530"/>
                  </a:lnTo>
                  <a:lnTo>
                    <a:pt x="2656" y="530"/>
                  </a:lnTo>
                  <a:lnTo>
                    <a:pt x="2656" y="538"/>
                  </a:lnTo>
                  <a:lnTo>
                    <a:pt x="2648" y="538"/>
                  </a:lnTo>
                  <a:lnTo>
                    <a:pt x="2648" y="546"/>
                  </a:lnTo>
                  <a:lnTo>
                    <a:pt x="2648" y="538"/>
                  </a:lnTo>
                  <a:lnTo>
                    <a:pt x="2656" y="530"/>
                  </a:lnTo>
                  <a:lnTo>
                    <a:pt x="2664" y="522"/>
                  </a:lnTo>
                  <a:lnTo>
                    <a:pt x="2664" y="514"/>
                  </a:lnTo>
                  <a:lnTo>
                    <a:pt x="2672" y="514"/>
                  </a:lnTo>
                  <a:lnTo>
                    <a:pt x="2672" y="506"/>
                  </a:lnTo>
                  <a:lnTo>
                    <a:pt x="2680" y="506"/>
                  </a:lnTo>
                  <a:lnTo>
                    <a:pt x="2688" y="498"/>
                  </a:lnTo>
                  <a:lnTo>
                    <a:pt x="2696" y="498"/>
                  </a:lnTo>
                  <a:lnTo>
                    <a:pt x="2696" y="492"/>
                  </a:lnTo>
                  <a:lnTo>
                    <a:pt x="2704" y="492"/>
                  </a:lnTo>
                  <a:lnTo>
                    <a:pt x="2720" y="484"/>
                  </a:lnTo>
                  <a:lnTo>
                    <a:pt x="2736" y="476"/>
                  </a:lnTo>
                  <a:lnTo>
                    <a:pt x="2758" y="476"/>
                  </a:lnTo>
                  <a:lnTo>
                    <a:pt x="2774" y="476"/>
                  </a:lnTo>
                  <a:lnTo>
                    <a:pt x="2790" y="476"/>
                  </a:lnTo>
                  <a:lnTo>
                    <a:pt x="2806" y="476"/>
                  </a:lnTo>
                  <a:lnTo>
                    <a:pt x="2830" y="484"/>
                  </a:lnTo>
                  <a:lnTo>
                    <a:pt x="2846" y="484"/>
                  </a:lnTo>
                  <a:lnTo>
                    <a:pt x="2862" y="498"/>
                  </a:lnTo>
                  <a:lnTo>
                    <a:pt x="2878" y="506"/>
                  </a:lnTo>
                  <a:lnTo>
                    <a:pt x="2894" y="514"/>
                  </a:lnTo>
                  <a:lnTo>
                    <a:pt x="2910" y="530"/>
                  </a:lnTo>
                  <a:lnTo>
                    <a:pt x="2926" y="546"/>
                  </a:lnTo>
                  <a:lnTo>
                    <a:pt x="2934" y="562"/>
                  </a:lnTo>
                  <a:lnTo>
                    <a:pt x="2950" y="586"/>
                  </a:lnTo>
                  <a:lnTo>
                    <a:pt x="2958" y="610"/>
                  </a:lnTo>
                  <a:lnTo>
                    <a:pt x="2964" y="618"/>
                  </a:lnTo>
                  <a:lnTo>
                    <a:pt x="2972" y="634"/>
                  </a:lnTo>
                  <a:lnTo>
                    <a:pt x="2980" y="650"/>
                  </a:lnTo>
                  <a:lnTo>
                    <a:pt x="2980" y="666"/>
                  </a:lnTo>
                  <a:lnTo>
                    <a:pt x="2988" y="682"/>
                  </a:lnTo>
                  <a:lnTo>
                    <a:pt x="2988" y="698"/>
                  </a:lnTo>
                  <a:lnTo>
                    <a:pt x="2988" y="712"/>
                  </a:lnTo>
                  <a:lnTo>
                    <a:pt x="2988" y="728"/>
                  </a:lnTo>
                  <a:lnTo>
                    <a:pt x="2988" y="744"/>
                  </a:lnTo>
                  <a:lnTo>
                    <a:pt x="2988" y="760"/>
                  </a:lnTo>
                  <a:lnTo>
                    <a:pt x="2980" y="776"/>
                  </a:lnTo>
                  <a:lnTo>
                    <a:pt x="2980" y="792"/>
                  </a:lnTo>
                  <a:lnTo>
                    <a:pt x="2972" y="808"/>
                  </a:lnTo>
                  <a:lnTo>
                    <a:pt x="2964" y="824"/>
                  </a:lnTo>
                  <a:lnTo>
                    <a:pt x="2958" y="840"/>
                  </a:lnTo>
                  <a:lnTo>
                    <a:pt x="2958" y="856"/>
                  </a:lnTo>
                  <a:lnTo>
                    <a:pt x="2950" y="864"/>
                  </a:lnTo>
                  <a:lnTo>
                    <a:pt x="2942" y="880"/>
                  </a:lnTo>
                  <a:lnTo>
                    <a:pt x="2934" y="888"/>
                  </a:lnTo>
                  <a:lnTo>
                    <a:pt x="2918" y="904"/>
                  </a:lnTo>
                  <a:lnTo>
                    <a:pt x="2910" y="920"/>
                  </a:lnTo>
                  <a:lnTo>
                    <a:pt x="2894" y="926"/>
                  </a:lnTo>
                  <a:lnTo>
                    <a:pt x="2878" y="942"/>
                  </a:lnTo>
                  <a:lnTo>
                    <a:pt x="2862" y="958"/>
                  </a:lnTo>
                  <a:lnTo>
                    <a:pt x="2846" y="966"/>
                  </a:lnTo>
                  <a:lnTo>
                    <a:pt x="2830" y="982"/>
                  </a:lnTo>
                  <a:lnTo>
                    <a:pt x="2806" y="990"/>
                  </a:lnTo>
                  <a:lnTo>
                    <a:pt x="2782" y="998"/>
                  </a:lnTo>
                  <a:lnTo>
                    <a:pt x="2758" y="1006"/>
                  </a:lnTo>
                  <a:lnTo>
                    <a:pt x="2728" y="1014"/>
                  </a:lnTo>
                  <a:lnTo>
                    <a:pt x="2696" y="1022"/>
                  </a:lnTo>
                  <a:lnTo>
                    <a:pt x="2664" y="1030"/>
                  </a:lnTo>
                  <a:lnTo>
                    <a:pt x="2624" y="1030"/>
                  </a:lnTo>
                  <a:lnTo>
                    <a:pt x="2592" y="1030"/>
                  </a:lnTo>
                  <a:lnTo>
                    <a:pt x="2552" y="1022"/>
                  </a:lnTo>
                  <a:lnTo>
                    <a:pt x="2514" y="1014"/>
                  </a:lnTo>
                  <a:lnTo>
                    <a:pt x="2482" y="1006"/>
                  </a:lnTo>
                  <a:lnTo>
                    <a:pt x="2442" y="990"/>
                  </a:lnTo>
                  <a:lnTo>
                    <a:pt x="2410" y="966"/>
                  </a:lnTo>
                  <a:lnTo>
                    <a:pt x="2370" y="950"/>
                  </a:lnTo>
                  <a:lnTo>
                    <a:pt x="2338" y="920"/>
                  </a:lnTo>
                  <a:lnTo>
                    <a:pt x="2314" y="888"/>
                  </a:lnTo>
                  <a:lnTo>
                    <a:pt x="2284" y="856"/>
                  </a:lnTo>
                  <a:lnTo>
                    <a:pt x="2260" y="816"/>
                  </a:lnTo>
                  <a:lnTo>
                    <a:pt x="2244" y="776"/>
                  </a:lnTo>
                  <a:lnTo>
                    <a:pt x="2220" y="728"/>
                  </a:lnTo>
                  <a:lnTo>
                    <a:pt x="2204" y="682"/>
                  </a:lnTo>
                  <a:lnTo>
                    <a:pt x="2196" y="626"/>
                  </a:lnTo>
                  <a:lnTo>
                    <a:pt x="2196" y="618"/>
                  </a:lnTo>
                  <a:lnTo>
                    <a:pt x="2196" y="610"/>
                  </a:lnTo>
                  <a:lnTo>
                    <a:pt x="2196" y="602"/>
                  </a:lnTo>
                  <a:lnTo>
                    <a:pt x="2196" y="594"/>
                  </a:lnTo>
                  <a:lnTo>
                    <a:pt x="2196" y="586"/>
                  </a:lnTo>
                  <a:lnTo>
                    <a:pt x="2196" y="578"/>
                  </a:lnTo>
                  <a:lnTo>
                    <a:pt x="2196" y="570"/>
                  </a:lnTo>
                  <a:lnTo>
                    <a:pt x="2188" y="562"/>
                  </a:lnTo>
                  <a:lnTo>
                    <a:pt x="2188" y="554"/>
                  </a:lnTo>
                  <a:lnTo>
                    <a:pt x="2260" y="586"/>
                  </a:lnTo>
                  <a:lnTo>
                    <a:pt x="2346" y="554"/>
                  </a:lnTo>
                  <a:lnTo>
                    <a:pt x="2260" y="514"/>
                  </a:lnTo>
                  <a:lnTo>
                    <a:pt x="2188" y="546"/>
                  </a:lnTo>
                  <a:lnTo>
                    <a:pt x="2196" y="522"/>
                  </a:lnTo>
                  <a:lnTo>
                    <a:pt x="2196" y="498"/>
                  </a:lnTo>
                  <a:lnTo>
                    <a:pt x="2196" y="476"/>
                  </a:lnTo>
                  <a:lnTo>
                    <a:pt x="2196" y="452"/>
                  </a:lnTo>
                  <a:lnTo>
                    <a:pt x="2204" y="428"/>
                  </a:lnTo>
                  <a:lnTo>
                    <a:pt x="2212" y="404"/>
                  </a:lnTo>
                  <a:lnTo>
                    <a:pt x="2212" y="380"/>
                  </a:lnTo>
                  <a:lnTo>
                    <a:pt x="2220" y="356"/>
                  </a:lnTo>
                  <a:lnTo>
                    <a:pt x="2228" y="332"/>
                  </a:lnTo>
                  <a:lnTo>
                    <a:pt x="2236" y="308"/>
                  </a:lnTo>
                  <a:lnTo>
                    <a:pt x="2244" y="292"/>
                  </a:lnTo>
                  <a:lnTo>
                    <a:pt x="2252" y="276"/>
                  </a:lnTo>
                  <a:lnTo>
                    <a:pt x="2268" y="254"/>
                  </a:lnTo>
                  <a:lnTo>
                    <a:pt x="2276" y="238"/>
                  </a:lnTo>
                  <a:lnTo>
                    <a:pt x="2284" y="222"/>
                  </a:lnTo>
                  <a:lnTo>
                    <a:pt x="2300" y="214"/>
                  </a:lnTo>
                  <a:lnTo>
                    <a:pt x="2300" y="214"/>
                  </a:lnTo>
                  <a:close/>
                  <a:moveTo>
                    <a:pt x="602" y="554"/>
                  </a:moveTo>
                  <a:lnTo>
                    <a:pt x="610" y="562"/>
                  </a:lnTo>
                  <a:lnTo>
                    <a:pt x="618" y="570"/>
                  </a:lnTo>
                  <a:lnTo>
                    <a:pt x="634" y="570"/>
                  </a:lnTo>
                  <a:lnTo>
                    <a:pt x="642" y="578"/>
                  </a:lnTo>
                  <a:lnTo>
                    <a:pt x="650" y="586"/>
                  </a:lnTo>
                  <a:lnTo>
                    <a:pt x="658" y="586"/>
                  </a:lnTo>
                  <a:lnTo>
                    <a:pt x="674" y="586"/>
                  </a:lnTo>
                  <a:lnTo>
                    <a:pt x="682" y="594"/>
                  </a:lnTo>
                  <a:lnTo>
                    <a:pt x="698" y="594"/>
                  </a:lnTo>
                  <a:lnTo>
                    <a:pt x="706" y="594"/>
                  </a:lnTo>
                  <a:lnTo>
                    <a:pt x="714" y="594"/>
                  </a:lnTo>
                  <a:lnTo>
                    <a:pt x="730" y="594"/>
                  </a:lnTo>
                  <a:lnTo>
                    <a:pt x="746" y="594"/>
                  </a:lnTo>
                  <a:lnTo>
                    <a:pt x="754" y="594"/>
                  </a:lnTo>
                  <a:lnTo>
                    <a:pt x="770" y="594"/>
                  </a:lnTo>
                  <a:lnTo>
                    <a:pt x="786" y="594"/>
                  </a:lnTo>
                  <a:lnTo>
                    <a:pt x="794" y="586"/>
                  </a:lnTo>
                  <a:lnTo>
                    <a:pt x="808" y="586"/>
                  </a:lnTo>
                  <a:lnTo>
                    <a:pt x="824" y="586"/>
                  </a:lnTo>
                  <a:lnTo>
                    <a:pt x="832" y="578"/>
                  </a:lnTo>
                  <a:lnTo>
                    <a:pt x="848" y="570"/>
                  </a:lnTo>
                  <a:lnTo>
                    <a:pt x="864" y="570"/>
                  </a:lnTo>
                  <a:lnTo>
                    <a:pt x="872" y="562"/>
                  </a:lnTo>
                  <a:lnTo>
                    <a:pt x="888" y="554"/>
                  </a:lnTo>
                  <a:lnTo>
                    <a:pt x="904" y="546"/>
                  </a:lnTo>
                  <a:lnTo>
                    <a:pt x="912" y="538"/>
                  </a:lnTo>
                  <a:lnTo>
                    <a:pt x="928" y="538"/>
                  </a:lnTo>
                  <a:lnTo>
                    <a:pt x="936" y="530"/>
                  </a:lnTo>
                  <a:lnTo>
                    <a:pt x="952" y="522"/>
                  </a:lnTo>
                  <a:lnTo>
                    <a:pt x="960" y="506"/>
                  </a:lnTo>
                  <a:lnTo>
                    <a:pt x="976" y="498"/>
                  </a:lnTo>
                  <a:lnTo>
                    <a:pt x="984" y="492"/>
                  </a:lnTo>
                  <a:lnTo>
                    <a:pt x="984" y="498"/>
                  </a:lnTo>
                  <a:lnTo>
                    <a:pt x="984" y="506"/>
                  </a:lnTo>
                  <a:lnTo>
                    <a:pt x="976" y="514"/>
                  </a:lnTo>
                  <a:lnTo>
                    <a:pt x="976" y="522"/>
                  </a:lnTo>
                  <a:lnTo>
                    <a:pt x="968" y="554"/>
                  </a:lnTo>
                  <a:lnTo>
                    <a:pt x="968" y="586"/>
                  </a:lnTo>
                  <a:lnTo>
                    <a:pt x="968" y="618"/>
                  </a:lnTo>
                  <a:lnTo>
                    <a:pt x="968" y="650"/>
                  </a:lnTo>
                  <a:lnTo>
                    <a:pt x="968" y="682"/>
                  </a:lnTo>
                  <a:lnTo>
                    <a:pt x="968" y="712"/>
                  </a:lnTo>
                  <a:lnTo>
                    <a:pt x="968" y="744"/>
                  </a:lnTo>
                  <a:lnTo>
                    <a:pt x="976" y="776"/>
                  </a:lnTo>
                  <a:lnTo>
                    <a:pt x="976" y="808"/>
                  </a:lnTo>
                  <a:lnTo>
                    <a:pt x="984" y="832"/>
                  </a:lnTo>
                  <a:lnTo>
                    <a:pt x="992" y="864"/>
                  </a:lnTo>
                  <a:lnTo>
                    <a:pt x="1000" y="896"/>
                  </a:lnTo>
                  <a:lnTo>
                    <a:pt x="1008" y="920"/>
                  </a:lnTo>
                  <a:lnTo>
                    <a:pt x="1022" y="950"/>
                  </a:lnTo>
                  <a:lnTo>
                    <a:pt x="1030" y="974"/>
                  </a:lnTo>
                  <a:lnTo>
                    <a:pt x="1046" y="1006"/>
                  </a:lnTo>
                  <a:lnTo>
                    <a:pt x="594" y="554"/>
                  </a:lnTo>
                  <a:lnTo>
                    <a:pt x="602" y="554"/>
                  </a:lnTo>
                  <a:lnTo>
                    <a:pt x="602" y="554"/>
                  </a:lnTo>
                  <a:close/>
                  <a:moveTo>
                    <a:pt x="294" y="2448"/>
                  </a:moveTo>
                  <a:lnTo>
                    <a:pt x="286" y="2448"/>
                  </a:lnTo>
                  <a:lnTo>
                    <a:pt x="278" y="2448"/>
                  </a:lnTo>
                  <a:lnTo>
                    <a:pt x="270" y="2448"/>
                  </a:lnTo>
                  <a:lnTo>
                    <a:pt x="262" y="2448"/>
                  </a:lnTo>
                  <a:lnTo>
                    <a:pt x="254" y="2448"/>
                  </a:lnTo>
                  <a:lnTo>
                    <a:pt x="246" y="2448"/>
                  </a:lnTo>
                  <a:lnTo>
                    <a:pt x="246" y="2440"/>
                  </a:lnTo>
                  <a:lnTo>
                    <a:pt x="238" y="2440"/>
                  </a:lnTo>
                  <a:lnTo>
                    <a:pt x="230" y="2440"/>
                  </a:lnTo>
                  <a:lnTo>
                    <a:pt x="230" y="2432"/>
                  </a:lnTo>
                  <a:lnTo>
                    <a:pt x="222" y="2432"/>
                  </a:lnTo>
                  <a:lnTo>
                    <a:pt x="222" y="2426"/>
                  </a:lnTo>
                  <a:lnTo>
                    <a:pt x="214" y="2426"/>
                  </a:lnTo>
                  <a:lnTo>
                    <a:pt x="206" y="2418"/>
                  </a:lnTo>
                  <a:lnTo>
                    <a:pt x="206" y="2410"/>
                  </a:lnTo>
                  <a:lnTo>
                    <a:pt x="198" y="2402"/>
                  </a:lnTo>
                  <a:lnTo>
                    <a:pt x="190" y="2394"/>
                  </a:lnTo>
                  <a:lnTo>
                    <a:pt x="190" y="2386"/>
                  </a:lnTo>
                  <a:lnTo>
                    <a:pt x="182" y="2378"/>
                  </a:lnTo>
                  <a:lnTo>
                    <a:pt x="182" y="2370"/>
                  </a:lnTo>
                  <a:lnTo>
                    <a:pt x="182" y="2362"/>
                  </a:lnTo>
                  <a:lnTo>
                    <a:pt x="182" y="2354"/>
                  </a:lnTo>
                  <a:lnTo>
                    <a:pt x="174" y="2346"/>
                  </a:lnTo>
                  <a:lnTo>
                    <a:pt x="174" y="2338"/>
                  </a:lnTo>
                  <a:lnTo>
                    <a:pt x="174" y="2330"/>
                  </a:lnTo>
                  <a:lnTo>
                    <a:pt x="174" y="2322"/>
                  </a:lnTo>
                  <a:lnTo>
                    <a:pt x="182" y="2314"/>
                  </a:lnTo>
                  <a:lnTo>
                    <a:pt x="182" y="2306"/>
                  </a:lnTo>
                  <a:lnTo>
                    <a:pt x="182" y="2298"/>
                  </a:lnTo>
                  <a:lnTo>
                    <a:pt x="190" y="2290"/>
                  </a:lnTo>
                  <a:lnTo>
                    <a:pt x="198" y="2282"/>
                  </a:lnTo>
                  <a:lnTo>
                    <a:pt x="198" y="2274"/>
                  </a:lnTo>
                  <a:lnTo>
                    <a:pt x="206" y="2274"/>
                  </a:lnTo>
                  <a:lnTo>
                    <a:pt x="214" y="2266"/>
                  </a:lnTo>
                  <a:lnTo>
                    <a:pt x="222" y="2258"/>
                  </a:lnTo>
                  <a:lnTo>
                    <a:pt x="238" y="2242"/>
                  </a:lnTo>
                  <a:lnTo>
                    <a:pt x="254" y="2234"/>
                  </a:lnTo>
                  <a:lnTo>
                    <a:pt x="270" y="2226"/>
                  </a:lnTo>
                  <a:lnTo>
                    <a:pt x="294" y="2218"/>
                  </a:lnTo>
                  <a:lnTo>
                    <a:pt x="310" y="2212"/>
                  </a:lnTo>
                  <a:lnTo>
                    <a:pt x="334" y="2204"/>
                  </a:lnTo>
                  <a:lnTo>
                    <a:pt x="358" y="2196"/>
                  </a:lnTo>
                  <a:lnTo>
                    <a:pt x="380" y="2188"/>
                  </a:lnTo>
                  <a:lnTo>
                    <a:pt x="404" y="2180"/>
                  </a:lnTo>
                  <a:lnTo>
                    <a:pt x="428" y="2180"/>
                  </a:lnTo>
                  <a:lnTo>
                    <a:pt x="452" y="2172"/>
                  </a:lnTo>
                  <a:lnTo>
                    <a:pt x="476" y="2172"/>
                  </a:lnTo>
                  <a:lnTo>
                    <a:pt x="500" y="2164"/>
                  </a:lnTo>
                  <a:lnTo>
                    <a:pt x="524" y="2164"/>
                  </a:lnTo>
                  <a:lnTo>
                    <a:pt x="548" y="2164"/>
                  </a:lnTo>
                  <a:lnTo>
                    <a:pt x="524" y="2234"/>
                  </a:lnTo>
                  <a:lnTo>
                    <a:pt x="556" y="2322"/>
                  </a:lnTo>
                  <a:lnTo>
                    <a:pt x="588" y="2234"/>
                  </a:lnTo>
                  <a:lnTo>
                    <a:pt x="556" y="2164"/>
                  </a:lnTo>
                  <a:lnTo>
                    <a:pt x="564" y="2164"/>
                  </a:lnTo>
                  <a:lnTo>
                    <a:pt x="572" y="2164"/>
                  </a:lnTo>
                  <a:lnTo>
                    <a:pt x="580" y="2164"/>
                  </a:lnTo>
                  <a:lnTo>
                    <a:pt x="588" y="2164"/>
                  </a:lnTo>
                  <a:lnTo>
                    <a:pt x="594" y="2164"/>
                  </a:lnTo>
                  <a:lnTo>
                    <a:pt x="602" y="2164"/>
                  </a:lnTo>
                  <a:lnTo>
                    <a:pt x="610" y="2164"/>
                  </a:lnTo>
                  <a:lnTo>
                    <a:pt x="618" y="2172"/>
                  </a:lnTo>
                  <a:lnTo>
                    <a:pt x="626" y="2172"/>
                  </a:lnTo>
                  <a:lnTo>
                    <a:pt x="682" y="2180"/>
                  </a:lnTo>
                  <a:lnTo>
                    <a:pt x="730" y="2196"/>
                  </a:lnTo>
                  <a:lnTo>
                    <a:pt x="778" y="2212"/>
                  </a:lnTo>
                  <a:lnTo>
                    <a:pt x="816" y="2234"/>
                  </a:lnTo>
                  <a:lnTo>
                    <a:pt x="856" y="2258"/>
                  </a:lnTo>
                  <a:lnTo>
                    <a:pt x="888" y="2282"/>
                  </a:lnTo>
                  <a:lnTo>
                    <a:pt x="920" y="2314"/>
                  </a:lnTo>
                  <a:lnTo>
                    <a:pt x="952" y="2346"/>
                  </a:lnTo>
                  <a:lnTo>
                    <a:pt x="968" y="2378"/>
                  </a:lnTo>
                  <a:lnTo>
                    <a:pt x="992" y="2418"/>
                  </a:lnTo>
                  <a:lnTo>
                    <a:pt x="1008" y="2448"/>
                  </a:lnTo>
                  <a:lnTo>
                    <a:pt x="1016" y="2488"/>
                  </a:lnTo>
                  <a:lnTo>
                    <a:pt x="1022" y="2520"/>
                  </a:lnTo>
                  <a:lnTo>
                    <a:pt x="1030" y="2560"/>
                  </a:lnTo>
                  <a:lnTo>
                    <a:pt x="1030" y="2600"/>
                  </a:lnTo>
                  <a:lnTo>
                    <a:pt x="1030" y="2640"/>
                  </a:lnTo>
                  <a:lnTo>
                    <a:pt x="1022" y="2670"/>
                  </a:lnTo>
                  <a:lnTo>
                    <a:pt x="1016" y="2694"/>
                  </a:lnTo>
                  <a:lnTo>
                    <a:pt x="1016" y="2726"/>
                  </a:lnTo>
                  <a:lnTo>
                    <a:pt x="1000" y="2750"/>
                  </a:lnTo>
                  <a:lnTo>
                    <a:pt x="992" y="2774"/>
                  </a:lnTo>
                  <a:lnTo>
                    <a:pt x="984" y="2798"/>
                  </a:lnTo>
                  <a:lnTo>
                    <a:pt x="968" y="2814"/>
                  </a:lnTo>
                  <a:lnTo>
                    <a:pt x="960" y="2838"/>
                  </a:lnTo>
                  <a:lnTo>
                    <a:pt x="944" y="2854"/>
                  </a:lnTo>
                  <a:lnTo>
                    <a:pt x="928" y="2868"/>
                  </a:lnTo>
                  <a:lnTo>
                    <a:pt x="920" y="2876"/>
                  </a:lnTo>
                  <a:lnTo>
                    <a:pt x="904" y="2892"/>
                  </a:lnTo>
                  <a:lnTo>
                    <a:pt x="888" y="2900"/>
                  </a:lnTo>
                  <a:lnTo>
                    <a:pt x="880" y="2908"/>
                  </a:lnTo>
                  <a:lnTo>
                    <a:pt x="864" y="2916"/>
                  </a:lnTo>
                  <a:lnTo>
                    <a:pt x="856" y="2924"/>
                  </a:lnTo>
                  <a:lnTo>
                    <a:pt x="840" y="2932"/>
                  </a:lnTo>
                  <a:lnTo>
                    <a:pt x="824" y="2940"/>
                  </a:lnTo>
                  <a:lnTo>
                    <a:pt x="808" y="2940"/>
                  </a:lnTo>
                  <a:lnTo>
                    <a:pt x="794" y="2948"/>
                  </a:lnTo>
                  <a:lnTo>
                    <a:pt x="778" y="2956"/>
                  </a:lnTo>
                  <a:lnTo>
                    <a:pt x="762" y="2956"/>
                  </a:lnTo>
                  <a:lnTo>
                    <a:pt x="746" y="2956"/>
                  </a:lnTo>
                  <a:lnTo>
                    <a:pt x="722" y="2956"/>
                  </a:lnTo>
                  <a:lnTo>
                    <a:pt x="706" y="2956"/>
                  </a:lnTo>
                  <a:lnTo>
                    <a:pt x="690" y="2956"/>
                  </a:lnTo>
                  <a:lnTo>
                    <a:pt x="682" y="2956"/>
                  </a:lnTo>
                  <a:lnTo>
                    <a:pt x="666" y="2956"/>
                  </a:lnTo>
                  <a:lnTo>
                    <a:pt x="650" y="2948"/>
                  </a:lnTo>
                  <a:lnTo>
                    <a:pt x="634" y="2948"/>
                  </a:lnTo>
                  <a:lnTo>
                    <a:pt x="618" y="2940"/>
                  </a:lnTo>
                  <a:lnTo>
                    <a:pt x="602" y="2932"/>
                  </a:lnTo>
                  <a:lnTo>
                    <a:pt x="588" y="2916"/>
                  </a:lnTo>
                  <a:lnTo>
                    <a:pt x="564" y="2908"/>
                  </a:lnTo>
                  <a:lnTo>
                    <a:pt x="548" y="2892"/>
                  </a:lnTo>
                  <a:lnTo>
                    <a:pt x="532" y="2876"/>
                  </a:lnTo>
                  <a:lnTo>
                    <a:pt x="516" y="2860"/>
                  </a:lnTo>
                  <a:lnTo>
                    <a:pt x="508" y="2846"/>
                  </a:lnTo>
                  <a:lnTo>
                    <a:pt x="492" y="2830"/>
                  </a:lnTo>
                  <a:lnTo>
                    <a:pt x="484" y="2814"/>
                  </a:lnTo>
                  <a:lnTo>
                    <a:pt x="484" y="2798"/>
                  </a:lnTo>
                  <a:lnTo>
                    <a:pt x="476" y="2782"/>
                  </a:lnTo>
                  <a:lnTo>
                    <a:pt x="476" y="2766"/>
                  </a:lnTo>
                  <a:lnTo>
                    <a:pt x="476" y="2742"/>
                  </a:lnTo>
                  <a:lnTo>
                    <a:pt x="476" y="2726"/>
                  </a:lnTo>
                  <a:lnTo>
                    <a:pt x="476" y="2710"/>
                  </a:lnTo>
                  <a:lnTo>
                    <a:pt x="484" y="2686"/>
                  </a:lnTo>
                  <a:lnTo>
                    <a:pt x="492" y="2670"/>
                  </a:lnTo>
                  <a:lnTo>
                    <a:pt x="500" y="2662"/>
                  </a:lnTo>
                  <a:lnTo>
                    <a:pt x="500" y="2654"/>
                  </a:lnTo>
                  <a:lnTo>
                    <a:pt x="508" y="2654"/>
                  </a:lnTo>
                  <a:lnTo>
                    <a:pt x="508" y="2646"/>
                  </a:lnTo>
                  <a:lnTo>
                    <a:pt x="516" y="2640"/>
                  </a:lnTo>
                  <a:lnTo>
                    <a:pt x="524" y="2632"/>
                  </a:lnTo>
                  <a:lnTo>
                    <a:pt x="532" y="2632"/>
                  </a:lnTo>
                  <a:lnTo>
                    <a:pt x="532" y="2624"/>
                  </a:lnTo>
                  <a:lnTo>
                    <a:pt x="540" y="2624"/>
                  </a:lnTo>
                  <a:lnTo>
                    <a:pt x="540" y="2616"/>
                  </a:lnTo>
                  <a:lnTo>
                    <a:pt x="548" y="2616"/>
                  </a:lnTo>
                  <a:lnTo>
                    <a:pt x="540" y="2616"/>
                  </a:lnTo>
                  <a:lnTo>
                    <a:pt x="540" y="2624"/>
                  </a:lnTo>
                  <a:lnTo>
                    <a:pt x="540" y="2632"/>
                  </a:lnTo>
                  <a:lnTo>
                    <a:pt x="532" y="2632"/>
                  </a:lnTo>
                  <a:lnTo>
                    <a:pt x="532" y="2640"/>
                  </a:lnTo>
                  <a:lnTo>
                    <a:pt x="532" y="2646"/>
                  </a:lnTo>
                  <a:lnTo>
                    <a:pt x="524" y="2646"/>
                  </a:lnTo>
                  <a:lnTo>
                    <a:pt x="524" y="2654"/>
                  </a:lnTo>
                  <a:lnTo>
                    <a:pt x="524" y="2662"/>
                  </a:lnTo>
                  <a:lnTo>
                    <a:pt x="524" y="2670"/>
                  </a:lnTo>
                  <a:lnTo>
                    <a:pt x="516" y="2678"/>
                  </a:lnTo>
                  <a:lnTo>
                    <a:pt x="516" y="2686"/>
                  </a:lnTo>
                  <a:lnTo>
                    <a:pt x="516" y="2694"/>
                  </a:lnTo>
                  <a:lnTo>
                    <a:pt x="516" y="2702"/>
                  </a:lnTo>
                  <a:lnTo>
                    <a:pt x="516" y="2710"/>
                  </a:lnTo>
                  <a:lnTo>
                    <a:pt x="516" y="2718"/>
                  </a:lnTo>
                  <a:lnTo>
                    <a:pt x="524" y="2734"/>
                  </a:lnTo>
                  <a:lnTo>
                    <a:pt x="524" y="2742"/>
                  </a:lnTo>
                  <a:lnTo>
                    <a:pt x="524" y="2750"/>
                  </a:lnTo>
                  <a:lnTo>
                    <a:pt x="532" y="2758"/>
                  </a:lnTo>
                  <a:lnTo>
                    <a:pt x="532" y="2766"/>
                  </a:lnTo>
                  <a:lnTo>
                    <a:pt x="540" y="2774"/>
                  </a:lnTo>
                  <a:lnTo>
                    <a:pt x="540" y="2782"/>
                  </a:lnTo>
                  <a:lnTo>
                    <a:pt x="548" y="2790"/>
                  </a:lnTo>
                  <a:lnTo>
                    <a:pt x="556" y="2798"/>
                  </a:lnTo>
                  <a:lnTo>
                    <a:pt x="564" y="2806"/>
                  </a:lnTo>
                  <a:lnTo>
                    <a:pt x="572" y="2814"/>
                  </a:lnTo>
                  <a:lnTo>
                    <a:pt x="580" y="2822"/>
                  </a:lnTo>
                  <a:lnTo>
                    <a:pt x="588" y="2830"/>
                  </a:lnTo>
                  <a:lnTo>
                    <a:pt x="594" y="2838"/>
                  </a:lnTo>
                  <a:lnTo>
                    <a:pt x="602" y="2846"/>
                  </a:lnTo>
                  <a:lnTo>
                    <a:pt x="610" y="2846"/>
                  </a:lnTo>
                  <a:lnTo>
                    <a:pt x="618" y="2854"/>
                  </a:lnTo>
                  <a:lnTo>
                    <a:pt x="626" y="2854"/>
                  </a:lnTo>
                  <a:lnTo>
                    <a:pt x="634" y="2860"/>
                  </a:lnTo>
                  <a:lnTo>
                    <a:pt x="642" y="2860"/>
                  </a:lnTo>
                  <a:lnTo>
                    <a:pt x="658" y="2860"/>
                  </a:lnTo>
                  <a:lnTo>
                    <a:pt x="666" y="2868"/>
                  </a:lnTo>
                  <a:lnTo>
                    <a:pt x="674" y="2868"/>
                  </a:lnTo>
                  <a:lnTo>
                    <a:pt x="682" y="2868"/>
                  </a:lnTo>
                  <a:lnTo>
                    <a:pt x="690" y="2868"/>
                  </a:lnTo>
                  <a:lnTo>
                    <a:pt x="706" y="2868"/>
                  </a:lnTo>
                  <a:lnTo>
                    <a:pt x="714" y="2860"/>
                  </a:lnTo>
                  <a:lnTo>
                    <a:pt x="730" y="2860"/>
                  </a:lnTo>
                  <a:lnTo>
                    <a:pt x="738" y="2860"/>
                  </a:lnTo>
                  <a:lnTo>
                    <a:pt x="754" y="2854"/>
                  </a:lnTo>
                  <a:lnTo>
                    <a:pt x="762" y="2846"/>
                  </a:lnTo>
                  <a:lnTo>
                    <a:pt x="778" y="2846"/>
                  </a:lnTo>
                  <a:lnTo>
                    <a:pt x="786" y="2838"/>
                  </a:lnTo>
                  <a:lnTo>
                    <a:pt x="802" y="2830"/>
                  </a:lnTo>
                  <a:lnTo>
                    <a:pt x="808" y="2822"/>
                  </a:lnTo>
                  <a:lnTo>
                    <a:pt x="816" y="2806"/>
                  </a:lnTo>
                  <a:lnTo>
                    <a:pt x="824" y="2798"/>
                  </a:lnTo>
                  <a:lnTo>
                    <a:pt x="832" y="2790"/>
                  </a:lnTo>
                  <a:lnTo>
                    <a:pt x="840" y="2774"/>
                  </a:lnTo>
                  <a:lnTo>
                    <a:pt x="848" y="2766"/>
                  </a:lnTo>
                  <a:lnTo>
                    <a:pt x="856" y="2750"/>
                  </a:lnTo>
                  <a:lnTo>
                    <a:pt x="864" y="2734"/>
                  </a:lnTo>
                  <a:lnTo>
                    <a:pt x="872" y="2726"/>
                  </a:lnTo>
                  <a:lnTo>
                    <a:pt x="872" y="2710"/>
                  </a:lnTo>
                  <a:lnTo>
                    <a:pt x="880" y="2694"/>
                  </a:lnTo>
                  <a:lnTo>
                    <a:pt x="880" y="2678"/>
                  </a:lnTo>
                  <a:lnTo>
                    <a:pt x="888" y="2662"/>
                  </a:lnTo>
                  <a:lnTo>
                    <a:pt x="888" y="2646"/>
                  </a:lnTo>
                  <a:lnTo>
                    <a:pt x="888" y="2632"/>
                  </a:lnTo>
                  <a:lnTo>
                    <a:pt x="888" y="2616"/>
                  </a:lnTo>
                  <a:lnTo>
                    <a:pt x="880" y="2608"/>
                  </a:lnTo>
                  <a:lnTo>
                    <a:pt x="880" y="2592"/>
                  </a:lnTo>
                  <a:lnTo>
                    <a:pt x="872" y="2576"/>
                  </a:lnTo>
                  <a:lnTo>
                    <a:pt x="872" y="2560"/>
                  </a:lnTo>
                  <a:lnTo>
                    <a:pt x="864" y="2544"/>
                  </a:lnTo>
                  <a:lnTo>
                    <a:pt x="856" y="2528"/>
                  </a:lnTo>
                  <a:lnTo>
                    <a:pt x="848" y="2520"/>
                  </a:lnTo>
                  <a:lnTo>
                    <a:pt x="840" y="2504"/>
                  </a:lnTo>
                  <a:lnTo>
                    <a:pt x="832" y="2488"/>
                  </a:lnTo>
                  <a:lnTo>
                    <a:pt x="816" y="2480"/>
                  </a:lnTo>
                  <a:lnTo>
                    <a:pt x="808" y="2464"/>
                  </a:lnTo>
                  <a:lnTo>
                    <a:pt x="802" y="2456"/>
                  </a:lnTo>
                  <a:lnTo>
                    <a:pt x="786" y="2448"/>
                  </a:lnTo>
                  <a:lnTo>
                    <a:pt x="770" y="2432"/>
                  </a:lnTo>
                  <a:lnTo>
                    <a:pt x="762" y="2426"/>
                  </a:lnTo>
                  <a:lnTo>
                    <a:pt x="746" y="2418"/>
                  </a:lnTo>
                  <a:lnTo>
                    <a:pt x="730" y="2410"/>
                  </a:lnTo>
                  <a:lnTo>
                    <a:pt x="714" y="2402"/>
                  </a:lnTo>
                  <a:lnTo>
                    <a:pt x="698" y="2394"/>
                  </a:lnTo>
                  <a:lnTo>
                    <a:pt x="682" y="2386"/>
                  </a:lnTo>
                  <a:lnTo>
                    <a:pt x="666" y="2386"/>
                  </a:lnTo>
                  <a:lnTo>
                    <a:pt x="650" y="2378"/>
                  </a:lnTo>
                  <a:lnTo>
                    <a:pt x="634" y="2378"/>
                  </a:lnTo>
                  <a:lnTo>
                    <a:pt x="618" y="2378"/>
                  </a:lnTo>
                  <a:lnTo>
                    <a:pt x="602" y="2370"/>
                  </a:lnTo>
                  <a:lnTo>
                    <a:pt x="588" y="2370"/>
                  </a:lnTo>
                  <a:lnTo>
                    <a:pt x="572" y="2370"/>
                  </a:lnTo>
                  <a:lnTo>
                    <a:pt x="556" y="2370"/>
                  </a:lnTo>
                  <a:lnTo>
                    <a:pt x="548" y="2370"/>
                  </a:lnTo>
                  <a:lnTo>
                    <a:pt x="532" y="2370"/>
                  </a:lnTo>
                  <a:lnTo>
                    <a:pt x="516" y="2378"/>
                  </a:lnTo>
                  <a:lnTo>
                    <a:pt x="500" y="2378"/>
                  </a:lnTo>
                  <a:lnTo>
                    <a:pt x="484" y="2378"/>
                  </a:lnTo>
                  <a:lnTo>
                    <a:pt x="468" y="2386"/>
                  </a:lnTo>
                  <a:lnTo>
                    <a:pt x="452" y="2386"/>
                  </a:lnTo>
                  <a:lnTo>
                    <a:pt x="444" y="2394"/>
                  </a:lnTo>
                  <a:lnTo>
                    <a:pt x="428" y="2402"/>
                  </a:lnTo>
                  <a:lnTo>
                    <a:pt x="412" y="2402"/>
                  </a:lnTo>
                  <a:lnTo>
                    <a:pt x="396" y="2410"/>
                  </a:lnTo>
                  <a:lnTo>
                    <a:pt x="380" y="2418"/>
                  </a:lnTo>
                  <a:lnTo>
                    <a:pt x="388" y="2418"/>
                  </a:lnTo>
                  <a:lnTo>
                    <a:pt x="388" y="2410"/>
                  </a:lnTo>
                  <a:lnTo>
                    <a:pt x="388" y="2402"/>
                  </a:lnTo>
                  <a:lnTo>
                    <a:pt x="388" y="2394"/>
                  </a:lnTo>
                  <a:lnTo>
                    <a:pt x="388" y="2386"/>
                  </a:lnTo>
                  <a:lnTo>
                    <a:pt x="388" y="2378"/>
                  </a:lnTo>
                  <a:lnTo>
                    <a:pt x="388" y="2370"/>
                  </a:lnTo>
                  <a:lnTo>
                    <a:pt x="388" y="2362"/>
                  </a:lnTo>
                  <a:lnTo>
                    <a:pt x="388" y="2354"/>
                  </a:lnTo>
                  <a:lnTo>
                    <a:pt x="388" y="2346"/>
                  </a:lnTo>
                  <a:lnTo>
                    <a:pt x="388" y="2330"/>
                  </a:lnTo>
                  <a:lnTo>
                    <a:pt x="380" y="2314"/>
                  </a:lnTo>
                  <a:lnTo>
                    <a:pt x="372" y="2306"/>
                  </a:lnTo>
                  <a:lnTo>
                    <a:pt x="366" y="2298"/>
                  </a:lnTo>
                  <a:lnTo>
                    <a:pt x="366" y="2290"/>
                  </a:lnTo>
                  <a:lnTo>
                    <a:pt x="358" y="2282"/>
                  </a:lnTo>
                  <a:lnTo>
                    <a:pt x="350" y="2274"/>
                  </a:lnTo>
                  <a:lnTo>
                    <a:pt x="342" y="2274"/>
                  </a:lnTo>
                  <a:lnTo>
                    <a:pt x="334" y="2266"/>
                  </a:lnTo>
                  <a:lnTo>
                    <a:pt x="326" y="2266"/>
                  </a:lnTo>
                  <a:lnTo>
                    <a:pt x="318" y="2266"/>
                  </a:lnTo>
                  <a:lnTo>
                    <a:pt x="318" y="2258"/>
                  </a:lnTo>
                  <a:lnTo>
                    <a:pt x="310" y="2258"/>
                  </a:lnTo>
                  <a:lnTo>
                    <a:pt x="302" y="2258"/>
                  </a:lnTo>
                  <a:lnTo>
                    <a:pt x="294" y="2258"/>
                  </a:lnTo>
                  <a:lnTo>
                    <a:pt x="286" y="2258"/>
                  </a:lnTo>
                  <a:lnTo>
                    <a:pt x="286" y="2266"/>
                  </a:lnTo>
                  <a:lnTo>
                    <a:pt x="278" y="2266"/>
                  </a:lnTo>
                  <a:lnTo>
                    <a:pt x="270" y="2266"/>
                  </a:lnTo>
                  <a:lnTo>
                    <a:pt x="262" y="2266"/>
                  </a:lnTo>
                  <a:lnTo>
                    <a:pt x="262" y="2274"/>
                  </a:lnTo>
                  <a:lnTo>
                    <a:pt x="254" y="2274"/>
                  </a:lnTo>
                  <a:lnTo>
                    <a:pt x="246" y="2274"/>
                  </a:lnTo>
                  <a:lnTo>
                    <a:pt x="246" y="2282"/>
                  </a:lnTo>
                  <a:lnTo>
                    <a:pt x="238" y="2282"/>
                  </a:lnTo>
                  <a:lnTo>
                    <a:pt x="238" y="2290"/>
                  </a:lnTo>
                  <a:lnTo>
                    <a:pt x="230" y="2290"/>
                  </a:lnTo>
                  <a:lnTo>
                    <a:pt x="230" y="2298"/>
                  </a:lnTo>
                  <a:lnTo>
                    <a:pt x="222" y="2306"/>
                  </a:lnTo>
                  <a:lnTo>
                    <a:pt x="222" y="2314"/>
                  </a:lnTo>
                  <a:lnTo>
                    <a:pt x="214" y="2322"/>
                  </a:lnTo>
                  <a:lnTo>
                    <a:pt x="214" y="2330"/>
                  </a:lnTo>
                  <a:lnTo>
                    <a:pt x="214" y="2338"/>
                  </a:lnTo>
                  <a:lnTo>
                    <a:pt x="214" y="2346"/>
                  </a:lnTo>
                  <a:lnTo>
                    <a:pt x="214" y="2354"/>
                  </a:lnTo>
                  <a:lnTo>
                    <a:pt x="214" y="2362"/>
                  </a:lnTo>
                  <a:lnTo>
                    <a:pt x="222" y="2362"/>
                  </a:lnTo>
                  <a:lnTo>
                    <a:pt x="222" y="2370"/>
                  </a:lnTo>
                  <a:lnTo>
                    <a:pt x="254" y="2346"/>
                  </a:lnTo>
                  <a:lnTo>
                    <a:pt x="254" y="2338"/>
                  </a:lnTo>
                  <a:lnTo>
                    <a:pt x="254" y="2330"/>
                  </a:lnTo>
                  <a:lnTo>
                    <a:pt x="254" y="2322"/>
                  </a:lnTo>
                  <a:lnTo>
                    <a:pt x="262" y="2322"/>
                  </a:lnTo>
                  <a:lnTo>
                    <a:pt x="262" y="2314"/>
                  </a:lnTo>
                  <a:lnTo>
                    <a:pt x="270" y="2306"/>
                  </a:lnTo>
                  <a:lnTo>
                    <a:pt x="278" y="2306"/>
                  </a:lnTo>
                  <a:lnTo>
                    <a:pt x="278" y="2298"/>
                  </a:lnTo>
                  <a:lnTo>
                    <a:pt x="286" y="2298"/>
                  </a:lnTo>
                  <a:lnTo>
                    <a:pt x="294" y="2298"/>
                  </a:lnTo>
                  <a:lnTo>
                    <a:pt x="302" y="2298"/>
                  </a:lnTo>
                  <a:lnTo>
                    <a:pt x="310" y="2298"/>
                  </a:lnTo>
                  <a:lnTo>
                    <a:pt x="318" y="2298"/>
                  </a:lnTo>
                  <a:lnTo>
                    <a:pt x="318" y="2306"/>
                  </a:lnTo>
                  <a:lnTo>
                    <a:pt x="326" y="2306"/>
                  </a:lnTo>
                  <a:lnTo>
                    <a:pt x="334" y="2314"/>
                  </a:lnTo>
                  <a:lnTo>
                    <a:pt x="342" y="2322"/>
                  </a:lnTo>
                  <a:lnTo>
                    <a:pt x="342" y="2330"/>
                  </a:lnTo>
                  <a:lnTo>
                    <a:pt x="350" y="2338"/>
                  </a:lnTo>
                  <a:lnTo>
                    <a:pt x="350" y="2346"/>
                  </a:lnTo>
                  <a:lnTo>
                    <a:pt x="350" y="2354"/>
                  </a:lnTo>
                  <a:lnTo>
                    <a:pt x="358" y="2362"/>
                  </a:lnTo>
                  <a:lnTo>
                    <a:pt x="358" y="2370"/>
                  </a:lnTo>
                  <a:lnTo>
                    <a:pt x="358" y="2378"/>
                  </a:lnTo>
                  <a:lnTo>
                    <a:pt x="358" y="2386"/>
                  </a:lnTo>
                  <a:lnTo>
                    <a:pt x="358" y="2394"/>
                  </a:lnTo>
                  <a:lnTo>
                    <a:pt x="350" y="2402"/>
                  </a:lnTo>
                  <a:lnTo>
                    <a:pt x="350" y="2410"/>
                  </a:lnTo>
                  <a:lnTo>
                    <a:pt x="350" y="2418"/>
                  </a:lnTo>
                  <a:lnTo>
                    <a:pt x="342" y="2418"/>
                  </a:lnTo>
                  <a:lnTo>
                    <a:pt x="342" y="2426"/>
                  </a:lnTo>
                  <a:lnTo>
                    <a:pt x="334" y="2432"/>
                  </a:lnTo>
                  <a:lnTo>
                    <a:pt x="326" y="2432"/>
                  </a:lnTo>
                  <a:lnTo>
                    <a:pt x="318" y="2440"/>
                  </a:lnTo>
                  <a:lnTo>
                    <a:pt x="310" y="2440"/>
                  </a:lnTo>
                  <a:lnTo>
                    <a:pt x="302" y="2440"/>
                  </a:lnTo>
                  <a:lnTo>
                    <a:pt x="294" y="2448"/>
                  </a:lnTo>
                  <a:lnTo>
                    <a:pt x="294" y="2448"/>
                  </a:lnTo>
                  <a:close/>
                  <a:moveTo>
                    <a:pt x="1482" y="2512"/>
                  </a:moveTo>
                  <a:lnTo>
                    <a:pt x="1482" y="2528"/>
                  </a:lnTo>
                  <a:lnTo>
                    <a:pt x="1474" y="2544"/>
                  </a:lnTo>
                  <a:lnTo>
                    <a:pt x="1474" y="2560"/>
                  </a:lnTo>
                  <a:lnTo>
                    <a:pt x="1466" y="2576"/>
                  </a:lnTo>
                  <a:lnTo>
                    <a:pt x="1466" y="2584"/>
                  </a:lnTo>
                  <a:lnTo>
                    <a:pt x="1458" y="2600"/>
                  </a:lnTo>
                  <a:lnTo>
                    <a:pt x="1458" y="2616"/>
                  </a:lnTo>
                  <a:lnTo>
                    <a:pt x="1450" y="2632"/>
                  </a:lnTo>
                  <a:lnTo>
                    <a:pt x="1444" y="2646"/>
                  </a:lnTo>
                  <a:lnTo>
                    <a:pt x="1444" y="2654"/>
                  </a:lnTo>
                  <a:lnTo>
                    <a:pt x="1436" y="2670"/>
                  </a:lnTo>
                  <a:lnTo>
                    <a:pt x="1428" y="2686"/>
                  </a:lnTo>
                  <a:lnTo>
                    <a:pt x="1420" y="2694"/>
                  </a:lnTo>
                  <a:lnTo>
                    <a:pt x="1420" y="2710"/>
                  </a:lnTo>
                  <a:lnTo>
                    <a:pt x="1412" y="2726"/>
                  </a:lnTo>
                  <a:lnTo>
                    <a:pt x="1404" y="2734"/>
                  </a:lnTo>
                  <a:lnTo>
                    <a:pt x="1388" y="2774"/>
                  </a:lnTo>
                  <a:lnTo>
                    <a:pt x="1372" y="2798"/>
                  </a:lnTo>
                  <a:lnTo>
                    <a:pt x="1356" y="2830"/>
                  </a:lnTo>
                  <a:lnTo>
                    <a:pt x="1340" y="2860"/>
                  </a:lnTo>
                  <a:lnTo>
                    <a:pt x="1316" y="2892"/>
                  </a:lnTo>
                  <a:lnTo>
                    <a:pt x="1292" y="2916"/>
                  </a:lnTo>
                  <a:lnTo>
                    <a:pt x="1276" y="2948"/>
                  </a:lnTo>
                  <a:lnTo>
                    <a:pt x="1252" y="2972"/>
                  </a:lnTo>
                  <a:lnTo>
                    <a:pt x="1230" y="3004"/>
                  </a:lnTo>
                  <a:lnTo>
                    <a:pt x="1206" y="3028"/>
                  </a:lnTo>
                  <a:lnTo>
                    <a:pt x="1182" y="3052"/>
                  </a:lnTo>
                  <a:lnTo>
                    <a:pt x="1150" y="3074"/>
                  </a:lnTo>
                  <a:lnTo>
                    <a:pt x="1126" y="3090"/>
                  </a:lnTo>
                  <a:lnTo>
                    <a:pt x="1102" y="3114"/>
                  </a:lnTo>
                  <a:lnTo>
                    <a:pt x="1070" y="3138"/>
                  </a:lnTo>
                  <a:lnTo>
                    <a:pt x="1038" y="3154"/>
                  </a:lnTo>
                  <a:lnTo>
                    <a:pt x="1008" y="3178"/>
                  </a:lnTo>
                  <a:lnTo>
                    <a:pt x="968" y="3194"/>
                  </a:lnTo>
                  <a:lnTo>
                    <a:pt x="936" y="3210"/>
                  </a:lnTo>
                  <a:lnTo>
                    <a:pt x="896" y="3226"/>
                  </a:lnTo>
                  <a:lnTo>
                    <a:pt x="864" y="3234"/>
                  </a:lnTo>
                  <a:lnTo>
                    <a:pt x="832" y="3242"/>
                  </a:lnTo>
                  <a:lnTo>
                    <a:pt x="802" y="3250"/>
                  </a:lnTo>
                  <a:lnTo>
                    <a:pt x="770" y="3258"/>
                  </a:lnTo>
                  <a:lnTo>
                    <a:pt x="738" y="3258"/>
                  </a:lnTo>
                  <a:lnTo>
                    <a:pt x="714" y="3258"/>
                  </a:lnTo>
                  <a:lnTo>
                    <a:pt x="682" y="3258"/>
                  </a:lnTo>
                  <a:lnTo>
                    <a:pt x="650" y="3258"/>
                  </a:lnTo>
                  <a:lnTo>
                    <a:pt x="618" y="3250"/>
                  </a:lnTo>
                  <a:lnTo>
                    <a:pt x="594" y="3242"/>
                  </a:lnTo>
                  <a:lnTo>
                    <a:pt x="564" y="3242"/>
                  </a:lnTo>
                  <a:lnTo>
                    <a:pt x="532" y="3234"/>
                  </a:lnTo>
                  <a:lnTo>
                    <a:pt x="532" y="3226"/>
                  </a:lnTo>
                  <a:lnTo>
                    <a:pt x="524" y="3226"/>
                  </a:lnTo>
                  <a:lnTo>
                    <a:pt x="516" y="3226"/>
                  </a:lnTo>
                  <a:lnTo>
                    <a:pt x="508" y="3218"/>
                  </a:lnTo>
                  <a:lnTo>
                    <a:pt x="500" y="3218"/>
                  </a:lnTo>
                  <a:lnTo>
                    <a:pt x="492" y="3218"/>
                  </a:lnTo>
                  <a:lnTo>
                    <a:pt x="492" y="3210"/>
                  </a:lnTo>
                  <a:lnTo>
                    <a:pt x="484" y="3210"/>
                  </a:lnTo>
                  <a:lnTo>
                    <a:pt x="484" y="3202"/>
                  </a:lnTo>
                  <a:lnTo>
                    <a:pt x="476" y="3202"/>
                  </a:lnTo>
                  <a:lnTo>
                    <a:pt x="468" y="3202"/>
                  </a:lnTo>
                  <a:lnTo>
                    <a:pt x="444" y="3186"/>
                  </a:lnTo>
                  <a:lnTo>
                    <a:pt x="420" y="3178"/>
                  </a:lnTo>
                  <a:lnTo>
                    <a:pt x="396" y="3162"/>
                  </a:lnTo>
                  <a:lnTo>
                    <a:pt x="372" y="3146"/>
                  </a:lnTo>
                  <a:lnTo>
                    <a:pt x="358" y="3122"/>
                  </a:lnTo>
                  <a:lnTo>
                    <a:pt x="342" y="3106"/>
                  </a:lnTo>
                  <a:lnTo>
                    <a:pt x="318" y="3090"/>
                  </a:lnTo>
                  <a:lnTo>
                    <a:pt x="302" y="3068"/>
                  </a:lnTo>
                  <a:lnTo>
                    <a:pt x="286" y="3044"/>
                  </a:lnTo>
                  <a:lnTo>
                    <a:pt x="270" y="3028"/>
                  </a:lnTo>
                  <a:lnTo>
                    <a:pt x="262" y="3004"/>
                  </a:lnTo>
                  <a:lnTo>
                    <a:pt x="246" y="2980"/>
                  </a:lnTo>
                  <a:lnTo>
                    <a:pt x="238" y="2964"/>
                  </a:lnTo>
                  <a:lnTo>
                    <a:pt x="230" y="2940"/>
                  </a:lnTo>
                  <a:lnTo>
                    <a:pt x="222" y="2916"/>
                  </a:lnTo>
                  <a:lnTo>
                    <a:pt x="214" y="2900"/>
                  </a:lnTo>
                  <a:lnTo>
                    <a:pt x="206" y="2868"/>
                  </a:lnTo>
                  <a:lnTo>
                    <a:pt x="206" y="2838"/>
                  </a:lnTo>
                  <a:lnTo>
                    <a:pt x="206" y="2806"/>
                  </a:lnTo>
                  <a:lnTo>
                    <a:pt x="206" y="2774"/>
                  </a:lnTo>
                  <a:lnTo>
                    <a:pt x="206" y="2742"/>
                  </a:lnTo>
                  <a:lnTo>
                    <a:pt x="214" y="2710"/>
                  </a:lnTo>
                  <a:lnTo>
                    <a:pt x="222" y="2678"/>
                  </a:lnTo>
                  <a:lnTo>
                    <a:pt x="230" y="2654"/>
                  </a:lnTo>
                  <a:lnTo>
                    <a:pt x="238" y="2632"/>
                  </a:lnTo>
                  <a:lnTo>
                    <a:pt x="254" y="2600"/>
                  </a:lnTo>
                  <a:lnTo>
                    <a:pt x="270" y="2576"/>
                  </a:lnTo>
                  <a:lnTo>
                    <a:pt x="286" y="2560"/>
                  </a:lnTo>
                  <a:lnTo>
                    <a:pt x="302" y="2536"/>
                  </a:lnTo>
                  <a:lnTo>
                    <a:pt x="318" y="2520"/>
                  </a:lnTo>
                  <a:lnTo>
                    <a:pt x="334" y="2496"/>
                  </a:lnTo>
                  <a:lnTo>
                    <a:pt x="358" y="2480"/>
                  </a:lnTo>
                  <a:lnTo>
                    <a:pt x="366" y="2472"/>
                  </a:lnTo>
                  <a:lnTo>
                    <a:pt x="380" y="2464"/>
                  </a:lnTo>
                  <a:lnTo>
                    <a:pt x="396" y="2456"/>
                  </a:lnTo>
                  <a:lnTo>
                    <a:pt x="412" y="2440"/>
                  </a:lnTo>
                  <a:lnTo>
                    <a:pt x="428" y="2440"/>
                  </a:lnTo>
                  <a:lnTo>
                    <a:pt x="444" y="2432"/>
                  </a:lnTo>
                  <a:lnTo>
                    <a:pt x="460" y="2426"/>
                  </a:lnTo>
                  <a:lnTo>
                    <a:pt x="476" y="2418"/>
                  </a:lnTo>
                  <a:lnTo>
                    <a:pt x="500" y="2418"/>
                  </a:lnTo>
                  <a:lnTo>
                    <a:pt x="516" y="2410"/>
                  </a:lnTo>
                  <a:lnTo>
                    <a:pt x="532" y="2410"/>
                  </a:lnTo>
                  <a:lnTo>
                    <a:pt x="548" y="2410"/>
                  </a:lnTo>
                  <a:lnTo>
                    <a:pt x="564" y="2410"/>
                  </a:lnTo>
                  <a:lnTo>
                    <a:pt x="580" y="2410"/>
                  </a:lnTo>
                  <a:lnTo>
                    <a:pt x="594" y="2410"/>
                  </a:lnTo>
                  <a:lnTo>
                    <a:pt x="618" y="2410"/>
                  </a:lnTo>
                  <a:lnTo>
                    <a:pt x="626" y="2410"/>
                  </a:lnTo>
                  <a:lnTo>
                    <a:pt x="642" y="2418"/>
                  </a:lnTo>
                  <a:lnTo>
                    <a:pt x="658" y="2418"/>
                  </a:lnTo>
                  <a:lnTo>
                    <a:pt x="674" y="2426"/>
                  </a:lnTo>
                  <a:lnTo>
                    <a:pt x="690" y="2432"/>
                  </a:lnTo>
                  <a:lnTo>
                    <a:pt x="698" y="2432"/>
                  </a:lnTo>
                  <a:lnTo>
                    <a:pt x="714" y="2440"/>
                  </a:lnTo>
                  <a:lnTo>
                    <a:pt x="730" y="2448"/>
                  </a:lnTo>
                  <a:lnTo>
                    <a:pt x="738" y="2456"/>
                  </a:lnTo>
                  <a:lnTo>
                    <a:pt x="754" y="2464"/>
                  </a:lnTo>
                  <a:lnTo>
                    <a:pt x="762" y="2472"/>
                  </a:lnTo>
                  <a:lnTo>
                    <a:pt x="778" y="2480"/>
                  </a:lnTo>
                  <a:lnTo>
                    <a:pt x="786" y="2496"/>
                  </a:lnTo>
                  <a:lnTo>
                    <a:pt x="794" y="2504"/>
                  </a:lnTo>
                  <a:lnTo>
                    <a:pt x="802" y="2512"/>
                  </a:lnTo>
                  <a:lnTo>
                    <a:pt x="808" y="2528"/>
                  </a:lnTo>
                  <a:lnTo>
                    <a:pt x="816" y="2536"/>
                  </a:lnTo>
                  <a:lnTo>
                    <a:pt x="824" y="2552"/>
                  </a:lnTo>
                  <a:lnTo>
                    <a:pt x="832" y="2560"/>
                  </a:lnTo>
                  <a:lnTo>
                    <a:pt x="840" y="2576"/>
                  </a:lnTo>
                  <a:lnTo>
                    <a:pt x="840" y="2584"/>
                  </a:lnTo>
                  <a:lnTo>
                    <a:pt x="848" y="2600"/>
                  </a:lnTo>
                  <a:lnTo>
                    <a:pt x="848" y="2608"/>
                  </a:lnTo>
                  <a:lnTo>
                    <a:pt x="848" y="2624"/>
                  </a:lnTo>
                  <a:lnTo>
                    <a:pt x="848" y="2632"/>
                  </a:lnTo>
                  <a:lnTo>
                    <a:pt x="848" y="2646"/>
                  </a:lnTo>
                  <a:lnTo>
                    <a:pt x="848" y="2662"/>
                  </a:lnTo>
                  <a:lnTo>
                    <a:pt x="848" y="2670"/>
                  </a:lnTo>
                  <a:lnTo>
                    <a:pt x="848" y="2686"/>
                  </a:lnTo>
                  <a:lnTo>
                    <a:pt x="840" y="2694"/>
                  </a:lnTo>
                  <a:lnTo>
                    <a:pt x="840" y="2710"/>
                  </a:lnTo>
                  <a:lnTo>
                    <a:pt x="832" y="2726"/>
                  </a:lnTo>
                  <a:lnTo>
                    <a:pt x="824" y="2734"/>
                  </a:lnTo>
                  <a:lnTo>
                    <a:pt x="816" y="2742"/>
                  </a:lnTo>
                  <a:lnTo>
                    <a:pt x="816" y="2758"/>
                  </a:lnTo>
                  <a:lnTo>
                    <a:pt x="808" y="2766"/>
                  </a:lnTo>
                  <a:lnTo>
                    <a:pt x="802" y="2774"/>
                  </a:lnTo>
                  <a:lnTo>
                    <a:pt x="794" y="2782"/>
                  </a:lnTo>
                  <a:lnTo>
                    <a:pt x="786" y="2790"/>
                  </a:lnTo>
                  <a:lnTo>
                    <a:pt x="778" y="2798"/>
                  </a:lnTo>
                  <a:lnTo>
                    <a:pt x="770" y="2806"/>
                  </a:lnTo>
                  <a:lnTo>
                    <a:pt x="762" y="2814"/>
                  </a:lnTo>
                  <a:lnTo>
                    <a:pt x="746" y="2814"/>
                  </a:lnTo>
                  <a:lnTo>
                    <a:pt x="738" y="2822"/>
                  </a:lnTo>
                  <a:lnTo>
                    <a:pt x="730" y="2822"/>
                  </a:lnTo>
                  <a:lnTo>
                    <a:pt x="722" y="2830"/>
                  </a:lnTo>
                  <a:lnTo>
                    <a:pt x="706" y="2830"/>
                  </a:lnTo>
                  <a:lnTo>
                    <a:pt x="698" y="2830"/>
                  </a:lnTo>
                  <a:lnTo>
                    <a:pt x="690" y="2830"/>
                  </a:lnTo>
                  <a:lnTo>
                    <a:pt x="682" y="2830"/>
                  </a:lnTo>
                  <a:lnTo>
                    <a:pt x="674" y="2830"/>
                  </a:lnTo>
                  <a:lnTo>
                    <a:pt x="666" y="2830"/>
                  </a:lnTo>
                  <a:lnTo>
                    <a:pt x="658" y="2830"/>
                  </a:lnTo>
                  <a:lnTo>
                    <a:pt x="650" y="2822"/>
                  </a:lnTo>
                  <a:lnTo>
                    <a:pt x="642" y="2822"/>
                  </a:lnTo>
                  <a:lnTo>
                    <a:pt x="634" y="2822"/>
                  </a:lnTo>
                  <a:lnTo>
                    <a:pt x="626" y="2814"/>
                  </a:lnTo>
                  <a:lnTo>
                    <a:pt x="618" y="2814"/>
                  </a:lnTo>
                  <a:lnTo>
                    <a:pt x="610" y="2806"/>
                  </a:lnTo>
                  <a:lnTo>
                    <a:pt x="610" y="2798"/>
                  </a:lnTo>
                  <a:lnTo>
                    <a:pt x="602" y="2798"/>
                  </a:lnTo>
                  <a:lnTo>
                    <a:pt x="594" y="2790"/>
                  </a:lnTo>
                  <a:lnTo>
                    <a:pt x="588" y="2782"/>
                  </a:lnTo>
                  <a:lnTo>
                    <a:pt x="588" y="2774"/>
                  </a:lnTo>
                  <a:lnTo>
                    <a:pt x="580" y="2774"/>
                  </a:lnTo>
                  <a:lnTo>
                    <a:pt x="572" y="2766"/>
                  </a:lnTo>
                  <a:lnTo>
                    <a:pt x="572" y="2758"/>
                  </a:lnTo>
                  <a:lnTo>
                    <a:pt x="564" y="2750"/>
                  </a:lnTo>
                  <a:lnTo>
                    <a:pt x="564" y="2742"/>
                  </a:lnTo>
                  <a:lnTo>
                    <a:pt x="556" y="2734"/>
                  </a:lnTo>
                  <a:lnTo>
                    <a:pt x="556" y="2726"/>
                  </a:lnTo>
                  <a:lnTo>
                    <a:pt x="556" y="2718"/>
                  </a:lnTo>
                  <a:lnTo>
                    <a:pt x="556" y="2710"/>
                  </a:lnTo>
                  <a:lnTo>
                    <a:pt x="556" y="2702"/>
                  </a:lnTo>
                  <a:lnTo>
                    <a:pt x="556" y="2694"/>
                  </a:lnTo>
                  <a:lnTo>
                    <a:pt x="556" y="2686"/>
                  </a:lnTo>
                  <a:lnTo>
                    <a:pt x="556" y="2678"/>
                  </a:lnTo>
                  <a:lnTo>
                    <a:pt x="556" y="2662"/>
                  </a:lnTo>
                  <a:lnTo>
                    <a:pt x="564" y="2654"/>
                  </a:lnTo>
                  <a:lnTo>
                    <a:pt x="572" y="2646"/>
                  </a:lnTo>
                  <a:lnTo>
                    <a:pt x="572" y="2640"/>
                  </a:lnTo>
                  <a:lnTo>
                    <a:pt x="580" y="2632"/>
                  </a:lnTo>
                  <a:lnTo>
                    <a:pt x="588" y="2624"/>
                  </a:lnTo>
                  <a:lnTo>
                    <a:pt x="594" y="2624"/>
                  </a:lnTo>
                  <a:lnTo>
                    <a:pt x="602" y="2616"/>
                  </a:lnTo>
                  <a:lnTo>
                    <a:pt x="610" y="2616"/>
                  </a:lnTo>
                  <a:lnTo>
                    <a:pt x="618" y="2608"/>
                  </a:lnTo>
                  <a:lnTo>
                    <a:pt x="626" y="2608"/>
                  </a:lnTo>
                  <a:lnTo>
                    <a:pt x="634" y="2608"/>
                  </a:lnTo>
                  <a:lnTo>
                    <a:pt x="642" y="2608"/>
                  </a:lnTo>
                  <a:lnTo>
                    <a:pt x="650" y="2608"/>
                  </a:lnTo>
                  <a:lnTo>
                    <a:pt x="658" y="2608"/>
                  </a:lnTo>
                  <a:lnTo>
                    <a:pt x="666" y="2608"/>
                  </a:lnTo>
                  <a:lnTo>
                    <a:pt x="730" y="2600"/>
                  </a:lnTo>
                  <a:lnTo>
                    <a:pt x="682" y="2568"/>
                  </a:lnTo>
                  <a:lnTo>
                    <a:pt x="674" y="2568"/>
                  </a:lnTo>
                  <a:lnTo>
                    <a:pt x="666" y="2560"/>
                  </a:lnTo>
                  <a:lnTo>
                    <a:pt x="658" y="2560"/>
                  </a:lnTo>
                  <a:lnTo>
                    <a:pt x="650" y="2560"/>
                  </a:lnTo>
                  <a:lnTo>
                    <a:pt x="650" y="2552"/>
                  </a:lnTo>
                  <a:lnTo>
                    <a:pt x="642" y="2552"/>
                  </a:lnTo>
                  <a:lnTo>
                    <a:pt x="634" y="2552"/>
                  </a:lnTo>
                  <a:lnTo>
                    <a:pt x="626" y="2552"/>
                  </a:lnTo>
                  <a:lnTo>
                    <a:pt x="618" y="2552"/>
                  </a:lnTo>
                  <a:lnTo>
                    <a:pt x="610" y="2552"/>
                  </a:lnTo>
                  <a:lnTo>
                    <a:pt x="602" y="2552"/>
                  </a:lnTo>
                  <a:lnTo>
                    <a:pt x="594" y="2552"/>
                  </a:lnTo>
                  <a:lnTo>
                    <a:pt x="588" y="2560"/>
                  </a:lnTo>
                  <a:lnTo>
                    <a:pt x="572" y="2560"/>
                  </a:lnTo>
                  <a:lnTo>
                    <a:pt x="564" y="2560"/>
                  </a:lnTo>
                  <a:lnTo>
                    <a:pt x="556" y="2568"/>
                  </a:lnTo>
                  <a:lnTo>
                    <a:pt x="548" y="2568"/>
                  </a:lnTo>
                  <a:lnTo>
                    <a:pt x="540" y="2576"/>
                  </a:lnTo>
                  <a:lnTo>
                    <a:pt x="532" y="2584"/>
                  </a:lnTo>
                  <a:lnTo>
                    <a:pt x="524" y="2584"/>
                  </a:lnTo>
                  <a:lnTo>
                    <a:pt x="508" y="2592"/>
                  </a:lnTo>
                  <a:lnTo>
                    <a:pt x="500" y="2600"/>
                  </a:lnTo>
                  <a:lnTo>
                    <a:pt x="492" y="2608"/>
                  </a:lnTo>
                  <a:lnTo>
                    <a:pt x="492" y="2616"/>
                  </a:lnTo>
                  <a:lnTo>
                    <a:pt x="484" y="2624"/>
                  </a:lnTo>
                  <a:lnTo>
                    <a:pt x="476" y="2632"/>
                  </a:lnTo>
                  <a:lnTo>
                    <a:pt x="468" y="2640"/>
                  </a:lnTo>
                  <a:lnTo>
                    <a:pt x="468" y="2646"/>
                  </a:lnTo>
                  <a:lnTo>
                    <a:pt x="460" y="2654"/>
                  </a:lnTo>
                  <a:lnTo>
                    <a:pt x="452" y="2678"/>
                  </a:lnTo>
                  <a:lnTo>
                    <a:pt x="444" y="2694"/>
                  </a:lnTo>
                  <a:lnTo>
                    <a:pt x="436" y="2718"/>
                  </a:lnTo>
                  <a:lnTo>
                    <a:pt x="436" y="2742"/>
                  </a:lnTo>
                  <a:lnTo>
                    <a:pt x="436" y="2766"/>
                  </a:lnTo>
                  <a:lnTo>
                    <a:pt x="436" y="2782"/>
                  </a:lnTo>
                  <a:lnTo>
                    <a:pt x="444" y="2806"/>
                  </a:lnTo>
                  <a:lnTo>
                    <a:pt x="452" y="2830"/>
                  </a:lnTo>
                  <a:lnTo>
                    <a:pt x="460" y="2846"/>
                  </a:lnTo>
                  <a:lnTo>
                    <a:pt x="476" y="2868"/>
                  </a:lnTo>
                  <a:lnTo>
                    <a:pt x="484" y="2884"/>
                  </a:lnTo>
                  <a:lnTo>
                    <a:pt x="500" y="2900"/>
                  </a:lnTo>
                  <a:lnTo>
                    <a:pt x="524" y="2916"/>
                  </a:lnTo>
                  <a:lnTo>
                    <a:pt x="540" y="2932"/>
                  </a:lnTo>
                  <a:lnTo>
                    <a:pt x="564" y="2948"/>
                  </a:lnTo>
                  <a:lnTo>
                    <a:pt x="588" y="2964"/>
                  </a:lnTo>
                  <a:lnTo>
                    <a:pt x="602" y="2972"/>
                  </a:lnTo>
                  <a:lnTo>
                    <a:pt x="618" y="2980"/>
                  </a:lnTo>
                  <a:lnTo>
                    <a:pt x="634" y="2988"/>
                  </a:lnTo>
                  <a:lnTo>
                    <a:pt x="650" y="2988"/>
                  </a:lnTo>
                  <a:lnTo>
                    <a:pt x="674" y="2996"/>
                  </a:lnTo>
                  <a:lnTo>
                    <a:pt x="690" y="2996"/>
                  </a:lnTo>
                  <a:lnTo>
                    <a:pt x="706" y="2996"/>
                  </a:lnTo>
                  <a:lnTo>
                    <a:pt x="730" y="2996"/>
                  </a:lnTo>
                  <a:lnTo>
                    <a:pt x="746" y="2996"/>
                  </a:lnTo>
                  <a:lnTo>
                    <a:pt x="762" y="2996"/>
                  </a:lnTo>
                  <a:lnTo>
                    <a:pt x="786" y="2988"/>
                  </a:lnTo>
                  <a:lnTo>
                    <a:pt x="802" y="2988"/>
                  </a:lnTo>
                  <a:lnTo>
                    <a:pt x="816" y="2980"/>
                  </a:lnTo>
                  <a:lnTo>
                    <a:pt x="832" y="2972"/>
                  </a:lnTo>
                  <a:lnTo>
                    <a:pt x="856" y="2964"/>
                  </a:lnTo>
                  <a:lnTo>
                    <a:pt x="872" y="2956"/>
                  </a:lnTo>
                  <a:lnTo>
                    <a:pt x="888" y="2948"/>
                  </a:lnTo>
                  <a:lnTo>
                    <a:pt x="896" y="2940"/>
                  </a:lnTo>
                  <a:lnTo>
                    <a:pt x="912" y="2932"/>
                  </a:lnTo>
                  <a:lnTo>
                    <a:pt x="928" y="2916"/>
                  </a:lnTo>
                  <a:lnTo>
                    <a:pt x="944" y="2908"/>
                  </a:lnTo>
                  <a:lnTo>
                    <a:pt x="960" y="2892"/>
                  </a:lnTo>
                  <a:lnTo>
                    <a:pt x="968" y="2876"/>
                  </a:lnTo>
                  <a:lnTo>
                    <a:pt x="984" y="2860"/>
                  </a:lnTo>
                  <a:lnTo>
                    <a:pt x="1000" y="2838"/>
                  </a:lnTo>
                  <a:lnTo>
                    <a:pt x="1016" y="2814"/>
                  </a:lnTo>
                  <a:lnTo>
                    <a:pt x="1022" y="2790"/>
                  </a:lnTo>
                  <a:lnTo>
                    <a:pt x="1038" y="2766"/>
                  </a:lnTo>
                  <a:lnTo>
                    <a:pt x="1046" y="2734"/>
                  </a:lnTo>
                  <a:lnTo>
                    <a:pt x="1054" y="2710"/>
                  </a:lnTo>
                  <a:lnTo>
                    <a:pt x="1062" y="2670"/>
                  </a:lnTo>
                  <a:lnTo>
                    <a:pt x="1062" y="2640"/>
                  </a:lnTo>
                  <a:lnTo>
                    <a:pt x="1062" y="2624"/>
                  </a:lnTo>
                  <a:lnTo>
                    <a:pt x="1070" y="2608"/>
                  </a:lnTo>
                  <a:lnTo>
                    <a:pt x="1070" y="2584"/>
                  </a:lnTo>
                  <a:lnTo>
                    <a:pt x="1062" y="2568"/>
                  </a:lnTo>
                  <a:lnTo>
                    <a:pt x="1062" y="2552"/>
                  </a:lnTo>
                  <a:lnTo>
                    <a:pt x="1062" y="2536"/>
                  </a:lnTo>
                  <a:lnTo>
                    <a:pt x="1062" y="2520"/>
                  </a:lnTo>
                  <a:lnTo>
                    <a:pt x="1054" y="2504"/>
                  </a:lnTo>
                  <a:lnTo>
                    <a:pt x="1054" y="2480"/>
                  </a:lnTo>
                  <a:lnTo>
                    <a:pt x="1046" y="2464"/>
                  </a:lnTo>
                  <a:lnTo>
                    <a:pt x="1046" y="2448"/>
                  </a:lnTo>
                  <a:lnTo>
                    <a:pt x="1038" y="2432"/>
                  </a:lnTo>
                  <a:lnTo>
                    <a:pt x="1030" y="2418"/>
                  </a:lnTo>
                  <a:lnTo>
                    <a:pt x="1022" y="2402"/>
                  </a:lnTo>
                  <a:lnTo>
                    <a:pt x="1016" y="2386"/>
                  </a:lnTo>
                  <a:lnTo>
                    <a:pt x="1008" y="2370"/>
                  </a:lnTo>
                  <a:lnTo>
                    <a:pt x="1016" y="2370"/>
                  </a:lnTo>
                  <a:lnTo>
                    <a:pt x="1030" y="2378"/>
                  </a:lnTo>
                  <a:lnTo>
                    <a:pt x="1038" y="2378"/>
                  </a:lnTo>
                  <a:lnTo>
                    <a:pt x="1046" y="2386"/>
                  </a:lnTo>
                  <a:lnTo>
                    <a:pt x="1054" y="2386"/>
                  </a:lnTo>
                  <a:lnTo>
                    <a:pt x="1070" y="2386"/>
                  </a:lnTo>
                  <a:lnTo>
                    <a:pt x="1078" y="2386"/>
                  </a:lnTo>
                  <a:lnTo>
                    <a:pt x="1086" y="2386"/>
                  </a:lnTo>
                  <a:lnTo>
                    <a:pt x="1094" y="2386"/>
                  </a:lnTo>
                  <a:lnTo>
                    <a:pt x="1110" y="2386"/>
                  </a:lnTo>
                  <a:lnTo>
                    <a:pt x="1118" y="2386"/>
                  </a:lnTo>
                  <a:lnTo>
                    <a:pt x="1126" y="2386"/>
                  </a:lnTo>
                  <a:lnTo>
                    <a:pt x="1134" y="2386"/>
                  </a:lnTo>
                  <a:lnTo>
                    <a:pt x="1142" y="2386"/>
                  </a:lnTo>
                  <a:lnTo>
                    <a:pt x="1150" y="2386"/>
                  </a:lnTo>
                  <a:lnTo>
                    <a:pt x="1166" y="2378"/>
                  </a:lnTo>
                  <a:lnTo>
                    <a:pt x="1174" y="2378"/>
                  </a:lnTo>
                  <a:lnTo>
                    <a:pt x="1190" y="2370"/>
                  </a:lnTo>
                  <a:lnTo>
                    <a:pt x="1206" y="2362"/>
                  </a:lnTo>
                  <a:lnTo>
                    <a:pt x="1222" y="2354"/>
                  </a:lnTo>
                  <a:lnTo>
                    <a:pt x="1236" y="2338"/>
                  </a:lnTo>
                  <a:lnTo>
                    <a:pt x="1244" y="2330"/>
                  </a:lnTo>
                  <a:lnTo>
                    <a:pt x="1260" y="2314"/>
                  </a:lnTo>
                  <a:lnTo>
                    <a:pt x="1268" y="2306"/>
                  </a:lnTo>
                  <a:lnTo>
                    <a:pt x="1276" y="2290"/>
                  </a:lnTo>
                  <a:lnTo>
                    <a:pt x="1284" y="2274"/>
                  </a:lnTo>
                  <a:lnTo>
                    <a:pt x="1292" y="2258"/>
                  </a:lnTo>
                  <a:lnTo>
                    <a:pt x="1300" y="2234"/>
                  </a:lnTo>
                  <a:lnTo>
                    <a:pt x="1308" y="2218"/>
                  </a:lnTo>
                  <a:lnTo>
                    <a:pt x="1308" y="2204"/>
                  </a:lnTo>
                  <a:lnTo>
                    <a:pt x="1308" y="2180"/>
                  </a:lnTo>
                  <a:lnTo>
                    <a:pt x="1308" y="2164"/>
                  </a:lnTo>
                  <a:lnTo>
                    <a:pt x="1300" y="2140"/>
                  </a:lnTo>
                  <a:lnTo>
                    <a:pt x="1300" y="2124"/>
                  </a:lnTo>
                  <a:lnTo>
                    <a:pt x="1292" y="2108"/>
                  </a:lnTo>
                  <a:lnTo>
                    <a:pt x="1284" y="2092"/>
                  </a:lnTo>
                  <a:lnTo>
                    <a:pt x="1276" y="2076"/>
                  </a:lnTo>
                  <a:lnTo>
                    <a:pt x="1268" y="2060"/>
                  </a:lnTo>
                  <a:lnTo>
                    <a:pt x="1252" y="2052"/>
                  </a:lnTo>
                  <a:lnTo>
                    <a:pt x="1244" y="2036"/>
                  </a:lnTo>
                  <a:lnTo>
                    <a:pt x="1230" y="2028"/>
                  </a:lnTo>
                  <a:lnTo>
                    <a:pt x="1222" y="2020"/>
                  </a:lnTo>
                  <a:lnTo>
                    <a:pt x="1206" y="2012"/>
                  </a:lnTo>
                  <a:lnTo>
                    <a:pt x="1190" y="2012"/>
                  </a:lnTo>
                  <a:lnTo>
                    <a:pt x="1174" y="2004"/>
                  </a:lnTo>
                  <a:lnTo>
                    <a:pt x="1150" y="2004"/>
                  </a:lnTo>
                  <a:lnTo>
                    <a:pt x="1134" y="1998"/>
                  </a:lnTo>
                  <a:lnTo>
                    <a:pt x="1118" y="1998"/>
                  </a:lnTo>
                  <a:lnTo>
                    <a:pt x="1110" y="1998"/>
                  </a:lnTo>
                  <a:lnTo>
                    <a:pt x="1102" y="1998"/>
                  </a:lnTo>
                  <a:lnTo>
                    <a:pt x="1094" y="2004"/>
                  </a:lnTo>
                  <a:lnTo>
                    <a:pt x="1086" y="2004"/>
                  </a:lnTo>
                  <a:lnTo>
                    <a:pt x="1078" y="2004"/>
                  </a:lnTo>
                  <a:lnTo>
                    <a:pt x="1070" y="2004"/>
                  </a:lnTo>
                  <a:lnTo>
                    <a:pt x="1070" y="2012"/>
                  </a:lnTo>
                  <a:lnTo>
                    <a:pt x="1062" y="2012"/>
                  </a:lnTo>
                  <a:lnTo>
                    <a:pt x="1054" y="2012"/>
                  </a:lnTo>
                  <a:lnTo>
                    <a:pt x="1054" y="2020"/>
                  </a:lnTo>
                  <a:lnTo>
                    <a:pt x="1046" y="2020"/>
                  </a:lnTo>
                  <a:lnTo>
                    <a:pt x="1038" y="2028"/>
                  </a:lnTo>
                  <a:lnTo>
                    <a:pt x="1030" y="2036"/>
                  </a:lnTo>
                  <a:lnTo>
                    <a:pt x="1022" y="2044"/>
                  </a:lnTo>
                  <a:lnTo>
                    <a:pt x="1016" y="2052"/>
                  </a:lnTo>
                  <a:lnTo>
                    <a:pt x="1016" y="2060"/>
                  </a:lnTo>
                  <a:lnTo>
                    <a:pt x="1008" y="2068"/>
                  </a:lnTo>
                  <a:lnTo>
                    <a:pt x="1008" y="2076"/>
                  </a:lnTo>
                  <a:lnTo>
                    <a:pt x="1008" y="2084"/>
                  </a:lnTo>
                  <a:lnTo>
                    <a:pt x="1000" y="2092"/>
                  </a:lnTo>
                  <a:lnTo>
                    <a:pt x="1000" y="2100"/>
                  </a:lnTo>
                  <a:lnTo>
                    <a:pt x="1000" y="2108"/>
                  </a:lnTo>
                  <a:lnTo>
                    <a:pt x="1000" y="2116"/>
                  </a:lnTo>
                  <a:lnTo>
                    <a:pt x="1000" y="2124"/>
                  </a:lnTo>
                  <a:lnTo>
                    <a:pt x="1000" y="2132"/>
                  </a:lnTo>
                  <a:lnTo>
                    <a:pt x="1000" y="2140"/>
                  </a:lnTo>
                  <a:lnTo>
                    <a:pt x="1000" y="2148"/>
                  </a:lnTo>
                  <a:lnTo>
                    <a:pt x="1000" y="2156"/>
                  </a:lnTo>
                  <a:lnTo>
                    <a:pt x="1000" y="2164"/>
                  </a:lnTo>
                  <a:lnTo>
                    <a:pt x="1000" y="2172"/>
                  </a:lnTo>
                  <a:lnTo>
                    <a:pt x="1008" y="2180"/>
                  </a:lnTo>
                  <a:lnTo>
                    <a:pt x="1008" y="2188"/>
                  </a:lnTo>
                  <a:lnTo>
                    <a:pt x="1016" y="2196"/>
                  </a:lnTo>
                  <a:lnTo>
                    <a:pt x="1016" y="2204"/>
                  </a:lnTo>
                  <a:lnTo>
                    <a:pt x="1022" y="2204"/>
                  </a:lnTo>
                  <a:lnTo>
                    <a:pt x="1022" y="2212"/>
                  </a:lnTo>
                  <a:lnTo>
                    <a:pt x="1030" y="2212"/>
                  </a:lnTo>
                  <a:lnTo>
                    <a:pt x="1030" y="2218"/>
                  </a:lnTo>
                  <a:lnTo>
                    <a:pt x="1038" y="2218"/>
                  </a:lnTo>
                  <a:lnTo>
                    <a:pt x="1046" y="2218"/>
                  </a:lnTo>
                  <a:lnTo>
                    <a:pt x="1046" y="2226"/>
                  </a:lnTo>
                  <a:lnTo>
                    <a:pt x="1054" y="2226"/>
                  </a:lnTo>
                  <a:lnTo>
                    <a:pt x="1062" y="2226"/>
                  </a:lnTo>
                  <a:lnTo>
                    <a:pt x="1070" y="2234"/>
                  </a:lnTo>
                  <a:lnTo>
                    <a:pt x="1078" y="2234"/>
                  </a:lnTo>
                  <a:lnTo>
                    <a:pt x="1086" y="2234"/>
                  </a:lnTo>
                  <a:lnTo>
                    <a:pt x="1094" y="2234"/>
                  </a:lnTo>
                  <a:lnTo>
                    <a:pt x="1102" y="2234"/>
                  </a:lnTo>
                  <a:lnTo>
                    <a:pt x="1110" y="2234"/>
                  </a:lnTo>
                  <a:lnTo>
                    <a:pt x="1118" y="2226"/>
                  </a:lnTo>
                  <a:lnTo>
                    <a:pt x="1134" y="2226"/>
                  </a:lnTo>
                  <a:lnTo>
                    <a:pt x="1142" y="2218"/>
                  </a:lnTo>
                  <a:lnTo>
                    <a:pt x="1150" y="2212"/>
                  </a:lnTo>
                  <a:lnTo>
                    <a:pt x="1150" y="2204"/>
                  </a:lnTo>
                  <a:lnTo>
                    <a:pt x="1158" y="2196"/>
                  </a:lnTo>
                  <a:lnTo>
                    <a:pt x="1166" y="2196"/>
                  </a:lnTo>
                  <a:lnTo>
                    <a:pt x="1166" y="2188"/>
                  </a:lnTo>
                  <a:lnTo>
                    <a:pt x="1166" y="2180"/>
                  </a:lnTo>
                  <a:lnTo>
                    <a:pt x="1174" y="2172"/>
                  </a:lnTo>
                  <a:lnTo>
                    <a:pt x="1174" y="2164"/>
                  </a:lnTo>
                  <a:lnTo>
                    <a:pt x="1174" y="2156"/>
                  </a:lnTo>
                  <a:lnTo>
                    <a:pt x="1174" y="2148"/>
                  </a:lnTo>
                  <a:lnTo>
                    <a:pt x="1174" y="2140"/>
                  </a:lnTo>
                  <a:lnTo>
                    <a:pt x="1174" y="2132"/>
                  </a:lnTo>
                  <a:lnTo>
                    <a:pt x="1142" y="2132"/>
                  </a:lnTo>
                  <a:lnTo>
                    <a:pt x="1142" y="2140"/>
                  </a:lnTo>
                  <a:lnTo>
                    <a:pt x="1134" y="2140"/>
                  </a:lnTo>
                  <a:lnTo>
                    <a:pt x="1134" y="2148"/>
                  </a:lnTo>
                  <a:lnTo>
                    <a:pt x="1134" y="2156"/>
                  </a:lnTo>
                  <a:lnTo>
                    <a:pt x="1134" y="2164"/>
                  </a:lnTo>
                  <a:lnTo>
                    <a:pt x="1134" y="2172"/>
                  </a:lnTo>
                  <a:lnTo>
                    <a:pt x="1126" y="2172"/>
                  </a:lnTo>
                  <a:lnTo>
                    <a:pt x="1126" y="2180"/>
                  </a:lnTo>
                  <a:lnTo>
                    <a:pt x="1126" y="2188"/>
                  </a:lnTo>
                  <a:lnTo>
                    <a:pt x="1118" y="2188"/>
                  </a:lnTo>
                  <a:lnTo>
                    <a:pt x="1110" y="2196"/>
                  </a:lnTo>
                  <a:lnTo>
                    <a:pt x="1102" y="2196"/>
                  </a:lnTo>
                  <a:lnTo>
                    <a:pt x="1094" y="2196"/>
                  </a:lnTo>
                  <a:lnTo>
                    <a:pt x="1086" y="2196"/>
                  </a:lnTo>
                  <a:lnTo>
                    <a:pt x="1078" y="2196"/>
                  </a:lnTo>
                  <a:lnTo>
                    <a:pt x="1070" y="2196"/>
                  </a:lnTo>
                  <a:lnTo>
                    <a:pt x="1062" y="2196"/>
                  </a:lnTo>
                  <a:lnTo>
                    <a:pt x="1062" y="2188"/>
                  </a:lnTo>
                  <a:lnTo>
                    <a:pt x="1054" y="2188"/>
                  </a:lnTo>
                  <a:lnTo>
                    <a:pt x="1046" y="2180"/>
                  </a:lnTo>
                  <a:lnTo>
                    <a:pt x="1046" y="2172"/>
                  </a:lnTo>
                  <a:lnTo>
                    <a:pt x="1038" y="2172"/>
                  </a:lnTo>
                  <a:lnTo>
                    <a:pt x="1038" y="2164"/>
                  </a:lnTo>
                  <a:lnTo>
                    <a:pt x="1038" y="2156"/>
                  </a:lnTo>
                  <a:lnTo>
                    <a:pt x="1038" y="2148"/>
                  </a:lnTo>
                  <a:lnTo>
                    <a:pt x="1030" y="2148"/>
                  </a:lnTo>
                  <a:lnTo>
                    <a:pt x="1030" y="2140"/>
                  </a:lnTo>
                  <a:lnTo>
                    <a:pt x="1030" y="2132"/>
                  </a:lnTo>
                  <a:lnTo>
                    <a:pt x="1030" y="2124"/>
                  </a:lnTo>
                  <a:lnTo>
                    <a:pt x="1030" y="2116"/>
                  </a:lnTo>
                  <a:lnTo>
                    <a:pt x="1038" y="2108"/>
                  </a:lnTo>
                  <a:lnTo>
                    <a:pt x="1038" y="2100"/>
                  </a:lnTo>
                  <a:lnTo>
                    <a:pt x="1038" y="2092"/>
                  </a:lnTo>
                  <a:lnTo>
                    <a:pt x="1038" y="2084"/>
                  </a:lnTo>
                  <a:lnTo>
                    <a:pt x="1046" y="2084"/>
                  </a:lnTo>
                  <a:lnTo>
                    <a:pt x="1046" y="2076"/>
                  </a:lnTo>
                  <a:lnTo>
                    <a:pt x="1054" y="2068"/>
                  </a:lnTo>
                  <a:lnTo>
                    <a:pt x="1054" y="2060"/>
                  </a:lnTo>
                  <a:lnTo>
                    <a:pt x="1062" y="2060"/>
                  </a:lnTo>
                  <a:lnTo>
                    <a:pt x="1062" y="2052"/>
                  </a:lnTo>
                  <a:lnTo>
                    <a:pt x="1070" y="2052"/>
                  </a:lnTo>
                  <a:lnTo>
                    <a:pt x="1078" y="2044"/>
                  </a:lnTo>
                  <a:lnTo>
                    <a:pt x="1086" y="2044"/>
                  </a:lnTo>
                  <a:lnTo>
                    <a:pt x="1094" y="2036"/>
                  </a:lnTo>
                  <a:lnTo>
                    <a:pt x="1102" y="2036"/>
                  </a:lnTo>
                  <a:lnTo>
                    <a:pt x="1110" y="2036"/>
                  </a:lnTo>
                  <a:lnTo>
                    <a:pt x="1118" y="2036"/>
                  </a:lnTo>
                  <a:lnTo>
                    <a:pt x="1134" y="2036"/>
                  </a:lnTo>
                  <a:lnTo>
                    <a:pt x="1150" y="2036"/>
                  </a:lnTo>
                  <a:lnTo>
                    <a:pt x="1158" y="2036"/>
                  </a:lnTo>
                  <a:lnTo>
                    <a:pt x="1174" y="2044"/>
                  </a:lnTo>
                  <a:lnTo>
                    <a:pt x="1190" y="2044"/>
                  </a:lnTo>
                  <a:lnTo>
                    <a:pt x="1198" y="2052"/>
                  </a:lnTo>
                  <a:lnTo>
                    <a:pt x="1214" y="2060"/>
                  </a:lnTo>
                  <a:lnTo>
                    <a:pt x="1222" y="2068"/>
                  </a:lnTo>
                  <a:lnTo>
                    <a:pt x="1230" y="2076"/>
                  </a:lnTo>
                  <a:lnTo>
                    <a:pt x="1236" y="2084"/>
                  </a:lnTo>
                  <a:lnTo>
                    <a:pt x="1244" y="2100"/>
                  </a:lnTo>
                  <a:lnTo>
                    <a:pt x="1252" y="2108"/>
                  </a:lnTo>
                  <a:lnTo>
                    <a:pt x="1260" y="2124"/>
                  </a:lnTo>
                  <a:lnTo>
                    <a:pt x="1260" y="2132"/>
                  </a:lnTo>
                  <a:lnTo>
                    <a:pt x="1268" y="2148"/>
                  </a:lnTo>
                  <a:lnTo>
                    <a:pt x="1268" y="2164"/>
                  </a:lnTo>
                  <a:lnTo>
                    <a:pt x="1268" y="2180"/>
                  </a:lnTo>
                  <a:lnTo>
                    <a:pt x="1268" y="2196"/>
                  </a:lnTo>
                  <a:lnTo>
                    <a:pt x="1268" y="2212"/>
                  </a:lnTo>
                  <a:lnTo>
                    <a:pt x="1268" y="2226"/>
                  </a:lnTo>
                  <a:lnTo>
                    <a:pt x="1260" y="2242"/>
                  </a:lnTo>
                  <a:lnTo>
                    <a:pt x="1252" y="2258"/>
                  </a:lnTo>
                  <a:lnTo>
                    <a:pt x="1244" y="2266"/>
                  </a:lnTo>
                  <a:lnTo>
                    <a:pt x="1236" y="2282"/>
                  </a:lnTo>
                  <a:lnTo>
                    <a:pt x="1230" y="2290"/>
                  </a:lnTo>
                  <a:lnTo>
                    <a:pt x="1222" y="2306"/>
                  </a:lnTo>
                  <a:lnTo>
                    <a:pt x="1214" y="2314"/>
                  </a:lnTo>
                  <a:lnTo>
                    <a:pt x="1198" y="2322"/>
                  </a:lnTo>
                  <a:lnTo>
                    <a:pt x="1190" y="2330"/>
                  </a:lnTo>
                  <a:lnTo>
                    <a:pt x="1174" y="2338"/>
                  </a:lnTo>
                  <a:lnTo>
                    <a:pt x="1166" y="2338"/>
                  </a:lnTo>
                  <a:lnTo>
                    <a:pt x="1150" y="2346"/>
                  </a:lnTo>
                  <a:lnTo>
                    <a:pt x="1134" y="2346"/>
                  </a:lnTo>
                  <a:lnTo>
                    <a:pt x="1118" y="2354"/>
                  </a:lnTo>
                  <a:lnTo>
                    <a:pt x="1110" y="2354"/>
                  </a:lnTo>
                  <a:lnTo>
                    <a:pt x="1094" y="2354"/>
                  </a:lnTo>
                  <a:lnTo>
                    <a:pt x="1070" y="2354"/>
                  </a:lnTo>
                  <a:lnTo>
                    <a:pt x="1054" y="2346"/>
                  </a:lnTo>
                  <a:lnTo>
                    <a:pt x="1038" y="2346"/>
                  </a:lnTo>
                  <a:lnTo>
                    <a:pt x="1022" y="2338"/>
                  </a:lnTo>
                  <a:lnTo>
                    <a:pt x="1008" y="2330"/>
                  </a:lnTo>
                  <a:lnTo>
                    <a:pt x="1000" y="2322"/>
                  </a:lnTo>
                  <a:lnTo>
                    <a:pt x="984" y="2314"/>
                  </a:lnTo>
                  <a:lnTo>
                    <a:pt x="968" y="2298"/>
                  </a:lnTo>
                  <a:lnTo>
                    <a:pt x="960" y="2290"/>
                  </a:lnTo>
                  <a:lnTo>
                    <a:pt x="944" y="2274"/>
                  </a:lnTo>
                  <a:lnTo>
                    <a:pt x="936" y="2266"/>
                  </a:lnTo>
                  <a:lnTo>
                    <a:pt x="928" y="2250"/>
                  </a:lnTo>
                  <a:lnTo>
                    <a:pt x="928" y="2234"/>
                  </a:lnTo>
                  <a:lnTo>
                    <a:pt x="920" y="2226"/>
                  </a:lnTo>
                  <a:lnTo>
                    <a:pt x="920" y="2212"/>
                  </a:lnTo>
                  <a:lnTo>
                    <a:pt x="912" y="2196"/>
                  </a:lnTo>
                  <a:lnTo>
                    <a:pt x="912" y="2180"/>
                  </a:lnTo>
                  <a:lnTo>
                    <a:pt x="912" y="2172"/>
                  </a:lnTo>
                  <a:lnTo>
                    <a:pt x="912" y="2156"/>
                  </a:lnTo>
                  <a:lnTo>
                    <a:pt x="912" y="2140"/>
                  </a:lnTo>
                  <a:lnTo>
                    <a:pt x="912" y="2124"/>
                  </a:lnTo>
                  <a:lnTo>
                    <a:pt x="912" y="2108"/>
                  </a:lnTo>
                  <a:lnTo>
                    <a:pt x="920" y="2100"/>
                  </a:lnTo>
                  <a:lnTo>
                    <a:pt x="920" y="2084"/>
                  </a:lnTo>
                  <a:lnTo>
                    <a:pt x="928" y="2068"/>
                  </a:lnTo>
                  <a:lnTo>
                    <a:pt x="928" y="2060"/>
                  </a:lnTo>
                  <a:lnTo>
                    <a:pt x="936" y="2044"/>
                  </a:lnTo>
                  <a:lnTo>
                    <a:pt x="944" y="2036"/>
                  </a:lnTo>
                  <a:lnTo>
                    <a:pt x="952" y="2020"/>
                  </a:lnTo>
                  <a:lnTo>
                    <a:pt x="960" y="2012"/>
                  </a:lnTo>
                  <a:lnTo>
                    <a:pt x="968" y="1998"/>
                  </a:lnTo>
                  <a:lnTo>
                    <a:pt x="976" y="1990"/>
                  </a:lnTo>
                  <a:lnTo>
                    <a:pt x="984" y="1982"/>
                  </a:lnTo>
                  <a:lnTo>
                    <a:pt x="1000" y="1966"/>
                  </a:lnTo>
                  <a:lnTo>
                    <a:pt x="1008" y="1958"/>
                  </a:lnTo>
                  <a:lnTo>
                    <a:pt x="1022" y="1950"/>
                  </a:lnTo>
                  <a:lnTo>
                    <a:pt x="1038" y="1942"/>
                  </a:lnTo>
                  <a:lnTo>
                    <a:pt x="1054" y="1934"/>
                  </a:lnTo>
                  <a:lnTo>
                    <a:pt x="1070" y="1926"/>
                  </a:lnTo>
                  <a:lnTo>
                    <a:pt x="1086" y="1918"/>
                  </a:lnTo>
                  <a:lnTo>
                    <a:pt x="1110" y="1910"/>
                  </a:lnTo>
                  <a:lnTo>
                    <a:pt x="1126" y="1910"/>
                  </a:lnTo>
                  <a:lnTo>
                    <a:pt x="1150" y="1910"/>
                  </a:lnTo>
                  <a:lnTo>
                    <a:pt x="1174" y="1910"/>
                  </a:lnTo>
                  <a:lnTo>
                    <a:pt x="1190" y="1910"/>
                  </a:lnTo>
                  <a:lnTo>
                    <a:pt x="1206" y="1910"/>
                  </a:lnTo>
                  <a:lnTo>
                    <a:pt x="1214" y="1918"/>
                  </a:lnTo>
                  <a:lnTo>
                    <a:pt x="1230" y="1918"/>
                  </a:lnTo>
                  <a:lnTo>
                    <a:pt x="1244" y="1926"/>
                  </a:lnTo>
                  <a:lnTo>
                    <a:pt x="1252" y="1934"/>
                  </a:lnTo>
                  <a:lnTo>
                    <a:pt x="1268" y="1942"/>
                  </a:lnTo>
                  <a:lnTo>
                    <a:pt x="1284" y="1950"/>
                  </a:lnTo>
                  <a:lnTo>
                    <a:pt x="1292" y="1958"/>
                  </a:lnTo>
                  <a:lnTo>
                    <a:pt x="1308" y="1966"/>
                  </a:lnTo>
                  <a:lnTo>
                    <a:pt x="1316" y="1982"/>
                  </a:lnTo>
                  <a:lnTo>
                    <a:pt x="1332" y="1990"/>
                  </a:lnTo>
                  <a:lnTo>
                    <a:pt x="1340" y="2004"/>
                  </a:lnTo>
                  <a:lnTo>
                    <a:pt x="1356" y="2012"/>
                  </a:lnTo>
                  <a:lnTo>
                    <a:pt x="1364" y="2028"/>
                  </a:lnTo>
                  <a:lnTo>
                    <a:pt x="1380" y="2044"/>
                  </a:lnTo>
                  <a:lnTo>
                    <a:pt x="1396" y="2068"/>
                  </a:lnTo>
                  <a:lnTo>
                    <a:pt x="1412" y="2092"/>
                  </a:lnTo>
                  <a:lnTo>
                    <a:pt x="1428" y="2124"/>
                  </a:lnTo>
                  <a:lnTo>
                    <a:pt x="1444" y="2148"/>
                  </a:lnTo>
                  <a:lnTo>
                    <a:pt x="1450" y="2180"/>
                  </a:lnTo>
                  <a:lnTo>
                    <a:pt x="1466" y="2212"/>
                  </a:lnTo>
                  <a:lnTo>
                    <a:pt x="1474" y="2242"/>
                  </a:lnTo>
                  <a:lnTo>
                    <a:pt x="1482" y="2274"/>
                  </a:lnTo>
                  <a:lnTo>
                    <a:pt x="1490" y="2306"/>
                  </a:lnTo>
                  <a:lnTo>
                    <a:pt x="1490" y="2330"/>
                  </a:lnTo>
                  <a:lnTo>
                    <a:pt x="1498" y="2362"/>
                  </a:lnTo>
                  <a:lnTo>
                    <a:pt x="1498" y="2394"/>
                  </a:lnTo>
                  <a:lnTo>
                    <a:pt x="1498" y="2426"/>
                  </a:lnTo>
                  <a:lnTo>
                    <a:pt x="1490" y="2456"/>
                  </a:lnTo>
                  <a:lnTo>
                    <a:pt x="1490" y="2488"/>
                  </a:lnTo>
                  <a:lnTo>
                    <a:pt x="1482" y="2512"/>
                  </a:lnTo>
                  <a:lnTo>
                    <a:pt x="1482" y="2512"/>
                  </a:lnTo>
                  <a:close/>
                  <a:moveTo>
                    <a:pt x="1292" y="1340"/>
                  </a:moveTo>
                  <a:lnTo>
                    <a:pt x="1332" y="1394"/>
                  </a:lnTo>
                  <a:lnTo>
                    <a:pt x="1356" y="1450"/>
                  </a:lnTo>
                  <a:lnTo>
                    <a:pt x="1388" y="1514"/>
                  </a:lnTo>
                  <a:lnTo>
                    <a:pt x="1412" y="1568"/>
                  </a:lnTo>
                  <a:lnTo>
                    <a:pt x="1436" y="1632"/>
                  </a:lnTo>
                  <a:lnTo>
                    <a:pt x="1458" y="1688"/>
                  </a:lnTo>
                  <a:lnTo>
                    <a:pt x="1474" y="1752"/>
                  </a:lnTo>
                  <a:lnTo>
                    <a:pt x="1490" y="1806"/>
                  </a:lnTo>
                  <a:lnTo>
                    <a:pt x="1498" y="1870"/>
                  </a:lnTo>
                  <a:lnTo>
                    <a:pt x="1514" y="1934"/>
                  </a:lnTo>
                  <a:lnTo>
                    <a:pt x="1522" y="1990"/>
                  </a:lnTo>
                  <a:lnTo>
                    <a:pt x="1522" y="2052"/>
                  </a:lnTo>
                  <a:lnTo>
                    <a:pt x="1530" y="2116"/>
                  </a:lnTo>
                  <a:lnTo>
                    <a:pt x="1530" y="2172"/>
                  </a:lnTo>
                  <a:lnTo>
                    <a:pt x="1530" y="2234"/>
                  </a:lnTo>
                  <a:lnTo>
                    <a:pt x="1522" y="2290"/>
                  </a:lnTo>
                  <a:lnTo>
                    <a:pt x="1522" y="2274"/>
                  </a:lnTo>
                  <a:lnTo>
                    <a:pt x="1514" y="2258"/>
                  </a:lnTo>
                  <a:lnTo>
                    <a:pt x="1514" y="2234"/>
                  </a:lnTo>
                  <a:lnTo>
                    <a:pt x="1506" y="2218"/>
                  </a:lnTo>
                  <a:lnTo>
                    <a:pt x="1498" y="2204"/>
                  </a:lnTo>
                  <a:lnTo>
                    <a:pt x="1498" y="2188"/>
                  </a:lnTo>
                  <a:lnTo>
                    <a:pt x="1490" y="2164"/>
                  </a:lnTo>
                  <a:lnTo>
                    <a:pt x="1482" y="2148"/>
                  </a:lnTo>
                  <a:lnTo>
                    <a:pt x="1474" y="2132"/>
                  </a:lnTo>
                  <a:lnTo>
                    <a:pt x="1466" y="2116"/>
                  </a:lnTo>
                  <a:lnTo>
                    <a:pt x="1458" y="2100"/>
                  </a:lnTo>
                  <a:lnTo>
                    <a:pt x="1450" y="2084"/>
                  </a:lnTo>
                  <a:lnTo>
                    <a:pt x="1436" y="2068"/>
                  </a:lnTo>
                  <a:lnTo>
                    <a:pt x="1428" y="2052"/>
                  </a:lnTo>
                  <a:lnTo>
                    <a:pt x="1420" y="2036"/>
                  </a:lnTo>
                  <a:lnTo>
                    <a:pt x="1404" y="2020"/>
                  </a:lnTo>
                  <a:lnTo>
                    <a:pt x="1396" y="2004"/>
                  </a:lnTo>
                  <a:lnTo>
                    <a:pt x="1380" y="1990"/>
                  </a:lnTo>
                  <a:lnTo>
                    <a:pt x="1372" y="1974"/>
                  </a:lnTo>
                  <a:lnTo>
                    <a:pt x="1356" y="1958"/>
                  </a:lnTo>
                  <a:lnTo>
                    <a:pt x="1340" y="1950"/>
                  </a:lnTo>
                  <a:lnTo>
                    <a:pt x="1324" y="1934"/>
                  </a:lnTo>
                  <a:lnTo>
                    <a:pt x="1316" y="1926"/>
                  </a:lnTo>
                  <a:lnTo>
                    <a:pt x="1300" y="1918"/>
                  </a:lnTo>
                  <a:lnTo>
                    <a:pt x="1284" y="1910"/>
                  </a:lnTo>
                  <a:lnTo>
                    <a:pt x="1268" y="1902"/>
                  </a:lnTo>
                  <a:lnTo>
                    <a:pt x="1252" y="1894"/>
                  </a:lnTo>
                  <a:lnTo>
                    <a:pt x="1236" y="1886"/>
                  </a:lnTo>
                  <a:lnTo>
                    <a:pt x="1222" y="1878"/>
                  </a:lnTo>
                  <a:lnTo>
                    <a:pt x="1206" y="1878"/>
                  </a:lnTo>
                  <a:lnTo>
                    <a:pt x="1198" y="1878"/>
                  </a:lnTo>
                  <a:lnTo>
                    <a:pt x="1182" y="1870"/>
                  </a:lnTo>
                  <a:lnTo>
                    <a:pt x="1150" y="1870"/>
                  </a:lnTo>
                  <a:lnTo>
                    <a:pt x="1126" y="1878"/>
                  </a:lnTo>
                  <a:lnTo>
                    <a:pt x="1094" y="1878"/>
                  </a:lnTo>
                  <a:lnTo>
                    <a:pt x="1078" y="1886"/>
                  </a:lnTo>
                  <a:lnTo>
                    <a:pt x="1054" y="1886"/>
                  </a:lnTo>
                  <a:lnTo>
                    <a:pt x="1030" y="1894"/>
                  </a:lnTo>
                  <a:lnTo>
                    <a:pt x="1016" y="1910"/>
                  </a:lnTo>
                  <a:lnTo>
                    <a:pt x="1000" y="1918"/>
                  </a:lnTo>
                  <a:lnTo>
                    <a:pt x="984" y="1926"/>
                  </a:lnTo>
                  <a:lnTo>
                    <a:pt x="968" y="1942"/>
                  </a:lnTo>
                  <a:lnTo>
                    <a:pt x="960" y="1950"/>
                  </a:lnTo>
                  <a:lnTo>
                    <a:pt x="944" y="1966"/>
                  </a:lnTo>
                  <a:lnTo>
                    <a:pt x="936" y="1982"/>
                  </a:lnTo>
                  <a:lnTo>
                    <a:pt x="928" y="1990"/>
                  </a:lnTo>
                  <a:lnTo>
                    <a:pt x="912" y="2004"/>
                  </a:lnTo>
                  <a:lnTo>
                    <a:pt x="904" y="2020"/>
                  </a:lnTo>
                  <a:lnTo>
                    <a:pt x="904" y="2028"/>
                  </a:lnTo>
                  <a:lnTo>
                    <a:pt x="896" y="2036"/>
                  </a:lnTo>
                  <a:lnTo>
                    <a:pt x="888" y="2052"/>
                  </a:lnTo>
                  <a:lnTo>
                    <a:pt x="888" y="2068"/>
                  </a:lnTo>
                  <a:lnTo>
                    <a:pt x="880" y="2076"/>
                  </a:lnTo>
                  <a:lnTo>
                    <a:pt x="880" y="2092"/>
                  </a:lnTo>
                  <a:lnTo>
                    <a:pt x="880" y="2108"/>
                  </a:lnTo>
                  <a:lnTo>
                    <a:pt x="880" y="2116"/>
                  </a:lnTo>
                  <a:lnTo>
                    <a:pt x="872" y="2132"/>
                  </a:lnTo>
                  <a:lnTo>
                    <a:pt x="872" y="2148"/>
                  </a:lnTo>
                  <a:lnTo>
                    <a:pt x="872" y="2164"/>
                  </a:lnTo>
                  <a:lnTo>
                    <a:pt x="872" y="2180"/>
                  </a:lnTo>
                  <a:lnTo>
                    <a:pt x="880" y="2188"/>
                  </a:lnTo>
                  <a:lnTo>
                    <a:pt x="880" y="2204"/>
                  </a:lnTo>
                  <a:lnTo>
                    <a:pt x="880" y="2218"/>
                  </a:lnTo>
                  <a:lnTo>
                    <a:pt x="880" y="2234"/>
                  </a:lnTo>
                  <a:lnTo>
                    <a:pt x="872" y="2226"/>
                  </a:lnTo>
                  <a:lnTo>
                    <a:pt x="864" y="2218"/>
                  </a:lnTo>
                  <a:lnTo>
                    <a:pt x="848" y="2212"/>
                  </a:lnTo>
                  <a:lnTo>
                    <a:pt x="840" y="2204"/>
                  </a:lnTo>
                  <a:lnTo>
                    <a:pt x="824" y="2196"/>
                  </a:lnTo>
                  <a:lnTo>
                    <a:pt x="808" y="2188"/>
                  </a:lnTo>
                  <a:lnTo>
                    <a:pt x="802" y="2180"/>
                  </a:lnTo>
                  <a:lnTo>
                    <a:pt x="786" y="2180"/>
                  </a:lnTo>
                  <a:lnTo>
                    <a:pt x="770" y="2172"/>
                  </a:lnTo>
                  <a:lnTo>
                    <a:pt x="754" y="2164"/>
                  </a:lnTo>
                  <a:lnTo>
                    <a:pt x="738" y="2156"/>
                  </a:lnTo>
                  <a:lnTo>
                    <a:pt x="722" y="2156"/>
                  </a:lnTo>
                  <a:lnTo>
                    <a:pt x="706" y="2148"/>
                  </a:lnTo>
                  <a:lnTo>
                    <a:pt x="690" y="2148"/>
                  </a:lnTo>
                  <a:lnTo>
                    <a:pt x="674" y="2140"/>
                  </a:lnTo>
                  <a:lnTo>
                    <a:pt x="658" y="2140"/>
                  </a:lnTo>
                  <a:lnTo>
                    <a:pt x="666" y="2132"/>
                  </a:lnTo>
                  <a:lnTo>
                    <a:pt x="674" y="2132"/>
                  </a:lnTo>
                  <a:lnTo>
                    <a:pt x="682" y="2132"/>
                  </a:lnTo>
                  <a:lnTo>
                    <a:pt x="690" y="2124"/>
                  </a:lnTo>
                  <a:lnTo>
                    <a:pt x="706" y="2124"/>
                  </a:lnTo>
                  <a:lnTo>
                    <a:pt x="714" y="2124"/>
                  </a:lnTo>
                  <a:lnTo>
                    <a:pt x="722" y="2116"/>
                  </a:lnTo>
                  <a:lnTo>
                    <a:pt x="730" y="2116"/>
                  </a:lnTo>
                  <a:lnTo>
                    <a:pt x="738" y="2108"/>
                  </a:lnTo>
                  <a:lnTo>
                    <a:pt x="746" y="2108"/>
                  </a:lnTo>
                  <a:lnTo>
                    <a:pt x="754" y="2100"/>
                  </a:lnTo>
                  <a:lnTo>
                    <a:pt x="762" y="2100"/>
                  </a:lnTo>
                  <a:lnTo>
                    <a:pt x="770" y="2092"/>
                  </a:lnTo>
                  <a:lnTo>
                    <a:pt x="778" y="2092"/>
                  </a:lnTo>
                  <a:lnTo>
                    <a:pt x="786" y="2084"/>
                  </a:lnTo>
                  <a:lnTo>
                    <a:pt x="786" y="2076"/>
                  </a:lnTo>
                  <a:lnTo>
                    <a:pt x="808" y="2068"/>
                  </a:lnTo>
                  <a:lnTo>
                    <a:pt x="824" y="2052"/>
                  </a:lnTo>
                  <a:lnTo>
                    <a:pt x="848" y="2036"/>
                  </a:lnTo>
                  <a:lnTo>
                    <a:pt x="864" y="2020"/>
                  </a:lnTo>
                  <a:lnTo>
                    <a:pt x="880" y="2004"/>
                  </a:lnTo>
                  <a:lnTo>
                    <a:pt x="896" y="1990"/>
                  </a:lnTo>
                  <a:lnTo>
                    <a:pt x="904" y="1974"/>
                  </a:lnTo>
                  <a:lnTo>
                    <a:pt x="920" y="1950"/>
                  </a:lnTo>
                  <a:lnTo>
                    <a:pt x="936" y="1934"/>
                  </a:lnTo>
                  <a:lnTo>
                    <a:pt x="944" y="1918"/>
                  </a:lnTo>
                  <a:lnTo>
                    <a:pt x="952" y="1894"/>
                  </a:lnTo>
                  <a:lnTo>
                    <a:pt x="968" y="1870"/>
                  </a:lnTo>
                  <a:lnTo>
                    <a:pt x="976" y="1854"/>
                  </a:lnTo>
                  <a:lnTo>
                    <a:pt x="984" y="1830"/>
                  </a:lnTo>
                  <a:lnTo>
                    <a:pt x="984" y="1806"/>
                  </a:lnTo>
                  <a:lnTo>
                    <a:pt x="992" y="1784"/>
                  </a:lnTo>
                  <a:lnTo>
                    <a:pt x="992" y="1768"/>
                  </a:lnTo>
                  <a:lnTo>
                    <a:pt x="1000" y="1744"/>
                  </a:lnTo>
                  <a:lnTo>
                    <a:pt x="1000" y="1720"/>
                  </a:lnTo>
                  <a:lnTo>
                    <a:pt x="1000" y="1696"/>
                  </a:lnTo>
                  <a:lnTo>
                    <a:pt x="1000" y="1672"/>
                  </a:lnTo>
                  <a:lnTo>
                    <a:pt x="1000" y="1656"/>
                  </a:lnTo>
                  <a:lnTo>
                    <a:pt x="992" y="1632"/>
                  </a:lnTo>
                  <a:lnTo>
                    <a:pt x="992" y="1608"/>
                  </a:lnTo>
                  <a:lnTo>
                    <a:pt x="984" y="1584"/>
                  </a:lnTo>
                  <a:lnTo>
                    <a:pt x="976" y="1562"/>
                  </a:lnTo>
                  <a:lnTo>
                    <a:pt x="968" y="1546"/>
                  </a:lnTo>
                  <a:lnTo>
                    <a:pt x="960" y="1522"/>
                  </a:lnTo>
                  <a:lnTo>
                    <a:pt x="952" y="1498"/>
                  </a:lnTo>
                  <a:lnTo>
                    <a:pt x="936" y="1474"/>
                  </a:lnTo>
                  <a:lnTo>
                    <a:pt x="920" y="1458"/>
                  </a:lnTo>
                  <a:lnTo>
                    <a:pt x="912" y="1434"/>
                  </a:lnTo>
                  <a:lnTo>
                    <a:pt x="896" y="1418"/>
                  </a:lnTo>
                  <a:lnTo>
                    <a:pt x="880" y="1402"/>
                  </a:lnTo>
                  <a:lnTo>
                    <a:pt x="864" y="1386"/>
                  </a:lnTo>
                  <a:lnTo>
                    <a:pt x="856" y="1370"/>
                  </a:lnTo>
                  <a:lnTo>
                    <a:pt x="840" y="1354"/>
                  </a:lnTo>
                  <a:lnTo>
                    <a:pt x="824" y="1340"/>
                  </a:lnTo>
                  <a:lnTo>
                    <a:pt x="808" y="1324"/>
                  </a:lnTo>
                  <a:lnTo>
                    <a:pt x="786" y="1316"/>
                  </a:lnTo>
                  <a:lnTo>
                    <a:pt x="770" y="1300"/>
                  </a:lnTo>
                  <a:lnTo>
                    <a:pt x="754" y="1292"/>
                  </a:lnTo>
                  <a:lnTo>
                    <a:pt x="738" y="1284"/>
                  </a:lnTo>
                  <a:lnTo>
                    <a:pt x="722" y="1276"/>
                  </a:lnTo>
                  <a:lnTo>
                    <a:pt x="706" y="1268"/>
                  </a:lnTo>
                  <a:lnTo>
                    <a:pt x="682" y="1260"/>
                  </a:lnTo>
                  <a:lnTo>
                    <a:pt x="666" y="1260"/>
                  </a:lnTo>
                  <a:lnTo>
                    <a:pt x="650" y="1252"/>
                  </a:lnTo>
                  <a:lnTo>
                    <a:pt x="634" y="1252"/>
                  </a:lnTo>
                  <a:lnTo>
                    <a:pt x="618" y="1252"/>
                  </a:lnTo>
                  <a:lnTo>
                    <a:pt x="594" y="1252"/>
                  </a:lnTo>
                  <a:lnTo>
                    <a:pt x="580" y="1252"/>
                  </a:lnTo>
                  <a:lnTo>
                    <a:pt x="564" y="1260"/>
                  </a:lnTo>
                  <a:lnTo>
                    <a:pt x="548" y="1260"/>
                  </a:lnTo>
                  <a:lnTo>
                    <a:pt x="524" y="1260"/>
                  </a:lnTo>
                  <a:lnTo>
                    <a:pt x="508" y="1268"/>
                  </a:lnTo>
                  <a:lnTo>
                    <a:pt x="492" y="1276"/>
                  </a:lnTo>
                  <a:lnTo>
                    <a:pt x="476" y="1284"/>
                  </a:lnTo>
                  <a:lnTo>
                    <a:pt x="460" y="1292"/>
                  </a:lnTo>
                  <a:lnTo>
                    <a:pt x="444" y="1300"/>
                  </a:lnTo>
                  <a:lnTo>
                    <a:pt x="428" y="1308"/>
                  </a:lnTo>
                  <a:lnTo>
                    <a:pt x="412" y="1316"/>
                  </a:lnTo>
                  <a:lnTo>
                    <a:pt x="396" y="1324"/>
                  </a:lnTo>
                  <a:lnTo>
                    <a:pt x="380" y="1340"/>
                  </a:lnTo>
                  <a:lnTo>
                    <a:pt x="366" y="1348"/>
                  </a:lnTo>
                  <a:lnTo>
                    <a:pt x="358" y="1362"/>
                  </a:lnTo>
                  <a:lnTo>
                    <a:pt x="342" y="1370"/>
                  </a:lnTo>
                  <a:lnTo>
                    <a:pt x="334" y="1386"/>
                  </a:lnTo>
                  <a:lnTo>
                    <a:pt x="326" y="1402"/>
                  </a:lnTo>
                  <a:lnTo>
                    <a:pt x="318" y="1410"/>
                  </a:lnTo>
                  <a:lnTo>
                    <a:pt x="302" y="1426"/>
                  </a:lnTo>
                  <a:lnTo>
                    <a:pt x="294" y="1442"/>
                  </a:lnTo>
                  <a:lnTo>
                    <a:pt x="294" y="1458"/>
                  </a:lnTo>
                  <a:lnTo>
                    <a:pt x="286" y="1474"/>
                  </a:lnTo>
                  <a:lnTo>
                    <a:pt x="278" y="1490"/>
                  </a:lnTo>
                  <a:lnTo>
                    <a:pt x="270" y="1506"/>
                  </a:lnTo>
                  <a:lnTo>
                    <a:pt x="270" y="1522"/>
                  </a:lnTo>
                  <a:lnTo>
                    <a:pt x="270" y="1538"/>
                  </a:lnTo>
                  <a:lnTo>
                    <a:pt x="262" y="1554"/>
                  </a:lnTo>
                  <a:lnTo>
                    <a:pt x="262" y="1568"/>
                  </a:lnTo>
                  <a:lnTo>
                    <a:pt x="262" y="1600"/>
                  </a:lnTo>
                  <a:lnTo>
                    <a:pt x="270" y="1632"/>
                  </a:lnTo>
                  <a:lnTo>
                    <a:pt x="278" y="1664"/>
                  </a:lnTo>
                  <a:lnTo>
                    <a:pt x="286" y="1688"/>
                  </a:lnTo>
                  <a:lnTo>
                    <a:pt x="302" y="1712"/>
                  </a:lnTo>
                  <a:lnTo>
                    <a:pt x="318" y="1736"/>
                  </a:lnTo>
                  <a:lnTo>
                    <a:pt x="334" y="1760"/>
                  </a:lnTo>
                  <a:lnTo>
                    <a:pt x="350" y="1784"/>
                  </a:lnTo>
                  <a:lnTo>
                    <a:pt x="372" y="1798"/>
                  </a:lnTo>
                  <a:lnTo>
                    <a:pt x="388" y="1814"/>
                  </a:lnTo>
                  <a:lnTo>
                    <a:pt x="412" y="1830"/>
                  </a:lnTo>
                  <a:lnTo>
                    <a:pt x="436" y="1838"/>
                  </a:lnTo>
                  <a:lnTo>
                    <a:pt x="452" y="1846"/>
                  </a:lnTo>
                  <a:lnTo>
                    <a:pt x="476" y="1854"/>
                  </a:lnTo>
                  <a:lnTo>
                    <a:pt x="492" y="1862"/>
                  </a:lnTo>
                  <a:lnTo>
                    <a:pt x="516" y="1862"/>
                  </a:lnTo>
                  <a:lnTo>
                    <a:pt x="532" y="1862"/>
                  </a:lnTo>
                  <a:lnTo>
                    <a:pt x="548" y="1862"/>
                  </a:lnTo>
                  <a:lnTo>
                    <a:pt x="572" y="1854"/>
                  </a:lnTo>
                  <a:lnTo>
                    <a:pt x="588" y="1854"/>
                  </a:lnTo>
                  <a:lnTo>
                    <a:pt x="602" y="1846"/>
                  </a:lnTo>
                  <a:lnTo>
                    <a:pt x="626" y="1838"/>
                  </a:lnTo>
                  <a:lnTo>
                    <a:pt x="642" y="1830"/>
                  </a:lnTo>
                  <a:lnTo>
                    <a:pt x="658" y="1814"/>
                  </a:lnTo>
                  <a:lnTo>
                    <a:pt x="674" y="1806"/>
                  </a:lnTo>
                  <a:lnTo>
                    <a:pt x="690" y="1790"/>
                  </a:lnTo>
                  <a:lnTo>
                    <a:pt x="706" y="1776"/>
                  </a:lnTo>
                  <a:lnTo>
                    <a:pt x="714" y="1752"/>
                  </a:lnTo>
                  <a:lnTo>
                    <a:pt x="730" y="1736"/>
                  </a:lnTo>
                  <a:lnTo>
                    <a:pt x="738" y="1720"/>
                  </a:lnTo>
                  <a:lnTo>
                    <a:pt x="746" y="1696"/>
                  </a:lnTo>
                  <a:lnTo>
                    <a:pt x="754" y="1672"/>
                  </a:lnTo>
                  <a:lnTo>
                    <a:pt x="754" y="1664"/>
                  </a:lnTo>
                  <a:lnTo>
                    <a:pt x="754" y="1648"/>
                  </a:lnTo>
                  <a:lnTo>
                    <a:pt x="754" y="1632"/>
                  </a:lnTo>
                  <a:lnTo>
                    <a:pt x="754" y="1624"/>
                  </a:lnTo>
                  <a:lnTo>
                    <a:pt x="754" y="1608"/>
                  </a:lnTo>
                  <a:lnTo>
                    <a:pt x="754" y="1600"/>
                  </a:lnTo>
                  <a:lnTo>
                    <a:pt x="746" y="1584"/>
                  </a:lnTo>
                  <a:lnTo>
                    <a:pt x="746" y="1576"/>
                  </a:lnTo>
                  <a:lnTo>
                    <a:pt x="738" y="1562"/>
                  </a:lnTo>
                  <a:lnTo>
                    <a:pt x="738" y="1554"/>
                  </a:lnTo>
                  <a:lnTo>
                    <a:pt x="730" y="1538"/>
                  </a:lnTo>
                  <a:lnTo>
                    <a:pt x="722" y="1530"/>
                  </a:lnTo>
                  <a:lnTo>
                    <a:pt x="714" y="1522"/>
                  </a:lnTo>
                  <a:lnTo>
                    <a:pt x="706" y="1506"/>
                  </a:lnTo>
                  <a:lnTo>
                    <a:pt x="698" y="1498"/>
                  </a:lnTo>
                  <a:lnTo>
                    <a:pt x="690" y="1490"/>
                  </a:lnTo>
                  <a:lnTo>
                    <a:pt x="682" y="1482"/>
                  </a:lnTo>
                  <a:lnTo>
                    <a:pt x="674" y="1474"/>
                  </a:lnTo>
                  <a:lnTo>
                    <a:pt x="666" y="1474"/>
                  </a:lnTo>
                  <a:lnTo>
                    <a:pt x="658" y="1466"/>
                  </a:lnTo>
                  <a:lnTo>
                    <a:pt x="650" y="1458"/>
                  </a:lnTo>
                  <a:lnTo>
                    <a:pt x="642" y="1450"/>
                  </a:lnTo>
                  <a:lnTo>
                    <a:pt x="634" y="1450"/>
                  </a:lnTo>
                  <a:lnTo>
                    <a:pt x="626" y="1450"/>
                  </a:lnTo>
                  <a:lnTo>
                    <a:pt x="618" y="1442"/>
                  </a:lnTo>
                  <a:lnTo>
                    <a:pt x="610" y="1442"/>
                  </a:lnTo>
                  <a:lnTo>
                    <a:pt x="602" y="1442"/>
                  </a:lnTo>
                  <a:lnTo>
                    <a:pt x="594" y="1442"/>
                  </a:lnTo>
                  <a:lnTo>
                    <a:pt x="588" y="1442"/>
                  </a:lnTo>
                  <a:lnTo>
                    <a:pt x="580" y="1442"/>
                  </a:lnTo>
                  <a:lnTo>
                    <a:pt x="572" y="1442"/>
                  </a:lnTo>
                  <a:lnTo>
                    <a:pt x="564" y="1442"/>
                  </a:lnTo>
                  <a:lnTo>
                    <a:pt x="556" y="1450"/>
                  </a:lnTo>
                  <a:lnTo>
                    <a:pt x="548" y="1450"/>
                  </a:lnTo>
                  <a:lnTo>
                    <a:pt x="540" y="1458"/>
                  </a:lnTo>
                  <a:lnTo>
                    <a:pt x="524" y="1458"/>
                  </a:lnTo>
                  <a:lnTo>
                    <a:pt x="516" y="1458"/>
                  </a:lnTo>
                  <a:lnTo>
                    <a:pt x="508" y="1466"/>
                  </a:lnTo>
                  <a:lnTo>
                    <a:pt x="500" y="1474"/>
                  </a:lnTo>
                  <a:lnTo>
                    <a:pt x="492" y="1474"/>
                  </a:lnTo>
                  <a:lnTo>
                    <a:pt x="492" y="1482"/>
                  </a:lnTo>
                  <a:lnTo>
                    <a:pt x="484" y="1490"/>
                  </a:lnTo>
                  <a:lnTo>
                    <a:pt x="476" y="1490"/>
                  </a:lnTo>
                  <a:lnTo>
                    <a:pt x="468" y="1498"/>
                  </a:lnTo>
                  <a:lnTo>
                    <a:pt x="460" y="1506"/>
                  </a:lnTo>
                  <a:lnTo>
                    <a:pt x="460" y="1514"/>
                  </a:lnTo>
                  <a:lnTo>
                    <a:pt x="452" y="1522"/>
                  </a:lnTo>
                  <a:lnTo>
                    <a:pt x="444" y="1530"/>
                  </a:lnTo>
                  <a:lnTo>
                    <a:pt x="444" y="1538"/>
                  </a:lnTo>
                  <a:lnTo>
                    <a:pt x="436" y="1546"/>
                  </a:lnTo>
                  <a:lnTo>
                    <a:pt x="436" y="1554"/>
                  </a:lnTo>
                  <a:lnTo>
                    <a:pt x="436" y="1562"/>
                  </a:lnTo>
                  <a:lnTo>
                    <a:pt x="436" y="1568"/>
                  </a:lnTo>
                  <a:lnTo>
                    <a:pt x="436" y="1576"/>
                  </a:lnTo>
                  <a:lnTo>
                    <a:pt x="436" y="1584"/>
                  </a:lnTo>
                  <a:lnTo>
                    <a:pt x="436" y="1592"/>
                  </a:lnTo>
                  <a:lnTo>
                    <a:pt x="436" y="1600"/>
                  </a:lnTo>
                  <a:lnTo>
                    <a:pt x="436" y="1608"/>
                  </a:lnTo>
                  <a:lnTo>
                    <a:pt x="436" y="1624"/>
                  </a:lnTo>
                  <a:lnTo>
                    <a:pt x="444" y="1632"/>
                  </a:lnTo>
                  <a:lnTo>
                    <a:pt x="452" y="1640"/>
                  </a:lnTo>
                  <a:lnTo>
                    <a:pt x="460" y="1648"/>
                  </a:lnTo>
                  <a:lnTo>
                    <a:pt x="460" y="1656"/>
                  </a:lnTo>
                  <a:lnTo>
                    <a:pt x="468" y="1656"/>
                  </a:lnTo>
                  <a:lnTo>
                    <a:pt x="476" y="1664"/>
                  </a:lnTo>
                  <a:lnTo>
                    <a:pt x="484" y="1664"/>
                  </a:lnTo>
                  <a:lnTo>
                    <a:pt x="492" y="1672"/>
                  </a:lnTo>
                  <a:lnTo>
                    <a:pt x="500" y="1672"/>
                  </a:lnTo>
                  <a:lnTo>
                    <a:pt x="508" y="1672"/>
                  </a:lnTo>
                  <a:lnTo>
                    <a:pt x="516" y="1672"/>
                  </a:lnTo>
                  <a:lnTo>
                    <a:pt x="524" y="1672"/>
                  </a:lnTo>
                  <a:lnTo>
                    <a:pt x="532" y="1672"/>
                  </a:lnTo>
                  <a:lnTo>
                    <a:pt x="524" y="1632"/>
                  </a:lnTo>
                  <a:lnTo>
                    <a:pt x="524" y="1640"/>
                  </a:lnTo>
                  <a:lnTo>
                    <a:pt x="516" y="1640"/>
                  </a:lnTo>
                  <a:lnTo>
                    <a:pt x="508" y="1640"/>
                  </a:lnTo>
                  <a:lnTo>
                    <a:pt x="508" y="1632"/>
                  </a:lnTo>
                  <a:lnTo>
                    <a:pt x="500" y="1632"/>
                  </a:lnTo>
                  <a:lnTo>
                    <a:pt x="492" y="1632"/>
                  </a:lnTo>
                  <a:lnTo>
                    <a:pt x="484" y="1624"/>
                  </a:lnTo>
                  <a:lnTo>
                    <a:pt x="484" y="1616"/>
                  </a:lnTo>
                  <a:lnTo>
                    <a:pt x="476" y="1616"/>
                  </a:lnTo>
                  <a:lnTo>
                    <a:pt x="476" y="1608"/>
                  </a:lnTo>
                  <a:lnTo>
                    <a:pt x="476" y="1600"/>
                  </a:lnTo>
                  <a:lnTo>
                    <a:pt x="476" y="1592"/>
                  </a:lnTo>
                  <a:lnTo>
                    <a:pt x="468" y="1592"/>
                  </a:lnTo>
                  <a:lnTo>
                    <a:pt x="468" y="1584"/>
                  </a:lnTo>
                  <a:lnTo>
                    <a:pt x="468" y="1576"/>
                  </a:lnTo>
                  <a:lnTo>
                    <a:pt x="468" y="1568"/>
                  </a:lnTo>
                  <a:lnTo>
                    <a:pt x="476" y="1562"/>
                  </a:lnTo>
                  <a:lnTo>
                    <a:pt x="476" y="1554"/>
                  </a:lnTo>
                  <a:lnTo>
                    <a:pt x="484" y="1546"/>
                  </a:lnTo>
                  <a:lnTo>
                    <a:pt x="484" y="1538"/>
                  </a:lnTo>
                  <a:lnTo>
                    <a:pt x="492" y="1538"/>
                  </a:lnTo>
                  <a:lnTo>
                    <a:pt x="492" y="1530"/>
                  </a:lnTo>
                  <a:lnTo>
                    <a:pt x="500" y="1522"/>
                  </a:lnTo>
                  <a:lnTo>
                    <a:pt x="508" y="1514"/>
                  </a:lnTo>
                  <a:lnTo>
                    <a:pt x="516" y="1506"/>
                  </a:lnTo>
                  <a:lnTo>
                    <a:pt x="524" y="1498"/>
                  </a:lnTo>
                  <a:lnTo>
                    <a:pt x="532" y="1498"/>
                  </a:lnTo>
                  <a:lnTo>
                    <a:pt x="540" y="1490"/>
                  </a:lnTo>
                  <a:lnTo>
                    <a:pt x="548" y="1490"/>
                  </a:lnTo>
                  <a:lnTo>
                    <a:pt x="556" y="1482"/>
                  </a:lnTo>
                  <a:lnTo>
                    <a:pt x="564" y="1482"/>
                  </a:lnTo>
                  <a:lnTo>
                    <a:pt x="572" y="1482"/>
                  </a:lnTo>
                  <a:lnTo>
                    <a:pt x="580" y="1482"/>
                  </a:lnTo>
                  <a:lnTo>
                    <a:pt x="588" y="1482"/>
                  </a:lnTo>
                  <a:lnTo>
                    <a:pt x="594" y="1482"/>
                  </a:lnTo>
                  <a:lnTo>
                    <a:pt x="602" y="1482"/>
                  </a:lnTo>
                  <a:lnTo>
                    <a:pt x="610" y="1482"/>
                  </a:lnTo>
                  <a:lnTo>
                    <a:pt x="618" y="1482"/>
                  </a:lnTo>
                  <a:lnTo>
                    <a:pt x="626" y="1490"/>
                  </a:lnTo>
                  <a:lnTo>
                    <a:pt x="634" y="1490"/>
                  </a:lnTo>
                  <a:lnTo>
                    <a:pt x="634" y="1498"/>
                  </a:lnTo>
                  <a:lnTo>
                    <a:pt x="642" y="1498"/>
                  </a:lnTo>
                  <a:lnTo>
                    <a:pt x="650" y="1498"/>
                  </a:lnTo>
                  <a:lnTo>
                    <a:pt x="650" y="1506"/>
                  </a:lnTo>
                  <a:lnTo>
                    <a:pt x="658" y="1514"/>
                  </a:lnTo>
                  <a:lnTo>
                    <a:pt x="666" y="1514"/>
                  </a:lnTo>
                  <a:lnTo>
                    <a:pt x="674" y="1522"/>
                  </a:lnTo>
                  <a:lnTo>
                    <a:pt x="682" y="1530"/>
                  </a:lnTo>
                  <a:lnTo>
                    <a:pt x="682" y="1538"/>
                  </a:lnTo>
                  <a:lnTo>
                    <a:pt x="690" y="1546"/>
                  </a:lnTo>
                  <a:lnTo>
                    <a:pt x="698" y="1562"/>
                  </a:lnTo>
                  <a:lnTo>
                    <a:pt x="698" y="1568"/>
                  </a:lnTo>
                  <a:lnTo>
                    <a:pt x="706" y="1576"/>
                  </a:lnTo>
                  <a:lnTo>
                    <a:pt x="706" y="1584"/>
                  </a:lnTo>
                  <a:lnTo>
                    <a:pt x="714" y="1592"/>
                  </a:lnTo>
                  <a:lnTo>
                    <a:pt x="714" y="1608"/>
                  </a:lnTo>
                  <a:lnTo>
                    <a:pt x="714" y="1616"/>
                  </a:lnTo>
                  <a:lnTo>
                    <a:pt x="714" y="1624"/>
                  </a:lnTo>
                  <a:lnTo>
                    <a:pt x="714" y="1632"/>
                  </a:lnTo>
                  <a:lnTo>
                    <a:pt x="714" y="1648"/>
                  </a:lnTo>
                  <a:lnTo>
                    <a:pt x="714" y="1656"/>
                  </a:lnTo>
                  <a:lnTo>
                    <a:pt x="714" y="1664"/>
                  </a:lnTo>
                  <a:lnTo>
                    <a:pt x="706" y="1688"/>
                  </a:lnTo>
                  <a:lnTo>
                    <a:pt x="698" y="1704"/>
                  </a:lnTo>
                  <a:lnTo>
                    <a:pt x="690" y="1720"/>
                  </a:lnTo>
                  <a:lnTo>
                    <a:pt x="682" y="1736"/>
                  </a:lnTo>
                  <a:lnTo>
                    <a:pt x="674" y="1752"/>
                  </a:lnTo>
                  <a:lnTo>
                    <a:pt x="658" y="1768"/>
                  </a:lnTo>
                  <a:lnTo>
                    <a:pt x="642" y="1776"/>
                  </a:lnTo>
                  <a:lnTo>
                    <a:pt x="634" y="1790"/>
                  </a:lnTo>
                  <a:lnTo>
                    <a:pt x="618" y="1798"/>
                  </a:lnTo>
                  <a:lnTo>
                    <a:pt x="602" y="1806"/>
                  </a:lnTo>
                  <a:lnTo>
                    <a:pt x="588" y="1814"/>
                  </a:lnTo>
                  <a:lnTo>
                    <a:pt x="572" y="1822"/>
                  </a:lnTo>
                  <a:lnTo>
                    <a:pt x="556" y="1822"/>
                  </a:lnTo>
                  <a:lnTo>
                    <a:pt x="548" y="1822"/>
                  </a:lnTo>
                  <a:lnTo>
                    <a:pt x="532" y="1830"/>
                  </a:lnTo>
                  <a:lnTo>
                    <a:pt x="516" y="1822"/>
                  </a:lnTo>
                  <a:lnTo>
                    <a:pt x="500" y="1822"/>
                  </a:lnTo>
                  <a:lnTo>
                    <a:pt x="484" y="1822"/>
                  </a:lnTo>
                  <a:lnTo>
                    <a:pt x="468" y="1814"/>
                  </a:lnTo>
                  <a:lnTo>
                    <a:pt x="452" y="1806"/>
                  </a:lnTo>
                  <a:lnTo>
                    <a:pt x="428" y="1790"/>
                  </a:lnTo>
                  <a:lnTo>
                    <a:pt x="412" y="1784"/>
                  </a:lnTo>
                  <a:lnTo>
                    <a:pt x="396" y="1768"/>
                  </a:lnTo>
                  <a:lnTo>
                    <a:pt x="372" y="1752"/>
                  </a:lnTo>
                  <a:lnTo>
                    <a:pt x="358" y="1736"/>
                  </a:lnTo>
                  <a:lnTo>
                    <a:pt x="342" y="1720"/>
                  </a:lnTo>
                  <a:lnTo>
                    <a:pt x="334" y="1696"/>
                  </a:lnTo>
                  <a:lnTo>
                    <a:pt x="318" y="1672"/>
                  </a:lnTo>
                  <a:lnTo>
                    <a:pt x="310" y="1648"/>
                  </a:lnTo>
                  <a:lnTo>
                    <a:pt x="302" y="1624"/>
                  </a:lnTo>
                  <a:lnTo>
                    <a:pt x="302" y="1592"/>
                  </a:lnTo>
                  <a:lnTo>
                    <a:pt x="302" y="1568"/>
                  </a:lnTo>
                  <a:lnTo>
                    <a:pt x="302" y="1554"/>
                  </a:lnTo>
                  <a:lnTo>
                    <a:pt x="302" y="1538"/>
                  </a:lnTo>
                  <a:lnTo>
                    <a:pt x="302" y="1530"/>
                  </a:lnTo>
                  <a:lnTo>
                    <a:pt x="310" y="1514"/>
                  </a:lnTo>
                  <a:lnTo>
                    <a:pt x="310" y="1498"/>
                  </a:lnTo>
                  <a:lnTo>
                    <a:pt x="318" y="1482"/>
                  </a:lnTo>
                  <a:lnTo>
                    <a:pt x="326" y="1474"/>
                  </a:lnTo>
                  <a:lnTo>
                    <a:pt x="334" y="1458"/>
                  </a:lnTo>
                  <a:lnTo>
                    <a:pt x="334" y="1450"/>
                  </a:lnTo>
                  <a:lnTo>
                    <a:pt x="342" y="1434"/>
                  </a:lnTo>
                  <a:lnTo>
                    <a:pt x="358" y="1418"/>
                  </a:lnTo>
                  <a:lnTo>
                    <a:pt x="366" y="1410"/>
                  </a:lnTo>
                  <a:lnTo>
                    <a:pt x="372" y="1394"/>
                  </a:lnTo>
                  <a:lnTo>
                    <a:pt x="380" y="1386"/>
                  </a:lnTo>
                  <a:lnTo>
                    <a:pt x="396" y="1378"/>
                  </a:lnTo>
                  <a:lnTo>
                    <a:pt x="404" y="1362"/>
                  </a:lnTo>
                  <a:lnTo>
                    <a:pt x="420" y="1354"/>
                  </a:lnTo>
                  <a:lnTo>
                    <a:pt x="436" y="1348"/>
                  </a:lnTo>
                  <a:lnTo>
                    <a:pt x="444" y="1340"/>
                  </a:lnTo>
                  <a:lnTo>
                    <a:pt x="460" y="1332"/>
                  </a:lnTo>
                  <a:lnTo>
                    <a:pt x="476" y="1324"/>
                  </a:lnTo>
                  <a:lnTo>
                    <a:pt x="492" y="1316"/>
                  </a:lnTo>
                  <a:lnTo>
                    <a:pt x="508" y="1308"/>
                  </a:lnTo>
                  <a:lnTo>
                    <a:pt x="524" y="1308"/>
                  </a:lnTo>
                  <a:lnTo>
                    <a:pt x="540" y="1300"/>
                  </a:lnTo>
                  <a:lnTo>
                    <a:pt x="556" y="1300"/>
                  </a:lnTo>
                  <a:lnTo>
                    <a:pt x="572" y="1292"/>
                  </a:lnTo>
                  <a:lnTo>
                    <a:pt x="588" y="1292"/>
                  </a:lnTo>
                  <a:lnTo>
                    <a:pt x="602" y="1292"/>
                  </a:lnTo>
                  <a:lnTo>
                    <a:pt x="618" y="1292"/>
                  </a:lnTo>
                  <a:lnTo>
                    <a:pt x="634" y="1292"/>
                  </a:lnTo>
                  <a:lnTo>
                    <a:pt x="642" y="1292"/>
                  </a:lnTo>
                  <a:lnTo>
                    <a:pt x="658" y="1300"/>
                  </a:lnTo>
                  <a:lnTo>
                    <a:pt x="674" y="1300"/>
                  </a:lnTo>
                  <a:lnTo>
                    <a:pt x="690" y="1308"/>
                  </a:lnTo>
                  <a:lnTo>
                    <a:pt x="706" y="1308"/>
                  </a:lnTo>
                  <a:lnTo>
                    <a:pt x="722" y="1316"/>
                  </a:lnTo>
                  <a:lnTo>
                    <a:pt x="738" y="1324"/>
                  </a:lnTo>
                  <a:lnTo>
                    <a:pt x="754" y="1340"/>
                  </a:lnTo>
                  <a:lnTo>
                    <a:pt x="770" y="1348"/>
                  </a:lnTo>
                  <a:lnTo>
                    <a:pt x="786" y="1354"/>
                  </a:lnTo>
                  <a:lnTo>
                    <a:pt x="802" y="1370"/>
                  </a:lnTo>
                  <a:lnTo>
                    <a:pt x="816" y="1378"/>
                  </a:lnTo>
                  <a:lnTo>
                    <a:pt x="832" y="1394"/>
                  </a:lnTo>
                  <a:lnTo>
                    <a:pt x="840" y="1410"/>
                  </a:lnTo>
                  <a:lnTo>
                    <a:pt x="856" y="1426"/>
                  </a:lnTo>
                  <a:lnTo>
                    <a:pt x="872" y="1442"/>
                  </a:lnTo>
                  <a:lnTo>
                    <a:pt x="880" y="1458"/>
                  </a:lnTo>
                  <a:lnTo>
                    <a:pt x="896" y="1474"/>
                  </a:lnTo>
                  <a:lnTo>
                    <a:pt x="904" y="1498"/>
                  </a:lnTo>
                  <a:lnTo>
                    <a:pt x="912" y="1514"/>
                  </a:lnTo>
                  <a:lnTo>
                    <a:pt x="928" y="1538"/>
                  </a:lnTo>
                  <a:lnTo>
                    <a:pt x="936" y="1554"/>
                  </a:lnTo>
                  <a:lnTo>
                    <a:pt x="944" y="1576"/>
                  </a:lnTo>
                  <a:lnTo>
                    <a:pt x="944" y="1592"/>
                  </a:lnTo>
                  <a:lnTo>
                    <a:pt x="952" y="1616"/>
                  </a:lnTo>
                  <a:lnTo>
                    <a:pt x="960" y="1632"/>
                  </a:lnTo>
                  <a:lnTo>
                    <a:pt x="960" y="1656"/>
                  </a:lnTo>
                  <a:lnTo>
                    <a:pt x="960" y="1672"/>
                  </a:lnTo>
                  <a:lnTo>
                    <a:pt x="960" y="1696"/>
                  </a:lnTo>
                  <a:lnTo>
                    <a:pt x="960" y="1720"/>
                  </a:lnTo>
                  <a:lnTo>
                    <a:pt x="960" y="1736"/>
                  </a:lnTo>
                  <a:lnTo>
                    <a:pt x="960" y="1760"/>
                  </a:lnTo>
                  <a:lnTo>
                    <a:pt x="952" y="1776"/>
                  </a:lnTo>
                  <a:lnTo>
                    <a:pt x="952" y="1798"/>
                  </a:lnTo>
                  <a:lnTo>
                    <a:pt x="944" y="1814"/>
                  </a:lnTo>
                  <a:lnTo>
                    <a:pt x="936" y="1838"/>
                  </a:lnTo>
                  <a:lnTo>
                    <a:pt x="928" y="1854"/>
                  </a:lnTo>
                  <a:lnTo>
                    <a:pt x="920" y="1878"/>
                  </a:lnTo>
                  <a:lnTo>
                    <a:pt x="912" y="1894"/>
                  </a:lnTo>
                  <a:lnTo>
                    <a:pt x="904" y="1910"/>
                  </a:lnTo>
                  <a:lnTo>
                    <a:pt x="888" y="1934"/>
                  </a:lnTo>
                  <a:lnTo>
                    <a:pt x="880" y="1950"/>
                  </a:lnTo>
                  <a:lnTo>
                    <a:pt x="864" y="1966"/>
                  </a:lnTo>
                  <a:lnTo>
                    <a:pt x="848" y="1982"/>
                  </a:lnTo>
                  <a:lnTo>
                    <a:pt x="832" y="1998"/>
                  </a:lnTo>
                  <a:lnTo>
                    <a:pt x="824" y="2012"/>
                  </a:lnTo>
                  <a:lnTo>
                    <a:pt x="802" y="2020"/>
                  </a:lnTo>
                  <a:lnTo>
                    <a:pt x="786" y="2036"/>
                  </a:lnTo>
                  <a:lnTo>
                    <a:pt x="770" y="2044"/>
                  </a:lnTo>
                  <a:lnTo>
                    <a:pt x="762" y="2052"/>
                  </a:lnTo>
                  <a:lnTo>
                    <a:pt x="746" y="2060"/>
                  </a:lnTo>
                  <a:lnTo>
                    <a:pt x="730" y="2068"/>
                  </a:lnTo>
                  <a:lnTo>
                    <a:pt x="722" y="2076"/>
                  </a:lnTo>
                  <a:lnTo>
                    <a:pt x="706" y="2084"/>
                  </a:lnTo>
                  <a:lnTo>
                    <a:pt x="690" y="2084"/>
                  </a:lnTo>
                  <a:lnTo>
                    <a:pt x="682" y="2092"/>
                  </a:lnTo>
                  <a:lnTo>
                    <a:pt x="666" y="2100"/>
                  </a:lnTo>
                  <a:lnTo>
                    <a:pt x="650" y="2100"/>
                  </a:lnTo>
                  <a:lnTo>
                    <a:pt x="642" y="2108"/>
                  </a:lnTo>
                  <a:lnTo>
                    <a:pt x="626" y="2108"/>
                  </a:lnTo>
                  <a:lnTo>
                    <a:pt x="610" y="2116"/>
                  </a:lnTo>
                  <a:lnTo>
                    <a:pt x="594" y="2116"/>
                  </a:lnTo>
                  <a:lnTo>
                    <a:pt x="588" y="2116"/>
                  </a:lnTo>
                  <a:lnTo>
                    <a:pt x="572" y="2124"/>
                  </a:lnTo>
                  <a:lnTo>
                    <a:pt x="556" y="2124"/>
                  </a:lnTo>
                  <a:lnTo>
                    <a:pt x="588" y="2052"/>
                  </a:lnTo>
                  <a:lnTo>
                    <a:pt x="556" y="1966"/>
                  </a:lnTo>
                  <a:lnTo>
                    <a:pt x="524" y="2052"/>
                  </a:lnTo>
                  <a:lnTo>
                    <a:pt x="548" y="2124"/>
                  </a:lnTo>
                  <a:lnTo>
                    <a:pt x="540" y="2124"/>
                  </a:lnTo>
                  <a:lnTo>
                    <a:pt x="532" y="2124"/>
                  </a:lnTo>
                  <a:lnTo>
                    <a:pt x="524" y="2124"/>
                  </a:lnTo>
                  <a:lnTo>
                    <a:pt x="516" y="2124"/>
                  </a:lnTo>
                  <a:lnTo>
                    <a:pt x="508" y="2124"/>
                  </a:lnTo>
                  <a:lnTo>
                    <a:pt x="500" y="2124"/>
                  </a:lnTo>
                  <a:lnTo>
                    <a:pt x="492" y="2124"/>
                  </a:lnTo>
                  <a:lnTo>
                    <a:pt x="476" y="2124"/>
                  </a:lnTo>
                  <a:lnTo>
                    <a:pt x="468" y="2124"/>
                  </a:lnTo>
                  <a:lnTo>
                    <a:pt x="460" y="2124"/>
                  </a:lnTo>
                  <a:lnTo>
                    <a:pt x="452" y="2116"/>
                  </a:lnTo>
                  <a:lnTo>
                    <a:pt x="444" y="2116"/>
                  </a:lnTo>
                  <a:lnTo>
                    <a:pt x="436" y="2116"/>
                  </a:lnTo>
                  <a:lnTo>
                    <a:pt x="428" y="2116"/>
                  </a:lnTo>
                  <a:lnTo>
                    <a:pt x="420" y="2116"/>
                  </a:lnTo>
                  <a:lnTo>
                    <a:pt x="404" y="2116"/>
                  </a:lnTo>
                  <a:lnTo>
                    <a:pt x="372" y="2100"/>
                  </a:lnTo>
                  <a:lnTo>
                    <a:pt x="334" y="2084"/>
                  </a:lnTo>
                  <a:lnTo>
                    <a:pt x="294" y="2068"/>
                  </a:lnTo>
                  <a:lnTo>
                    <a:pt x="262" y="2044"/>
                  </a:lnTo>
                  <a:lnTo>
                    <a:pt x="230" y="2020"/>
                  </a:lnTo>
                  <a:lnTo>
                    <a:pt x="198" y="1990"/>
                  </a:lnTo>
                  <a:lnTo>
                    <a:pt x="174" y="1966"/>
                  </a:lnTo>
                  <a:lnTo>
                    <a:pt x="144" y="1926"/>
                  </a:lnTo>
                  <a:lnTo>
                    <a:pt x="120" y="1894"/>
                  </a:lnTo>
                  <a:lnTo>
                    <a:pt x="104" y="1854"/>
                  </a:lnTo>
                  <a:lnTo>
                    <a:pt x="80" y="1814"/>
                  </a:lnTo>
                  <a:lnTo>
                    <a:pt x="64" y="1776"/>
                  </a:lnTo>
                  <a:lnTo>
                    <a:pt x="56" y="1736"/>
                  </a:lnTo>
                  <a:lnTo>
                    <a:pt x="48" y="1688"/>
                  </a:lnTo>
                  <a:lnTo>
                    <a:pt x="40" y="1648"/>
                  </a:lnTo>
                  <a:lnTo>
                    <a:pt x="40" y="1600"/>
                  </a:lnTo>
                  <a:lnTo>
                    <a:pt x="40" y="1592"/>
                  </a:lnTo>
                  <a:lnTo>
                    <a:pt x="40" y="1584"/>
                  </a:lnTo>
                  <a:lnTo>
                    <a:pt x="40" y="1576"/>
                  </a:lnTo>
                  <a:lnTo>
                    <a:pt x="40" y="1568"/>
                  </a:lnTo>
                  <a:lnTo>
                    <a:pt x="40" y="1562"/>
                  </a:lnTo>
                  <a:lnTo>
                    <a:pt x="40" y="1554"/>
                  </a:lnTo>
                  <a:lnTo>
                    <a:pt x="40" y="1546"/>
                  </a:lnTo>
                  <a:lnTo>
                    <a:pt x="40" y="1538"/>
                  </a:lnTo>
                  <a:lnTo>
                    <a:pt x="40" y="1530"/>
                  </a:lnTo>
                  <a:lnTo>
                    <a:pt x="40" y="1522"/>
                  </a:lnTo>
                  <a:lnTo>
                    <a:pt x="40" y="1514"/>
                  </a:lnTo>
                  <a:lnTo>
                    <a:pt x="48" y="1506"/>
                  </a:lnTo>
                  <a:lnTo>
                    <a:pt x="56" y="1466"/>
                  </a:lnTo>
                  <a:lnTo>
                    <a:pt x="64" y="1426"/>
                  </a:lnTo>
                  <a:lnTo>
                    <a:pt x="80" y="1386"/>
                  </a:lnTo>
                  <a:lnTo>
                    <a:pt x="96" y="1348"/>
                  </a:lnTo>
                  <a:lnTo>
                    <a:pt x="112" y="1308"/>
                  </a:lnTo>
                  <a:lnTo>
                    <a:pt x="136" y="1276"/>
                  </a:lnTo>
                  <a:lnTo>
                    <a:pt x="152" y="1244"/>
                  </a:lnTo>
                  <a:lnTo>
                    <a:pt x="174" y="1212"/>
                  </a:lnTo>
                  <a:lnTo>
                    <a:pt x="198" y="1180"/>
                  </a:lnTo>
                  <a:lnTo>
                    <a:pt x="230" y="1156"/>
                  </a:lnTo>
                  <a:lnTo>
                    <a:pt x="254" y="1134"/>
                  </a:lnTo>
                  <a:lnTo>
                    <a:pt x="278" y="1110"/>
                  </a:lnTo>
                  <a:lnTo>
                    <a:pt x="310" y="1086"/>
                  </a:lnTo>
                  <a:lnTo>
                    <a:pt x="342" y="1062"/>
                  </a:lnTo>
                  <a:lnTo>
                    <a:pt x="366" y="1046"/>
                  </a:lnTo>
                  <a:lnTo>
                    <a:pt x="396" y="1030"/>
                  </a:lnTo>
                  <a:lnTo>
                    <a:pt x="396" y="1038"/>
                  </a:lnTo>
                  <a:lnTo>
                    <a:pt x="396" y="1030"/>
                  </a:lnTo>
                  <a:lnTo>
                    <a:pt x="404" y="1030"/>
                  </a:lnTo>
                  <a:lnTo>
                    <a:pt x="412" y="1030"/>
                  </a:lnTo>
                  <a:lnTo>
                    <a:pt x="412" y="1022"/>
                  </a:lnTo>
                  <a:lnTo>
                    <a:pt x="420" y="1022"/>
                  </a:lnTo>
                  <a:lnTo>
                    <a:pt x="428" y="1014"/>
                  </a:lnTo>
                  <a:lnTo>
                    <a:pt x="436" y="1014"/>
                  </a:lnTo>
                  <a:lnTo>
                    <a:pt x="444" y="1006"/>
                  </a:lnTo>
                  <a:lnTo>
                    <a:pt x="452" y="1006"/>
                  </a:lnTo>
                  <a:lnTo>
                    <a:pt x="460" y="1006"/>
                  </a:lnTo>
                  <a:lnTo>
                    <a:pt x="468" y="998"/>
                  </a:lnTo>
                  <a:lnTo>
                    <a:pt x="476" y="998"/>
                  </a:lnTo>
                  <a:lnTo>
                    <a:pt x="484" y="998"/>
                  </a:lnTo>
                  <a:lnTo>
                    <a:pt x="492" y="998"/>
                  </a:lnTo>
                  <a:lnTo>
                    <a:pt x="500" y="990"/>
                  </a:lnTo>
                  <a:lnTo>
                    <a:pt x="508" y="990"/>
                  </a:lnTo>
                  <a:lnTo>
                    <a:pt x="516" y="990"/>
                  </a:lnTo>
                  <a:lnTo>
                    <a:pt x="524" y="982"/>
                  </a:lnTo>
                  <a:lnTo>
                    <a:pt x="532" y="982"/>
                  </a:lnTo>
                  <a:lnTo>
                    <a:pt x="556" y="982"/>
                  </a:lnTo>
                  <a:lnTo>
                    <a:pt x="580" y="974"/>
                  </a:lnTo>
                  <a:lnTo>
                    <a:pt x="610" y="974"/>
                  </a:lnTo>
                  <a:lnTo>
                    <a:pt x="642" y="974"/>
                  </a:lnTo>
                  <a:lnTo>
                    <a:pt x="674" y="974"/>
                  </a:lnTo>
                  <a:lnTo>
                    <a:pt x="706" y="974"/>
                  </a:lnTo>
                  <a:lnTo>
                    <a:pt x="746" y="974"/>
                  </a:lnTo>
                  <a:lnTo>
                    <a:pt x="786" y="982"/>
                  </a:lnTo>
                  <a:lnTo>
                    <a:pt x="824" y="990"/>
                  </a:lnTo>
                  <a:lnTo>
                    <a:pt x="864" y="998"/>
                  </a:lnTo>
                  <a:lnTo>
                    <a:pt x="904" y="1014"/>
                  </a:lnTo>
                  <a:lnTo>
                    <a:pt x="952" y="1030"/>
                  </a:lnTo>
                  <a:lnTo>
                    <a:pt x="992" y="1046"/>
                  </a:lnTo>
                  <a:lnTo>
                    <a:pt x="1030" y="1070"/>
                  </a:lnTo>
                  <a:lnTo>
                    <a:pt x="1078" y="1102"/>
                  </a:lnTo>
                  <a:lnTo>
                    <a:pt x="1118" y="1134"/>
                  </a:lnTo>
                  <a:lnTo>
                    <a:pt x="1016" y="1172"/>
                  </a:lnTo>
                  <a:lnTo>
                    <a:pt x="952" y="1316"/>
                  </a:lnTo>
                  <a:lnTo>
                    <a:pt x="1094" y="1252"/>
                  </a:lnTo>
                  <a:lnTo>
                    <a:pt x="1134" y="1148"/>
                  </a:lnTo>
                  <a:lnTo>
                    <a:pt x="1142" y="1148"/>
                  </a:lnTo>
                  <a:lnTo>
                    <a:pt x="1206" y="1220"/>
                  </a:lnTo>
                  <a:lnTo>
                    <a:pt x="1214" y="1228"/>
                  </a:lnTo>
                  <a:lnTo>
                    <a:pt x="1222" y="1236"/>
                  </a:lnTo>
                  <a:lnTo>
                    <a:pt x="1230" y="1244"/>
                  </a:lnTo>
                  <a:lnTo>
                    <a:pt x="1236" y="1252"/>
                  </a:lnTo>
                  <a:lnTo>
                    <a:pt x="1236" y="1260"/>
                  </a:lnTo>
                  <a:lnTo>
                    <a:pt x="1244" y="1268"/>
                  </a:lnTo>
                  <a:lnTo>
                    <a:pt x="1252" y="1276"/>
                  </a:lnTo>
                  <a:lnTo>
                    <a:pt x="1252" y="1284"/>
                  </a:lnTo>
                  <a:lnTo>
                    <a:pt x="1260" y="1292"/>
                  </a:lnTo>
                  <a:lnTo>
                    <a:pt x="1268" y="1300"/>
                  </a:lnTo>
                  <a:lnTo>
                    <a:pt x="1276" y="1308"/>
                  </a:lnTo>
                  <a:lnTo>
                    <a:pt x="1276" y="1316"/>
                  </a:lnTo>
                  <a:lnTo>
                    <a:pt x="1284" y="1324"/>
                  </a:lnTo>
                  <a:lnTo>
                    <a:pt x="1292" y="1332"/>
                  </a:lnTo>
                  <a:lnTo>
                    <a:pt x="1292" y="1340"/>
                  </a:lnTo>
                  <a:lnTo>
                    <a:pt x="1292" y="1340"/>
                  </a:lnTo>
                  <a:close/>
                  <a:moveTo>
                    <a:pt x="1372" y="1292"/>
                  </a:moveTo>
                  <a:lnTo>
                    <a:pt x="1356" y="1284"/>
                  </a:lnTo>
                  <a:lnTo>
                    <a:pt x="1340" y="1276"/>
                  </a:lnTo>
                  <a:lnTo>
                    <a:pt x="1324" y="1260"/>
                  </a:lnTo>
                  <a:lnTo>
                    <a:pt x="1308" y="1252"/>
                  </a:lnTo>
                  <a:lnTo>
                    <a:pt x="1292" y="1244"/>
                  </a:lnTo>
                  <a:lnTo>
                    <a:pt x="1276" y="1228"/>
                  </a:lnTo>
                  <a:lnTo>
                    <a:pt x="1260" y="1220"/>
                  </a:lnTo>
                  <a:lnTo>
                    <a:pt x="1252" y="1204"/>
                  </a:lnTo>
                  <a:lnTo>
                    <a:pt x="1236" y="1196"/>
                  </a:lnTo>
                  <a:lnTo>
                    <a:pt x="1230" y="1180"/>
                  </a:lnTo>
                  <a:lnTo>
                    <a:pt x="1214" y="1172"/>
                  </a:lnTo>
                  <a:lnTo>
                    <a:pt x="1206" y="1164"/>
                  </a:lnTo>
                  <a:lnTo>
                    <a:pt x="1190" y="1148"/>
                  </a:lnTo>
                  <a:lnTo>
                    <a:pt x="1182" y="1140"/>
                  </a:lnTo>
                  <a:lnTo>
                    <a:pt x="1174" y="1126"/>
                  </a:lnTo>
                  <a:lnTo>
                    <a:pt x="1158" y="1118"/>
                  </a:lnTo>
                  <a:lnTo>
                    <a:pt x="1268" y="1070"/>
                  </a:lnTo>
                  <a:lnTo>
                    <a:pt x="1340" y="926"/>
                  </a:lnTo>
                  <a:lnTo>
                    <a:pt x="1198" y="990"/>
                  </a:lnTo>
                  <a:lnTo>
                    <a:pt x="1150" y="1102"/>
                  </a:lnTo>
                  <a:lnTo>
                    <a:pt x="1118" y="1062"/>
                  </a:lnTo>
                  <a:lnTo>
                    <a:pt x="1094" y="1022"/>
                  </a:lnTo>
                  <a:lnTo>
                    <a:pt x="1070" y="982"/>
                  </a:lnTo>
                  <a:lnTo>
                    <a:pt x="1054" y="934"/>
                  </a:lnTo>
                  <a:lnTo>
                    <a:pt x="1038" y="896"/>
                  </a:lnTo>
                  <a:lnTo>
                    <a:pt x="1022" y="856"/>
                  </a:lnTo>
                  <a:lnTo>
                    <a:pt x="1016" y="816"/>
                  </a:lnTo>
                  <a:lnTo>
                    <a:pt x="1008" y="776"/>
                  </a:lnTo>
                  <a:lnTo>
                    <a:pt x="1008" y="736"/>
                  </a:lnTo>
                  <a:lnTo>
                    <a:pt x="1000" y="706"/>
                  </a:lnTo>
                  <a:lnTo>
                    <a:pt x="1000" y="674"/>
                  </a:lnTo>
                  <a:lnTo>
                    <a:pt x="1000" y="642"/>
                  </a:lnTo>
                  <a:lnTo>
                    <a:pt x="1008" y="610"/>
                  </a:lnTo>
                  <a:lnTo>
                    <a:pt x="1008" y="578"/>
                  </a:lnTo>
                  <a:lnTo>
                    <a:pt x="1008" y="554"/>
                  </a:lnTo>
                  <a:lnTo>
                    <a:pt x="1016" y="530"/>
                  </a:lnTo>
                  <a:lnTo>
                    <a:pt x="1016" y="522"/>
                  </a:lnTo>
                  <a:lnTo>
                    <a:pt x="1016" y="514"/>
                  </a:lnTo>
                  <a:lnTo>
                    <a:pt x="1022" y="506"/>
                  </a:lnTo>
                  <a:lnTo>
                    <a:pt x="1022" y="498"/>
                  </a:lnTo>
                  <a:lnTo>
                    <a:pt x="1022" y="492"/>
                  </a:lnTo>
                  <a:lnTo>
                    <a:pt x="1022" y="484"/>
                  </a:lnTo>
                  <a:lnTo>
                    <a:pt x="1030" y="476"/>
                  </a:lnTo>
                  <a:lnTo>
                    <a:pt x="1030" y="468"/>
                  </a:lnTo>
                  <a:lnTo>
                    <a:pt x="1030" y="460"/>
                  </a:lnTo>
                  <a:lnTo>
                    <a:pt x="1038" y="452"/>
                  </a:lnTo>
                  <a:lnTo>
                    <a:pt x="1038" y="444"/>
                  </a:lnTo>
                  <a:lnTo>
                    <a:pt x="1038" y="436"/>
                  </a:lnTo>
                  <a:lnTo>
                    <a:pt x="1046" y="428"/>
                  </a:lnTo>
                  <a:lnTo>
                    <a:pt x="1046" y="420"/>
                  </a:lnTo>
                  <a:lnTo>
                    <a:pt x="1054" y="412"/>
                  </a:lnTo>
                  <a:lnTo>
                    <a:pt x="1054" y="404"/>
                  </a:lnTo>
                  <a:lnTo>
                    <a:pt x="1062" y="404"/>
                  </a:lnTo>
                  <a:lnTo>
                    <a:pt x="1062" y="396"/>
                  </a:lnTo>
                  <a:lnTo>
                    <a:pt x="1078" y="364"/>
                  </a:lnTo>
                  <a:lnTo>
                    <a:pt x="1094" y="340"/>
                  </a:lnTo>
                  <a:lnTo>
                    <a:pt x="1118" y="308"/>
                  </a:lnTo>
                  <a:lnTo>
                    <a:pt x="1134" y="276"/>
                  </a:lnTo>
                  <a:lnTo>
                    <a:pt x="1158" y="254"/>
                  </a:lnTo>
                  <a:lnTo>
                    <a:pt x="1190" y="230"/>
                  </a:lnTo>
                  <a:lnTo>
                    <a:pt x="1214" y="198"/>
                  </a:lnTo>
                  <a:lnTo>
                    <a:pt x="1244" y="174"/>
                  </a:lnTo>
                  <a:lnTo>
                    <a:pt x="1276" y="158"/>
                  </a:lnTo>
                  <a:lnTo>
                    <a:pt x="1308" y="134"/>
                  </a:lnTo>
                  <a:lnTo>
                    <a:pt x="1340" y="110"/>
                  </a:lnTo>
                  <a:lnTo>
                    <a:pt x="1380" y="94"/>
                  </a:lnTo>
                  <a:lnTo>
                    <a:pt x="1412" y="78"/>
                  </a:lnTo>
                  <a:lnTo>
                    <a:pt x="1450" y="62"/>
                  </a:lnTo>
                  <a:lnTo>
                    <a:pt x="1498" y="56"/>
                  </a:lnTo>
                  <a:lnTo>
                    <a:pt x="1538" y="48"/>
                  </a:lnTo>
                  <a:lnTo>
                    <a:pt x="1546" y="48"/>
                  </a:lnTo>
                  <a:lnTo>
                    <a:pt x="1546" y="40"/>
                  </a:lnTo>
                  <a:lnTo>
                    <a:pt x="1554" y="40"/>
                  </a:lnTo>
                  <a:lnTo>
                    <a:pt x="1562" y="40"/>
                  </a:lnTo>
                  <a:lnTo>
                    <a:pt x="1570" y="40"/>
                  </a:lnTo>
                  <a:lnTo>
                    <a:pt x="1578" y="40"/>
                  </a:lnTo>
                  <a:lnTo>
                    <a:pt x="1586" y="40"/>
                  </a:lnTo>
                  <a:lnTo>
                    <a:pt x="1594" y="40"/>
                  </a:lnTo>
                  <a:lnTo>
                    <a:pt x="1602" y="40"/>
                  </a:lnTo>
                  <a:lnTo>
                    <a:pt x="1610" y="40"/>
                  </a:lnTo>
                  <a:lnTo>
                    <a:pt x="1618" y="40"/>
                  </a:lnTo>
                  <a:lnTo>
                    <a:pt x="1626" y="40"/>
                  </a:lnTo>
                  <a:lnTo>
                    <a:pt x="1634" y="40"/>
                  </a:lnTo>
                  <a:lnTo>
                    <a:pt x="1672" y="40"/>
                  </a:lnTo>
                  <a:lnTo>
                    <a:pt x="1720" y="48"/>
                  </a:lnTo>
                  <a:lnTo>
                    <a:pt x="1760" y="56"/>
                  </a:lnTo>
                  <a:lnTo>
                    <a:pt x="1800" y="70"/>
                  </a:lnTo>
                  <a:lnTo>
                    <a:pt x="1848" y="86"/>
                  </a:lnTo>
                  <a:lnTo>
                    <a:pt x="1886" y="102"/>
                  </a:lnTo>
                  <a:lnTo>
                    <a:pt x="1918" y="126"/>
                  </a:lnTo>
                  <a:lnTo>
                    <a:pt x="1958" y="150"/>
                  </a:lnTo>
                  <a:lnTo>
                    <a:pt x="1990" y="174"/>
                  </a:lnTo>
                  <a:lnTo>
                    <a:pt x="2022" y="198"/>
                  </a:lnTo>
                  <a:lnTo>
                    <a:pt x="2054" y="230"/>
                  </a:lnTo>
                  <a:lnTo>
                    <a:pt x="2078" y="262"/>
                  </a:lnTo>
                  <a:lnTo>
                    <a:pt x="2100" y="300"/>
                  </a:lnTo>
                  <a:lnTo>
                    <a:pt x="2116" y="332"/>
                  </a:lnTo>
                  <a:lnTo>
                    <a:pt x="2132" y="372"/>
                  </a:lnTo>
                  <a:lnTo>
                    <a:pt x="2140" y="412"/>
                  </a:lnTo>
                  <a:lnTo>
                    <a:pt x="2140" y="420"/>
                  </a:lnTo>
                  <a:lnTo>
                    <a:pt x="2148" y="428"/>
                  </a:lnTo>
                  <a:lnTo>
                    <a:pt x="2148" y="436"/>
                  </a:lnTo>
                  <a:lnTo>
                    <a:pt x="2148" y="444"/>
                  </a:lnTo>
                  <a:lnTo>
                    <a:pt x="2148" y="452"/>
                  </a:lnTo>
                  <a:lnTo>
                    <a:pt x="2148" y="460"/>
                  </a:lnTo>
                  <a:lnTo>
                    <a:pt x="2148" y="468"/>
                  </a:lnTo>
                  <a:lnTo>
                    <a:pt x="2148" y="484"/>
                  </a:lnTo>
                  <a:lnTo>
                    <a:pt x="2148" y="492"/>
                  </a:lnTo>
                  <a:lnTo>
                    <a:pt x="2148" y="498"/>
                  </a:lnTo>
                  <a:lnTo>
                    <a:pt x="2148" y="506"/>
                  </a:lnTo>
                  <a:lnTo>
                    <a:pt x="2148" y="514"/>
                  </a:lnTo>
                  <a:lnTo>
                    <a:pt x="2148" y="522"/>
                  </a:lnTo>
                  <a:lnTo>
                    <a:pt x="2148" y="530"/>
                  </a:lnTo>
                  <a:lnTo>
                    <a:pt x="2148" y="546"/>
                  </a:lnTo>
                  <a:lnTo>
                    <a:pt x="2148" y="554"/>
                  </a:lnTo>
                  <a:lnTo>
                    <a:pt x="2078" y="522"/>
                  </a:lnTo>
                  <a:lnTo>
                    <a:pt x="1990" y="554"/>
                  </a:lnTo>
                  <a:lnTo>
                    <a:pt x="2078" y="586"/>
                  </a:lnTo>
                  <a:lnTo>
                    <a:pt x="2148" y="554"/>
                  </a:lnTo>
                  <a:lnTo>
                    <a:pt x="2148" y="570"/>
                  </a:lnTo>
                  <a:lnTo>
                    <a:pt x="2148" y="586"/>
                  </a:lnTo>
                  <a:lnTo>
                    <a:pt x="2140" y="602"/>
                  </a:lnTo>
                  <a:lnTo>
                    <a:pt x="2140" y="610"/>
                  </a:lnTo>
                  <a:lnTo>
                    <a:pt x="2140" y="626"/>
                  </a:lnTo>
                  <a:lnTo>
                    <a:pt x="2132" y="642"/>
                  </a:lnTo>
                  <a:lnTo>
                    <a:pt x="2132" y="658"/>
                  </a:lnTo>
                  <a:lnTo>
                    <a:pt x="2124" y="666"/>
                  </a:lnTo>
                  <a:lnTo>
                    <a:pt x="2124" y="682"/>
                  </a:lnTo>
                  <a:lnTo>
                    <a:pt x="2116" y="698"/>
                  </a:lnTo>
                  <a:lnTo>
                    <a:pt x="2108" y="706"/>
                  </a:lnTo>
                  <a:lnTo>
                    <a:pt x="2108" y="720"/>
                  </a:lnTo>
                  <a:lnTo>
                    <a:pt x="2100" y="728"/>
                  </a:lnTo>
                  <a:lnTo>
                    <a:pt x="2094" y="744"/>
                  </a:lnTo>
                  <a:lnTo>
                    <a:pt x="2086" y="752"/>
                  </a:lnTo>
                  <a:lnTo>
                    <a:pt x="2078" y="768"/>
                  </a:lnTo>
                  <a:lnTo>
                    <a:pt x="2070" y="784"/>
                  </a:lnTo>
                  <a:lnTo>
                    <a:pt x="2054" y="800"/>
                  </a:lnTo>
                  <a:lnTo>
                    <a:pt x="2038" y="816"/>
                  </a:lnTo>
                  <a:lnTo>
                    <a:pt x="2022" y="832"/>
                  </a:lnTo>
                  <a:lnTo>
                    <a:pt x="2006" y="848"/>
                  </a:lnTo>
                  <a:lnTo>
                    <a:pt x="1990" y="864"/>
                  </a:lnTo>
                  <a:lnTo>
                    <a:pt x="1974" y="880"/>
                  </a:lnTo>
                  <a:lnTo>
                    <a:pt x="1958" y="888"/>
                  </a:lnTo>
                  <a:lnTo>
                    <a:pt x="1942" y="904"/>
                  </a:lnTo>
                  <a:lnTo>
                    <a:pt x="1926" y="912"/>
                  </a:lnTo>
                  <a:lnTo>
                    <a:pt x="1902" y="920"/>
                  </a:lnTo>
                  <a:lnTo>
                    <a:pt x="1886" y="926"/>
                  </a:lnTo>
                  <a:lnTo>
                    <a:pt x="1872" y="934"/>
                  </a:lnTo>
                  <a:lnTo>
                    <a:pt x="1848" y="942"/>
                  </a:lnTo>
                  <a:lnTo>
                    <a:pt x="1824" y="950"/>
                  </a:lnTo>
                  <a:lnTo>
                    <a:pt x="1808" y="958"/>
                  </a:lnTo>
                  <a:lnTo>
                    <a:pt x="1784" y="958"/>
                  </a:lnTo>
                  <a:lnTo>
                    <a:pt x="1768" y="958"/>
                  </a:lnTo>
                  <a:lnTo>
                    <a:pt x="1744" y="966"/>
                  </a:lnTo>
                  <a:lnTo>
                    <a:pt x="1728" y="966"/>
                  </a:lnTo>
                  <a:lnTo>
                    <a:pt x="1704" y="958"/>
                  </a:lnTo>
                  <a:lnTo>
                    <a:pt x="1688" y="958"/>
                  </a:lnTo>
                  <a:lnTo>
                    <a:pt x="1666" y="958"/>
                  </a:lnTo>
                  <a:lnTo>
                    <a:pt x="1642" y="950"/>
                  </a:lnTo>
                  <a:lnTo>
                    <a:pt x="1626" y="942"/>
                  </a:lnTo>
                  <a:lnTo>
                    <a:pt x="1602" y="942"/>
                  </a:lnTo>
                  <a:lnTo>
                    <a:pt x="1586" y="934"/>
                  </a:lnTo>
                  <a:lnTo>
                    <a:pt x="1562" y="926"/>
                  </a:lnTo>
                  <a:lnTo>
                    <a:pt x="1546" y="912"/>
                  </a:lnTo>
                  <a:lnTo>
                    <a:pt x="1522" y="904"/>
                  </a:lnTo>
                  <a:lnTo>
                    <a:pt x="1506" y="896"/>
                  </a:lnTo>
                  <a:lnTo>
                    <a:pt x="1482" y="880"/>
                  </a:lnTo>
                  <a:lnTo>
                    <a:pt x="1466" y="864"/>
                  </a:lnTo>
                  <a:lnTo>
                    <a:pt x="1450" y="856"/>
                  </a:lnTo>
                  <a:lnTo>
                    <a:pt x="1436" y="840"/>
                  </a:lnTo>
                  <a:lnTo>
                    <a:pt x="1428" y="824"/>
                  </a:lnTo>
                  <a:lnTo>
                    <a:pt x="1412" y="816"/>
                  </a:lnTo>
                  <a:lnTo>
                    <a:pt x="1396" y="800"/>
                  </a:lnTo>
                  <a:lnTo>
                    <a:pt x="1388" y="784"/>
                  </a:lnTo>
                  <a:lnTo>
                    <a:pt x="1372" y="768"/>
                  </a:lnTo>
                  <a:lnTo>
                    <a:pt x="1364" y="752"/>
                  </a:lnTo>
                  <a:lnTo>
                    <a:pt x="1356" y="736"/>
                  </a:lnTo>
                  <a:lnTo>
                    <a:pt x="1348" y="720"/>
                  </a:lnTo>
                  <a:lnTo>
                    <a:pt x="1340" y="706"/>
                  </a:lnTo>
                  <a:lnTo>
                    <a:pt x="1332" y="690"/>
                  </a:lnTo>
                  <a:lnTo>
                    <a:pt x="1332" y="674"/>
                  </a:lnTo>
                  <a:lnTo>
                    <a:pt x="1324" y="658"/>
                  </a:lnTo>
                  <a:lnTo>
                    <a:pt x="1324" y="642"/>
                  </a:lnTo>
                  <a:lnTo>
                    <a:pt x="1316" y="626"/>
                  </a:lnTo>
                  <a:lnTo>
                    <a:pt x="1316" y="610"/>
                  </a:lnTo>
                  <a:lnTo>
                    <a:pt x="1316" y="594"/>
                  </a:lnTo>
                  <a:lnTo>
                    <a:pt x="1324" y="586"/>
                  </a:lnTo>
                  <a:lnTo>
                    <a:pt x="1324" y="570"/>
                  </a:lnTo>
                  <a:lnTo>
                    <a:pt x="1324" y="554"/>
                  </a:lnTo>
                  <a:lnTo>
                    <a:pt x="1332" y="538"/>
                  </a:lnTo>
                  <a:lnTo>
                    <a:pt x="1332" y="522"/>
                  </a:lnTo>
                  <a:lnTo>
                    <a:pt x="1340" y="506"/>
                  </a:lnTo>
                  <a:lnTo>
                    <a:pt x="1348" y="492"/>
                  </a:lnTo>
                  <a:lnTo>
                    <a:pt x="1348" y="476"/>
                  </a:lnTo>
                  <a:lnTo>
                    <a:pt x="1356" y="460"/>
                  </a:lnTo>
                  <a:lnTo>
                    <a:pt x="1364" y="444"/>
                  </a:lnTo>
                  <a:lnTo>
                    <a:pt x="1372" y="436"/>
                  </a:lnTo>
                  <a:lnTo>
                    <a:pt x="1388" y="420"/>
                  </a:lnTo>
                  <a:lnTo>
                    <a:pt x="1396" y="404"/>
                  </a:lnTo>
                  <a:lnTo>
                    <a:pt x="1404" y="396"/>
                  </a:lnTo>
                  <a:lnTo>
                    <a:pt x="1420" y="380"/>
                  </a:lnTo>
                  <a:lnTo>
                    <a:pt x="1428" y="372"/>
                  </a:lnTo>
                  <a:lnTo>
                    <a:pt x="1436" y="364"/>
                  </a:lnTo>
                  <a:lnTo>
                    <a:pt x="1450" y="356"/>
                  </a:lnTo>
                  <a:lnTo>
                    <a:pt x="1458" y="348"/>
                  </a:lnTo>
                  <a:lnTo>
                    <a:pt x="1474" y="340"/>
                  </a:lnTo>
                  <a:lnTo>
                    <a:pt x="1490" y="332"/>
                  </a:lnTo>
                  <a:lnTo>
                    <a:pt x="1498" y="324"/>
                  </a:lnTo>
                  <a:lnTo>
                    <a:pt x="1514" y="316"/>
                  </a:lnTo>
                  <a:lnTo>
                    <a:pt x="1530" y="308"/>
                  </a:lnTo>
                  <a:lnTo>
                    <a:pt x="1538" y="308"/>
                  </a:lnTo>
                  <a:lnTo>
                    <a:pt x="1554" y="300"/>
                  </a:lnTo>
                  <a:lnTo>
                    <a:pt x="1570" y="300"/>
                  </a:lnTo>
                  <a:lnTo>
                    <a:pt x="1586" y="300"/>
                  </a:lnTo>
                  <a:lnTo>
                    <a:pt x="1594" y="300"/>
                  </a:lnTo>
                  <a:lnTo>
                    <a:pt x="1626" y="300"/>
                  </a:lnTo>
                  <a:lnTo>
                    <a:pt x="1650" y="300"/>
                  </a:lnTo>
                  <a:lnTo>
                    <a:pt x="1680" y="308"/>
                  </a:lnTo>
                  <a:lnTo>
                    <a:pt x="1704" y="316"/>
                  </a:lnTo>
                  <a:lnTo>
                    <a:pt x="1728" y="332"/>
                  </a:lnTo>
                  <a:lnTo>
                    <a:pt x="1744" y="340"/>
                  </a:lnTo>
                  <a:lnTo>
                    <a:pt x="1768" y="356"/>
                  </a:lnTo>
                  <a:lnTo>
                    <a:pt x="1784" y="372"/>
                  </a:lnTo>
                  <a:lnTo>
                    <a:pt x="1800" y="396"/>
                  </a:lnTo>
                  <a:lnTo>
                    <a:pt x="1808" y="412"/>
                  </a:lnTo>
                  <a:lnTo>
                    <a:pt x="1824" y="428"/>
                  </a:lnTo>
                  <a:lnTo>
                    <a:pt x="1832" y="452"/>
                  </a:lnTo>
                  <a:lnTo>
                    <a:pt x="1840" y="468"/>
                  </a:lnTo>
                  <a:lnTo>
                    <a:pt x="1848" y="484"/>
                  </a:lnTo>
                  <a:lnTo>
                    <a:pt x="1856" y="498"/>
                  </a:lnTo>
                  <a:lnTo>
                    <a:pt x="1856" y="514"/>
                  </a:lnTo>
                  <a:lnTo>
                    <a:pt x="1856" y="530"/>
                  </a:lnTo>
                  <a:lnTo>
                    <a:pt x="1856" y="538"/>
                  </a:lnTo>
                  <a:lnTo>
                    <a:pt x="1848" y="554"/>
                  </a:lnTo>
                  <a:lnTo>
                    <a:pt x="1848" y="570"/>
                  </a:lnTo>
                  <a:lnTo>
                    <a:pt x="1840" y="586"/>
                  </a:lnTo>
                  <a:lnTo>
                    <a:pt x="1832" y="602"/>
                  </a:lnTo>
                  <a:lnTo>
                    <a:pt x="1824" y="618"/>
                  </a:lnTo>
                  <a:lnTo>
                    <a:pt x="1816" y="634"/>
                  </a:lnTo>
                  <a:lnTo>
                    <a:pt x="1808" y="642"/>
                  </a:lnTo>
                  <a:lnTo>
                    <a:pt x="1792" y="658"/>
                  </a:lnTo>
                  <a:lnTo>
                    <a:pt x="1784" y="674"/>
                  </a:lnTo>
                  <a:lnTo>
                    <a:pt x="1768" y="682"/>
                  </a:lnTo>
                  <a:lnTo>
                    <a:pt x="1752" y="690"/>
                  </a:lnTo>
                  <a:lnTo>
                    <a:pt x="1736" y="698"/>
                  </a:lnTo>
                  <a:lnTo>
                    <a:pt x="1712" y="706"/>
                  </a:lnTo>
                  <a:lnTo>
                    <a:pt x="1696" y="712"/>
                  </a:lnTo>
                  <a:lnTo>
                    <a:pt x="1688" y="712"/>
                  </a:lnTo>
                  <a:lnTo>
                    <a:pt x="1672" y="712"/>
                  </a:lnTo>
                  <a:lnTo>
                    <a:pt x="1666" y="712"/>
                  </a:lnTo>
                  <a:lnTo>
                    <a:pt x="1658" y="712"/>
                  </a:lnTo>
                  <a:lnTo>
                    <a:pt x="1650" y="712"/>
                  </a:lnTo>
                  <a:lnTo>
                    <a:pt x="1634" y="712"/>
                  </a:lnTo>
                  <a:lnTo>
                    <a:pt x="1626" y="712"/>
                  </a:lnTo>
                  <a:lnTo>
                    <a:pt x="1618" y="706"/>
                  </a:lnTo>
                  <a:lnTo>
                    <a:pt x="1610" y="706"/>
                  </a:lnTo>
                  <a:lnTo>
                    <a:pt x="1594" y="698"/>
                  </a:lnTo>
                  <a:lnTo>
                    <a:pt x="1586" y="698"/>
                  </a:lnTo>
                  <a:lnTo>
                    <a:pt x="1578" y="690"/>
                  </a:lnTo>
                  <a:lnTo>
                    <a:pt x="1570" y="682"/>
                  </a:lnTo>
                  <a:lnTo>
                    <a:pt x="1562" y="682"/>
                  </a:lnTo>
                  <a:lnTo>
                    <a:pt x="1554" y="674"/>
                  </a:lnTo>
                  <a:lnTo>
                    <a:pt x="1546" y="666"/>
                  </a:lnTo>
                  <a:lnTo>
                    <a:pt x="1538" y="658"/>
                  </a:lnTo>
                  <a:lnTo>
                    <a:pt x="1538" y="650"/>
                  </a:lnTo>
                  <a:lnTo>
                    <a:pt x="1530" y="650"/>
                  </a:lnTo>
                  <a:lnTo>
                    <a:pt x="1530" y="642"/>
                  </a:lnTo>
                  <a:lnTo>
                    <a:pt x="1522" y="634"/>
                  </a:lnTo>
                  <a:lnTo>
                    <a:pt x="1514" y="626"/>
                  </a:lnTo>
                  <a:lnTo>
                    <a:pt x="1514" y="618"/>
                  </a:lnTo>
                  <a:lnTo>
                    <a:pt x="1514" y="610"/>
                  </a:lnTo>
                  <a:lnTo>
                    <a:pt x="1506" y="602"/>
                  </a:lnTo>
                  <a:lnTo>
                    <a:pt x="1506" y="594"/>
                  </a:lnTo>
                  <a:lnTo>
                    <a:pt x="1506" y="586"/>
                  </a:lnTo>
                  <a:lnTo>
                    <a:pt x="1506" y="578"/>
                  </a:lnTo>
                  <a:lnTo>
                    <a:pt x="1514" y="570"/>
                  </a:lnTo>
                  <a:lnTo>
                    <a:pt x="1514" y="562"/>
                  </a:lnTo>
                  <a:lnTo>
                    <a:pt x="1514" y="554"/>
                  </a:lnTo>
                  <a:lnTo>
                    <a:pt x="1514" y="546"/>
                  </a:lnTo>
                  <a:lnTo>
                    <a:pt x="1522" y="546"/>
                  </a:lnTo>
                  <a:lnTo>
                    <a:pt x="1522" y="538"/>
                  </a:lnTo>
                  <a:lnTo>
                    <a:pt x="1530" y="530"/>
                  </a:lnTo>
                  <a:lnTo>
                    <a:pt x="1530" y="522"/>
                  </a:lnTo>
                  <a:lnTo>
                    <a:pt x="1530" y="514"/>
                  </a:lnTo>
                  <a:lnTo>
                    <a:pt x="1538" y="514"/>
                  </a:lnTo>
                  <a:lnTo>
                    <a:pt x="1546" y="506"/>
                  </a:lnTo>
                  <a:lnTo>
                    <a:pt x="1546" y="498"/>
                  </a:lnTo>
                  <a:lnTo>
                    <a:pt x="1554" y="498"/>
                  </a:lnTo>
                  <a:lnTo>
                    <a:pt x="1554" y="492"/>
                  </a:lnTo>
                  <a:lnTo>
                    <a:pt x="1562" y="484"/>
                  </a:lnTo>
                  <a:lnTo>
                    <a:pt x="1570" y="484"/>
                  </a:lnTo>
                  <a:lnTo>
                    <a:pt x="1578" y="476"/>
                  </a:lnTo>
                  <a:lnTo>
                    <a:pt x="1586" y="476"/>
                  </a:lnTo>
                  <a:lnTo>
                    <a:pt x="1594" y="476"/>
                  </a:lnTo>
                  <a:lnTo>
                    <a:pt x="1594" y="468"/>
                  </a:lnTo>
                  <a:lnTo>
                    <a:pt x="1602" y="468"/>
                  </a:lnTo>
                  <a:lnTo>
                    <a:pt x="1610" y="468"/>
                  </a:lnTo>
                  <a:lnTo>
                    <a:pt x="1618" y="468"/>
                  </a:lnTo>
                  <a:lnTo>
                    <a:pt x="1626" y="468"/>
                  </a:lnTo>
                  <a:lnTo>
                    <a:pt x="1634" y="476"/>
                  </a:lnTo>
                  <a:lnTo>
                    <a:pt x="1642" y="476"/>
                  </a:lnTo>
                  <a:lnTo>
                    <a:pt x="1650" y="484"/>
                  </a:lnTo>
                  <a:lnTo>
                    <a:pt x="1658" y="484"/>
                  </a:lnTo>
                  <a:lnTo>
                    <a:pt x="1658" y="492"/>
                  </a:lnTo>
                  <a:lnTo>
                    <a:pt x="1666" y="498"/>
                  </a:lnTo>
                  <a:lnTo>
                    <a:pt x="1666" y="506"/>
                  </a:lnTo>
                  <a:lnTo>
                    <a:pt x="1666" y="514"/>
                  </a:lnTo>
                  <a:lnTo>
                    <a:pt x="1666" y="522"/>
                  </a:lnTo>
                  <a:lnTo>
                    <a:pt x="1666" y="530"/>
                  </a:lnTo>
                  <a:lnTo>
                    <a:pt x="1704" y="530"/>
                  </a:lnTo>
                  <a:lnTo>
                    <a:pt x="1704" y="522"/>
                  </a:lnTo>
                  <a:lnTo>
                    <a:pt x="1704" y="514"/>
                  </a:lnTo>
                  <a:lnTo>
                    <a:pt x="1704" y="506"/>
                  </a:lnTo>
                  <a:lnTo>
                    <a:pt x="1696" y="498"/>
                  </a:lnTo>
                  <a:lnTo>
                    <a:pt x="1696" y="492"/>
                  </a:lnTo>
                  <a:lnTo>
                    <a:pt x="1696" y="484"/>
                  </a:lnTo>
                  <a:lnTo>
                    <a:pt x="1688" y="476"/>
                  </a:lnTo>
                  <a:lnTo>
                    <a:pt x="1688" y="468"/>
                  </a:lnTo>
                  <a:lnTo>
                    <a:pt x="1680" y="460"/>
                  </a:lnTo>
                  <a:lnTo>
                    <a:pt x="1672" y="452"/>
                  </a:lnTo>
                  <a:lnTo>
                    <a:pt x="1666" y="452"/>
                  </a:lnTo>
                  <a:lnTo>
                    <a:pt x="1658" y="444"/>
                  </a:lnTo>
                  <a:lnTo>
                    <a:pt x="1650" y="444"/>
                  </a:lnTo>
                  <a:lnTo>
                    <a:pt x="1642" y="436"/>
                  </a:lnTo>
                  <a:lnTo>
                    <a:pt x="1634" y="436"/>
                  </a:lnTo>
                  <a:lnTo>
                    <a:pt x="1626" y="436"/>
                  </a:lnTo>
                  <a:lnTo>
                    <a:pt x="1618" y="436"/>
                  </a:lnTo>
                  <a:lnTo>
                    <a:pt x="1610" y="436"/>
                  </a:lnTo>
                  <a:lnTo>
                    <a:pt x="1602" y="436"/>
                  </a:lnTo>
                  <a:lnTo>
                    <a:pt x="1594" y="436"/>
                  </a:lnTo>
                  <a:lnTo>
                    <a:pt x="1586" y="436"/>
                  </a:lnTo>
                  <a:lnTo>
                    <a:pt x="1578" y="436"/>
                  </a:lnTo>
                  <a:lnTo>
                    <a:pt x="1570" y="444"/>
                  </a:lnTo>
                  <a:lnTo>
                    <a:pt x="1562" y="444"/>
                  </a:lnTo>
                  <a:lnTo>
                    <a:pt x="1554" y="452"/>
                  </a:lnTo>
                  <a:lnTo>
                    <a:pt x="1546" y="452"/>
                  </a:lnTo>
                  <a:lnTo>
                    <a:pt x="1546" y="460"/>
                  </a:lnTo>
                  <a:lnTo>
                    <a:pt x="1538" y="460"/>
                  </a:lnTo>
                  <a:lnTo>
                    <a:pt x="1530" y="468"/>
                  </a:lnTo>
                  <a:lnTo>
                    <a:pt x="1522" y="476"/>
                  </a:lnTo>
                  <a:lnTo>
                    <a:pt x="1514" y="484"/>
                  </a:lnTo>
                  <a:lnTo>
                    <a:pt x="1506" y="492"/>
                  </a:lnTo>
                  <a:lnTo>
                    <a:pt x="1506" y="498"/>
                  </a:lnTo>
                  <a:lnTo>
                    <a:pt x="1498" y="506"/>
                  </a:lnTo>
                  <a:lnTo>
                    <a:pt x="1490" y="506"/>
                  </a:lnTo>
                  <a:lnTo>
                    <a:pt x="1490" y="522"/>
                  </a:lnTo>
                  <a:lnTo>
                    <a:pt x="1482" y="530"/>
                  </a:lnTo>
                  <a:lnTo>
                    <a:pt x="1482" y="538"/>
                  </a:lnTo>
                  <a:lnTo>
                    <a:pt x="1474" y="546"/>
                  </a:lnTo>
                  <a:lnTo>
                    <a:pt x="1474" y="554"/>
                  </a:lnTo>
                  <a:lnTo>
                    <a:pt x="1474" y="562"/>
                  </a:lnTo>
                  <a:lnTo>
                    <a:pt x="1474" y="570"/>
                  </a:lnTo>
                  <a:lnTo>
                    <a:pt x="1466" y="578"/>
                  </a:lnTo>
                  <a:lnTo>
                    <a:pt x="1466" y="586"/>
                  </a:lnTo>
                  <a:lnTo>
                    <a:pt x="1466" y="594"/>
                  </a:lnTo>
                  <a:lnTo>
                    <a:pt x="1466" y="602"/>
                  </a:lnTo>
                  <a:lnTo>
                    <a:pt x="1474" y="610"/>
                  </a:lnTo>
                  <a:lnTo>
                    <a:pt x="1474" y="618"/>
                  </a:lnTo>
                  <a:lnTo>
                    <a:pt x="1474" y="626"/>
                  </a:lnTo>
                  <a:lnTo>
                    <a:pt x="1482" y="634"/>
                  </a:lnTo>
                  <a:lnTo>
                    <a:pt x="1482" y="642"/>
                  </a:lnTo>
                  <a:lnTo>
                    <a:pt x="1482" y="650"/>
                  </a:lnTo>
                  <a:lnTo>
                    <a:pt x="1490" y="658"/>
                  </a:lnTo>
                  <a:lnTo>
                    <a:pt x="1498" y="666"/>
                  </a:lnTo>
                  <a:lnTo>
                    <a:pt x="1506" y="674"/>
                  </a:lnTo>
                  <a:lnTo>
                    <a:pt x="1514" y="682"/>
                  </a:lnTo>
                  <a:lnTo>
                    <a:pt x="1522" y="690"/>
                  </a:lnTo>
                  <a:lnTo>
                    <a:pt x="1530" y="698"/>
                  </a:lnTo>
                  <a:lnTo>
                    <a:pt x="1538" y="706"/>
                  </a:lnTo>
                  <a:lnTo>
                    <a:pt x="1546" y="712"/>
                  </a:lnTo>
                  <a:lnTo>
                    <a:pt x="1562" y="720"/>
                  </a:lnTo>
                  <a:lnTo>
                    <a:pt x="1570" y="728"/>
                  </a:lnTo>
                  <a:lnTo>
                    <a:pt x="1586" y="736"/>
                  </a:lnTo>
                  <a:lnTo>
                    <a:pt x="1594" y="736"/>
                  </a:lnTo>
                  <a:lnTo>
                    <a:pt x="1610" y="744"/>
                  </a:lnTo>
                  <a:lnTo>
                    <a:pt x="1618" y="744"/>
                  </a:lnTo>
                  <a:lnTo>
                    <a:pt x="1634" y="744"/>
                  </a:lnTo>
                  <a:lnTo>
                    <a:pt x="1642" y="752"/>
                  </a:lnTo>
                  <a:lnTo>
                    <a:pt x="1658" y="752"/>
                  </a:lnTo>
                  <a:lnTo>
                    <a:pt x="1666" y="752"/>
                  </a:lnTo>
                  <a:lnTo>
                    <a:pt x="1680" y="752"/>
                  </a:lnTo>
                  <a:lnTo>
                    <a:pt x="1688" y="752"/>
                  </a:lnTo>
                  <a:lnTo>
                    <a:pt x="1704" y="752"/>
                  </a:lnTo>
                  <a:lnTo>
                    <a:pt x="1720" y="744"/>
                  </a:lnTo>
                  <a:lnTo>
                    <a:pt x="1744" y="736"/>
                  </a:lnTo>
                  <a:lnTo>
                    <a:pt x="1768" y="728"/>
                  </a:lnTo>
                  <a:lnTo>
                    <a:pt x="1784" y="712"/>
                  </a:lnTo>
                  <a:lnTo>
                    <a:pt x="1800" y="706"/>
                  </a:lnTo>
                  <a:lnTo>
                    <a:pt x="1816" y="690"/>
                  </a:lnTo>
                  <a:lnTo>
                    <a:pt x="1832" y="674"/>
                  </a:lnTo>
                  <a:lnTo>
                    <a:pt x="1848" y="658"/>
                  </a:lnTo>
                  <a:lnTo>
                    <a:pt x="1856" y="642"/>
                  </a:lnTo>
                  <a:lnTo>
                    <a:pt x="1872" y="626"/>
                  </a:lnTo>
                  <a:lnTo>
                    <a:pt x="1880" y="602"/>
                  </a:lnTo>
                  <a:lnTo>
                    <a:pt x="1880" y="586"/>
                  </a:lnTo>
                  <a:lnTo>
                    <a:pt x="1886" y="570"/>
                  </a:lnTo>
                  <a:lnTo>
                    <a:pt x="1894" y="546"/>
                  </a:lnTo>
                  <a:lnTo>
                    <a:pt x="1894" y="530"/>
                  </a:lnTo>
                  <a:lnTo>
                    <a:pt x="1894" y="514"/>
                  </a:lnTo>
                  <a:lnTo>
                    <a:pt x="1886" y="498"/>
                  </a:lnTo>
                  <a:lnTo>
                    <a:pt x="1886" y="476"/>
                  </a:lnTo>
                  <a:lnTo>
                    <a:pt x="1880" y="452"/>
                  </a:lnTo>
                  <a:lnTo>
                    <a:pt x="1872" y="436"/>
                  </a:lnTo>
                  <a:lnTo>
                    <a:pt x="1856" y="412"/>
                  </a:lnTo>
                  <a:lnTo>
                    <a:pt x="1848" y="388"/>
                  </a:lnTo>
                  <a:lnTo>
                    <a:pt x="1832" y="372"/>
                  </a:lnTo>
                  <a:lnTo>
                    <a:pt x="1808" y="348"/>
                  </a:lnTo>
                  <a:lnTo>
                    <a:pt x="1792" y="332"/>
                  </a:lnTo>
                  <a:lnTo>
                    <a:pt x="1768" y="316"/>
                  </a:lnTo>
                  <a:lnTo>
                    <a:pt x="1744" y="300"/>
                  </a:lnTo>
                  <a:lnTo>
                    <a:pt x="1720" y="284"/>
                  </a:lnTo>
                  <a:lnTo>
                    <a:pt x="1688" y="276"/>
                  </a:lnTo>
                  <a:lnTo>
                    <a:pt x="1658" y="270"/>
                  </a:lnTo>
                  <a:lnTo>
                    <a:pt x="1626" y="262"/>
                  </a:lnTo>
                  <a:lnTo>
                    <a:pt x="1594" y="262"/>
                  </a:lnTo>
                  <a:lnTo>
                    <a:pt x="1578" y="262"/>
                  </a:lnTo>
                  <a:lnTo>
                    <a:pt x="1562" y="262"/>
                  </a:lnTo>
                  <a:lnTo>
                    <a:pt x="1546" y="270"/>
                  </a:lnTo>
                  <a:lnTo>
                    <a:pt x="1530" y="270"/>
                  </a:lnTo>
                  <a:lnTo>
                    <a:pt x="1514" y="276"/>
                  </a:lnTo>
                  <a:lnTo>
                    <a:pt x="1498" y="284"/>
                  </a:lnTo>
                  <a:lnTo>
                    <a:pt x="1482" y="292"/>
                  </a:lnTo>
                  <a:lnTo>
                    <a:pt x="1474" y="300"/>
                  </a:lnTo>
                  <a:lnTo>
                    <a:pt x="1458" y="308"/>
                  </a:lnTo>
                  <a:lnTo>
                    <a:pt x="1444" y="316"/>
                  </a:lnTo>
                  <a:lnTo>
                    <a:pt x="1428" y="324"/>
                  </a:lnTo>
                  <a:lnTo>
                    <a:pt x="1420" y="332"/>
                  </a:lnTo>
                  <a:lnTo>
                    <a:pt x="1404" y="348"/>
                  </a:lnTo>
                  <a:lnTo>
                    <a:pt x="1388" y="356"/>
                  </a:lnTo>
                  <a:lnTo>
                    <a:pt x="1380" y="372"/>
                  </a:lnTo>
                  <a:lnTo>
                    <a:pt x="1364" y="380"/>
                  </a:lnTo>
                  <a:lnTo>
                    <a:pt x="1356" y="396"/>
                  </a:lnTo>
                  <a:lnTo>
                    <a:pt x="1348" y="412"/>
                  </a:lnTo>
                  <a:lnTo>
                    <a:pt x="1332" y="428"/>
                  </a:lnTo>
                  <a:lnTo>
                    <a:pt x="1324" y="444"/>
                  </a:lnTo>
                  <a:lnTo>
                    <a:pt x="1316" y="460"/>
                  </a:lnTo>
                  <a:lnTo>
                    <a:pt x="1308" y="476"/>
                  </a:lnTo>
                  <a:lnTo>
                    <a:pt x="1300" y="492"/>
                  </a:lnTo>
                  <a:lnTo>
                    <a:pt x="1300" y="506"/>
                  </a:lnTo>
                  <a:lnTo>
                    <a:pt x="1292" y="530"/>
                  </a:lnTo>
                  <a:lnTo>
                    <a:pt x="1292" y="546"/>
                  </a:lnTo>
                  <a:lnTo>
                    <a:pt x="1284" y="562"/>
                  </a:lnTo>
                  <a:lnTo>
                    <a:pt x="1284" y="578"/>
                  </a:lnTo>
                  <a:lnTo>
                    <a:pt x="1284" y="594"/>
                  </a:lnTo>
                  <a:lnTo>
                    <a:pt x="1284" y="618"/>
                  </a:lnTo>
                  <a:lnTo>
                    <a:pt x="1284" y="634"/>
                  </a:lnTo>
                  <a:lnTo>
                    <a:pt x="1284" y="650"/>
                  </a:lnTo>
                  <a:lnTo>
                    <a:pt x="1292" y="666"/>
                  </a:lnTo>
                  <a:lnTo>
                    <a:pt x="1292" y="682"/>
                  </a:lnTo>
                  <a:lnTo>
                    <a:pt x="1300" y="706"/>
                  </a:lnTo>
                  <a:lnTo>
                    <a:pt x="1308" y="720"/>
                  </a:lnTo>
                  <a:lnTo>
                    <a:pt x="1316" y="736"/>
                  </a:lnTo>
                  <a:lnTo>
                    <a:pt x="1324" y="752"/>
                  </a:lnTo>
                  <a:lnTo>
                    <a:pt x="1332" y="768"/>
                  </a:lnTo>
                  <a:lnTo>
                    <a:pt x="1340" y="792"/>
                  </a:lnTo>
                  <a:lnTo>
                    <a:pt x="1356" y="808"/>
                  </a:lnTo>
                  <a:lnTo>
                    <a:pt x="1372" y="824"/>
                  </a:lnTo>
                  <a:lnTo>
                    <a:pt x="1380" y="840"/>
                  </a:lnTo>
                  <a:lnTo>
                    <a:pt x="1396" y="856"/>
                  </a:lnTo>
                  <a:lnTo>
                    <a:pt x="1412" y="872"/>
                  </a:lnTo>
                  <a:lnTo>
                    <a:pt x="1428" y="888"/>
                  </a:lnTo>
                  <a:lnTo>
                    <a:pt x="1444" y="896"/>
                  </a:lnTo>
                  <a:lnTo>
                    <a:pt x="1466" y="912"/>
                  </a:lnTo>
                  <a:lnTo>
                    <a:pt x="1482" y="926"/>
                  </a:lnTo>
                  <a:lnTo>
                    <a:pt x="1506" y="934"/>
                  </a:lnTo>
                  <a:lnTo>
                    <a:pt x="1530" y="950"/>
                  </a:lnTo>
                  <a:lnTo>
                    <a:pt x="1546" y="958"/>
                  </a:lnTo>
                  <a:lnTo>
                    <a:pt x="1570" y="966"/>
                  </a:lnTo>
                  <a:lnTo>
                    <a:pt x="1594" y="974"/>
                  </a:lnTo>
                  <a:lnTo>
                    <a:pt x="1618" y="982"/>
                  </a:lnTo>
                  <a:lnTo>
                    <a:pt x="1634" y="990"/>
                  </a:lnTo>
                  <a:lnTo>
                    <a:pt x="1658" y="990"/>
                  </a:lnTo>
                  <a:lnTo>
                    <a:pt x="1680" y="998"/>
                  </a:lnTo>
                  <a:lnTo>
                    <a:pt x="1704" y="998"/>
                  </a:lnTo>
                  <a:lnTo>
                    <a:pt x="1728" y="998"/>
                  </a:lnTo>
                  <a:lnTo>
                    <a:pt x="1752" y="998"/>
                  </a:lnTo>
                  <a:lnTo>
                    <a:pt x="1768" y="998"/>
                  </a:lnTo>
                  <a:lnTo>
                    <a:pt x="1792" y="998"/>
                  </a:lnTo>
                  <a:lnTo>
                    <a:pt x="1816" y="990"/>
                  </a:lnTo>
                  <a:lnTo>
                    <a:pt x="1840" y="982"/>
                  </a:lnTo>
                  <a:lnTo>
                    <a:pt x="1856" y="982"/>
                  </a:lnTo>
                  <a:lnTo>
                    <a:pt x="1880" y="974"/>
                  </a:lnTo>
                  <a:lnTo>
                    <a:pt x="1902" y="966"/>
                  </a:lnTo>
                  <a:lnTo>
                    <a:pt x="1918" y="950"/>
                  </a:lnTo>
                  <a:lnTo>
                    <a:pt x="1942" y="942"/>
                  </a:lnTo>
                  <a:lnTo>
                    <a:pt x="1958" y="934"/>
                  </a:lnTo>
                  <a:lnTo>
                    <a:pt x="1982" y="920"/>
                  </a:lnTo>
                  <a:lnTo>
                    <a:pt x="1998" y="904"/>
                  </a:lnTo>
                  <a:lnTo>
                    <a:pt x="2014" y="896"/>
                  </a:lnTo>
                  <a:lnTo>
                    <a:pt x="2038" y="880"/>
                  </a:lnTo>
                  <a:lnTo>
                    <a:pt x="2054" y="864"/>
                  </a:lnTo>
                  <a:lnTo>
                    <a:pt x="2070" y="848"/>
                  </a:lnTo>
                  <a:lnTo>
                    <a:pt x="2086" y="824"/>
                  </a:lnTo>
                  <a:lnTo>
                    <a:pt x="2094" y="808"/>
                  </a:lnTo>
                  <a:lnTo>
                    <a:pt x="2108" y="792"/>
                  </a:lnTo>
                  <a:lnTo>
                    <a:pt x="2116" y="784"/>
                  </a:lnTo>
                  <a:lnTo>
                    <a:pt x="2116" y="776"/>
                  </a:lnTo>
                  <a:lnTo>
                    <a:pt x="2124" y="768"/>
                  </a:lnTo>
                  <a:lnTo>
                    <a:pt x="2124" y="760"/>
                  </a:lnTo>
                  <a:lnTo>
                    <a:pt x="2132" y="752"/>
                  </a:lnTo>
                  <a:lnTo>
                    <a:pt x="2132" y="744"/>
                  </a:lnTo>
                  <a:lnTo>
                    <a:pt x="2140" y="736"/>
                  </a:lnTo>
                  <a:lnTo>
                    <a:pt x="2140" y="728"/>
                  </a:lnTo>
                  <a:lnTo>
                    <a:pt x="2148" y="720"/>
                  </a:lnTo>
                  <a:lnTo>
                    <a:pt x="2148" y="712"/>
                  </a:lnTo>
                  <a:lnTo>
                    <a:pt x="2156" y="706"/>
                  </a:lnTo>
                  <a:lnTo>
                    <a:pt x="2156" y="698"/>
                  </a:lnTo>
                  <a:lnTo>
                    <a:pt x="2156" y="690"/>
                  </a:lnTo>
                  <a:lnTo>
                    <a:pt x="2164" y="682"/>
                  </a:lnTo>
                  <a:lnTo>
                    <a:pt x="2164" y="666"/>
                  </a:lnTo>
                  <a:lnTo>
                    <a:pt x="2164" y="658"/>
                  </a:lnTo>
                  <a:lnTo>
                    <a:pt x="2172" y="682"/>
                  </a:lnTo>
                  <a:lnTo>
                    <a:pt x="2172" y="698"/>
                  </a:lnTo>
                  <a:lnTo>
                    <a:pt x="2180" y="712"/>
                  </a:lnTo>
                  <a:lnTo>
                    <a:pt x="2180" y="728"/>
                  </a:lnTo>
                  <a:lnTo>
                    <a:pt x="2188" y="744"/>
                  </a:lnTo>
                  <a:lnTo>
                    <a:pt x="2196" y="752"/>
                  </a:lnTo>
                  <a:lnTo>
                    <a:pt x="2196" y="768"/>
                  </a:lnTo>
                  <a:lnTo>
                    <a:pt x="2204" y="784"/>
                  </a:lnTo>
                  <a:lnTo>
                    <a:pt x="2212" y="800"/>
                  </a:lnTo>
                  <a:lnTo>
                    <a:pt x="2220" y="808"/>
                  </a:lnTo>
                  <a:lnTo>
                    <a:pt x="2220" y="824"/>
                  </a:lnTo>
                  <a:lnTo>
                    <a:pt x="2228" y="840"/>
                  </a:lnTo>
                  <a:lnTo>
                    <a:pt x="2236" y="848"/>
                  </a:lnTo>
                  <a:lnTo>
                    <a:pt x="2244" y="864"/>
                  </a:lnTo>
                  <a:lnTo>
                    <a:pt x="2252" y="872"/>
                  </a:lnTo>
                  <a:lnTo>
                    <a:pt x="2260" y="888"/>
                  </a:lnTo>
                  <a:lnTo>
                    <a:pt x="2252" y="880"/>
                  </a:lnTo>
                  <a:lnTo>
                    <a:pt x="2236" y="880"/>
                  </a:lnTo>
                  <a:lnTo>
                    <a:pt x="2220" y="880"/>
                  </a:lnTo>
                  <a:lnTo>
                    <a:pt x="2204" y="880"/>
                  </a:lnTo>
                  <a:lnTo>
                    <a:pt x="2196" y="872"/>
                  </a:lnTo>
                  <a:lnTo>
                    <a:pt x="2180" y="872"/>
                  </a:lnTo>
                  <a:lnTo>
                    <a:pt x="2164" y="880"/>
                  </a:lnTo>
                  <a:lnTo>
                    <a:pt x="2148" y="880"/>
                  </a:lnTo>
                  <a:lnTo>
                    <a:pt x="2132" y="880"/>
                  </a:lnTo>
                  <a:lnTo>
                    <a:pt x="2124" y="880"/>
                  </a:lnTo>
                  <a:lnTo>
                    <a:pt x="2108" y="888"/>
                  </a:lnTo>
                  <a:lnTo>
                    <a:pt x="2094" y="888"/>
                  </a:lnTo>
                  <a:lnTo>
                    <a:pt x="2086" y="896"/>
                  </a:lnTo>
                  <a:lnTo>
                    <a:pt x="2070" y="896"/>
                  </a:lnTo>
                  <a:lnTo>
                    <a:pt x="2062" y="904"/>
                  </a:lnTo>
                  <a:lnTo>
                    <a:pt x="2046" y="912"/>
                  </a:lnTo>
                  <a:lnTo>
                    <a:pt x="2038" y="920"/>
                  </a:lnTo>
                  <a:lnTo>
                    <a:pt x="2022" y="926"/>
                  </a:lnTo>
                  <a:lnTo>
                    <a:pt x="2006" y="934"/>
                  </a:lnTo>
                  <a:lnTo>
                    <a:pt x="1998" y="942"/>
                  </a:lnTo>
                  <a:lnTo>
                    <a:pt x="1982" y="958"/>
                  </a:lnTo>
                  <a:lnTo>
                    <a:pt x="1966" y="966"/>
                  </a:lnTo>
                  <a:lnTo>
                    <a:pt x="1958" y="982"/>
                  </a:lnTo>
                  <a:lnTo>
                    <a:pt x="1942" y="998"/>
                  </a:lnTo>
                  <a:lnTo>
                    <a:pt x="1934" y="1014"/>
                  </a:lnTo>
                  <a:lnTo>
                    <a:pt x="1926" y="1030"/>
                  </a:lnTo>
                  <a:lnTo>
                    <a:pt x="1918" y="1054"/>
                  </a:lnTo>
                  <a:lnTo>
                    <a:pt x="1910" y="1078"/>
                  </a:lnTo>
                  <a:lnTo>
                    <a:pt x="1902" y="1102"/>
                  </a:lnTo>
                  <a:lnTo>
                    <a:pt x="1902" y="1126"/>
                  </a:lnTo>
                  <a:lnTo>
                    <a:pt x="1902" y="1148"/>
                  </a:lnTo>
                  <a:lnTo>
                    <a:pt x="1902" y="1180"/>
                  </a:lnTo>
                  <a:lnTo>
                    <a:pt x="1902" y="1196"/>
                  </a:lnTo>
                  <a:lnTo>
                    <a:pt x="1902" y="1212"/>
                  </a:lnTo>
                  <a:lnTo>
                    <a:pt x="1910" y="1228"/>
                  </a:lnTo>
                  <a:lnTo>
                    <a:pt x="1918" y="1236"/>
                  </a:lnTo>
                  <a:lnTo>
                    <a:pt x="1918" y="1252"/>
                  </a:lnTo>
                  <a:lnTo>
                    <a:pt x="1926" y="1268"/>
                  </a:lnTo>
                  <a:lnTo>
                    <a:pt x="1934" y="1284"/>
                  </a:lnTo>
                  <a:lnTo>
                    <a:pt x="1942" y="1300"/>
                  </a:lnTo>
                  <a:lnTo>
                    <a:pt x="1950" y="1316"/>
                  </a:lnTo>
                  <a:lnTo>
                    <a:pt x="1966" y="1332"/>
                  </a:lnTo>
                  <a:lnTo>
                    <a:pt x="1974" y="1340"/>
                  </a:lnTo>
                  <a:lnTo>
                    <a:pt x="1990" y="1354"/>
                  </a:lnTo>
                  <a:lnTo>
                    <a:pt x="2006" y="1370"/>
                  </a:lnTo>
                  <a:lnTo>
                    <a:pt x="2014" y="1378"/>
                  </a:lnTo>
                  <a:lnTo>
                    <a:pt x="2030" y="1394"/>
                  </a:lnTo>
                  <a:lnTo>
                    <a:pt x="2046" y="1410"/>
                  </a:lnTo>
                  <a:lnTo>
                    <a:pt x="2062" y="1418"/>
                  </a:lnTo>
                  <a:lnTo>
                    <a:pt x="2078" y="1426"/>
                  </a:lnTo>
                  <a:lnTo>
                    <a:pt x="2094" y="1442"/>
                  </a:lnTo>
                  <a:lnTo>
                    <a:pt x="2108" y="1450"/>
                  </a:lnTo>
                  <a:lnTo>
                    <a:pt x="2124" y="1458"/>
                  </a:lnTo>
                  <a:lnTo>
                    <a:pt x="2148" y="1466"/>
                  </a:lnTo>
                  <a:lnTo>
                    <a:pt x="2164" y="1474"/>
                  </a:lnTo>
                  <a:lnTo>
                    <a:pt x="2180" y="1482"/>
                  </a:lnTo>
                  <a:lnTo>
                    <a:pt x="2196" y="1490"/>
                  </a:lnTo>
                  <a:lnTo>
                    <a:pt x="2212" y="1498"/>
                  </a:lnTo>
                  <a:lnTo>
                    <a:pt x="2236" y="1498"/>
                  </a:lnTo>
                  <a:lnTo>
                    <a:pt x="2252" y="1506"/>
                  </a:lnTo>
                  <a:lnTo>
                    <a:pt x="2268" y="1514"/>
                  </a:lnTo>
                  <a:lnTo>
                    <a:pt x="2284" y="1514"/>
                  </a:lnTo>
                  <a:lnTo>
                    <a:pt x="2308" y="1522"/>
                  </a:lnTo>
                  <a:lnTo>
                    <a:pt x="2322" y="1522"/>
                  </a:lnTo>
                  <a:lnTo>
                    <a:pt x="2268" y="1530"/>
                  </a:lnTo>
                  <a:lnTo>
                    <a:pt x="2204" y="1530"/>
                  </a:lnTo>
                  <a:lnTo>
                    <a:pt x="2140" y="1530"/>
                  </a:lnTo>
                  <a:lnTo>
                    <a:pt x="2086" y="1522"/>
                  </a:lnTo>
                  <a:lnTo>
                    <a:pt x="2022" y="1522"/>
                  </a:lnTo>
                  <a:lnTo>
                    <a:pt x="1958" y="1514"/>
                  </a:lnTo>
                  <a:lnTo>
                    <a:pt x="1902" y="1498"/>
                  </a:lnTo>
                  <a:lnTo>
                    <a:pt x="1840" y="1490"/>
                  </a:lnTo>
                  <a:lnTo>
                    <a:pt x="1776" y="1474"/>
                  </a:lnTo>
                  <a:lnTo>
                    <a:pt x="1720" y="1450"/>
                  </a:lnTo>
                  <a:lnTo>
                    <a:pt x="1658" y="1434"/>
                  </a:lnTo>
                  <a:lnTo>
                    <a:pt x="1602" y="1410"/>
                  </a:lnTo>
                  <a:lnTo>
                    <a:pt x="1538" y="1386"/>
                  </a:lnTo>
                  <a:lnTo>
                    <a:pt x="1482" y="1354"/>
                  </a:lnTo>
                  <a:lnTo>
                    <a:pt x="1428" y="1324"/>
                  </a:lnTo>
                  <a:lnTo>
                    <a:pt x="1372" y="1292"/>
                  </a:lnTo>
                  <a:lnTo>
                    <a:pt x="1372" y="1292"/>
                  </a:lnTo>
                  <a:close/>
                  <a:moveTo>
                    <a:pt x="3178" y="1038"/>
                  </a:moveTo>
                  <a:lnTo>
                    <a:pt x="3164" y="1070"/>
                  </a:lnTo>
                  <a:lnTo>
                    <a:pt x="3140" y="1102"/>
                  </a:lnTo>
                  <a:lnTo>
                    <a:pt x="3124" y="1126"/>
                  </a:lnTo>
                  <a:lnTo>
                    <a:pt x="3100" y="1156"/>
                  </a:lnTo>
                  <a:lnTo>
                    <a:pt x="3076" y="1180"/>
                  </a:lnTo>
                  <a:lnTo>
                    <a:pt x="3052" y="1204"/>
                  </a:lnTo>
                  <a:lnTo>
                    <a:pt x="3028" y="1228"/>
                  </a:lnTo>
                  <a:lnTo>
                    <a:pt x="3004" y="1252"/>
                  </a:lnTo>
                  <a:lnTo>
                    <a:pt x="2972" y="1276"/>
                  </a:lnTo>
                  <a:lnTo>
                    <a:pt x="2950" y="1300"/>
                  </a:lnTo>
                  <a:lnTo>
                    <a:pt x="2918" y="1316"/>
                  </a:lnTo>
                  <a:lnTo>
                    <a:pt x="2894" y="1340"/>
                  </a:lnTo>
                  <a:lnTo>
                    <a:pt x="2862" y="1354"/>
                  </a:lnTo>
                  <a:lnTo>
                    <a:pt x="2830" y="1370"/>
                  </a:lnTo>
                  <a:lnTo>
                    <a:pt x="2798" y="1386"/>
                  </a:lnTo>
                  <a:lnTo>
                    <a:pt x="2766" y="1402"/>
                  </a:lnTo>
                  <a:lnTo>
                    <a:pt x="2750" y="1410"/>
                  </a:lnTo>
                  <a:lnTo>
                    <a:pt x="2742" y="1418"/>
                  </a:lnTo>
                  <a:lnTo>
                    <a:pt x="2728" y="1426"/>
                  </a:lnTo>
                  <a:lnTo>
                    <a:pt x="2712" y="1426"/>
                  </a:lnTo>
                  <a:lnTo>
                    <a:pt x="2704" y="1434"/>
                  </a:lnTo>
                  <a:lnTo>
                    <a:pt x="2688" y="1442"/>
                  </a:lnTo>
                  <a:lnTo>
                    <a:pt x="2672" y="1442"/>
                  </a:lnTo>
                  <a:lnTo>
                    <a:pt x="2656" y="1450"/>
                  </a:lnTo>
                  <a:lnTo>
                    <a:pt x="2648" y="1458"/>
                  </a:lnTo>
                  <a:lnTo>
                    <a:pt x="2632" y="1458"/>
                  </a:lnTo>
                  <a:lnTo>
                    <a:pt x="2616" y="1466"/>
                  </a:lnTo>
                  <a:lnTo>
                    <a:pt x="2600" y="1466"/>
                  </a:lnTo>
                  <a:lnTo>
                    <a:pt x="2584" y="1474"/>
                  </a:lnTo>
                  <a:lnTo>
                    <a:pt x="2576" y="1474"/>
                  </a:lnTo>
                  <a:lnTo>
                    <a:pt x="2560" y="1482"/>
                  </a:lnTo>
                  <a:lnTo>
                    <a:pt x="2544" y="1482"/>
                  </a:lnTo>
                  <a:lnTo>
                    <a:pt x="2514" y="1490"/>
                  </a:lnTo>
                  <a:lnTo>
                    <a:pt x="2482" y="1498"/>
                  </a:lnTo>
                  <a:lnTo>
                    <a:pt x="2458" y="1498"/>
                  </a:lnTo>
                  <a:lnTo>
                    <a:pt x="2426" y="1498"/>
                  </a:lnTo>
                  <a:lnTo>
                    <a:pt x="2394" y="1498"/>
                  </a:lnTo>
                  <a:lnTo>
                    <a:pt x="2362" y="1490"/>
                  </a:lnTo>
                  <a:lnTo>
                    <a:pt x="2330" y="1490"/>
                  </a:lnTo>
                  <a:lnTo>
                    <a:pt x="2300" y="1482"/>
                  </a:lnTo>
                  <a:lnTo>
                    <a:pt x="2268" y="1474"/>
                  </a:lnTo>
                  <a:lnTo>
                    <a:pt x="2236" y="1466"/>
                  </a:lnTo>
                  <a:lnTo>
                    <a:pt x="2204" y="1450"/>
                  </a:lnTo>
                  <a:lnTo>
                    <a:pt x="2180" y="1442"/>
                  </a:lnTo>
                  <a:lnTo>
                    <a:pt x="2148" y="1426"/>
                  </a:lnTo>
                  <a:lnTo>
                    <a:pt x="2124" y="1410"/>
                  </a:lnTo>
                  <a:lnTo>
                    <a:pt x="2094" y="1394"/>
                  </a:lnTo>
                  <a:lnTo>
                    <a:pt x="2070" y="1378"/>
                  </a:lnTo>
                  <a:lnTo>
                    <a:pt x="2054" y="1362"/>
                  </a:lnTo>
                  <a:lnTo>
                    <a:pt x="2046" y="1354"/>
                  </a:lnTo>
                  <a:lnTo>
                    <a:pt x="2030" y="1340"/>
                  </a:lnTo>
                  <a:lnTo>
                    <a:pt x="2014" y="1332"/>
                  </a:lnTo>
                  <a:lnTo>
                    <a:pt x="2006" y="1316"/>
                  </a:lnTo>
                  <a:lnTo>
                    <a:pt x="1998" y="1308"/>
                  </a:lnTo>
                  <a:lnTo>
                    <a:pt x="1982" y="1292"/>
                  </a:lnTo>
                  <a:lnTo>
                    <a:pt x="1974" y="1284"/>
                  </a:lnTo>
                  <a:lnTo>
                    <a:pt x="1966" y="1268"/>
                  </a:lnTo>
                  <a:lnTo>
                    <a:pt x="1958" y="1252"/>
                  </a:lnTo>
                  <a:lnTo>
                    <a:pt x="1958" y="1244"/>
                  </a:lnTo>
                  <a:lnTo>
                    <a:pt x="1950" y="1228"/>
                  </a:lnTo>
                  <a:lnTo>
                    <a:pt x="1950" y="1212"/>
                  </a:lnTo>
                  <a:lnTo>
                    <a:pt x="1942" y="1204"/>
                  </a:lnTo>
                  <a:lnTo>
                    <a:pt x="1942" y="1188"/>
                  </a:lnTo>
                  <a:lnTo>
                    <a:pt x="1942" y="1180"/>
                  </a:lnTo>
                  <a:lnTo>
                    <a:pt x="1942" y="1148"/>
                  </a:lnTo>
                  <a:lnTo>
                    <a:pt x="1942" y="1126"/>
                  </a:lnTo>
                  <a:lnTo>
                    <a:pt x="1942" y="1110"/>
                  </a:lnTo>
                  <a:lnTo>
                    <a:pt x="1950" y="1086"/>
                  </a:lnTo>
                  <a:lnTo>
                    <a:pt x="1950" y="1070"/>
                  </a:lnTo>
                  <a:lnTo>
                    <a:pt x="1958" y="1054"/>
                  </a:lnTo>
                  <a:lnTo>
                    <a:pt x="1966" y="1038"/>
                  </a:lnTo>
                  <a:lnTo>
                    <a:pt x="1974" y="1022"/>
                  </a:lnTo>
                  <a:lnTo>
                    <a:pt x="1982" y="1006"/>
                  </a:lnTo>
                  <a:lnTo>
                    <a:pt x="1998" y="998"/>
                  </a:lnTo>
                  <a:lnTo>
                    <a:pt x="2006" y="982"/>
                  </a:lnTo>
                  <a:lnTo>
                    <a:pt x="2022" y="974"/>
                  </a:lnTo>
                  <a:lnTo>
                    <a:pt x="2030" y="966"/>
                  </a:lnTo>
                  <a:lnTo>
                    <a:pt x="2046" y="958"/>
                  </a:lnTo>
                  <a:lnTo>
                    <a:pt x="2054" y="942"/>
                  </a:lnTo>
                  <a:lnTo>
                    <a:pt x="2070" y="942"/>
                  </a:lnTo>
                  <a:lnTo>
                    <a:pt x="2078" y="934"/>
                  </a:lnTo>
                  <a:lnTo>
                    <a:pt x="2086" y="926"/>
                  </a:lnTo>
                  <a:lnTo>
                    <a:pt x="2100" y="926"/>
                  </a:lnTo>
                  <a:lnTo>
                    <a:pt x="2116" y="920"/>
                  </a:lnTo>
                  <a:lnTo>
                    <a:pt x="2124" y="920"/>
                  </a:lnTo>
                  <a:lnTo>
                    <a:pt x="2140" y="912"/>
                  </a:lnTo>
                  <a:lnTo>
                    <a:pt x="2156" y="912"/>
                  </a:lnTo>
                  <a:lnTo>
                    <a:pt x="2164" y="912"/>
                  </a:lnTo>
                  <a:lnTo>
                    <a:pt x="2180" y="912"/>
                  </a:lnTo>
                  <a:lnTo>
                    <a:pt x="2196" y="912"/>
                  </a:lnTo>
                  <a:lnTo>
                    <a:pt x="2212" y="912"/>
                  </a:lnTo>
                  <a:lnTo>
                    <a:pt x="2228" y="912"/>
                  </a:lnTo>
                  <a:lnTo>
                    <a:pt x="2236" y="920"/>
                  </a:lnTo>
                  <a:lnTo>
                    <a:pt x="2252" y="920"/>
                  </a:lnTo>
                  <a:lnTo>
                    <a:pt x="2268" y="926"/>
                  </a:lnTo>
                  <a:lnTo>
                    <a:pt x="2276" y="926"/>
                  </a:lnTo>
                  <a:lnTo>
                    <a:pt x="2292" y="934"/>
                  </a:lnTo>
                  <a:lnTo>
                    <a:pt x="2308" y="942"/>
                  </a:lnTo>
                  <a:lnTo>
                    <a:pt x="2322" y="958"/>
                  </a:lnTo>
                  <a:lnTo>
                    <a:pt x="2330" y="966"/>
                  </a:lnTo>
                  <a:lnTo>
                    <a:pt x="2338" y="982"/>
                  </a:lnTo>
                  <a:lnTo>
                    <a:pt x="2354" y="998"/>
                  </a:lnTo>
                  <a:lnTo>
                    <a:pt x="2362" y="1006"/>
                  </a:lnTo>
                  <a:lnTo>
                    <a:pt x="2370" y="1022"/>
                  </a:lnTo>
                  <a:lnTo>
                    <a:pt x="2370" y="1038"/>
                  </a:lnTo>
                  <a:lnTo>
                    <a:pt x="2378" y="1054"/>
                  </a:lnTo>
                  <a:lnTo>
                    <a:pt x="2378" y="1070"/>
                  </a:lnTo>
                  <a:lnTo>
                    <a:pt x="2378" y="1086"/>
                  </a:lnTo>
                  <a:lnTo>
                    <a:pt x="2378" y="1102"/>
                  </a:lnTo>
                  <a:lnTo>
                    <a:pt x="2378" y="1118"/>
                  </a:lnTo>
                  <a:lnTo>
                    <a:pt x="2378" y="1134"/>
                  </a:lnTo>
                  <a:lnTo>
                    <a:pt x="2378" y="1148"/>
                  </a:lnTo>
                  <a:lnTo>
                    <a:pt x="2370" y="1164"/>
                  </a:lnTo>
                  <a:lnTo>
                    <a:pt x="2362" y="1172"/>
                  </a:lnTo>
                  <a:lnTo>
                    <a:pt x="2354" y="1188"/>
                  </a:lnTo>
                  <a:lnTo>
                    <a:pt x="2346" y="1196"/>
                  </a:lnTo>
                  <a:lnTo>
                    <a:pt x="2338" y="1212"/>
                  </a:lnTo>
                  <a:lnTo>
                    <a:pt x="2330" y="1220"/>
                  </a:lnTo>
                  <a:lnTo>
                    <a:pt x="2322" y="1228"/>
                  </a:lnTo>
                  <a:lnTo>
                    <a:pt x="2308" y="1236"/>
                  </a:lnTo>
                  <a:lnTo>
                    <a:pt x="2300" y="1244"/>
                  </a:lnTo>
                  <a:lnTo>
                    <a:pt x="2284" y="1252"/>
                  </a:lnTo>
                  <a:lnTo>
                    <a:pt x="2276" y="1260"/>
                  </a:lnTo>
                  <a:lnTo>
                    <a:pt x="2260" y="1268"/>
                  </a:lnTo>
                  <a:lnTo>
                    <a:pt x="2244" y="1268"/>
                  </a:lnTo>
                  <a:lnTo>
                    <a:pt x="2228" y="1268"/>
                  </a:lnTo>
                  <a:lnTo>
                    <a:pt x="2212" y="1268"/>
                  </a:lnTo>
                  <a:lnTo>
                    <a:pt x="2196" y="1268"/>
                  </a:lnTo>
                  <a:lnTo>
                    <a:pt x="2180" y="1268"/>
                  </a:lnTo>
                  <a:lnTo>
                    <a:pt x="2164" y="1260"/>
                  </a:lnTo>
                  <a:lnTo>
                    <a:pt x="2148" y="1260"/>
                  </a:lnTo>
                  <a:lnTo>
                    <a:pt x="2140" y="1252"/>
                  </a:lnTo>
                  <a:lnTo>
                    <a:pt x="2124" y="1244"/>
                  </a:lnTo>
                  <a:lnTo>
                    <a:pt x="2116" y="1236"/>
                  </a:lnTo>
                  <a:lnTo>
                    <a:pt x="2100" y="1228"/>
                  </a:lnTo>
                  <a:lnTo>
                    <a:pt x="2094" y="1220"/>
                  </a:lnTo>
                  <a:lnTo>
                    <a:pt x="2086" y="1212"/>
                  </a:lnTo>
                  <a:lnTo>
                    <a:pt x="2086" y="1196"/>
                  </a:lnTo>
                  <a:lnTo>
                    <a:pt x="2078" y="1188"/>
                  </a:lnTo>
                  <a:lnTo>
                    <a:pt x="2070" y="1172"/>
                  </a:lnTo>
                  <a:lnTo>
                    <a:pt x="2070" y="1156"/>
                  </a:lnTo>
                  <a:lnTo>
                    <a:pt x="2070" y="1148"/>
                  </a:lnTo>
                  <a:lnTo>
                    <a:pt x="2070" y="1134"/>
                  </a:lnTo>
                  <a:lnTo>
                    <a:pt x="2070" y="1110"/>
                  </a:lnTo>
                  <a:lnTo>
                    <a:pt x="2070" y="1102"/>
                  </a:lnTo>
                  <a:lnTo>
                    <a:pt x="2070" y="1094"/>
                  </a:lnTo>
                  <a:lnTo>
                    <a:pt x="2070" y="1086"/>
                  </a:lnTo>
                  <a:lnTo>
                    <a:pt x="2078" y="1078"/>
                  </a:lnTo>
                  <a:lnTo>
                    <a:pt x="2078" y="1070"/>
                  </a:lnTo>
                  <a:lnTo>
                    <a:pt x="2086" y="1070"/>
                  </a:lnTo>
                  <a:lnTo>
                    <a:pt x="2086" y="1062"/>
                  </a:lnTo>
                  <a:lnTo>
                    <a:pt x="2094" y="1062"/>
                  </a:lnTo>
                  <a:lnTo>
                    <a:pt x="2094" y="1054"/>
                  </a:lnTo>
                  <a:lnTo>
                    <a:pt x="2100" y="1054"/>
                  </a:lnTo>
                  <a:lnTo>
                    <a:pt x="2100" y="1046"/>
                  </a:lnTo>
                  <a:lnTo>
                    <a:pt x="2108" y="1046"/>
                  </a:lnTo>
                  <a:lnTo>
                    <a:pt x="2116" y="1038"/>
                  </a:lnTo>
                  <a:lnTo>
                    <a:pt x="2124" y="1038"/>
                  </a:lnTo>
                  <a:lnTo>
                    <a:pt x="2132" y="1038"/>
                  </a:lnTo>
                  <a:lnTo>
                    <a:pt x="2140" y="1038"/>
                  </a:lnTo>
                  <a:lnTo>
                    <a:pt x="2148" y="1030"/>
                  </a:lnTo>
                  <a:lnTo>
                    <a:pt x="2156" y="1030"/>
                  </a:lnTo>
                  <a:lnTo>
                    <a:pt x="2164" y="1030"/>
                  </a:lnTo>
                  <a:lnTo>
                    <a:pt x="2172" y="1030"/>
                  </a:lnTo>
                  <a:lnTo>
                    <a:pt x="2180" y="1030"/>
                  </a:lnTo>
                  <a:lnTo>
                    <a:pt x="2180" y="1038"/>
                  </a:lnTo>
                  <a:lnTo>
                    <a:pt x="2188" y="1038"/>
                  </a:lnTo>
                  <a:lnTo>
                    <a:pt x="2196" y="1038"/>
                  </a:lnTo>
                  <a:lnTo>
                    <a:pt x="2204" y="1046"/>
                  </a:lnTo>
                  <a:lnTo>
                    <a:pt x="2212" y="1046"/>
                  </a:lnTo>
                  <a:lnTo>
                    <a:pt x="2212" y="1054"/>
                  </a:lnTo>
                  <a:lnTo>
                    <a:pt x="2212" y="1062"/>
                  </a:lnTo>
                  <a:lnTo>
                    <a:pt x="2220" y="1062"/>
                  </a:lnTo>
                  <a:lnTo>
                    <a:pt x="2220" y="1070"/>
                  </a:lnTo>
                  <a:lnTo>
                    <a:pt x="2228" y="1070"/>
                  </a:lnTo>
                  <a:lnTo>
                    <a:pt x="2228" y="1078"/>
                  </a:lnTo>
                  <a:lnTo>
                    <a:pt x="2228" y="1086"/>
                  </a:lnTo>
                  <a:lnTo>
                    <a:pt x="2228" y="1094"/>
                  </a:lnTo>
                  <a:lnTo>
                    <a:pt x="2228" y="1102"/>
                  </a:lnTo>
                  <a:lnTo>
                    <a:pt x="2220" y="1110"/>
                  </a:lnTo>
                  <a:lnTo>
                    <a:pt x="2220" y="1118"/>
                  </a:lnTo>
                  <a:lnTo>
                    <a:pt x="2212" y="1126"/>
                  </a:lnTo>
                  <a:lnTo>
                    <a:pt x="2204" y="1126"/>
                  </a:lnTo>
                  <a:lnTo>
                    <a:pt x="2196" y="1134"/>
                  </a:lnTo>
                  <a:lnTo>
                    <a:pt x="2188" y="1134"/>
                  </a:lnTo>
                  <a:lnTo>
                    <a:pt x="2180" y="1134"/>
                  </a:lnTo>
                  <a:lnTo>
                    <a:pt x="2172" y="1140"/>
                  </a:lnTo>
                  <a:lnTo>
                    <a:pt x="2164" y="1140"/>
                  </a:lnTo>
                  <a:lnTo>
                    <a:pt x="2164" y="1172"/>
                  </a:lnTo>
                  <a:lnTo>
                    <a:pt x="2172" y="1172"/>
                  </a:lnTo>
                  <a:lnTo>
                    <a:pt x="2180" y="1172"/>
                  </a:lnTo>
                  <a:lnTo>
                    <a:pt x="2188" y="1172"/>
                  </a:lnTo>
                  <a:lnTo>
                    <a:pt x="2196" y="1172"/>
                  </a:lnTo>
                  <a:lnTo>
                    <a:pt x="2204" y="1164"/>
                  </a:lnTo>
                  <a:lnTo>
                    <a:pt x="2212" y="1164"/>
                  </a:lnTo>
                  <a:lnTo>
                    <a:pt x="2220" y="1164"/>
                  </a:lnTo>
                  <a:lnTo>
                    <a:pt x="2228" y="1156"/>
                  </a:lnTo>
                  <a:lnTo>
                    <a:pt x="2236" y="1148"/>
                  </a:lnTo>
                  <a:lnTo>
                    <a:pt x="2244" y="1148"/>
                  </a:lnTo>
                  <a:lnTo>
                    <a:pt x="2252" y="1140"/>
                  </a:lnTo>
                  <a:lnTo>
                    <a:pt x="2252" y="1134"/>
                  </a:lnTo>
                  <a:lnTo>
                    <a:pt x="2260" y="1118"/>
                  </a:lnTo>
                  <a:lnTo>
                    <a:pt x="2260" y="1110"/>
                  </a:lnTo>
                  <a:lnTo>
                    <a:pt x="2260" y="1102"/>
                  </a:lnTo>
                  <a:lnTo>
                    <a:pt x="2260" y="1094"/>
                  </a:lnTo>
                  <a:lnTo>
                    <a:pt x="2260" y="1086"/>
                  </a:lnTo>
                  <a:lnTo>
                    <a:pt x="2260" y="1078"/>
                  </a:lnTo>
                  <a:lnTo>
                    <a:pt x="2260" y="1070"/>
                  </a:lnTo>
                  <a:lnTo>
                    <a:pt x="2260" y="1062"/>
                  </a:lnTo>
                  <a:lnTo>
                    <a:pt x="2260" y="1054"/>
                  </a:lnTo>
                  <a:lnTo>
                    <a:pt x="2252" y="1054"/>
                  </a:lnTo>
                  <a:lnTo>
                    <a:pt x="2252" y="1046"/>
                  </a:lnTo>
                  <a:lnTo>
                    <a:pt x="2252" y="1038"/>
                  </a:lnTo>
                  <a:lnTo>
                    <a:pt x="2244" y="1038"/>
                  </a:lnTo>
                  <a:lnTo>
                    <a:pt x="2244" y="1030"/>
                  </a:lnTo>
                  <a:lnTo>
                    <a:pt x="2236" y="1022"/>
                  </a:lnTo>
                  <a:lnTo>
                    <a:pt x="2228" y="1014"/>
                  </a:lnTo>
                  <a:lnTo>
                    <a:pt x="2220" y="1014"/>
                  </a:lnTo>
                  <a:lnTo>
                    <a:pt x="2212" y="1006"/>
                  </a:lnTo>
                  <a:lnTo>
                    <a:pt x="2204" y="1006"/>
                  </a:lnTo>
                  <a:lnTo>
                    <a:pt x="2196" y="998"/>
                  </a:lnTo>
                  <a:lnTo>
                    <a:pt x="2188" y="998"/>
                  </a:lnTo>
                  <a:lnTo>
                    <a:pt x="2180" y="998"/>
                  </a:lnTo>
                  <a:lnTo>
                    <a:pt x="2172" y="998"/>
                  </a:lnTo>
                  <a:lnTo>
                    <a:pt x="2164" y="998"/>
                  </a:lnTo>
                  <a:lnTo>
                    <a:pt x="2156" y="998"/>
                  </a:lnTo>
                  <a:lnTo>
                    <a:pt x="2148" y="998"/>
                  </a:lnTo>
                  <a:lnTo>
                    <a:pt x="2140" y="998"/>
                  </a:lnTo>
                  <a:lnTo>
                    <a:pt x="2132" y="998"/>
                  </a:lnTo>
                  <a:lnTo>
                    <a:pt x="2124" y="998"/>
                  </a:lnTo>
                  <a:lnTo>
                    <a:pt x="2116" y="998"/>
                  </a:lnTo>
                  <a:lnTo>
                    <a:pt x="2116" y="1006"/>
                  </a:lnTo>
                  <a:lnTo>
                    <a:pt x="2108" y="1006"/>
                  </a:lnTo>
                  <a:lnTo>
                    <a:pt x="2100" y="1006"/>
                  </a:lnTo>
                  <a:lnTo>
                    <a:pt x="2094" y="1014"/>
                  </a:lnTo>
                  <a:lnTo>
                    <a:pt x="2086" y="1014"/>
                  </a:lnTo>
                  <a:lnTo>
                    <a:pt x="2078" y="1022"/>
                  </a:lnTo>
                  <a:lnTo>
                    <a:pt x="2070" y="1022"/>
                  </a:lnTo>
                  <a:lnTo>
                    <a:pt x="2070" y="1030"/>
                  </a:lnTo>
                  <a:lnTo>
                    <a:pt x="2062" y="1030"/>
                  </a:lnTo>
                  <a:lnTo>
                    <a:pt x="2062" y="1038"/>
                  </a:lnTo>
                  <a:lnTo>
                    <a:pt x="2054" y="1046"/>
                  </a:lnTo>
                  <a:lnTo>
                    <a:pt x="2046" y="1054"/>
                  </a:lnTo>
                  <a:lnTo>
                    <a:pt x="2038" y="1062"/>
                  </a:lnTo>
                  <a:lnTo>
                    <a:pt x="2038" y="1070"/>
                  </a:lnTo>
                  <a:lnTo>
                    <a:pt x="2038" y="1078"/>
                  </a:lnTo>
                  <a:lnTo>
                    <a:pt x="2030" y="1086"/>
                  </a:lnTo>
                  <a:lnTo>
                    <a:pt x="2030" y="1094"/>
                  </a:lnTo>
                  <a:lnTo>
                    <a:pt x="2030" y="1102"/>
                  </a:lnTo>
                  <a:lnTo>
                    <a:pt x="2030" y="1110"/>
                  </a:lnTo>
                  <a:lnTo>
                    <a:pt x="2030" y="1134"/>
                  </a:lnTo>
                  <a:lnTo>
                    <a:pt x="2030" y="1148"/>
                  </a:lnTo>
                  <a:lnTo>
                    <a:pt x="2030" y="1172"/>
                  </a:lnTo>
                  <a:lnTo>
                    <a:pt x="2038" y="1188"/>
                  </a:lnTo>
                  <a:lnTo>
                    <a:pt x="2046" y="1204"/>
                  </a:lnTo>
                  <a:lnTo>
                    <a:pt x="2054" y="1220"/>
                  </a:lnTo>
                  <a:lnTo>
                    <a:pt x="2062" y="1228"/>
                  </a:lnTo>
                  <a:lnTo>
                    <a:pt x="2070" y="1244"/>
                  </a:lnTo>
                  <a:lnTo>
                    <a:pt x="2078" y="1252"/>
                  </a:lnTo>
                  <a:lnTo>
                    <a:pt x="2094" y="1268"/>
                  </a:lnTo>
                  <a:lnTo>
                    <a:pt x="2100" y="1276"/>
                  </a:lnTo>
                  <a:lnTo>
                    <a:pt x="2116" y="1284"/>
                  </a:lnTo>
                  <a:lnTo>
                    <a:pt x="2132" y="1292"/>
                  </a:lnTo>
                  <a:lnTo>
                    <a:pt x="2148" y="1292"/>
                  </a:lnTo>
                  <a:lnTo>
                    <a:pt x="2172" y="1300"/>
                  </a:lnTo>
                  <a:lnTo>
                    <a:pt x="2188" y="1300"/>
                  </a:lnTo>
                  <a:lnTo>
                    <a:pt x="2212" y="1308"/>
                  </a:lnTo>
                  <a:lnTo>
                    <a:pt x="2228" y="1308"/>
                  </a:lnTo>
                  <a:lnTo>
                    <a:pt x="2252" y="1300"/>
                  </a:lnTo>
                  <a:lnTo>
                    <a:pt x="2268" y="1300"/>
                  </a:lnTo>
                  <a:lnTo>
                    <a:pt x="2284" y="1292"/>
                  </a:lnTo>
                  <a:lnTo>
                    <a:pt x="2300" y="1284"/>
                  </a:lnTo>
                  <a:lnTo>
                    <a:pt x="2314" y="1276"/>
                  </a:lnTo>
                  <a:lnTo>
                    <a:pt x="2330" y="1268"/>
                  </a:lnTo>
                  <a:lnTo>
                    <a:pt x="2346" y="1260"/>
                  </a:lnTo>
                  <a:lnTo>
                    <a:pt x="2354" y="1244"/>
                  </a:lnTo>
                  <a:lnTo>
                    <a:pt x="2370" y="1236"/>
                  </a:lnTo>
                  <a:lnTo>
                    <a:pt x="2378" y="1220"/>
                  </a:lnTo>
                  <a:lnTo>
                    <a:pt x="2386" y="1204"/>
                  </a:lnTo>
                  <a:lnTo>
                    <a:pt x="2394" y="1188"/>
                  </a:lnTo>
                  <a:lnTo>
                    <a:pt x="2402" y="1172"/>
                  </a:lnTo>
                  <a:lnTo>
                    <a:pt x="2410" y="1156"/>
                  </a:lnTo>
                  <a:lnTo>
                    <a:pt x="2410" y="1148"/>
                  </a:lnTo>
                  <a:lnTo>
                    <a:pt x="2410" y="1140"/>
                  </a:lnTo>
                  <a:lnTo>
                    <a:pt x="2418" y="1134"/>
                  </a:lnTo>
                  <a:lnTo>
                    <a:pt x="2418" y="1126"/>
                  </a:lnTo>
                  <a:lnTo>
                    <a:pt x="2418" y="1118"/>
                  </a:lnTo>
                  <a:lnTo>
                    <a:pt x="2418" y="1110"/>
                  </a:lnTo>
                  <a:lnTo>
                    <a:pt x="2418" y="1094"/>
                  </a:lnTo>
                  <a:lnTo>
                    <a:pt x="2418" y="1086"/>
                  </a:lnTo>
                  <a:lnTo>
                    <a:pt x="2418" y="1078"/>
                  </a:lnTo>
                  <a:lnTo>
                    <a:pt x="2418" y="1070"/>
                  </a:lnTo>
                  <a:lnTo>
                    <a:pt x="2410" y="1054"/>
                  </a:lnTo>
                  <a:lnTo>
                    <a:pt x="2410" y="1046"/>
                  </a:lnTo>
                  <a:lnTo>
                    <a:pt x="2410" y="1038"/>
                  </a:lnTo>
                  <a:lnTo>
                    <a:pt x="2410" y="1030"/>
                  </a:lnTo>
                  <a:lnTo>
                    <a:pt x="2402" y="1014"/>
                  </a:lnTo>
                  <a:lnTo>
                    <a:pt x="2402" y="1006"/>
                  </a:lnTo>
                  <a:lnTo>
                    <a:pt x="2418" y="1014"/>
                  </a:lnTo>
                  <a:lnTo>
                    <a:pt x="2434" y="1022"/>
                  </a:lnTo>
                  <a:lnTo>
                    <a:pt x="2450" y="1030"/>
                  </a:lnTo>
                  <a:lnTo>
                    <a:pt x="2466" y="1038"/>
                  </a:lnTo>
                  <a:lnTo>
                    <a:pt x="2482" y="1046"/>
                  </a:lnTo>
                  <a:lnTo>
                    <a:pt x="2498" y="1046"/>
                  </a:lnTo>
                  <a:lnTo>
                    <a:pt x="2514" y="1054"/>
                  </a:lnTo>
                  <a:lnTo>
                    <a:pt x="2528" y="1054"/>
                  </a:lnTo>
                  <a:lnTo>
                    <a:pt x="2544" y="1062"/>
                  </a:lnTo>
                  <a:lnTo>
                    <a:pt x="2568" y="1062"/>
                  </a:lnTo>
                  <a:lnTo>
                    <a:pt x="2584" y="1062"/>
                  </a:lnTo>
                  <a:lnTo>
                    <a:pt x="2600" y="1070"/>
                  </a:lnTo>
                  <a:lnTo>
                    <a:pt x="2616" y="1070"/>
                  </a:lnTo>
                  <a:lnTo>
                    <a:pt x="2632" y="1070"/>
                  </a:lnTo>
                  <a:lnTo>
                    <a:pt x="2648" y="1070"/>
                  </a:lnTo>
                  <a:lnTo>
                    <a:pt x="2664" y="1062"/>
                  </a:lnTo>
                  <a:lnTo>
                    <a:pt x="2704" y="1062"/>
                  </a:lnTo>
                  <a:lnTo>
                    <a:pt x="2736" y="1054"/>
                  </a:lnTo>
                  <a:lnTo>
                    <a:pt x="2766" y="1046"/>
                  </a:lnTo>
                  <a:lnTo>
                    <a:pt x="2798" y="1038"/>
                  </a:lnTo>
                  <a:lnTo>
                    <a:pt x="2822" y="1022"/>
                  </a:lnTo>
                  <a:lnTo>
                    <a:pt x="2846" y="1014"/>
                  </a:lnTo>
                  <a:lnTo>
                    <a:pt x="2870" y="998"/>
                  </a:lnTo>
                  <a:lnTo>
                    <a:pt x="2886" y="982"/>
                  </a:lnTo>
                  <a:lnTo>
                    <a:pt x="2902" y="966"/>
                  </a:lnTo>
                  <a:lnTo>
                    <a:pt x="2918" y="958"/>
                  </a:lnTo>
                  <a:lnTo>
                    <a:pt x="2934" y="942"/>
                  </a:lnTo>
                  <a:lnTo>
                    <a:pt x="2950" y="926"/>
                  </a:lnTo>
                  <a:lnTo>
                    <a:pt x="2958" y="912"/>
                  </a:lnTo>
                  <a:lnTo>
                    <a:pt x="2972" y="896"/>
                  </a:lnTo>
                  <a:lnTo>
                    <a:pt x="2980" y="880"/>
                  </a:lnTo>
                  <a:lnTo>
                    <a:pt x="2988" y="872"/>
                  </a:lnTo>
                  <a:lnTo>
                    <a:pt x="2996" y="856"/>
                  </a:lnTo>
                  <a:lnTo>
                    <a:pt x="3004" y="832"/>
                  </a:lnTo>
                  <a:lnTo>
                    <a:pt x="3012" y="816"/>
                  </a:lnTo>
                  <a:lnTo>
                    <a:pt x="3012" y="800"/>
                  </a:lnTo>
                  <a:lnTo>
                    <a:pt x="3020" y="784"/>
                  </a:lnTo>
                  <a:lnTo>
                    <a:pt x="3020" y="760"/>
                  </a:lnTo>
                  <a:lnTo>
                    <a:pt x="3020" y="744"/>
                  </a:lnTo>
                  <a:lnTo>
                    <a:pt x="3028" y="728"/>
                  </a:lnTo>
                  <a:lnTo>
                    <a:pt x="3028" y="706"/>
                  </a:lnTo>
                  <a:lnTo>
                    <a:pt x="3020" y="690"/>
                  </a:lnTo>
                  <a:lnTo>
                    <a:pt x="3020" y="674"/>
                  </a:lnTo>
                  <a:lnTo>
                    <a:pt x="3020" y="658"/>
                  </a:lnTo>
                  <a:lnTo>
                    <a:pt x="3012" y="634"/>
                  </a:lnTo>
                  <a:lnTo>
                    <a:pt x="3004" y="618"/>
                  </a:lnTo>
                  <a:lnTo>
                    <a:pt x="3004" y="602"/>
                  </a:lnTo>
                  <a:lnTo>
                    <a:pt x="2996" y="586"/>
                  </a:lnTo>
                  <a:lnTo>
                    <a:pt x="2980" y="562"/>
                  </a:lnTo>
                  <a:lnTo>
                    <a:pt x="2964" y="538"/>
                  </a:lnTo>
                  <a:lnTo>
                    <a:pt x="2950" y="522"/>
                  </a:lnTo>
                  <a:lnTo>
                    <a:pt x="2934" y="498"/>
                  </a:lnTo>
                  <a:lnTo>
                    <a:pt x="2910" y="484"/>
                  </a:lnTo>
                  <a:lnTo>
                    <a:pt x="2894" y="476"/>
                  </a:lnTo>
                  <a:lnTo>
                    <a:pt x="2878" y="460"/>
                  </a:lnTo>
                  <a:lnTo>
                    <a:pt x="2854" y="452"/>
                  </a:lnTo>
                  <a:lnTo>
                    <a:pt x="2830" y="444"/>
                  </a:lnTo>
                  <a:lnTo>
                    <a:pt x="2814" y="436"/>
                  </a:lnTo>
                  <a:lnTo>
                    <a:pt x="2790" y="436"/>
                  </a:lnTo>
                  <a:lnTo>
                    <a:pt x="2766" y="436"/>
                  </a:lnTo>
                  <a:lnTo>
                    <a:pt x="2750" y="436"/>
                  </a:lnTo>
                  <a:lnTo>
                    <a:pt x="2728" y="444"/>
                  </a:lnTo>
                  <a:lnTo>
                    <a:pt x="2704" y="452"/>
                  </a:lnTo>
                  <a:lnTo>
                    <a:pt x="2688" y="460"/>
                  </a:lnTo>
                  <a:lnTo>
                    <a:pt x="2680" y="468"/>
                  </a:lnTo>
                  <a:lnTo>
                    <a:pt x="2664" y="468"/>
                  </a:lnTo>
                  <a:lnTo>
                    <a:pt x="2656" y="476"/>
                  </a:lnTo>
                  <a:lnTo>
                    <a:pt x="2648" y="484"/>
                  </a:lnTo>
                  <a:lnTo>
                    <a:pt x="2648" y="492"/>
                  </a:lnTo>
                  <a:lnTo>
                    <a:pt x="2640" y="498"/>
                  </a:lnTo>
                  <a:lnTo>
                    <a:pt x="2632" y="506"/>
                  </a:lnTo>
                  <a:lnTo>
                    <a:pt x="2624" y="514"/>
                  </a:lnTo>
                  <a:lnTo>
                    <a:pt x="2616" y="522"/>
                  </a:lnTo>
                  <a:lnTo>
                    <a:pt x="2608" y="530"/>
                  </a:lnTo>
                  <a:lnTo>
                    <a:pt x="2608" y="538"/>
                  </a:lnTo>
                  <a:lnTo>
                    <a:pt x="2600" y="546"/>
                  </a:lnTo>
                  <a:lnTo>
                    <a:pt x="2592" y="554"/>
                  </a:lnTo>
                  <a:lnTo>
                    <a:pt x="2592" y="562"/>
                  </a:lnTo>
                  <a:lnTo>
                    <a:pt x="2592" y="578"/>
                  </a:lnTo>
                  <a:lnTo>
                    <a:pt x="2584" y="586"/>
                  </a:lnTo>
                  <a:lnTo>
                    <a:pt x="2584" y="594"/>
                  </a:lnTo>
                  <a:lnTo>
                    <a:pt x="2584" y="602"/>
                  </a:lnTo>
                  <a:lnTo>
                    <a:pt x="2584" y="610"/>
                  </a:lnTo>
                  <a:lnTo>
                    <a:pt x="2584" y="618"/>
                  </a:lnTo>
                  <a:lnTo>
                    <a:pt x="2584" y="626"/>
                  </a:lnTo>
                  <a:lnTo>
                    <a:pt x="2584" y="634"/>
                  </a:lnTo>
                  <a:lnTo>
                    <a:pt x="2584" y="642"/>
                  </a:lnTo>
                  <a:lnTo>
                    <a:pt x="2584" y="650"/>
                  </a:lnTo>
                  <a:lnTo>
                    <a:pt x="2592" y="658"/>
                  </a:lnTo>
                  <a:lnTo>
                    <a:pt x="2592" y="666"/>
                  </a:lnTo>
                  <a:lnTo>
                    <a:pt x="2592" y="674"/>
                  </a:lnTo>
                  <a:lnTo>
                    <a:pt x="2600" y="682"/>
                  </a:lnTo>
                  <a:lnTo>
                    <a:pt x="2632" y="728"/>
                  </a:lnTo>
                  <a:lnTo>
                    <a:pt x="2632" y="674"/>
                  </a:lnTo>
                  <a:lnTo>
                    <a:pt x="2632" y="658"/>
                  </a:lnTo>
                  <a:lnTo>
                    <a:pt x="2632" y="650"/>
                  </a:lnTo>
                  <a:lnTo>
                    <a:pt x="2632" y="642"/>
                  </a:lnTo>
                  <a:lnTo>
                    <a:pt x="2632" y="634"/>
                  </a:lnTo>
                  <a:lnTo>
                    <a:pt x="2640" y="626"/>
                  </a:lnTo>
                  <a:lnTo>
                    <a:pt x="2640" y="618"/>
                  </a:lnTo>
                  <a:lnTo>
                    <a:pt x="2640" y="610"/>
                  </a:lnTo>
                  <a:lnTo>
                    <a:pt x="2648" y="602"/>
                  </a:lnTo>
                  <a:lnTo>
                    <a:pt x="2648" y="594"/>
                  </a:lnTo>
                  <a:lnTo>
                    <a:pt x="2656" y="586"/>
                  </a:lnTo>
                  <a:lnTo>
                    <a:pt x="2664" y="578"/>
                  </a:lnTo>
                  <a:lnTo>
                    <a:pt x="2672" y="570"/>
                  </a:lnTo>
                  <a:lnTo>
                    <a:pt x="2680" y="570"/>
                  </a:lnTo>
                  <a:lnTo>
                    <a:pt x="2688" y="562"/>
                  </a:lnTo>
                  <a:lnTo>
                    <a:pt x="2696" y="562"/>
                  </a:lnTo>
                  <a:lnTo>
                    <a:pt x="2712" y="554"/>
                  </a:lnTo>
                  <a:lnTo>
                    <a:pt x="2720" y="554"/>
                  </a:lnTo>
                  <a:lnTo>
                    <a:pt x="2728" y="554"/>
                  </a:lnTo>
                  <a:lnTo>
                    <a:pt x="2736" y="554"/>
                  </a:lnTo>
                  <a:lnTo>
                    <a:pt x="2742" y="554"/>
                  </a:lnTo>
                  <a:lnTo>
                    <a:pt x="2750" y="554"/>
                  </a:lnTo>
                  <a:lnTo>
                    <a:pt x="2758" y="562"/>
                  </a:lnTo>
                  <a:lnTo>
                    <a:pt x="2766" y="562"/>
                  </a:lnTo>
                  <a:lnTo>
                    <a:pt x="2774" y="562"/>
                  </a:lnTo>
                  <a:lnTo>
                    <a:pt x="2782" y="570"/>
                  </a:lnTo>
                  <a:lnTo>
                    <a:pt x="2790" y="570"/>
                  </a:lnTo>
                  <a:lnTo>
                    <a:pt x="2790" y="578"/>
                  </a:lnTo>
                  <a:lnTo>
                    <a:pt x="2798" y="578"/>
                  </a:lnTo>
                  <a:lnTo>
                    <a:pt x="2806" y="586"/>
                  </a:lnTo>
                  <a:lnTo>
                    <a:pt x="2814" y="586"/>
                  </a:lnTo>
                  <a:lnTo>
                    <a:pt x="2822" y="594"/>
                  </a:lnTo>
                  <a:lnTo>
                    <a:pt x="2822" y="602"/>
                  </a:lnTo>
                  <a:lnTo>
                    <a:pt x="2830" y="610"/>
                  </a:lnTo>
                  <a:lnTo>
                    <a:pt x="2838" y="610"/>
                  </a:lnTo>
                  <a:lnTo>
                    <a:pt x="2838" y="618"/>
                  </a:lnTo>
                  <a:lnTo>
                    <a:pt x="2846" y="626"/>
                  </a:lnTo>
                  <a:lnTo>
                    <a:pt x="2846" y="634"/>
                  </a:lnTo>
                  <a:lnTo>
                    <a:pt x="2854" y="642"/>
                  </a:lnTo>
                  <a:lnTo>
                    <a:pt x="2854" y="650"/>
                  </a:lnTo>
                  <a:lnTo>
                    <a:pt x="2854" y="658"/>
                  </a:lnTo>
                  <a:lnTo>
                    <a:pt x="2862" y="658"/>
                  </a:lnTo>
                  <a:lnTo>
                    <a:pt x="2862" y="666"/>
                  </a:lnTo>
                  <a:lnTo>
                    <a:pt x="2862" y="674"/>
                  </a:lnTo>
                  <a:lnTo>
                    <a:pt x="2862" y="682"/>
                  </a:lnTo>
                  <a:lnTo>
                    <a:pt x="2862" y="690"/>
                  </a:lnTo>
                  <a:lnTo>
                    <a:pt x="2862" y="698"/>
                  </a:lnTo>
                  <a:lnTo>
                    <a:pt x="2862" y="712"/>
                  </a:lnTo>
                  <a:lnTo>
                    <a:pt x="2854" y="720"/>
                  </a:lnTo>
                  <a:lnTo>
                    <a:pt x="2854" y="728"/>
                  </a:lnTo>
                  <a:lnTo>
                    <a:pt x="2846" y="736"/>
                  </a:lnTo>
                  <a:lnTo>
                    <a:pt x="2846" y="744"/>
                  </a:lnTo>
                  <a:lnTo>
                    <a:pt x="2838" y="760"/>
                  </a:lnTo>
                  <a:lnTo>
                    <a:pt x="2830" y="768"/>
                  </a:lnTo>
                  <a:lnTo>
                    <a:pt x="2830" y="776"/>
                  </a:lnTo>
                  <a:lnTo>
                    <a:pt x="2822" y="784"/>
                  </a:lnTo>
                  <a:lnTo>
                    <a:pt x="2814" y="792"/>
                  </a:lnTo>
                  <a:lnTo>
                    <a:pt x="2806" y="800"/>
                  </a:lnTo>
                  <a:lnTo>
                    <a:pt x="2790" y="808"/>
                  </a:lnTo>
                  <a:lnTo>
                    <a:pt x="2782" y="816"/>
                  </a:lnTo>
                  <a:lnTo>
                    <a:pt x="2774" y="816"/>
                  </a:lnTo>
                  <a:lnTo>
                    <a:pt x="2766" y="824"/>
                  </a:lnTo>
                  <a:lnTo>
                    <a:pt x="2750" y="832"/>
                  </a:lnTo>
                  <a:lnTo>
                    <a:pt x="2742" y="832"/>
                  </a:lnTo>
                  <a:lnTo>
                    <a:pt x="2728" y="840"/>
                  </a:lnTo>
                  <a:lnTo>
                    <a:pt x="2712" y="840"/>
                  </a:lnTo>
                  <a:lnTo>
                    <a:pt x="2704" y="848"/>
                  </a:lnTo>
                  <a:lnTo>
                    <a:pt x="2688" y="848"/>
                  </a:lnTo>
                  <a:lnTo>
                    <a:pt x="2680" y="848"/>
                  </a:lnTo>
                  <a:lnTo>
                    <a:pt x="2664" y="848"/>
                  </a:lnTo>
                  <a:lnTo>
                    <a:pt x="2648" y="848"/>
                  </a:lnTo>
                  <a:lnTo>
                    <a:pt x="2640" y="848"/>
                  </a:lnTo>
                  <a:lnTo>
                    <a:pt x="2624" y="848"/>
                  </a:lnTo>
                  <a:lnTo>
                    <a:pt x="2616" y="840"/>
                  </a:lnTo>
                  <a:lnTo>
                    <a:pt x="2600" y="840"/>
                  </a:lnTo>
                  <a:lnTo>
                    <a:pt x="2592" y="832"/>
                  </a:lnTo>
                  <a:lnTo>
                    <a:pt x="2576" y="824"/>
                  </a:lnTo>
                  <a:lnTo>
                    <a:pt x="2568" y="816"/>
                  </a:lnTo>
                  <a:lnTo>
                    <a:pt x="2552" y="808"/>
                  </a:lnTo>
                  <a:lnTo>
                    <a:pt x="2544" y="800"/>
                  </a:lnTo>
                  <a:lnTo>
                    <a:pt x="2536" y="792"/>
                  </a:lnTo>
                  <a:lnTo>
                    <a:pt x="2522" y="784"/>
                  </a:lnTo>
                  <a:lnTo>
                    <a:pt x="2514" y="768"/>
                  </a:lnTo>
                  <a:lnTo>
                    <a:pt x="2506" y="760"/>
                  </a:lnTo>
                  <a:lnTo>
                    <a:pt x="2498" y="752"/>
                  </a:lnTo>
                  <a:lnTo>
                    <a:pt x="2490" y="736"/>
                  </a:lnTo>
                  <a:lnTo>
                    <a:pt x="2482" y="728"/>
                  </a:lnTo>
                  <a:lnTo>
                    <a:pt x="2474" y="712"/>
                  </a:lnTo>
                  <a:lnTo>
                    <a:pt x="2466" y="698"/>
                  </a:lnTo>
                  <a:lnTo>
                    <a:pt x="2458" y="690"/>
                  </a:lnTo>
                  <a:lnTo>
                    <a:pt x="2458" y="674"/>
                  </a:lnTo>
                  <a:lnTo>
                    <a:pt x="2450" y="658"/>
                  </a:lnTo>
                  <a:lnTo>
                    <a:pt x="2442" y="642"/>
                  </a:lnTo>
                  <a:lnTo>
                    <a:pt x="2442" y="626"/>
                  </a:lnTo>
                  <a:lnTo>
                    <a:pt x="2442" y="610"/>
                  </a:lnTo>
                  <a:lnTo>
                    <a:pt x="2434" y="594"/>
                  </a:lnTo>
                  <a:lnTo>
                    <a:pt x="2434" y="578"/>
                  </a:lnTo>
                  <a:lnTo>
                    <a:pt x="2434" y="562"/>
                  </a:lnTo>
                  <a:lnTo>
                    <a:pt x="2434" y="546"/>
                  </a:lnTo>
                  <a:lnTo>
                    <a:pt x="2442" y="530"/>
                  </a:lnTo>
                  <a:lnTo>
                    <a:pt x="2442" y="514"/>
                  </a:lnTo>
                  <a:lnTo>
                    <a:pt x="2442" y="492"/>
                  </a:lnTo>
                  <a:lnTo>
                    <a:pt x="2450" y="476"/>
                  </a:lnTo>
                  <a:lnTo>
                    <a:pt x="2458" y="460"/>
                  </a:lnTo>
                  <a:lnTo>
                    <a:pt x="2458" y="444"/>
                  </a:lnTo>
                  <a:lnTo>
                    <a:pt x="2466" y="428"/>
                  </a:lnTo>
                  <a:lnTo>
                    <a:pt x="2474" y="412"/>
                  </a:lnTo>
                  <a:lnTo>
                    <a:pt x="2482" y="396"/>
                  </a:lnTo>
                  <a:lnTo>
                    <a:pt x="2490" y="380"/>
                  </a:lnTo>
                  <a:lnTo>
                    <a:pt x="2506" y="372"/>
                  </a:lnTo>
                  <a:lnTo>
                    <a:pt x="2514" y="356"/>
                  </a:lnTo>
                  <a:lnTo>
                    <a:pt x="2528" y="332"/>
                  </a:lnTo>
                  <a:lnTo>
                    <a:pt x="2544" y="316"/>
                  </a:lnTo>
                  <a:lnTo>
                    <a:pt x="2560" y="300"/>
                  </a:lnTo>
                  <a:lnTo>
                    <a:pt x="2584" y="284"/>
                  </a:lnTo>
                  <a:lnTo>
                    <a:pt x="2608" y="270"/>
                  </a:lnTo>
                  <a:lnTo>
                    <a:pt x="2632" y="254"/>
                  </a:lnTo>
                  <a:lnTo>
                    <a:pt x="2656" y="246"/>
                  </a:lnTo>
                  <a:lnTo>
                    <a:pt x="2680" y="230"/>
                  </a:lnTo>
                  <a:lnTo>
                    <a:pt x="2712" y="222"/>
                  </a:lnTo>
                  <a:lnTo>
                    <a:pt x="2736" y="214"/>
                  </a:lnTo>
                  <a:lnTo>
                    <a:pt x="2766" y="206"/>
                  </a:lnTo>
                  <a:lnTo>
                    <a:pt x="2798" y="206"/>
                  </a:lnTo>
                  <a:lnTo>
                    <a:pt x="2830" y="206"/>
                  </a:lnTo>
                  <a:lnTo>
                    <a:pt x="2862" y="206"/>
                  </a:lnTo>
                  <a:lnTo>
                    <a:pt x="2894" y="206"/>
                  </a:lnTo>
                  <a:lnTo>
                    <a:pt x="2926" y="214"/>
                  </a:lnTo>
                  <a:lnTo>
                    <a:pt x="2950" y="222"/>
                  </a:lnTo>
                  <a:lnTo>
                    <a:pt x="2964" y="230"/>
                  </a:lnTo>
                  <a:lnTo>
                    <a:pt x="2988" y="238"/>
                  </a:lnTo>
                  <a:lnTo>
                    <a:pt x="3012" y="246"/>
                  </a:lnTo>
                  <a:lnTo>
                    <a:pt x="3036" y="262"/>
                  </a:lnTo>
                  <a:lnTo>
                    <a:pt x="3052" y="270"/>
                  </a:lnTo>
                  <a:lnTo>
                    <a:pt x="3076" y="284"/>
                  </a:lnTo>
                  <a:lnTo>
                    <a:pt x="3100" y="300"/>
                  </a:lnTo>
                  <a:lnTo>
                    <a:pt x="3116" y="316"/>
                  </a:lnTo>
                  <a:lnTo>
                    <a:pt x="3140" y="340"/>
                  </a:lnTo>
                  <a:lnTo>
                    <a:pt x="3156" y="356"/>
                  </a:lnTo>
                  <a:lnTo>
                    <a:pt x="3172" y="372"/>
                  </a:lnTo>
                  <a:lnTo>
                    <a:pt x="3186" y="396"/>
                  </a:lnTo>
                  <a:lnTo>
                    <a:pt x="3202" y="420"/>
                  </a:lnTo>
                  <a:lnTo>
                    <a:pt x="3218" y="444"/>
                  </a:lnTo>
                  <a:lnTo>
                    <a:pt x="3234" y="468"/>
                  </a:lnTo>
                  <a:lnTo>
                    <a:pt x="3234" y="476"/>
                  </a:lnTo>
                  <a:lnTo>
                    <a:pt x="3234" y="484"/>
                  </a:lnTo>
                  <a:lnTo>
                    <a:pt x="3242" y="484"/>
                  </a:lnTo>
                  <a:lnTo>
                    <a:pt x="3242" y="492"/>
                  </a:lnTo>
                  <a:lnTo>
                    <a:pt x="3242" y="498"/>
                  </a:lnTo>
                  <a:lnTo>
                    <a:pt x="3250" y="498"/>
                  </a:lnTo>
                  <a:lnTo>
                    <a:pt x="3250" y="506"/>
                  </a:lnTo>
                  <a:lnTo>
                    <a:pt x="3250" y="514"/>
                  </a:lnTo>
                  <a:lnTo>
                    <a:pt x="3250" y="522"/>
                  </a:lnTo>
                  <a:lnTo>
                    <a:pt x="3258" y="522"/>
                  </a:lnTo>
                  <a:lnTo>
                    <a:pt x="3258" y="530"/>
                  </a:lnTo>
                  <a:lnTo>
                    <a:pt x="3266" y="562"/>
                  </a:lnTo>
                  <a:lnTo>
                    <a:pt x="3274" y="594"/>
                  </a:lnTo>
                  <a:lnTo>
                    <a:pt x="3282" y="618"/>
                  </a:lnTo>
                  <a:lnTo>
                    <a:pt x="3282" y="650"/>
                  </a:lnTo>
                  <a:lnTo>
                    <a:pt x="3282" y="682"/>
                  </a:lnTo>
                  <a:lnTo>
                    <a:pt x="3290" y="712"/>
                  </a:lnTo>
                  <a:lnTo>
                    <a:pt x="3290" y="736"/>
                  </a:lnTo>
                  <a:lnTo>
                    <a:pt x="3282" y="768"/>
                  </a:lnTo>
                  <a:lnTo>
                    <a:pt x="3282" y="800"/>
                  </a:lnTo>
                  <a:lnTo>
                    <a:pt x="3274" y="832"/>
                  </a:lnTo>
                  <a:lnTo>
                    <a:pt x="3266" y="864"/>
                  </a:lnTo>
                  <a:lnTo>
                    <a:pt x="3250" y="896"/>
                  </a:lnTo>
                  <a:lnTo>
                    <a:pt x="3242" y="934"/>
                  </a:lnTo>
                  <a:lnTo>
                    <a:pt x="3226" y="966"/>
                  </a:lnTo>
                  <a:lnTo>
                    <a:pt x="3202" y="1006"/>
                  </a:lnTo>
                  <a:lnTo>
                    <a:pt x="3178" y="1038"/>
                  </a:lnTo>
                  <a:lnTo>
                    <a:pt x="3178" y="10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6337440" y="507960"/>
              <a:ext cx="1647720" cy="742680"/>
            </a:xfrm>
            <a:custGeom>
              <a:avLst/>
              <a:gdLst>
                <a:gd name="textAreaLeft" fmla="*/ 0 w 1647720"/>
                <a:gd name="textAreaRight" fmla="*/ 1648080 w 164772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1038" h="468">
                  <a:moveTo>
                    <a:pt x="580" y="214"/>
                  </a:moveTo>
                  <a:lnTo>
                    <a:pt x="572" y="206"/>
                  </a:lnTo>
                  <a:lnTo>
                    <a:pt x="564" y="190"/>
                  </a:lnTo>
                  <a:lnTo>
                    <a:pt x="556" y="182"/>
                  </a:lnTo>
                  <a:lnTo>
                    <a:pt x="548" y="174"/>
                  </a:lnTo>
                  <a:lnTo>
                    <a:pt x="540" y="158"/>
                  </a:lnTo>
                  <a:lnTo>
                    <a:pt x="532" y="150"/>
                  </a:lnTo>
                  <a:lnTo>
                    <a:pt x="524" y="142"/>
                  </a:lnTo>
                  <a:lnTo>
                    <a:pt x="516" y="126"/>
                  </a:lnTo>
                  <a:lnTo>
                    <a:pt x="508" y="118"/>
                  </a:lnTo>
                  <a:lnTo>
                    <a:pt x="500" y="110"/>
                  </a:lnTo>
                  <a:lnTo>
                    <a:pt x="492" y="102"/>
                  </a:lnTo>
                  <a:lnTo>
                    <a:pt x="476" y="86"/>
                  </a:lnTo>
                  <a:lnTo>
                    <a:pt x="468" y="78"/>
                  </a:lnTo>
                  <a:lnTo>
                    <a:pt x="452" y="72"/>
                  </a:lnTo>
                  <a:lnTo>
                    <a:pt x="444" y="64"/>
                  </a:lnTo>
                  <a:lnTo>
                    <a:pt x="436" y="56"/>
                  </a:lnTo>
                  <a:lnTo>
                    <a:pt x="420" y="48"/>
                  </a:lnTo>
                  <a:lnTo>
                    <a:pt x="412" y="40"/>
                  </a:lnTo>
                  <a:lnTo>
                    <a:pt x="396" y="40"/>
                  </a:lnTo>
                  <a:lnTo>
                    <a:pt x="382" y="32"/>
                  </a:lnTo>
                  <a:lnTo>
                    <a:pt x="374" y="24"/>
                  </a:lnTo>
                  <a:lnTo>
                    <a:pt x="358" y="16"/>
                  </a:lnTo>
                  <a:lnTo>
                    <a:pt x="350" y="16"/>
                  </a:lnTo>
                  <a:lnTo>
                    <a:pt x="334" y="8"/>
                  </a:lnTo>
                  <a:lnTo>
                    <a:pt x="318" y="8"/>
                  </a:lnTo>
                  <a:lnTo>
                    <a:pt x="310" y="8"/>
                  </a:lnTo>
                  <a:lnTo>
                    <a:pt x="294" y="0"/>
                  </a:lnTo>
                  <a:lnTo>
                    <a:pt x="278" y="0"/>
                  </a:lnTo>
                  <a:lnTo>
                    <a:pt x="270" y="0"/>
                  </a:lnTo>
                  <a:lnTo>
                    <a:pt x="254" y="0"/>
                  </a:lnTo>
                  <a:lnTo>
                    <a:pt x="238" y="0"/>
                  </a:lnTo>
                  <a:lnTo>
                    <a:pt x="230" y="8"/>
                  </a:lnTo>
                  <a:lnTo>
                    <a:pt x="214" y="8"/>
                  </a:lnTo>
                  <a:lnTo>
                    <a:pt x="206" y="8"/>
                  </a:lnTo>
                  <a:lnTo>
                    <a:pt x="198" y="8"/>
                  </a:lnTo>
                  <a:lnTo>
                    <a:pt x="182" y="16"/>
                  </a:lnTo>
                  <a:lnTo>
                    <a:pt x="174" y="16"/>
                  </a:lnTo>
                  <a:lnTo>
                    <a:pt x="166" y="24"/>
                  </a:lnTo>
                  <a:lnTo>
                    <a:pt x="160" y="24"/>
                  </a:lnTo>
                  <a:lnTo>
                    <a:pt x="152" y="32"/>
                  </a:lnTo>
                  <a:lnTo>
                    <a:pt x="144" y="32"/>
                  </a:lnTo>
                  <a:lnTo>
                    <a:pt x="136" y="40"/>
                  </a:lnTo>
                  <a:lnTo>
                    <a:pt x="128" y="40"/>
                  </a:lnTo>
                  <a:lnTo>
                    <a:pt x="120" y="48"/>
                  </a:lnTo>
                  <a:lnTo>
                    <a:pt x="112" y="56"/>
                  </a:lnTo>
                  <a:lnTo>
                    <a:pt x="104" y="64"/>
                  </a:lnTo>
                  <a:lnTo>
                    <a:pt x="96" y="72"/>
                  </a:lnTo>
                  <a:lnTo>
                    <a:pt x="88" y="72"/>
                  </a:lnTo>
                  <a:lnTo>
                    <a:pt x="88" y="78"/>
                  </a:lnTo>
                  <a:lnTo>
                    <a:pt x="80" y="86"/>
                  </a:lnTo>
                  <a:lnTo>
                    <a:pt x="72" y="86"/>
                  </a:lnTo>
                  <a:lnTo>
                    <a:pt x="72" y="94"/>
                  </a:lnTo>
                  <a:lnTo>
                    <a:pt x="64" y="102"/>
                  </a:lnTo>
                  <a:lnTo>
                    <a:pt x="64" y="110"/>
                  </a:lnTo>
                  <a:lnTo>
                    <a:pt x="56" y="110"/>
                  </a:lnTo>
                  <a:lnTo>
                    <a:pt x="56" y="118"/>
                  </a:lnTo>
                  <a:lnTo>
                    <a:pt x="48" y="126"/>
                  </a:lnTo>
                  <a:lnTo>
                    <a:pt x="48" y="134"/>
                  </a:lnTo>
                  <a:lnTo>
                    <a:pt x="40" y="134"/>
                  </a:lnTo>
                  <a:lnTo>
                    <a:pt x="40" y="142"/>
                  </a:lnTo>
                  <a:lnTo>
                    <a:pt x="32" y="150"/>
                  </a:lnTo>
                  <a:lnTo>
                    <a:pt x="32" y="158"/>
                  </a:lnTo>
                  <a:lnTo>
                    <a:pt x="24" y="158"/>
                  </a:lnTo>
                  <a:lnTo>
                    <a:pt x="24" y="166"/>
                  </a:lnTo>
                  <a:lnTo>
                    <a:pt x="24" y="174"/>
                  </a:lnTo>
                  <a:lnTo>
                    <a:pt x="16" y="174"/>
                  </a:lnTo>
                  <a:lnTo>
                    <a:pt x="16" y="182"/>
                  </a:lnTo>
                  <a:lnTo>
                    <a:pt x="16" y="190"/>
                  </a:lnTo>
                  <a:lnTo>
                    <a:pt x="8" y="190"/>
                  </a:lnTo>
                  <a:lnTo>
                    <a:pt x="8" y="198"/>
                  </a:lnTo>
                  <a:lnTo>
                    <a:pt x="8" y="206"/>
                  </a:lnTo>
                  <a:lnTo>
                    <a:pt x="8" y="214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8"/>
                  </a:lnTo>
                  <a:lnTo>
                    <a:pt x="0" y="246"/>
                  </a:lnTo>
                  <a:lnTo>
                    <a:pt x="0" y="254"/>
                  </a:lnTo>
                  <a:lnTo>
                    <a:pt x="0" y="262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0" y="286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0" y="308"/>
                  </a:lnTo>
                  <a:lnTo>
                    <a:pt x="8" y="316"/>
                  </a:lnTo>
                  <a:lnTo>
                    <a:pt x="8" y="324"/>
                  </a:lnTo>
                  <a:lnTo>
                    <a:pt x="8" y="332"/>
                  </a:lnTo>
                  <a:lnTo>
                    <a:pt x="8" y="340"/>
                  </a:lnTo>
                  <a:lnTo>
                    <a:pt x="16" y="348"/>
                  </a:lnTo>
                  <a:lnTo>
                    <a:pt x="16" y="356"/>
                  </a:lnTo>
                  <a:lnTo>
                    <a:pt x="16" y="364"/>
                  </a:lnTo>
                  <a:lnTo>
                    <a:pt x="24" y="364"/>
                  </a:lnTo>
                  <a:lnTo>
                    <a:pt x="24" y="372"/>
                  </a:lnTo>
                  <a:lnTo>
                    <a:pt x="32" y="380"/>
                  </a:lnTo>
                  <a:lnTo>
                    <a:pt x="40" y="388"/>
                  </a:lnTo>
                  <a:lnTo>
                    <a:pt x="40" y="396"/>
                  </a:lnTo>
                  <a:lnTo>
                    <a:pt x="48" y="396"/>
                  </a:lnTo>
                  <a:lnTo>
                    <a:pt x="56" y="404"/>
                  </a:lnTo>
                  <a:lnTo>
                    <a:pt x="56" y="412"/>
                  </a:lnTo>
                  <a:lnTo>
                    <a:pt x="64" y="412"/>
                  </a:lnTo>
                  <a:lnTo>
                    <a:pt x="72" y="420"/>
                  </a:lnTo>
                  <a:lnTo>
                    <a:pt x="80" y="428"/>
                  </a:lnTo>
                  <a:lnTo>
                    <a:pt x="88" y="428"/>
                  </a:lnTo>
                  <a:lnTo>
                    <a:pt x="96" y="436"/>
                  </a:lnTo>
                  <a:lnTo>
                    <a:pt x="104" y="436"/>
                  </a:lnTo>
                  <a:lnTo>
                    <a:pt x="112" y="436"/>
                  </a:lnTo>
                  <a:lnTo>
                    <a:pt x="120" y="444"/>
                  </a:lnTo>
                  <a:lnTo>
                    <a:pt x="128" y="444"/>
                  </a:lnTo>
                  <a:lnTo>
                    <a:pt x="136" y="452"/>
                  </a:lnTo>
                  <a:lnTo>
                    <a:pt x="144" y="452"/>
                  </a:lnTo>
                  <a:lnTo>
                    <a:pt x="152" y="452"/>
                  </a:lnTo>
                  <a:lnTo>
                    <a:pt x="160" y="452"/>
                  </a:lnTo>
                  <a:lnTo>
                    <a:pt x="166" y="452"/>
                  </a:lnTo>
                  <a:lnTo>
                    <a:pt x="174" y="452"/>
                  </a:lnTo>
                  <a:lnTo>
                    <a:pt x="182" y="452"/>
                  </a:lnTo>
                  <a:lnTo>
                    <a:pt x="190" y="452"/>
                  </a:lnTo>
                  <a:lnTo>
                    <a:pt x="198" y="452"/>
                  </a:lnTo>
                  <a:lnTo>
                    <a:pt x="206" y="452"/>
                  </a:lnTo>
                  <a:lnTo>
                    <a:pt x="214" y="452"/>
                  </a:lnTo>
                  <a:lnTo>
                    <a:pt x="222" y="452"/>
                  </a:lnTo>
                  <a:lnTo>
                    <a:pt x="230" y="452"/>
                  </a:lnTo>
                  <a:lnTo>
                    <a:pt x="230" y="444"/>
                  </a:lnTo>
                  <a:lnTo>
                    <a:pt x="238" y="444"/>
                  </a:lnTo>
                  <a:lnTo>
                    <a:pt x="246" y="444"/>
                  </a:lnTo>
                  <a:lnTo>
                    <a:pt x="254" y="436"/>
                  </a:lnTo>
                  <a:lnTo>
                    <a:pt x="262" y="436"/>
                  </a:lnTo>
                  <a:lnTo>
                    <a:pt x="270" y="428"/>
                  </a:lnTo>
                  <a:lnTo>
                    <a:pt x="278" y="420"/>
                  </a:lnTo>
                  <a:lnTo>
                    <a:pt x="286" y="420"/>
                  </a:lnTo>
                  <a:lnTo>
                    <a:pt x="286" y="412"/>
                  </a:lnTo>
                  <a:lnTo>
                    <a:pt x="294" y="404"/>
                  </a:lnTo>
                  <a:lnTo>
                    <a:pt x="302" y="404"/>
                  </a:lnTo>
                  <a:lnTo>
                    <a:pt x="302" y="396"/>
                  </a:lnTo>
                  <a:lnTo>
                    <a:pt x="310" y="388"/>
                  </a:lnTo>
                  <a:lnTo>
                    <a:pt x="318" y="380"/>
                  </a:lnTo>
                  <a:lnTo>
                    <a:pt x="318" y="372"/>
                  </a:lnTo>
                  <a:lnTo>
                    <a:pt x="326" y="372"/>
                  </a:lnTo>
                  <a:lnTo>
                    <a:pt x="326" y="364"/>
                  </a:lnTo>
                  <a:lnTo>
                    <a:pt x="334" y="356"/>
                  </a:lnTo>
                  <a:lnTo>
                    <a:pt x="334" y="348"/>
                  </a:lnTo>
                  <a:lnTo>
                    <a:pt x="334" y="340"/>
                  </a:lnTo>
                  <a:lnTo>
                    <a:pt x="342" y="332"/>
                  </a:lnTo>
                  <a:lnTo>
                    <a:pt x="342" y="324"/>
                  </a:lnTo>
                  <a:lnTo>
                    <a:pt x="342" y="316"/>
                  </a:lnTo>
                  <a:lnTo>
                    <a:pt x="342" y="308"/>
                  </a:lnTo>
                  <a:lnTo>
                    <a:pt x="342" y="300"/>
                  </a:lnTo>
                  <a:lnTo>
                    <a:pt x="342" y="294"/>
                  </a:lnTo>
                  <a:lnTo>
                    <a:pt x="342" y="278"/>
                  </a:lnTo>
                  <a:lnTo>
                    <a:pt x="342" y="270"/>
                  </a:lnTo>
                  <a:lnTo>
                    <a:pt x="342" y="262"/>
                  </a:lnTo>
                  <a:lnTo>
                    <a:pt x="342" y="254"/>
                  </a:lnTo>
                  <a:lnTo>
                    <a:pt x="334" y="254"/>
                  </a:lnTo>
                  <a:lnTo>
                    <a:pt x="334" y="246"/>
                  </a:lnTo>
                  <a:lnTo>
                    <a:pt x="334" y="238"/>
                  </a:lnTo>
                  <a:lnTo>
                    <a:pt x="334" y="230"/>
                  </a:lnTo>
                  <a:lnTo>
                    <a:pt x="326" y="222"/>
                  </a:lnTo>
                  <a:lnTo>
                    <a:pt x="326" y="214"/>
                  </a:lnTo>
                  <a:lnTo>
                    <a:pt x="318" y="214"/>
                  </a:lnTo>
                  <a:lnTo>
                    <a:pt x="318" y="206"/>
                  </a:lnTo>
                  <a:lnTo>
                    <a:pt x="318" y="198"/>
                  </a:lnTo>
                  <a:lnTo>
                    <a:pt x="310" y="190"/>
                  </a:lnTo>
                  <a:lnTo>
                    <a:pt x="302" y="182"/>
                  </a:lnTo>
                  <a:lnTo>
                    <a:pt x="294" y="174"/>
                  </a:lnTo>
                  <a:lnTo>
                    <a:pt x="286" y="174"/>
                  </a:lnTo>
                  <a:lnTo>
                    <a:pt x="286" y="166"/>
                  </a:lnTo>
                  <a:lnTo>
                    <a:pt x="278" y="166"/>
                  </a:lnTo>
                  <a:lnTo>
                    <a:pt x="270" y="158"/>
                  </a:lnTo>
                  <a:lnTo>
                    <a:pt x="262" y="158"/>
                  </a:lnTo>
                  <a:lnTo>
                    <a:pt x="254" y="150"/>
                  </a:lnTo>
                  <a:lnTo>
                    <a:pt x="246" y="150"/>
                  </a:lnTo>
                  <a:lnTo>
                    <a:pt x="238" y="150"/>
                  </a:lnTo>
                  <a:lnTo>
                    <a:pt x="230" y="150"/>
                  </a:lnTo>
                  <a:lnTo>
                    <a:pt x="222" y="142"/>
                  </a:lnTo>
                  <a:lnTo>
                    <a:pt x="214" y="142"/>
                  </a:lnTo>
                  <a:lnTo>
                    <a:pt x="206" y="142"/>
                  </a:lnTo>
                  <a:lnTo>
                    <a:pt x="198" y="142"/>
                  </a:lnTo>
                  <a:lnTo>
                    <a:pt x="190" y="142"/>
                  </a:lnTo>
                  <a:lnTo>
                    <a:pt x="182" y="142"/>
                  </a:lnTo>
                  <a:lnTo>
                    <a:pt x="174" y="142"/>
                  </a:lnTo>
                  <a:lnTo>
                    <a:pt x="166" y="142"/>
                  </a:lnTo>
                  <a:lnTo>
                    <a:pt x="166" y="150"/>
                  </a:lnTo>
                  <a:lnTo>
                    <a:pt x="160" y="150"/>
                  </a:lnTo>
                  <a:lnTo>
                    <a:pt x="152" y="150"/>
                  </a:lnTo>
                  <a:lnTo>
                    <a:pt x="144" y="150"/>
                  </a:lnTo>
                  <a:lnTo>
                    <a:pt x="144" y="158"/>
                  </a:lnTo>
                  <a:lnTo>
                    <a:pt x="136" y="158"/>
                  </a:lnTo>
                  <a:lnTo>
                    <a:pt x="136" y="166"/>
                  </a:lnTo>
                  <a:lnTo>
                    <a:pt x="128" y="166"/>
                  </a:lnTo>
                  <a:lnTo>
                    <a:pt x="128" y="174"/>
                  </a:lnTo>
                  <a:lnTo>
                    <a:pt x="120" y="174"/>
                  </a:lnTo>
                  <a:lnTo>
                    <a:pt x="120" y="182"/>
                  </a:lnTo>
                  <a:lnTo>
                    <a:pt x="112" y="182"/>
                  </a:lnTo>
                  <a:lnTo>
                    <a:pt x="112" y="190"/>
                  </a:lnTo>
                  <a:lnTo>
                    <a:pt x="104" y="198"/>
                  </a:lnTo>
                  <a:lnTo>
                    <a:pt x="104" y="206"/>
                  </a:lnTo>
                  <a:lnTo>
                    <a:pt x="104" y="214"/>
                  </a:lnTo>
                  <a:lnTo>
                    <a:pt x="96" y="214"/>
                  </a:lnTo>
                  <a:lnTo>
                    <a:pt x="96" y="222"/>
                  </a:lnTo>
                  <a:lnTo>
                    <a:pt x="96" y="230"/>
                  </a:lnTo>
                  <a:lnTo>
                    <a:pt x="96" y="238"/>
                  </a:lnTo>
                  <a:lnTo>
                    <a:pt x="96" y="246"/>
                  </a:lnTo>
                  <a:lnTo>
                    <a:pt x="96" y="254"/>
                  </a:lnTo>
                  <a:lnTo>
                    <a:pt x="96" y="262"/>
                  </a:lnTo>
                  <a:lnTo>
                    <a:pt x="96" y="270"/>
                  </a:lnTo>
                  <a:lnTo>
                    <a:pt x="96" y="278"/>
                  </a:lnTo>
                  <a:lnTo>
                    <a:pt x="96" y="286"/>
                  </a:lnTo>
                  <a:lnTo>
                    <a:pt x="104" y="286"/>
                  </a:lnTo>
                  <a:lnTo>
                    <a:pt x="104" y="294"/>
                  </a:lnTo>
                  <a:lnTo>
                    <a:pt x="104" y="300"/>
                  </a:lnTo>
                  <a:lnTo>
                    <a:pt x="112" y="300"/>
                  </a:lnTo>
                  <a:lnTo>
                    <a:pt x="112" y="308"/>
                  </a:lnTo>
                  <a:lnTo>
                    <a:pt x="120" y="308"/>
                  </a:lnTo>
                  <a:lnTo>
                    <a:pt x="120" y="316"/>
                  </a:lnTo>
                  <a:lnTo>
                    <a:pt x="128" y="316"/>
                  </a:lnTo>
                  <a:lnTo>
                    <a:pt x="128" y="324"/>
                  </a:lnTo>
                  <a:lnTo>
                    <a:pt x="136" y="324"/>
                  </a:lnTo>
                  <a:lnTo>
                    <a:pt x="144" y="324"/>
                  </a:lnTo>
                  <a:lnTo>
                    <a:pt x="144" y="332"/>
                  </a:lnTo>
                  <a:lnTo>
                    <a:pt x="152" y="332"/>
                  </a:lnTo>
                  <a:lnTo>
                    <a:pt x="160" y="332"/>
                  </a:lnTo>
                  <a:lnTo>
                    <a:pt x="166" y="332"/>
                  </a:lnTo>
                  <a:lnTo>
                    <a:pt x="174" y="332"/>
                  </a:lnTo>
                  <a:lnTo>
                    <a:pt x="182" y="332"/>
                  </a:lnTo>
                  <a:lnTo>
                    <a:pt x="190" y="332"/>
                  </a:lnTo>
                  <a:lnTo>
                    <a:pt x="198" y="332"/>
                  </a:lnTo>
                  <a:lnTo>
                    <a:pt x="198" y="324"/>
                  </a:lnTo>
                  <a:lnTo>
                    <a:pt x="206" y="324"/>
                  </a:lnTo>
                  <a:lnTo>
                    <a:pt x="214" y="324"/>
                  </a:lnTo>
                  <a:lnTo>
                    <a:pt x="214" y="316"/>
                  </a:lnTo>
                  <a:lnTo>
                    <a:pt x="222" y="316"/>
                  </a:lnTo>
                  <a:lnTo>
                    <a:pt x="222" y="308"/>
                  </a:lnTo>
                  <a:lnTo>
                    <a:pt x="230" y="300"/>
                  </a:lnTo>
                  <a:lnTo>
                    <a:pt x="230" y="294"/>
                  </a:lnTo>
                  <a:lnTo>
                    <a:pt x="238" y="286"/>
                  </a:lnTo>
                  <a:lnTo>
                    <a:pt x="238" y="278"/>
                  </a:lnTo>
                  <a:lnTo>
                    <a:pt x="238" y="270"/>
                  </a:lnTo>
                  <a:lnTo>
                    <a:pt x="238" y="262"/>
                  </a:lnTo>
                  <a:lnTo>
                    <a:pt x="238" y="254"/>
                  </a:lnTo>
                  <a:lnTo>
                    <a:pt x="206" y="254"/>
                  </a:lnTo>
                  <a:lnTo>
                    <a:pt x="206" y="262"/>
                  </a:lnTo>
                  <a:lnTo>
                    <a:pt x="206" y="270"/>
                  </a:lnTo>
                  <a:lnTo>
                    <a:pt x="198" y="270"/>
                  </a:lnTo>
                  <a:lnTo>
                    <a:pt x="198" y="278"/>
                  </a:lnTo>
                  <a:lnTo>
                    <a:pt x="198" y="286"/>
                  </a:lnTo>
                  <a:lnTo>
                    <a:pt x="190" y="286"/>
                  </a:lnTo>
                  <a:lnTo>
                    <a:pt x="190" y="294"/>
                  </a:lnTo>
                  <a:lnTo>
                    <a:pt x="182" y="294"/>
                  </a:lnTo>
                  <a:lnTo>
                    <a:pt x="174" y="294"/>
                  </a:lnTo>
                  <a:lnTo>
                    <a:pt x="166" y="294"/>
                  </a:lnTo>
                  <a:lnTo>
                    <a:pt x="160" y="294"/>
                  </a:lnTo>
                  <a:lnTo>
                    <a:pt x="152" y="294"/>
                  </a:lnTo>
                  <a:lnTo>
                    <a:pt x="144" y="294"/>
                  </a:lnTo>
                  <a:lnTo>
                    <a:pt x="144" y="286"/>
                  </a:lnTo>
                  <a:lnTo>
                    <a:pt x="136" y="286"/>
                  </a:lnTo>
                  <a:lnTo>
                    <a:pt x="136" y="278"/>
                  </a:lnTo>
                  <a:lnTo>
                    <a:pt x="136" y="270"/>
                  </a:lnTo>
                  <a:lnTo>
                    <a:pt x="136" y="262"/>
                  </a:lnTo>
                  <a:lnTo>
                    <a:pt x="136" y="254"/>
                  </a:lnTo>
                  <a:lnTo>
                    <a:pt x="128" y="254"/>
                  </a:lnTo>
                  <a:lnTo>
                    <a:pt x="128" y="246"/>
                  </a:lnTo>
                  <a:lnTo>
                    <a:pt x="136" y="246"/>
                  </a:lnTo>
                  <a:lnTo>
                    <a:pt x="136" y="238"/>
                  </a:lnTo>
                  <a:lnTo>
                    <a:pt x="136" y="230"/>
                  </a:lnTo>
                  <a:lnTo>
                    <a:pt x="136" y="222"/>
                  </a:lnTo>
                  <a:lnTo>
                    <a:pt x="136" y="214"/>
                  </a:lnTo>
                  <a:lnTo>
                    <a:pt x="144" y="214"/>
                  </a:lnTo>
                  <a:lnTo>
                    <a:pt x="144" y="206"/>
                  </a:lnTo>
                  <a:lnTo>
                    <a:pt x="144" y="198"/>
                  </a:lnTo>
                  <a:lnTo>
                    <a:pt x="152" y="198"/>
                  </a:lnTo>
                  <a:lnTo>
                    <a:pt x="152" y="190"/>
                  </a:lnTo>
                  <a:lnTo>
                    <a:pt x="160" y="190"/>
                  </a:lnTo>
                  <a:lnTo>
                    <a:pt x="166" y="190"/>
                  </a:lnTo>
                  <a:lnTo>
                    <a:pt x="166" y="182"/>
                  </a:lnTo>
                  <a:lnTo>
                    <a:pt x="174" y="182"/>
                  </a:lnTo>
                  <a:lnTo>
                    <a:pt x="182" y="182"/>
                  </a:lnTo>
                  <a:lnTo>
                    <a:pt x="190" y="182"/>
                  </a:lnTo>
                  <a:lnTo>
                    <a:pt x="198" y="182"/>
                  </a:lnTo>
                  <a:lnTo>
                    <a:pt x="206" y="182"/>
                  </a:lnTo>
                  <a:lnTo>
                    <a:pt x="214" y="182"/>
                  </a:lnTo>
                  <a:lnTo>
                    <a:pt x="222" y="182"/>
                  </a:lnTo>
                  <a:lnTo>
                    <a:pt x="230" y="182"/>
                  </a:lnTo>
                  <a:lnTo>
                    <a:pt x="238" y="182"/>
                  </a:lnTo>
                  <a:lnTo>
                    <a:pt x="238" y="190"/>
                  </a:lnTo>
                  <a:lnTo>
                    <a:pt x="246" y="190"/>
                  </a:lnTo>
                  <a:lnTo>
                    <a:pt x="254" y="190"/>
                  </a:lnTo>
                  <a:lnTo>
                    <a:pt x="254" y="198"/>
                  </a:lnTo>
                  <a:lnTo>
                    <a:pt x="262" y="198"/>
                  </a:lnTo>
                  <a:lnTo>
                    <a:pt x="270" y="206"/>
                  </a:lnTo>
                  <a:lnTo>
                    <a:pt x="278" y="214"/>
                  </a:lnTo>
                  <a:lnTo>
                    <a:pt x="286" y="214"/>
                  </a:lnTo>
                  <a:lnTo>
                    <a:pt x="286" y="222"/>
                  </a:lnTo>
                  <a:lnTo>
                    <a:pt x="294" y="230"/>
                  </a:lnTo>
                  <a:lnTo>
                    <a:pt x="294" y="238"/>
                  </a:lnTo>
                  <a:lnTo>
                    <a:pt x="294" y="246"/>
                  </a:lnTo>
                  <a:lnTo>
                    <a:pt x="302" y="246"/>
                  </a:lnTo>
                  <a:lnTo>
                    <a:pt x="302" y="254"/>
                  </a:lnTo>
                  <a:lnTo>
                    <a:pt x="302" y="262"/>
                  </a:lnTo>
                  <a:lnTo>
                    <a:pt x="302" y="270"/>
                  </a:lnTo>
                  <a:lnTo>
                    <a:pt x="302" y="278"/>
                  </a:lnTo>
                  <a:lnTo>
                    <a:pt x="310" y="286"/>
                  </a:lnTo>
                  <a:lnTo>
                    <a:pt x="310" y="294"/>
                  </a:lnTo>
                  <a:lnTo>
                    <a:pt x="310" y="300"/>
                  </a:lnTo>
                  <a:lnTo>
                    <a:pt x="310" y="308"/>
                  </a:lnTo>
                  <a:lnTo>
                    <a:pt x="302" y="316"/>
                  </a:lnTo>
                  <a:lnTo>
                    <a:pt x="302" y="324"/>
                  </a:lnTo>
                  <a:lnTo>
                    <a:pt x="302" y="332"/>
                  </a:lnTo>
                  <a:lnTo>
                    <a:pt x="294" y="340"/>
                  </a:lnTo>
                  <a:lnTo>
                    <a:pt x="294" y="348"/>
                  </a:lnTo>
                  <a:lnTo>
                    <a:pt x="286" y="356"/>
                  </a:lnTo>
                  <a:lnTo>
                    <a:pt x="286" y="364"/>
                  </a:lnTo>
                  <a:lnTo>
                    <a:pt x="278" y="372"/>
                  </a:lnTo>
                  <a:lnTo>
                    <a:pt x="270" y="380"/>
                  </a:lnTo>
                  <a:lnTo>
                    <a:pt x="262" y="388"/>
                  </a:lnTo>
                  <a:lnTo>
                    <a:pt x="254" y="388"/>
                  </a:lnTo>
                  <a:lnTo>
                    <a:pt x="254" y="396"/>
                  </a:lnTo>
                  <a:lnTo>
                    <a:pt x="246" y="396"/>
                  </a:lnTo>
                  <a:lnTo>
                    <a:pt x="246" y="404"/>
                  </a:lnTo>
                  <a:lnTo>
                    <a:pt x="238" y="404"/>
                  </a:lnTo>
                  <a:lnTo>
                    <a:pt x="230" y="404"/>
                  </a:lnTo>
                  <a:lnTo>
                    <a:pt x="222" y="412"/>
                  </a:lnTo>
                  <a:lnTo>
                    <a:pt x="214" y="412"/>
                  </a:lnTo>
                  <a:lnTo>
                    <a:pt x="206" y="412"/>
                  </a:lnTo>
                  <a:lnTo>
                    <a:pt x="198" y="420"/>
                  </a:lnTo>
                  <a:lnTo>
                    <a:pt x="190" y="420"/>
                  </a:lnTo>
                  <a:lnTo>
                    <a:pt x="182" y="420"/>
                  </a:lnTo>
                  <a:lnTo>
                    <a:pt x="174" y="420"/>
                  </a:lnTo>
                  <a:lnTo>
                    <a:pt x="166" y="420"/>
                  </a:lnTo>
                  <a:lnTo>
                    <a:pt x="160" y="412"/>
                  </a:lnTo>
                  <a:lnTo>
                    <a:pt x="152" y="412"/>
                  </a:lnTo>
                  <a:lnTo>
                    <a:pt x="144" y="412"/>
                  </a:lnTo>
                  <a:lnTo>
                    <a:pt x="136" y="412"/>
                  </a:lnTo>
                  <a:lnTo>
                    <a:pt x="128" y="404"/>
                  </a:lnTo>
                  <a:lnTo>
                    <a:pt x="120" y="404"/>
                  </a:lnTo>
                  <a:lnTo>
                    <a:pt x="112" y="404"/>
                  </a:lnTo>
                  <a:lnTo>
                    <a:pt x="104" y="396"/>
                  </a:lnTo>
                  <a:lnTo>
                    <a:pt x="96" y="396"/>
                  </a:lnTo>
                  <a:lnTo>
                    <a:pt x="96" y="388"/>
                  </a:lnTo>
                  <a:lnTo>
                    <a:pt x="88" y="388"/>
                  </a:lnTo>
                  <a:lnTo>
                    <a:pt x="88" y="380"/>
                  </a:lnTo>
                  <a:lnTo>
                    <a:pt x="80" y="380"/>
                  </a:lnTo>
                  <a:lnTo>
                    <a:pt x="72" y="372"/>
                  </a:lnTo>
                  <a:lnTo>
                    <a:pt x="64" y="364"/>
                  </a:lnTo>
                  <a:lnTo>
                    <a:pt x="56" y="356"/>
                  </a:lnTo>
                  <a:lnTo>
                    <a:pt x="56" y="348"/>
                  </a:lnTo>
                  <a:lnTo>
                    <a:pt x="48" y="340"/>
                  </a:lnTo>
                  <a:lnTo>
                    <a:pt x="48" y="332"/>
                  </a:lnTo>
                  <a:lnTo>
                    <a:pt x="48" y="324"/>
                  </a:lnTo>
                  <a:lnTo>
                    <a:pt x="40" y="316"/>
                  </a:lnTo>
                  <a:lnTo>
                    <a:pt x="40" y="308"/>
                  </a:lnTo>
                  <a:lnTo>
                    <a:pt x="40" y="300"/>
                  </a:lnTo>
                  <a:lnTo>
                    <a:pt x="40" y="294"/>
                  </a:lnTo>
                  <a:lnTo>
                    <a:pt x="40" y="286"/>
                  </a:lnTo>
                  <a:lnTo>
                    <a:pt x="40" y="278"/>
                  </a:lnTo>
                  <a:lnTo>
                    <a:pt x="40" y="270"/>
                  </a:lnTo>
                  <a:lnTo>
                    <a:pt x="40" y="262"/>
                  </a:lnTo>
                  <a:lnTo>
                    <a:pt x="40" y="254"/>
                  </a:lnTo>
                  <a:lnTo>
                    <a:pt x="40" y="246"/>
                  </a:lnTo>
                  <a:lnTo>
                    <a:pt x="40" y="238"/>
                  </a:lnTo>
                  <a:lnTo>
                    <a:pt x="40" y="230"/>
                  </a:lnTo>
                  <a:lnTo>
                    <a:pt x="40" y="222"/>
                  </a:lnTo>
                  <a:lnTo>
                    <a:pt x="40" y="214"/>
                  </a:lnTo>
                  <a:lnTo>
                    <a:pt x="48" y="214"/>
                  </a:lnTo>
                  <a:lnTo>
                    <a:pt x="48" y="206"/>
                  </a:lnTo>
                  <a:lnTo>
                    <a:pt x="48" y="198"/>
                  </a:lnTo>
                  <a:lnTo>
                    <a:pt x="48" y="190"/>
                  </a:lnTo>
                  <a:lnTo>
                    <a:pt x="56" y="190"/>
                  </a:lnTo>
                  <a:lnTo>
                    <a:pt x="56" y="182"/>
                  </a:lnTo>
                  <a:lnTo>
                    <a:pt x="64" y="174"/>
                  </a:lnTo>
                  <a:lnTo>
                    <a:pt x="64" y="166"/>
                  </a:lnTo>
                  <a:lnTo>
                    <a:pt x="72" y="158"/>
                  </a:lnTo>
                  <a:lnTo>
                    <a:pt x="72" y="150"/>
                  </a:lnTo>
                  <a:lnTo>
                    <a:pt x="80" y="142"/>
                  </a:lnTo>
                  <a:lnTo>
                    <a:pt x="88" y="134"/>
                  </a:lnTo>
                  <a:lnTo>
                    <a:pt x="88" y="126"/>
                  </a:lnTo>
                  <a:lnTo>
                    <a:pt x="96" y="126"/>
                  </a:lnTo>
                  <a:lnTo>
                    <a:pt x="96" y="118"/>
                  </a:lnTo>
                  <a:lnTo>
                    <a:pt x="104" y="110"/>
                  </a:lnTo>
                  <a:lnTo>
                    <a:pt x="112" y="102"/>
                  </a:lnTo>
                  <a:lnTo>
                    <a:pt x="120" y="94"/>
                  </a:lnTo>
                  <a:lnTo>
                    <a:pt x="128" y="86"/>
                  </a:lnTo>
                  <a:lnTo>
                    <a:pt x="136" y="86"/>
                  </a:lnTo>
                  <a:lnTo>
                    <a:pt x="136" y="78"/>
                  </a:lnTo>
                  <a:lnTo>
                    <a:pt x="144" y="78"/>
                  </a:lnTo>
                  <a:lnTo>
                    <a:pt x="152" y="72"/>
                  </a:lnTo>
                  <a:lnTo>
                    <a:pt x="160" y="72"/>
                  </a:lnTo>
                  <a:lnTo>
                    <a:pt x="166" y="64"/>
                  </a:lnTo>
                  <a:lnTo>
                    <a:pt x="174" y="64"/>
                  </a:lnTo>
                  <a:lnTo>
                    <a:pt x="182" y="56"/>
                  </a:lnTo>
                  <a:lnTo>
                    <a:pt x="190" y="56"/>
                  </a:lnTo>
                  <a:lnTo>
                    <a:pt x="198" y="48"/>
                  </a:lnTo>
                  <a:lnTo>
                    <a:pt x="206" y="48"/>
                  </a:lnTo>
                  <a:lnTo>
                    <a:pt x="214" y="48"/>
                  </a:lnTo>
                  <a:lnTo>
                    <a:pt x="222" y="48"/>
                  </a:lnTo>
                  <a:lnTo>
                    <a:pt x="230" y="40"/>
                  </a:lnTo>
                  <a:lnTo>
                    <a:pt x="246" y="40"/>
                  </a:lnTo>
                  <a:lnTo>
                    <a:pt x="254" y="40"/>
                  </a:lnTo>
                  <a:lnTo>
                    <a:pt x="270" y="40"/>
                  </a:lnTo>
                  <a:lnTo>
                    <a:pt x="278" y="40"/>
                  </a:lnTo>
                  <a:lnTo>
                    <a:pt x="286" y="40"/>
                  </a:lnTo>
                  <a:lnTo>
                    <a:pt x="302" y="48"/>
                  </a:lnTo>
                  <a:lnTo>
                    <a:pt x="310" y="48"/>
                  </a:lnTo>
                  <a:lnTo>
                    <a:pt x="326" y="48"/>
                  </a:lnTo>
                  <a:lnTo>
                    <a:pt x="334" y="56"/>
                  </a:lnTo>
                  <a:lnTo>
                    <a:pt x="342" y="56"/>
                  </a:lnTo>
                  <a:lnTo>
                    <a:pt x="358" y="64"/>
                  </a:lnTo>
                  <a:lnTo>
                    <a:pt x="366" y="64"/>
                  </a:lnTo>
                  <a:lnTo>
                    <a:pt x="382" y="72"/>
                  </a:lnTo>
                  <a:lnTo>
                    <a:pt x="388" y="78"/>
                  </a:lnTo>
                  <a:lnTo>
                    <a:pt x="396" y="86"/>
                  </a:lnTo>
                  <a:lnTo>
                    <a:pt x="412" y="86"/>
                  </a:lnTo>
                  <a:lnTo>
                    <a:pt x="420" y="94"/>
                  </a:lnTo>
                  <a:lnTo>
                    <a:pt x="428" y="102"/>
                  </a:lnTo>
                  <a:lnTo>
                    <a:pt x="436" y="110"/>
                  </a:lnTo>
                  <a:lnTo>
                    <a:pt x="452" y="118"/>
                  </a:lnTo>
                  <a:lnTo>
                    <a:pt x="460" y="126"/>
                  </a:lnTo>
                  <a:lnTo>
                    <a:pt x="468" y="134"/>
                  </a:lnTo>
                  <a:lnTo>
                    <a:pt x="476" y="142"/>
                  </a:lnTo>
                  <a:lnTo>
                    <a:pt x="484" y="158"/>
                  </a:lnTo>
                  <a:lnTo>
                    <a:pt x="492" y="166"/>
                  </a:lnTo>
                  <a:lnTo>
                    <a:pt x="500" y="174"/>
                  </a:lnTo>
                  <a:lnTo>
                    <a:pt x="508" y="182"/>
                  </a:lnTo>
                  <a:lnTo>
                    <a:pt x="516" y="190"/>
                  </a:lnTo>
                  <a:lnTo>
                    <a:pt x="524" y="198"/>
                  </a:lnTo>
                  <a:lnTo>
                    <a:pt x="532" y="214"/>
                  </a:lnTo>
                  <a:lnTo>
                    <a:pt x="540" y="222"/>
                  </a:lnTo>
                  <a:lnTo>
                    <a:pt x="540" y="230"/>
                  </a:lnTo>
                  <a:lnTo>
                    <a:pt x="548" y="238"/>
                  </a:lnTo>
                  <a:lnTo>
                    <a:pt x="548" y="246"/>
                  </a:lnTo>
                  <a:lnTo>
                    <a:pt x="556" y="254"/>
                  </a:lnTo>
                  <a:lnTo>
                    <a:pt x="564" y="262"/>
                  </a:lnTo>
                  <a:lnTo>
                    <a:pt x="572" y="270"/>
                  </a:lnTo>
                  <a:lnTo>
                    <a:pt x="572" y="278"/>
                  </a:lnTo>
                  <a:lnTo>
                    <a:pt x="580" y="294"/>
                  </a:lnTo>
                  <a:lnTo>
                    <a:pt x="588" y="300"/>
                  </a:lnTo>
                  <a:lnTo>
                    <a:pt x="588" y="308"/>
                  </a:lnTo>
                  <a:lnTo>
                    <a:pt x="596" y="316"/>
                  </a:lnTo>
                  <a:lnTo>
                    <a:pt x="602" y="324"/>
                  </a:lnTo>
                  <a:lnTo>
                    <a:pt x="610" y="332"/>
                  </a:lnTo>
                  <a:lnTo>
                    <a:pt x="618" y="340"/>
                  </a:lnTo>
                  <a:lnTo>
                    <a:pt x="618" y="348"/>
                  </a:lnTo>
                  <a:lnTo>
                    <a:pt x="626" y="356"/>
                  </a:lnTo>
                  <a:lnTo>
                    <a:pt x="634" y="364"/>
                  </a:lnTo>
                  <a:lnTo>
                    <a:pt x="642" y="380"/>
                  </a:lnTo>
                  <a:lnTo>
                    <a:pt x="650" y="388"/>
                  </a:lnTo>
                  <a:lnTo>
                    <a:pt x="658" y="396"/>
                  </a:lnTo>
                  <a:lnTo>
                    <a:pt x="666" y="404"/>
                  </a:lnTo>
                  <a:lnTo>
                    <a:pt x="674" y="412"/>
                  </a:lnTo>
                  <a:lnTo>
                    <a:pt x="682" y="412"/>
                  </a:lnTo>
                  <a:lnTo>
                    <a:pt x="698" y="420"/>
                  </a:lnTo>
                  <a:lnTo>
                    <a:pt x="706" y="428"/>
                  </a:lnTo>
                  <a:lnTo>
                    <a:pt x="714" y="436"/>
                  </a:lnTo>
                  <a:lnTo>
                    <a:pt x="722" y="444"/>
                  </a:lnTo>
                  <a:lnTo>
                    <a:pt x="730" y="444"/>
                  </a:lnTo>
                  <a:lnTo>
                    <a:pt x="738" y="452"/>
                  </a:lnTo>
                  <a:lnTo>
                    <a:pt x="754" y="452"/>
                  </a:lnTo>
                  <a:lnTo>
                    <a:pt x="762" y="460"/>
                  </a:lnTo>
                  <a:lnTo>
                    <a:pt x="770" y="460"/>
                  </a:lnTo>
                  <a:lnTo>
                    <a:pt x="778" y="460"/>
                  </a:lnTo>
                  <a:lnTo>
                    <a:pt x="786" y="460"/>
                  </a:lnTo>
                  <a:lnTo>
                    <a:pt x="794" y="468"/>
                  </a:lnTo>
                  <a:lnTo>
                    <a:pt x="802" y="468"/>
                  </a:lnTo>
                  <a:lnTo>
                    <a:pt x="810" y="468"/>
                  </a:lnTo>
                  <a:lnTo>
                    <a:pt x="816" y="468"/>
                  </a:lnTo>
                  <a:lnTo>
                    <a:pt x="824" y="468"/>
                  </a:lnTo>
                  <a:lnTo>
                    <a:pt x="832" y="468"/>
                  </a:lnTo>
                  <a:lnTo>
                    <a:pt x="840" y="468"/>
                  </a:lnTo>
                  <a:lnTo>
                    <a:pt x="848" y="468"/>
                  </a:lnTo>
                  <a:lnTo>
                    <a:pt x="856" y="468"/>
                  </a:lnTo>
                  <a:lnTo>
                    <a:pt x="864" y="468"/>
                  </a:lnTo>
                  <a:lnTo>
                    <a:pt x="872" y="468"/>
                  </a:lnTo>
                  <a:lnTo>
                    <a:pt x="880" y="468"/>
                  </a:lnTo>
                  <a:lnTo>
                    <a:pt x="888" y="468"/>
                  </a:lnTo>
                  <a:lnTo>
                    <a:pt x="896" y="468"/>
                  </a:lnTo>
                  <a:lnTo>
                    <a:pt x="904" y="460"/>
                  </a:lnTo>
                  <a:lnTo>
                    <a:pt x="912" y="460"/>
                  </a:lnTo>
                  <a:lnTo>
                    <a:pt x="920" y="460"/>
                  </a:lnTo>
                  <a:lnTo>
                    <a:pt x="928" y="452"/>
                  </a:lnTo>
                  <a:lnTo>
                    <a:pt x="936" y="452"/>
                  </a:lnTo>
                  <a:lnTo>
                    <a:pt x="944" y="444"/>
                  </a:lnTo>
                  <a:lnTo>
                    <a:pt x="952" y="444"/>
                  </a:lnTo>
                  <a:lnTo>
                    <a:pt x="960" y="436"/>
                  </a:lnTo>
                  <a:lnTo>
                    <a:pt x="968" y="428"/>
                  </a:lnTo>
                  <a:lnTo>
                    <a:pt x="976" y="420"/>
                  </a:lnTo>
                  <a:lnTo>
                    <a:pt x="984" y="420"/>
                  </a:lnTo>
                  <a:lnTo>
                    <a:pt x="984" y="412"/>
                  </a:lnTo>
                  <a:lnTo>
                    <a:pt x="992" y="404"/>
                  </a:lnTo>
                  <a:lnTo>
                    <a:pt x="1000" y="396"/>
                  </a:lnTo>
                  <a:lnTo>
                    <a:pt x="1008" y="396"/>
                  </a:lnTo>
                  <a:lnTo>
                    <a:pt x="1008" y="388"/>
                  </a:lnTo>
                  <a:lnTo>
                    <a:pt x="1016" y="380"/>
                  </a:lnTo>
                  <a:lnTo>
                    <a:pt x="1016" y="372"/>
                  </a:lnTo>
                  <a:lnTo>
                    <a:pt x="1024" y="364"/>
                  </a:lnTo>
                  <a:lnTo>
                    <a:pt x="1024" y="356"/>
                  </a:lnTo>
                  <a:lnTo>
                    <a:pt x="1030" y="348"/>
                  </a:lnTo>
                  <a:lnTo>
                    <a:pt x="1030" y="340"/>
                  </a:lnTo>
                  <a:lnTo>
                    <a:pt x="1030" y="332"/>
                  </a:lnTo>
                  <a:lnTo>
                    <a:pt x="1038" y="332"/>
                  </a:lnTo>
                  <a:lnTo>
                    <a:pt x="1038" y="324"/>
                  </a:lnTo>
                  <a:lnTo>
                    <a:pt x="1038" y="316"/>
                  </a:lnTo>
                  <a:lnTo>
                    <a:pt x="1038" y="308"/>
                  </a:lnTo>
                  <a:lnTo>
                    <a:pt x="1038" y="300"/>
                  </a:lnTo>
                  <a:lnTo>
                    <a:pt x="1038" y="294"/>
                  </a:lnTo>
                  <a:lnTo>
                    <a:pt x="1038" y="286"/>
                  </a:lnTo>
                  <a:lnTo>
                    <a:pt x="1038" y="278"/>
                  </a:lnTo>
                  <a:lnTo>
                    <a:pt x="1038" y="270"/>
                  </a:lnTo>
                  <a:lnTo>
                    <a:pt x="1038" y="262"/>
                  </a:lnTo>
                  <a:lnTo>
                    <a:pt x="1038" y="254"/>
                  </a:lnTo>
                  <a:lnTo>
                    <a:pt x="1038" y="246"/>
                  </a:lnTo>
                  <a:lnTo>
                    <a:pt x="1038" y="238"/>
                  </a:lnTo>
                  <a:lnTo>
                    <a:pt x="1030" y="230"/>
                  </a:lnTo>
                  <a:lnTo>
                    <a:pt x="1030" y="222"/>
                  </a:lnTo>
                  <a:lnTo>
                    <a:pt x="1030" y="214"/>
                  </a:lnTo>
                  <a:lnTo>
                    <a:pt x="1030" y="206"/>
                  </a:lnTo>
                  <a:lnTo>
                    <a:pt x="1024" y="206"/>
                  </a:lnTo>
                  <a:lnTo>
                    <a:pt x="1024" y="198"/>
                  </a:lnTo>
                  <a:lnTo>
                    <a:pt x="1024" y="190"/>
                  </a:lnTo>
                  <a:lnTo>
                    <a:pt x="1016" y="190"/>
                  </a:lnTo>
                  <a:lnTo>
                    <a:pt x="1016" y="182"/>
                  </a:lnTo>
                  <a:lnTo>
                    <a:pt x="1008" y="174"/>
                  </a:lnTo>
                  <a:lnTo>
                    <a:pt x="1008" y="166"/>
                  </a:lnTo>
                  <a:lnTo>
                    <a:pt x="1000" y="166"/>
                  </a:lnTo>
                  <a:lnTo>
                    <a:pt x="1000" y="158"/>
                  </a:lnTo>
                  <a:lnTo>
                    <a:pt x="992" y="150"/>
                  </a:lnTo>
                  <a:lnTo>
                    <a:pt x="984" y="142"/>
                  </a:lnTo>
                  <a:lnTo>
                    <a:pt x="976" y="134"/>
                  </a:lnTo>
                  <a:lnTo>
                    <a:pt x="968" y="126"/>
                  </a:lnTo>
                  <a:lnTo>
                    <a:pt x="960" y="118"/>
                  </a:lnTo>
                  <a:lnTo>
                    <a:pt x="952" y="110"/>
                  </a:lnTo>
                  <a:lnTo>
                    <a:pt x="944" y="110"/>
                  </a:lnTo>
                  <a:lnTo>
                    <a:pt x="936" y="102"/>
                  </a:lnTo>
                  <a:lnTo>
                    <a:pt x="928" y="102"/>
                  </a:lnTo>
                  <a:lnTo>
                    <a:pt x="920" y="102"/>
                  </a:lnTo>
                  <a:lnTo>
                    <a:pt x="920" y="94"/>
                  </a:lnTo>
                  <a:lnTo>
                    <a:pt x="912" y="94"/>
                  </a:lnTo>
                  <a:lnTo>
                    <a:pt x="904" y="94"/>
                  </a:lnTo>
                  <a:lnTo>
                    <a:pt x="896" y="94"/>
                  </a:lnTo>
                  <a:lnTo>
                    <a:pt x="888" y="94"/>
                  </a:lnTo>
                  <a:lnTo>
                    <a:pt x="880" y="94"/>
                  </a:lnTo>
                  <a:lnTo>
                    <a:pt x="872" y="94"/>
                  </a:lnTo>
                  <a:lnTo>
                    <a:pt x="864" y="94"/>
                  </a:lnTo>
                  <a:lnTo>
                    <a:pt x="856" y="94"/>
                  </a:lnTo>
                  <a:lnTo>
                    <a:pt x="848" y="94"/>
                  </a:lnTo>
                  <a:lnTo>
                    <a:pt x="840" y="94"/>
                  </a:lnTo>
                  <a:lnTo>
                    <a:pt x="832" y="94"/>
                  </a:lnTo>
                  <a:lnTo>
                    <a:pt x="824" y="102"/>
                  </a:lnTo>
                  <a:lnTo>
                    <a:pt x="816" y="102"/>
                  </a:lnTo>
                  <a:lnTo>
                    <a:pt x="810" y="102"/>
                  </a:lnTo>
                  <a:lnTo>
                    <a:pt x="810" y="110"/>
                  </a:lnTo>
                  <a:lnTo>
                    <a:pt x="802" y="110"/>
                  </a:lnTo>
                  <a:lnTo>
                    <a:pt x="794" y="110"/>
                  </a:lnTo>
                  <a:lnTo>
                    <a:pt x="786" y="118"/>
                  </a:lnTo>
                  <a:lnTo>
                    <a:pt x="778" y="126"/>
                  </a:lnTo>
                  <a:lnTo>
                    <a:pt x="770" y="126"/>
                  </a:lnTo>
                  <a:lnTo>
                    <a:pt x="770" y="134"/>
                  </a:lnTo>
                  <a:lnTo>
                    <a:pt x="762" y="134"/>
                  </a:lnTo>
                  <a:lnTo>
                    <a:pt x="754" y="142"/>
                  </a:lnTo>
                  <a:lnTo>
                    <a:pt x="754" y="150"/>
                  </a:lnTo>
                  <a:lnTo>
                    <a:pt x="746" y="150"/>
                  </a:lnTo>
                  <a:lnTo>
                    <a:pt x="746" y="158"/>
                  </a:lnTo>
                  <a:lnTo>
                    <a:pt x="738" y="166"/>
                  </a:lnTo>
                  <a:lnTo>
                    <a:pt x="738" y="174"/>
                  </a:lnTo>
                  <a:lnTo>
                    <a:pt x="730" y="182"/>
                  </a:lnTo>
                  <a:lnTo>
                    <a:pt x="730" y="190"/>
                  </a:lnTo>
                  <a:lnTo>
                    <a:pt x="722" y="198"/>
                  </a:lnTo>
                  <a:lnTo>
                    <a:pt x="722" y="206"/>
                  </a:lnTo>
                  <a:lnTo>
                    <a:pt x="722" y="214"/>
                  </a:lnTo>
                  <a:lnTo>
                    <a:pt x="722" y="222"/>
                  </a:lnTo>
                  <a:lnTo>
                    <a:pt x="722" y="230"/>
                  </a:lnTo>
                  <a:lnTo>
                    <a:pt x="722" y="238"/>
                  </a:lnTo>
                  <a:lnTo>
                    <a:pt x="722" y="246"/>
                  </a:lnTo>
                  <a:lnTo>
                    <a:pt x="722" y="254"/>
                  </a:lnTo>
                  <a:lnTo>
                    <a:pt x="722" y="262"/>
                  </a:lnTo>
                  <a:lnTo>
                    <a:pt x="722" y="270"/>
                  </a:lnTo>
                  <a:lnTo>
                    <a:pt x="722" y="278"/>
                  </a:lnTo>
                  <a:lnTo>
                    <a:pt x="722" y="286"/>
                  </a:lnTo>
                  <a:lnTo>
                    <a:pt x="730" y="294"/>
                  </a:lnTo>
                  <a:lnTo>
                    <a:pt x="730" y="300"/>
                  </a:lnTo>
                  <a:lnTo>
                    <a:pt x="738" y="308"/>
                  </a:lnTo>
                  <a:lnTo>
                    <a:pt x="738" y="316"/>
                  </a:lnTo>
                  <a:lnTo>
                    <a:pt x="746" y="324"/>
                  </a:lnTo>
                  <a:lnTo>
                    <a:pt x="754" y="332"/>
                  </a:lnTo>
                  <a:lnTo>
                    <a:pt x="762" y="340"/>
                  </a:lnTo>
                  <a:lnTo>
                    <a:pt x="762" y="348"/>
                  </a:lnTo>
                  <a:lnTo>
                    <a:pt x="770" y="348"/>
                  </a:lnTo>
                  <a:lnTo>
                    <a:pt x="778" y="356"/>
                  </a:lnTo>
                  <a:lnTo>
                    <a:pt x="786" y="364"/>
                  </a:lnTo>
                  <a:lnTo>
                    <a:pt x="794" y="364"/>
                  </a:lnTo>
                  <a:lnTo>
                    <a:pt x="794" y="372"/>
                  </a:lnTo>
                  <a:lnTo>
                    <a:pt x="802" y="372"/>
                  </a:lnTo>
                  <a:lnTo>
                    <a:pt x="810" y="372"/>
                  </a:lnTo>
                  <a:lnTo>
                    <a:pt x="816" y="380"/>
                  </a:lnTo>
                  <a:lnTo>
                    <a:pt x="824" y="380"/>
                  </a:lnTo>
                  <a:lnTo>
                    <a:pt x="832" y="380"/>
                  </a:lnTo>
                  <a:lnTo>
                    <a:pt x="840" y="380"/>
                  </a:lnTo>
                  <a:lnTo>
                    <a:pt x="848" y="380"/>
                  </a:lnTo>
                  <a:lnTo>
                    <a:pt x="856" y="380"/>
                  </a:lnTo>
                  <a:lnTo>
                    <a:pt x="864" y="380"/>
                  </a:lnTo>
                  <a:lnTo>
                    <a:pt x="872" y="380"/>
                  </a:lnTo>
                  <a:lnTo>
                    <a:pt x="880" y="380"/>
                  </a:lnTo>
                  <a:lnTo>
                    <a:pt x="888" y="380"/>
                  </a:lnTo>
                  <a:lnTo>
                    <a:pt x="888" y="372"/>
                  </a:lnTo>
                  <a:lnTo>
                    <a:pt x="896" y="372"/>
                  </a:lnTo>
                  <a:lnTo>
                    <a:pt x="904" y="372"/>
                  </a:lnTo>
                  <a:lnTo>
                    <a:pt x="904" y="364"/>
                  </a:lnTo>
                  <a:lnTo>
                    <a:pt x="912" y="364"/>
                  </a:lnTo>
                  <a:lnTo>
                    <a:pt x="920" y="364"/>
                  </a:lnTo>
                  <a:lnTo>
                    <a:pt x="928" y="356"/>
                  </a:lnTo>
                  <a:lnTo>
                    <a:pt x="936" y="348"/>
                  </a:lnTo>
                  <a:lnTo>
                    <a:pt x="944" y="340"/>
                  </a:lnTo>
                  <a:lnTo>
                    <a:pt x="952" y="332"/>
                  </a:lnTo>
                  <a:lnTo>
                    <a:pt x="952" y="324"/>
                  </a:lnTo>
                  <a:lnTo>
                    <a:pt x="960" y="324"/>
                  </a:lnTo>
                  <a:lnTo>
                    <a:pt x="960" y="316"/>
                  </a:lnTo>
                  <a:lnTo>
                    <a:pt x="960" y="308"/>
                  </a:lnTo>
                  <a:lnTo>
                    <a:pt x="968" y="308"/>
                  </a:lnTo>
                  <a:lnTo>
                    <a:pt x="968" y="300"/>
                  </a:lnTo>
                  <a:lnTo>
                    <a:pt x="968" y="294"/>
                  </a:lnTo>
                  <a:lnTo>
                    <a:pt x="968" y="286"/>
                  </a:lnTo>
                  <a:lnTo>
                    <a:pt x="968" y="278"/>
                  </a:lnTo>
                  <a:lnTo>
                    <a:pt x="968" y="270"/>
                  </a:lnTo>
                  <a:lnTo>
                    <a:pt x="968" y="262"/>
                  </a:lnTo>
                  <a:lnTo>
                    <a:pt x="960" y="254"/>
                  </a:lnTo>
                  <a:lnTo>
                    <a:pt x="960" y="246"/>
                  </a:lnTo>
                  <a:lnTo>
                    <a:pt x="960" y="238"/>
                  </a:lnTo>
                  <a:lnTo>
                    <a:pt x="952" y="238"/>
                  </a:lnTo>
                  <a:lnTo>
                    <a:pt x="952" y="230"/>
                  </a:lnTo>
                  <a:lnTo>
                    <a:pt x="944" y="222"/>
                  </a:lnTo>
                  <a:lnTo>
                    <a:pt x="944" y="214"/>
                  </a:lnTo>
                  <a:lnTo>
                    <a:pt x="936" y="214"/>
                  </a:lnTo>
                  <a:lnTo>
                    <a:pt x="936" y="206"/>
                  </a:lnTo>
                  <a:lnTo>
                    <a:pt x="928" y="206"/>
                  </a:lnTo>
                  <a:lnTo>
                    <a:pt x="920" y="206"/>
                  </a:lnTo>
                  <a:lnTo>
                    <a:pt x="920" y="198"/>
                  </a:lnTo>
                  <a:lnTo>
                    <a:pt x="912" y="198"/>
                  </a:lnTo>
                  <a:lnTo>
                    <a:pt x="904" y="190"/>
                  </a:lnTo>
                  <a:lnTo>
                    <a:pt x="896" y="190"/>
                  </a:lnTo>
                  <a:lnTo>
                    <a:pt x="888" y="190"/>
                  </a:lnTo>
                  <a:lnTo>
                    <a:pt x="880" y="190"/>
                  </a:lnTo>
                  <a:lnTo>
                    <a:pt x="872" y="190"/>
                  </a:lnTo>
                  <a:lnTo>
                    <a:pt x="864" y="190"/>
                  </a:lnTo>
                  <a:lnTo>
                    <a:pt x="864" y="198"/>
                  </a:lnTo>
                  <a:lnTo>
                    <a:pt x="856" y="198"/>
                  </a:lnTo>
                  <a:lnTo>
                    <a:pt x="848" y="198"/>
                  </a:lnTo>
                  <a:lnTo>
                    <a:pt x="848" y="206"/>
                  </a:lnTo>
                  <a:lnTo>
                    <a:pt x="840" y="206"/>
                  </a:lnTo>
                  <a:lnTo>
                    <a:pt x="840" y="214"/>
                  </a:lnTo>
                  <a:lnTo>
                    <a:pt x="832" y="214"/>
                  </a:lnTo>
                  <a:lnTo>
                    <a:pt x="832" y="222"/>
                  </a:lnTo>
                  <a:lnTo>
                    <a:pt x="824" y="222"/>
                  </a:lnTo>
                  <a:lnTo>
                    <a:pt x="824" y="230"/>
                  </a:lnTo>
                  <a:lnTo>
                    <a:pt x="824" y="238"/>
                  </a:lnTo>
                  <a:lnTo>
                    <a:pt x="816" y="238"/>
                  </a:lnTo>
                  <a:lnTo>
                    <a:pt x="816" y="246"/>
                  </a:lnTo>
                  <a:lnTo>
                    <a:pt x="816" y="254"/>
                  </a:lnTo>
                  <a:lnTo>
                    <a:pt x="816" y="262"/>
                  </a:lnTo>
                  <a:lnTo>
                    <a:pt x="824" y="262"/>
                  </a:lnTo>
                  <a:lnTo>
                    <a:pt x="824" y="270"/>
                  </a:lnTo>
                  <a:lnTo>
                    <a:pt x="824" y="278"/>
                  </a:lnTo>
                  <a:lnTo>
                    <a:pt x="824" y="286"/>
                  </a:lnTo>
                  <a:lnTo>
                    <a:pt x="832" y="286"/>
                  </a:lnTo>
                  <a:lnTo>
                    <a:pt x="832" y="294"/>
                  </a:lnTo>
                  <a:lnTo>
                    <a:pt x="832" y="300"/>
                  </a:lnTo>
                  <a:lnTo>
                    <a:pt x="840" y="300"/>
                  </a:lnTo>
                  <a:lnTo>
                    <a:pt x="864" y="278"/>
                  </a:lnTo>
                  <a:lnTo>
                    <a:pt x="864" y="270"/>
                  </a:lnTo>
                  <a:lnTo>
                    <a:pt x="856" y="270"/>
                  </a:lnTo>
                  <a:lnTo>
                    <a:pt x="856" y="262"/>
                  </a:lnTo>
                  <a:lnTo>
                    <a:pt x="856" y="254"/>
                  </a:lnTo>
                  <a:lnTo>
                    <a:pt x="856" y="246"/>
                  </a:lnTo>
                  <a:lnTo>
                    <a:pt x="856" y="238"/>
                  </a:lnTo>
                  <a:lnTo>
                    <a:pt x="864" y="238"/>
                  </a:lnTo>
                  <a:lnTo>
                    <a:pt x="864" y="230"/>
                  </a:lnTo>
                  <a:lnTo>
                    <a:pt x="872" y="230"/>
                  </a:lnTo>
                  <a:lnTo>
                    <a:pt x="880" y="230"/>
                  </a:lnTo>
                  <a:lnTo>
                    <a:pt x="888" y="230"/>
                  </a:lnTo>
                  <a:lnTo>
                    <a:pt x="896" y="230"/>
                  </a:lnTo>
                  <a:lnTo>
                    <a:pt x="904" y="230"/>
                  </a:lnTo>
                  <a:lnTo>
                    <a:pt x="904" y="238"/>
                  </a:lnTo>
                  <a:lnTo>
                    <a:pt x="912" y="238"/>
                  </a:lnTo>
                  <a:lnTo>
                    <a:pt x="912" y="246"/>
                  </a:lnTo>
                  <a:lnTo>
                    <a:pt x="920" y="246"/>
                  </a:lnTo>
                  <a:lnTo>
                    <a:pt x="920" y="254"/>
                  </a:lnTo>
                  <a:lnTo>
                    <a:pt x="920" y="262"/>
                  </a:lnTo>
                  <a:lnTo>
                    <a:pt x="928" y="262"/>
                  </a:lnTo>
                  <a:lnTo>
                    <a:pt x="928" y="270"/>
                  </a:lnTo>
                  <a:lnTo>
                    <a:pt x="928" y="278"/>
                  </a:lnTo>
                  <a:lnTo>
                    <a:pt x="928" y="286"/>
                  </a:lnTo>
                  <a:lnTo>
                    <a:pt x="928" y="294"/>
                  </a:lnTo>
                  <a:lnTo>
                    <a:pt x="928" y="300"/>
                  </a:lnTo>
                  <a:lnTo>
                    <a:pt x="920" y="308"/>
                  </a:lnTo>
                  <a:lnTo>
                    <a:pt x="920" y="316"/>
                  </a:lnTo>
                  <a:lnTo>
                    <a:pt x="912" y="316"/>
                  </a:lnTo>
                  <a:lnTo>
                    <a:pt x="904" y="324"/>
                  </a:lnTo>
                  <a:lnTo>
                    <a:pt x="896" y="332"/>
                  </a:lnTo>
                  <a:lnTo>
                    <a:pt x="888" y="332"/>
                  </a:lnTo>
                  <a:lnTo>
                    <a:pt x="880" y="340"/>
                  </a:lnTo>
                  <a:lnTo>
                    <a:pt x="872" y="340"/>
                  </a:lnTo>
                  <a:lnTo>
                    <a:pt x="864" y="340"/>
                  </a:lnTo>
                  <a:lnTo>
                    <a:pt x="856" y="348"/>
                  </a:lnTo>
                  <a:lnTo>
                    <a:pt x="848" y="348"/>
                  </a:lnTo>
                  <a:lnTo>
                    <a:pt x="840" y="348"/>
                  </a:lnTo>
                  <a:lnTo>
                    <a:pt x="840" y="340"/>
                  </a:lnTo>
                  <a:lnTo>
                    <a:pt x="832" y="340"/>
                  </a:lnTo>
                  <a:lnTo>
                    <a:pt x="824" y="340"/>
                  </a:lnTo>
                  <a:lnTo>
                    <a:pt x="816" y="340"/>
                  </a:lnTo>
                  <a:lnTo>
                    <a:pt x="816" y="332"/>
                  </a:lnTo>
                  <a:lnTo>
                    <a:pt x="810" y="332"/>
                  </a:lnTo>
                  <a:lnTo>
                    <a:pt x="802" y="332"/>
                  </a:lnTo>
                  <a:lnTo>
                    <a:pt x="802" y="324"/>
                  </a:lnTo>
                  <a:lnTo>
                    <a:pt x="794" y="324"/>
                  </a:lnTo>
                  <a:lnTo>
                    <a:pt x="794" y="316"/>
                  </a:lnTo>
                  <a:lnTo>
                    <a:pt x="786" y="316"/>
                  </a:lnTo>
                  <a:lnTo>
                    <a:pt x="786" y="308"/>
                  </a:lnTo>
                  <a:lnTo>
                    <a:pt x="778" y="308"/>
                  </a:lnTo>
                  <a:lnTo>
                    <a:pt x="778" y="300"/>
                  </a:lnTo>
                  <a:lnTo>
                    <a:pt x="770" y="300"/>
                  </a:lnTo>
                  <a:lnTo>
                    <a:pt x="770" y="294"/>
                  </a:lnTo>
                  <a:lnTo>
                    <a:pt x="770" y="286"/>
                  </a:lnTo>
                  <a:lnTo>
                    <a:pt x="762" y="286"/>
                  </a:lnTo>
                  <a:lnTo>
                    <a:pt x="762" y="278"/>
                  </a:lnTo>
                  <a:lnTo>
                    <a:pt x="762" y="270"/>
                  </a:lnTo>
                  <a:lnTo>
                    <a:pt x="754" y="262"/>
                  </a:lnTo>
                  <a:lnTo>
                    <a:pt x="754" y="254"/>
                  </a:lnTo>
                  <a:lnTo>
                    <a:pt x="754" y="246"/>
                  </a:lnTo>
                  <a:lnTo>
                    <a:pt x="754" y="238"/>
                  </a:lnTo>
                  <a:lnTo>
                    <a:pt x="754" y="230"/>
                  </a:lnTo>
                  <a:lnTo>
                    <a:pt x="754" y="222"/>
                  </a:lnTo>
                  <a:lnTo>
                    <a:pt x="762" y="214"/>
                  </a:lnTo>
                  <a:lnTo>
                    <a:pt x="762" y="206"/>
                  </a:lnTo>
                  <a:lnTo>
                    <a:pt x="762" y="198"/>
                  </a:lnTo>
                  <a:lnTo>
                    <a:pt x="770" y="198"/>
                  </a:lnTo>
                  <a:lnTo>
                    <a:pt x="770" y="190"/>
                  </a:lnTo>
                  <a:lnTo>
                    <a:pt x="770" y="182"/>
                  </a:lnTo>
                  <a:lnTo>
                    <a:pt x="778" y="182"/>
                  </a:lnTo>
                  <a:lnTo>
                    <a:pt x="778" y="174"/>
                  </a:lnTo>
                  <a:lnTo>
                    <a:pt x="786" y="166"/>
                  </a:lnTo>
                  <a:lnTo>
                    <a:pt x="794" y="158"/>
                  </a:lnTo>
                  <a:lnTo>
                    <a:pt x="802" y="150"/>
                  </a:lnTo>
                  <a:lnTo>
                    <a:pt x="810" y="150"/>
                  </a:lnTo>
                  <a:lnTo>
                    <a:pt x="810" y="142"/>
                  </a:lnTo>
                  <a:lnTo>
                    <a:pt x="816" y="142"/>
                  </a:lnTo>
                  <a:lnTo>
                    <a:pt x="824" y="142"/>
                  </a:lnTo>
                  <a:lnTo>
                    <a:pt x="832" y="134"/>
                  </a:lnTo>
                  <a:lnTo>
                    <a:pt x="840" y="134"/>
                  </a:lnTo>
                  <a:lnTo>
                    <a:pt x="848" y="134"/>
                  </a:lnTo>
                  <a:lnTo>
                    <a:pt x="856" y="126"/>
                  </a:lnTo>
                  <a:lnTo>
                    <a:pt x="864" y="126"/>
                  </a:lnTo>
                  <a:lnTo>
                    <a:pt x="872" y="126"/>
                  </a:lnTo>
                  <a:lnTo>
                    <a:pt x="880" y="126"/>
                  </a:lnTo>
                  <a:lnTo>
                    <a:pt x="888" y="126"/>
                  </a:lnTo>
                  <a:lnTo>
                    <a:pt x="896" y="134"/>
                  </a:lnTo>
                  <a:lnTo>
                    <a:pt x="904" y="134"/>
                  </a:lnTo>
                  <a:lnTo>
                    <a:pt x="912" y="134"/>
                  </a:lnTo>
                  <a:lnTo>
                    <a:pt x="920" y="142"/>
                  </a:lnTo>
                  <a:lnTo>
                    <a:pt x="928" y="142"/>
                  </a:lnTo>
                  <a:lnTo>
                    <a:pt x="936" y="150"/>
                  </a:lnTo>
                  <a:lnTo>
                    <a:pt x="944" y="150"/>
                  </a:lnTo>
                  <a:lnTo>
                    <a:pt x="944" y="158"/>
                  </a:lnTo>
                  <a:lnTo>
                    <a:pt x="952" y="158"/>
                  </a:lnTo>
                  <a:lnTo>
                    <a:pt x="952" y="166"/>
                  </a:lnTo>
                  <a:lnTo>
                    <a:pt x="960" y="166"/>
                  </a:lnTo>
                  <a:lnTo>
                    <a:pt x="960" y="174"/>
                  </a:lnTo>
                  <a:lnTo>
                    <a:pt x="968" y="174"/>
                  </a:lnTo>
                  <a:lnTo>
                    <a:pt x="968" y="182"/>
                  </a:lnTo>
                  <a:lnTo>
                    <a:pt x="976" y="190"/>
                  </a:lnTo>
                  <a:lnTo>
                    <a:pt x="976" y="198"/>
                  </a:lnTo>
                  <a:lnTo>
                    <a:pt x="984" y="198"/>
                  </a:lnTo>
                  <a:lnTo>
                    <a:pt x="984" y="206"/>
                  </a:lnTo>
                  <a:lnTo>
                    <a:pt x="992" y="214"/>
                  </a:lnTo>
                  <a:lnTo>
                    <a:pt x="992" y="222"/>
                  </a:lnTo>
                  <a:lnTo>
                    <a:pt x="992" y="230"/>
                  </a:lnTo>
                  <a:lnTo>
                    <a:pt x="1000" y="230"/>
                  </a:lnTo>
                  <a:lnTo>
                    <a:pt x="1000" y="238"/>
                  </a:lnTo>
                  <a:lnTo>
                    <a:pt x="1000" y="246"/>
                  </a:lnTo>
                  <a:lnTo>
                    <a:pt x="1000" y="254"/>
                  </a:lnTo>
                  <a:lnTo>
                    <a:pt x="1000" y="262"/>
                  </a:lnTo>
                  <a:lnTo>
                    <a:pt x="1008" y="270"/>
                  </a:lnTo>
                  <a:lnTo>
                    <a:pt x="1008" y="278"/>
                  </a:lnTo>
                  <a:lnTo>
                    <a:pt x="1008" y="286"/>
                  </a:lnTo>
                  <a:lnTo>
                    <a:pt x="1008" y="294"/>
                  </a:lnTo>
                  <a:lnTo>
                    <a:pt x="1000" y="300"/>
                  </a:lnTo>
                  <a:lnTo>
                    <a:pt x="1000" y="308"/>
                  </a:lnTo>
                  <a:lnTo>
                    <a:pt x="1000" y="316"/>
                  </a:lnTo>
                  <a:lnTo>
                    <a:pt x="1000" y="324"/>
                  </a:lnTo>
                  <a:lnTo>
                    <a:pt x="1000" y="332"/>
                  </a:lnTo>
                  <a:lnTo>
                    <a:pt x="992" y="340"/>
                  </a:lnTo>
                  <a:lnTo>
                    <a:pt x="992" y="348"/>
                  </a:lnTo>
                  <a:lnTo>
                    <a:pt x="984" y="356"/>
                  </a:lnTo>
                  <a:lnTo>
                    <a:pt x="984" y="364"/>
                  </a:lnTo>
                  <a:lnTo>
                    <a:pt x="976" y="364"/>
                  </a:lnTo>
                  <a:lnTo>
                    <a:pt x="976" y="372"/>
                  </a:lnTo>
                  <a:lnTo>
                    <a:pt x="968" y="380"/>
                  </a:lnTo>
                  <a:lnTo>
                    <a:pt x="960" y="388"/>
                  </a:lnTo>
                  <a:lnTo>
                    <a:pt x="952" y="396"/>
                  </a:lnTo>
                  <a:lnTo>
                    <a:pt x="944" y="404"/>
                  </a:lnTo>
                  <a:lnTo>
                    <a:pt x="936" y="404"/>
                  </a:lnTo>
                  <a:lnTo>
                    <a:pt x="928" y="412"/>
                  </a:lnTo>
                  <a:lnTo>
                    <a:pt x="920" y="412"/>
                  </a:lnTo>
                  <a:lnTo>
                    <a:pt x="920" y="420"/>
                  </a:lnTo>
                  <a:lnTo>
                    <a:pt x="912" y="420"/>
                  </a:lnTo>
                  <a:lnTo>
                    <a:pt x="904" y="420"/>
                  </a:lnTo>
                  <a:lnTo>
                    <a:pt x="904" y="428"/>
                  </a:lnTo>
                  <a:lnTo>
                    <a:pt x="896" y="428"/>
                  </a:lnTo>
                  <a:lnTo>
                    <a:pt x="888" y="428"/>
                  </a:lnTo>
                  <a:lnTo>
                    <a:pt x="880" y="428"/>
                  </a:lnTo>
                  <a:lnTo>
                    <a:pt x="872" y="436"/>
                  </a:lnTo>
                  <a:lnTo>
                    <a:pt x="864" y="436"/>
                  </a:lnTo>
                  <a:lnTo>
                    <a:pt x="856" y="436"/>
                  </a:lnTo>
                  <a:lnTo>
                    <a:pt x="848" y="436"/>
                  </a:lnTo>
                  <a:lnTo>
                    <a:pt x="840" y="436"/>
                  </a:lnTo>
                  <a:lnTo>
                    <a:pt x="832" y="436"/>
                  </a:lnTo>
                  <a:lnTo>
                    <a:pt x="824" y="436"/>
                  </a:lnTo>
                  <a:lnTo>
                    <a:pt x="816" y="436"/>
                  </a:lnTo>
                  <a:lnTo>
                    <a:pt x="816" y="428"/>
                  </a:lnTo>
                  <a:lnTo>
                    <a:pt x="810" y="428"/>
                  </a:lnTo>
                  <a:lnTo>
                    <a:pt x="802" y="428"/>
                  </a:lnTo>
                  <a:lnTo>
                    <a:pt x="794" y="428"/>
                  </a:lnTo>
                  <a:lnTo>
                    <a:pt x="786" y="428"/>
                  </a:lnTo>
                  <a:lnTo>
                    <a:pt x="778" y="428"/>
                  </a:lnTo>
                  <a:lnTo>
                    <a:pt x="778" y="420"/>
                  </a:lnTo>
                  <a:lnTo>
                    <a:pt x="770" y="420"/>
                  </a:lnTo>
                  <a:lnTo>
                    <a:pt x="762" y="420"/>
                  </a:lnTo>
                  <a:lnTo>
                    <a:pt x="754" y="412"/>
                  </a:lnTo>
                  <a:lnTo>
                    <a:pt x="746" y="412"/>
                  </a:lnTo>
                  <a:lnTo>
                    <a:pt x="738" y="404"/>
                  </a:lnTo>
                  <a:lnTo>
                    <a:pt x="730" y="404"/>
                  </a:lnTo>
                  <a:lnTo>
                    <a:pt x="722" y="396"/>
                  </a:lnTo>
                  <a:lnTo>
                    <a:pt x="714" y="388"/>
                  </a:lnTo>
                  <a:lnTo>
                    <a:pt x="706" y="380"/>
                  </a:lnTo>
                  <a:lnTo>
                    <a:pt x="698" y="372"/>
                  </a:lnTo>
                  <a:lnTo>
                    <a:pt x="690" y="372"/>
                  </a:lnTo>
                  <a:lnTo>
                    <a:pt x="682" y="364"/>
                  </a:lnTo>
                  <a:lnTo>
                    <a:pt x="674" y="356"/>
                  </a:lnTo>
                  <a:lnTo>
                    <a:pt x="666" y="348"/>
                  </a:lnTo>
                  <a:lnTo>
                    <a:pt x="666" y="340"/>
                  </a:lnTo>
                  <a:lnTo>
                    <a:pt x="658" y="332"/>
                  </a:lnTo>
                  <a:lnTo>
                    <a:pt x="650" y="324"/>
                  </a:lnTo>
                  <a:lnTo>
                    <a:pt x="642" y="316"/>
                  </a:lnTo>
                  <a:lnTo>
                    <a:pt x="634" y="308"/>
                  </a:lnTo>
                  <a:lnTo>
                    <a:pt x="626" y="300"/>
                  </a:lnTo>
                  <a:lnTo>
                    <a:pt x="618" y="294"/>
                  </a:lnTo>
                  <a:lnTo>
                    <a:pt x="618" y="286"/>
                  </a:lnTo>
                  <a:lnTo>
                    <a:pt x="610" y="270"/>
                  </a:lnTo>
                  <a:lnTo>
                    <a:pt x="602" y="262"/>
                  </a:lnTo>
                  <a:lnTo>
                    <a:pt x="596" y="254"/>
                  </a:lnTo>
                  <a:lnTo>
                    <a:pt x="596" y="246"/>
                  </a:lnTo>
                  <a:lnTo>
                    <a:pt x="588" y="238"/>
                  </a:lnTo>
                  <a:lnTo>
                    <a:pt x="580" y="222"/>
                  </a:lnTo>
                  <a:lnTo>
                    <a:pt x="580" y="214"/>
                  </a:lnTo>
                  <a:lnTo>
                    <a:pt x="580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7997760" y="507960"/>
              <a:ext cx="1650960" cy="74268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1040" h="468">
                  <a:moveTo>
                    <a:pt x="460" y="214"/>
                  </a:moveTo>
                  <a:lnTo>
                    <a:pt x="468" y="206"/>
                  </a:lnTo>
                  <a:lnTo>
                    <a:pt x="476" y="190"/>
                  </a:lnTo>
                  <a:lnTo>
                    <a:pt x="484" y="182"/>
                  </a:lnTo>
                  <a:lnTo>
                    <a:pt x="492" y="174"/>
                  </a:lnTo>
                  <a:lnTo>
                    <a:pt x="500" y="158"/>
                  </a:lnTo>
                  <a:lnTo>
                    <a:pt x="508" y="150"/>
                  </a:lnTo>
                  <a:lnTo>
                    <a:pt x="516" y="142"/>
                  </a:lnTo>
                  <a:lnTo>
                    <a:pt x="524" y="126"/>
                  </a:lnTo>
                  <a:lnTo>
                    <a:pt x="532" y="118"/>
                  </a:lnTo>
                  <a:lnTo>
                    <a:pt x="540" y="110"/>
                  </a:lnTo>
                  <a:lnTo>
                    <a:pt x="556" y="102"/>
                  </a:lnTo>
                  <a:lnTo>
                    <a:pt x="564" y="86"/>
                  </a:lnTo>
                  <a:lnTo>
                    <a:pt x="572" y="78"/>
                  </a:lnTo>
                  <a:lnTo>
                    <a:pt x="588" y="72"/>
                  </a:lnTo>
                  <a:lnTo>
                    <a:pt x="596" y="64"/>
                  </a:lnTo>
                  <a:lnTo>
                    <a:pt x="612" y="56"/>
                  </a:lnTo>
                  <a:lnTo>
                    <a:pt x="620" y="48"/>
                  </a:lnTo>
                  <a:lnTo>
                    <a:pt x="634" y="40"/>
                  </a:lnTo>
                  <a:lnTo>
                    <a:pt x="642" y="40"/>
                  </a:lnTo>
                  <a:lnTo>
                    <a:pt x="658" y="32"/>
                  </a:lnTo>
                  <a:lnTo>
                    <a:pt x="666" y="24"/>
                  </a:lnTo>
                  <a:lnTo>
                    <a:pt x="682" y="16"/>
                  </a:lnTo>
                  <a:lnTo>
                    <a:pt x="698" y="16"/>
                  </a:lnTo>
                  <a:lnTo>
                    <a:pt x="706" y="8"/>
                  </a:lnTo>
                  <a:lnTo>
                    <a:pt x="722" y="8"/>
                  </a:lnTo>
                  <a:lnTo>
                    <a:pt x="738" y="8"/>
                  </a:lnTo>
                  <a:lnTo>
                    <a:pt x="746" y="0"/>
                  </a:lnTo>
                  <a:lnTo>
                    <a:pt x="762" y="0"/>
                  </a:lnTo>
                  <a:lnTo>
                    <a:pt x="770" y="0"/>
                  </a:lnTo>
                  <a:lnTo>
                    <a:pt x="786" y="0"/>
                  </a:lnTo>
                  <a:lnTo>
                    <a:pt x="802" y="0"/>
                  </a:lnTo>
                  <a:lnTo>
                    <a:pt x="810" y="8"/>
                  </a:lnTo>
                  <a:lnTo>
                    <a:pt x="826" y="8"/>
                  </a:lnTo>
                  <a:lnTo>
                    <a:pt x="834" y="8"/>
                  </a:lnTo>
                  <a:lnTo>
                    <a:pt x="842" y="8"/>
                  </a:lnTo>
                  <a:lnTo>
                    <a:pt x="856" y="16"/>
                  </a:lnTo>
                  <a:lnTo>
                    <a:pt x="864" y="16"/>
                  </a:lnTo>
                  <a:lnTo>
                    <a:pt x="872" y="24"/>
                  </a:lnTo>
                  <a:lnTo>
                    <a:pt x="880" y="24"/>
                  </a:lnTo>
                  <a:lnTo>
                    <a:pt x="888" y="32"/>
                  </a:lnTo>
                  <a:lnTo>
                    <a:pt x="896" y="32"/>
                  </a:lnTo>
                  <a:lnTo>
                    <a:pt x="904" y="40"/>
                  </a:lnTo>
                  <a:lnTo>
                    <a:pt x="912" y="40"/>
                  </a:lnTo>
                  <a:lnTo>
                    <a:pt x="920" y="48"/>
                  </a:lnTo>
                  <a:lnTo>
                    <a:pt x="928" y="56"/>
                  </a:lnTo>
                  <a:lnTo>
                    <a:pt x="936" y="64"/>
                  </a:lnTo>
                  <a:lnTo>
                    <a:pt x="944" y="72"/>
                  </a:lnTo>
                  <a:lnTo>
                    <a:pt x="952" y="72"/>
                  </a:lnTo>
                  <a:lnTo>
                    <a:pt x="952" y="78"/>
                  </a:lnTo>
                  <a:lnTo>
                    <a:pt x="960" y="86"/>
                  </a:lnTo>
                  <a:lnTo>
                    <a:pt x="968" y="86"/>
                  </a:lnTo>
                  <a:lnTo>
                    <a:pt x="968" y="94"/>
                  </a:lnTo>
                  <a:lnTo>
                    <a:pt x="976" y="102"/>
                  </a:lnTo>
                  <a:lnTo>
                    <a:pt x="984" y="110"/>
                  </a:lnTo>
                  <a:lnTo>
                    <a:pt x="992" y="118"/>
                  </a:lnTo>
                  <a:lnTo>
                    <a:pt x="992" y="126"/>
                  </a:lnTo>
                  <a:lnTo>
                    <a:pt x="1000" y="134"/>
                  </a:lnTo>
                  <a:lnTo>
                    <a:pt x="1008" y="142"/>
                  </a:lnTo>
                  <a:lnTo>
                    <a:pt x="1008" y="150"/>
                  </a:lnTo>
                  <a:lnTo>
                    <a:pt x="1008" y="158"/>
                  </a:lnTo>
                  <a:lnTo>
                    <a:pt x="1016" y="158"/>
                  </a:lnTo>
                  <a:lnTo>
                    <a:pt x="1016" y="166"/>
                  </a:lnTo>
                  <a:lnTo>
                    <a:pt x="1024" y="174"/>
                  </a:lnTo>
                  <a:lnTo>
                    <a:pt x="1024" y="182"/>
                  </a:lnTo>
                  <a:lnTo>
                    <a:pt x="1024" y="190"/>
                  </a:lnTo>
                  <a:lnTo>
                    <a:pt x="1032" y="190"/>
                  </a:lnTo>
                  <a:lnTo>
                    <a:pt x="1032" y="198"/>
                  </a:lnTo>
                  <a:lnTo>
                    <a:pt x="1032" y="206"/>
                  </a:lnTo>
                  <a:lnTo>
                    <a:pt x="1032" y="214"/>
                  </a:lnTo>
                  <a:lnTo>
                    <a:pt x="1040" y="214"/>
                  </a:lnTo>
                  <a:lnTo>
                    <a:pt x="1040" y="222"/>
                  </a:lnTo>
                  <a:lnTo>
                    <a:pt x="1040" y="230"/>
                  </a:lnTo>
                  <a:lnTo>
                    <a:pt x="1040" y="238"/>
                  </a:lnTo>
                  <a:lnTo>
                    <a:pt x="1040" y="246"/>
                  </a:lnTo>
                  <a:lnTo>
                    <a:pt x="1040" y="254"/>
                  </a:lnTo>
                  <a:lnTo>
                    <a:pt x="1040" y="262"/>
                  </a:lnTo>
                  <a:lnTo>
                    <a:pt x="1040" y="270"/>
                  </a:lnTo>
                  <a:lnTo>
                    <a:pt x="1040" y="278"/>
                  </a:lnTo>
                  <a:lnTo>
                    <a:pt x="1040" y="286"/>
                  </a:lnTo>
                  <a:lnTo>
                    <a:pt x="1040" y="294"/>
                  </a:lnTo>
                  <a:lnTo>
                    <a:pt x="1040" y="300"/>
                  </a:lnTo>
                  <a:lnTo>
                    <a:pt x="1040" y="308"/>
                  </a:lnTo>
                  <a:lnTo>
                    <a:pt x="1040" y="316"/>
                  </a:lnTo>
                  <a:lnTo>
                    <a:pt x="1032" y="324"/>
                  </a:lnTo>
                  <a:lnTo>
                    <a:pt x="1032" y="332"/>
                  </a:lnTo>
                  <a:lnTo>
                    <a:pt x="1032" y="340"/>
                  </a:lnTo>
                  <a:lnTo>
                    <a:pt x="1024" y="348"/>
                  </a:lnTo>
                  <a:lnTo>
                    <a:pt x="1024" y="356"/>
                  </a:lnTo>
                  <a:lnTo>
                    <a:pt x="1024" y="364"/>
                  </a:lnTo>
                  <a:lnTo>
                    <a:pt x="1016" y="364"/>
                  </a:lnTo>
                  <a:lnTo>
                    <a:pt x="1016" y="372"/>
                  </a:lnTo>
                  <a:lnTo>
                    <a:pt x="1008" y="380"/>
                  </a:lnTo>
                  <a:lnTo>
                    <a:pt x="1000" y="388"/>
                  </a:lnTo>
                  <a:lnTo>
                    <a:pt x="1000" y="396"/>
                  </a:lnTo>
                  <a:lnTo>
                    <a:pt x="992" y="396"/>
                  </a:lnTo>
                  <a:lnTo>
                    <a:pt x="984" y="404"/>
                  </a:lnTo>
                  <a:lnTo>
                    <a:pt x="984" y="412"/>
                  </a:lnTo>
                  <a:lnTo>
                    <a:pt x="976" y="412"/>
                  </a:lnTo>
                  <a:lnTo>
                    <a:pt x="968" y="420"/>
                  </a:lnTo>
                  <a:lnTo>
                    <a:pt x="960" y="428"/>
                  </a:lnTo>
                  <a:lnTo>
                    <a:pt x="952" y="428"/>
                  </a:lnTo>
                  <a:lnTo>
                    <a:pt x="944" y="436"/>
                  </a:lnTo>
                  <a:lnTo>
                    <a:pt x="936" y="436"/>
                  </a:lnTo>
                  <a:lnTo>
                    <a:pt x="928" y="436"/>
                  </a:lnTo>
                  <a:lnTo>
                    <a:pt x="920" y="444"/>
                  </a:lnTo>
                  <a:lnTo>
                    <a:pt x="912" y="444"/>
                  </a:lnTo>
                  <a:lnTo>
                    <a:pt x="904" y="452"/>
                  </a:lnTo>
                  <a:lnTo>
                    <a:pt x="896" y="452"/>
                  </a:lnTo>
                  <a:lnTo>
                    <a:pt x="888" y="452"/>
                  </a:lnTo>
                  <a:lnTo>
                    <a:pt x="880" y="452"/>
                  </a:lnTo>
                  <a:lnTo>
                    <a:pt x="872" y="452"/>
                  </a:lnTo>
                  <a:lnTo>
                    <a:pt x="864" y="452"/>
                  </a:lnTo>
                  <a:lnTo>
                    <a:pt x="856" y="452"/>
                  </a:lnTo>
                  <a:lnTo>
                    <a:pt x="848" y="452"/>
                  </a:lnTo>
                  <a:lnTo>
                    <a:pt x="842" y="452"/>
                  </a:lnTo>
                  <a:lnTo>
                    <a:pt x="834" y="452"/>
                  </a:lnTo>
                  <a:lnTo>
                    <a:pt x="826" y="452"/>
                  </a:lnTo>
                  <a:lnTo>
                    <a:pt x="818" y="452"/>
                  </a:lnTo>
                  <a:lnTo>
                    <a:pt x="810" y="452"/>
                  </a:lnTo>
                  <a:lnTo>
                    <a:pt x="810" y="444"/>
                  </a:lnTo>
                  <a:lnTo>
                    <a:pt x="802" y="444"/>
                  </a:lnTo>
                  <a:lnTo>
                    <a:pt x="794" y="444"/>
                  </a:lnTo>
                  <a:lnTo>
                    <a:pt x="786" y="436"/>
                  </a:lnTo>
                  <a:lnTo>
                    <a:pt x="778" y="436"/>
                  </a:lnTo>
                  <a:lnTo>
                    <a:pt x="770" y="428"/>
                  </a:lnTo>
                  <a:lnTo>
                    <a:pt x="762" y="420"/>
                  </a:lnTo>
                  <a:lnTo>
                    <a:pt x="754" y="420"/>
                  </a:lnTo>
                  <a:lnTo>
                    <a:pt x="754" y="412"/>
                  </a:lnTo>
                  <a:lnTo>
                    <a:pt x="746" y="404"/>
                  </a:lnTo>
                  <a:lnTo>
                    <a:pt x="738" y="404"/>
                  </a:lnTo>
                  <a:lnTo>
                    <a:pt x="738" y="396"/>
                  </a:lnTo>
                  <a:lnTo>
                    <a:pt x="730" y="388"/>
                  </a:lnTo>
                  <a:lnTo>
                    <a:pt x="722" y="380"/>
                  </a:lnTo>
                  <a:lnTo>
                    <a:pt x="722" y="372"/>
                  </a:lnTo>
                  <a:lnTo>
                    <a:pt x="714" y="372"/>
                  </a:lnTo>
                  <a:lnTo>
                    <a:pt x="714" y="364"/>
                  </a:lnTo>
                  <a:lnTo>
                    <a:pt x="706" y="356"/>
                  </a:lnTo>
                  <a:lnTo>
                    <a:pt x="706" y="348"/>
                  </a:lnTo>
                  <a:lnTo>
                    <a:pt x="706" y="340"/>
                  </a:lnTo>
                  <a:lnTo>
                    <a:pt x="698" y="332"/>
                  </a:lnTo>
                  <a:lnTo>
                    <a:pt x="698" y="324"/>
                  </a:lnTo>
                  <a:lnTo>
                    <a:pt x="698" y="316"/>
                  </a:lnTo>
                  <a:lnTo>
                    <a:pt x="698" y="308"/>
                  </a:lnTo>
                  <a:lnTo>
                    <a:pt x="698" y="300"/>
                  </a:lnTo>
                  <a:lnTo>
                    <a:pt x="698" y="294"/>
                  </a:lnTo>
                  <a:lnTo>
                    <a:pt x="698" y="278"/>
                  </a:lnTo>
                  <a:lnTo>
                    <a:pt x="698" y="270"/>
                  </a:lnTo>
                  <a:lnTo>
                    <a:pt x="698" y="262"/>
                  </a:lnTo>
                  <a:lnTo>
                    <a:pt x="698" y="254"/>
                  </a:lnTo>
                  <a:lnTo>
                    <a:pt x="706" y="254"/>
                  </a:lnTo>
                  <a:lnTo>
                    <a:pt x="706" y="246"/>
                  </a:lnTo>
                  <a:lnTo>
                    <a:pt x="706" y="238"/>
                  </a:lnTo>
                  <a:lnTo>
                    <a:pt x="706" y="230"/>
                  </a:lnTo>
                  <a:lnTo>
                    <a:pt x="714" y="222"/>
                  </a:lnTo>
                  <a:lnTo>
                    <a:pt x="714" y="214"/>
                  </a:lnTo>
                  <a:lnTo>
                    <a:pt x="722" y="214"/>
                  </a:lnTo>
                  <a:lnTo>
                    <a:pt x="722" y="206"/>
                  </a:lnTo>
                  <a:lnTo>
                    <a:pt x="722" y="198"/>
                  </a:lnTo>
                  <a:lnTo>
                    <a:pt x="730" y="190"/>
                  </a:lnTo>
                  <a:lnTo>
                    <a:pt x="738" y="182"/>
                  </a:lnTo>
                  <a:lnTo>
                    <a:pt x="746" y="182"/>
                  </a:lnTo>
                  <a:lnTo>
                    <a:pt x="746" y="174"/>
                  </a:lnTo>
                  <a:lnTo>
                    <a:pt x="754" y="174"/>
                  </a:lnTo>
                  <a:lnTo>
                    <a:pt x="754" y="166"/>
                  </a:lnTo>
                  <a:lnTo>
                    <a:pt x="762" y="166"/>
                  </a:lnTo>
                  <a:lnTo>
                    <a:pt x="770" y="158"/>
                  </a:lnTo>
                  <a:lnTo>
                    <a:pt x="778" y="158"/>
                  </a:lnTo>
                  <a:lnTo>
                    <a:pt x="786" y="150"/>
                  </a:lnTo>
                  <a:lnTo>
                    <a:pt x="794" y="150"/>
                  </a:lnTo>
                  <a:lnTo>
                    <a:pt x="802" y="150"/>
                  </a:lnTo>
                  <a:lnTo>
                    <a:pt x="810" y="150"/>
                  </a:lnTo>
                  <a:lnTo>
                    <a:pt x="818" y="142"/>
                  </a:lnTo>
                  <a:lnTo>
                    <a:pt x="826" y="142"/>
                  </a:lnTo>
                  <a:lnTo>
                    <a:pt x="834" y="142"/>
                  </a:lnTo>
                  <a:lnTo>
                    <a:pt x="842" y="142"/>
                  </a:lnTo>
                  <a:lnTo>
                    <a:pt x="848" y="142"/>
                  </a:lnTo>
                  <a:lnTo>
                    <a:pt x="856" y="142"/>
                  </a:lnTo>
                  <a:lnTo>
                    <a:pt x="864" y="142"/>
                  </a:lnTo>
                  <a:lnTo>
                    <a:pt x="872" y="142"/>
                  </a:lnTo>
                  <a:lnTo>
                    <a:pt x="872" y="150"/>
                  </a:lnTo>
                  <a:lnTo>
                    <a:pt x="880" y="150"/>
                  </a:lnTo>
                  <a:lnTo>
                    <a:pt x="888" y="150"/>
                  </a:lnTo>
                  <a:lnTo>
                    <a:pt x="896" y="150"/>
                  </a:lnTo>
                  <a:lnTo>
                    <a:pt x="896" y="158"/>
                  </a:lnTo>
                  <a:lnTo>
                    <a:pt x="904" y="158"/>
                  </a:lnTo>
                  <a:lnTo>
                    <a:pt x="904" y="166"/>
                  </a:lnTo>
                  <a:lnTo>
                    <a:pt x="912" y="166"/>
                  </a:lnTo>
                  <a:lnTo>
                    <a:pt x="912" y="174"/>
                  </a:lnTo>
                  <a:lnTo>
                    <a:pt x="920" y="174"/>
                  </a:lnTo>
                  <a:lnTo>
                    <a:pt x="920" y="182"/>
                  </a:lnTo>
                  <a:lnTo>
                    <a:pt x="928" y="182"/>
                  </a:lnTo>
                  <a:lnTo>
                    <a:pt x="928" y="190"/>
                  </a:lnTo>
                  <a:lnTo>
                    <a:pt x="936" y="190"/>
                  </a:lnTo>
                  <a:lnTo>
                    <a:pt x="936" y="198"/>
                  </a:lnTo>
                  <a:lnTo>
                    <a:pt x="936" y="206"/>
                  </a:lnTo>
                  <a:lnTo>
                    <a:pt x="944" y="214"/>
                  </a:lnTo>
                  <a:lnTo>
                    <a:pt x="944" y="222"/>
                  </a:lnTo>
                  <a:lnTo>
                    <a:pt x="944" y="230"/>
                  </a:lnTo>
                  <a:lnTo>
                    <a:pt x="944" y="238"/>
                  </a:lnTo>
                  <a:lnTo>
                    <a:pt x="944" y="246"/>
                  </a:lnTo>
                  <a:lnTo>
                    <a:pt x="944" y="254"/>
                  </a:lnTo>
                  <a:lnTo>
                    <a:pt x="944" y="262"/>
                  </a:lnTo>
                  <a:lnTo>
                    <a:pt x="944" y="270"/>
                  </a:lnTo>
                  <a:lnTo>
                    <a:pt x="944" y="278"/>
                  </a:lnTo>
                  <a:lnTo>
                    <a:pt x="944" y="286"/>
                  </a:lnTo>
                  <a:lnTo>
                    <a:pt x="936" y="286"/>
                  </a:lnTo>
                  <a:lnTo>
                    <a:pt x="936" y="294"/>
                  </a:lnTo>
                  <a:lnTo>
                    <a:pt x="936" y="300"/>
                  </a:lnTo>
                  <a:lnTo>
                    <a:pt x="928" y="300"/>
                  </a:lnTo>
                  <a:lnTo>
                    <a:pt x="928" y="308"/>
                  </a:lnTo>
                  <a:lnTo>
                    <a:pt x="920" y="308"/>
                  </a:lnTo>
                  <a:lnTo>
                    <a:pt x="920" y="316"/>
                  </a:lnTo>
                  <a:lnTo>
                    <a:pt x="912" y="316"/>
                  </a:lnTo>
                  <a:lnTo>
                    <a:pt x="912" y="324"/>
                  </a:lnTo>
                  <a:lnTo>
                    <a:pt x="904" y="324"/>
                  </a:lnTo>
                  <a:lnTo>
                    <a:pt x="896" y="324"/>
                  </a:lnTo>
                  <a:lnTo>
                    <a:pt x="896" y="332"/>
                  </a:lnTo>
                  <a:lnTo>
                    <a:pt x="888" y="332"/>
                  </a:lnTo>
                  <a:lnTo>
                    <a:pt x="880" y="332"/>
                  </a:lnTo>
                  <a:lnTo>
                    <a:pt x="872" y="332"/>
                  </a:lnTo>
                  <a:lnTo>
                    <a:pt x="864" y="332"/>
                  </a:lnTo>
                  <a:lnTo>
                    <a:pt x="856" y="332"/>
                  </a:lnTo>
                  <a:lnTo>
                    <a:pt x="848" y="332"/>
                  </a:lnTo>
                  <a:lnTo>
                    <a:pt x="842" y="332"/>
                  </a:lnTo>
                  <a:lnTo>
                    <a:pt x="842" y="324"/>
                  </a:lnTo>
                  <a:lnTo>
                    <a:pt x="834" y="324"/>
                  </a:lnTo>
                  <a:lnTo>
                    <a:pt x="826" y="324"/>
                  </a:lnTo>
                  <a:lnTo>
                    <a:pt x="826" y="316"/>
                  </a:lnTo>
                  <a:lnTo>
                    <a:pt x="818" y="316"/>
                  </a:lnTo>
                  <a:lnTo>
                    <a:pt x="818" y="308"/>
                  </a:lnTo>
                  <a:lnTo>
                    <a:pt x="810" y="300"/>
                  </a:lnTo>
                  <a:lnTo>
                    <a:pt x="810" y="294"/>
                  </a:lnTo>
                  <a:lnTo>
                    <a:pt x="802" y="294"/>
                  </a:lnTo>
                  <a:lnTo>
                    <a:pt x="802" y="286"/>
                  </a:lnTo>
                  <a:lnTo>
                    <a:pt x="802" y="278"/>
                  </a:lnTo>
                  <a:lnTo>
                    <a:pt x="802" y="270"/>
                  </a:lnTo>
                  <a:lnTo>
                    <a:pt x="802" y="262"/>
                  </a:lnTo>
                  <a:lnTo>
                    <a:pt x="802" y="254"/>
                  </a:lnTo>
                  <a:lnTo>
                    <a:pt x="834" y="254"/>
                  </a:lnTo>
                  <a:lnTo>
                    <a:pt x="834" y="262"/>
                  </a:lnTo>
                  <a:lnTo>
                    <a:pt x="842" y="262"/>
                  </a:lnTo>
                  <a:lnTo>
                    <a:pt x="842" y="270"/>
                  </a:lnTo>
                  <a:lnTo>
                    <a:pt x="842" y="278"/>
                  </a:lnTo>
                  <a:lnTo>
                    <a:pt x="842" y="286"/>
                  </a:lnTo>
                  <a:lnTo>
                    <a:pt x="848" y="286"/>
                  </a:lnTo>
                  <a:lnTo>
                    <a:pt x="848" y="294"/>
                  </a:lnTo>
                  <a:lnTo>
                    <a:pt x="856" y="294"/>
                  </a:lnTo>
                  <a:lnTo>
                    <a:pt x="864" y="294"/>
                  </a:lnTo>
                  <a:lnTo>
                    <a:pt x="872" y="294"/>
                  </a:lnTo>
                  <a:lnTo>
                    <a:pt x="880" y="294"/>
                  </a:lnTo>
                  <a:lnTo>
                    <a:pt x="888" y="294"/>
                  </a:lnTo>
                  <a:lnTo>
                    <a:pt x="896" y="294"/>
                  </a:lnTo>
                  <a:lnTo>
                    <a:pt x="896" y="286"/>
                  </a:lnTo>
                  <a:lnTo>
                    <a:pt x="904" y="286"/>
                  </a:lnTo>
                  <a:lnTo>
                    <a:pt x="904" y="278"/>
                  </a:lnTo>
                  <a:lnTo>
                    <a:pt x="904" y="270"/>
                  </a:lnTo>
                  <a:lnTo>
                    <a:pt x="904" y="262"/>
                  </a:lnTo>
                  <a:lnTo>
                    <a:pt x="912" y="262"/>
                  </a:lnTo>
                  <a:lnTo>
                    <a:pt x="912" y="254"/>
                  </a:lnTo>
                  <a:lnTo>
                    <a:pt x="912" y="246"/>
                  </a:lnTo>
                  <a:lnTo>
                    <a:pt x="912" y="238"/>
                  </a:lnTo>
                  <a:lnTo>
                    <a:pt x="904" y="238"/>
                  </a:lnTo>
                  <a:lnTo>
                    <a:pt x="904" y="230"/>
                  </a:lnTo>
                  <a:lnTo>
                    <a:pt x="904" y="222"/>
                  </a:lnTo>
                  <a:lnTo>
                    <a:pt x="904" y="214"/>
                  </a:lnTo>
                  <a:lnTo>
                    <a:pt x="896" y="214"/>
                  </a:lnTo>
                  <a:lnTo>
                    <a:pt x="896" y="206"/>
                  </a:lnTo>
                  <a:lnTo>
                    <a:pt x="896" y="198"/>
                  </a:lnTo>
                  <a:lnTo>
                    <a:pt x="888" y="198"/>
                  </a:lnTo>
                  <a:lnTo>
                    <a:pt x="888" y="190"/>
                  </a:lnTo>
                  <a:lnTo>
                    <a:pt x="880" y="190"/>
                  </a:lnTo>
                  <a:lnTo>
                    <a:pt x="872" y="190"/>
                  </a:lnTo>
                  <a:lnTo>
                    <a:pt x="872" y="182"/>
                  </a:lnTo>
                  <a:lnTo>
                    <a:pt x="864" y="182"/>
                  </a:lnTo>
                  <a:lnTo>
                    <a:pt x="856" y="182"/>
                  </a:lnTo>
                  <a:lnTo>
                    <a:pt x="848" y="182"/>
                  </a:lnTo>
                  <a:lnTo>
                    <a:pt x="842" y="182"/>
                  </a:lnTo>
                  <a:lnTo>
                    <a:pt x="834" y="182"/>
                  </a:lnTo>
                  <a:lnTo>
                    <a:pt x="826" y="182"/>
                  </a:lnTo>
                  <a:lnTo>
                    <a:pt x="818" y="182"/>
                  </a:lnTo>
                  <a:lnTo>
                    <a:pt x="810" y="182"/>
                  </a:lnTo>
                  <a:lnTo>
                    <a:pt x="802" y="190"/>
                  </a:lnTo>
                  <a:lnTo>
                    <a:pt x="794" y="190"/>
                  </a:lnTo>
                  <a:lnTo>
                    <a:pt x="786" y="190"/>
                  </a:lnTo>
                  <a:lnTo>
                    <a:pt x="786" y="198"/>
                  </a:lnTo>
                  <a:lnTo>
                    <a:pt x="778" y="198"/>
                  </a:lnTo>
                  <a:lnTo>
                    <a:pt x="770" y="206"/>
                  </a:lnTo>
                  <a:lnTo>
                    <a:pt x="762" y="214"/>
                  </a:lnTo>
                  <a:lnTo>
                    <a:pt x="754" y="214"/>
                  </a:lnTo>
                  <a:lnTo>
                    <a:pt x="754" y="222"/>
                  </a:lnTo>
                  <a:lnTo>
                    <a:pt x="746" y="230"/>
                  </a:lnTo>
                  <a:lnTo>
                    <a:pt x="746" y="238"/>
                  </a:lnTo>
                  <a:lnTo>
                    <a:pt x="746" y="246"/>
                  </a:lnTo>
                  <a:lnTo>
                    <a:pt x="738" y="246"/>
                  </a:lnTo>
                  <a:lnTo>
                    <a:pt x="738" y="254"/>
                  </a:lnTo>
                  <a:lnTo>
                    <a:pt x="738" y="262"/>
                  </a:lnTo>
                  <a:lnTo>
                    <a:pt x="738" y="270"/>
                  </a:lnTo>
                  <a:lnTo>
                    <a:pt x="730" y="278"/>
                  </a:lnTo>
                  <a:lnTo>
                    <a:pt x="730" y="286"/>
                  </a:lnTo>
                  <a:lnTo>
                    <a:pt x="730" y="294"/>
                  </a:lnTo>
                  <a:lnTo>
                    <a:pt x="730" y="300"/>
                  </a:lnTo>
                  <a:lnTo>
                    <a:pt x="730" y="308"/>
                  </a:lnTo>
                  <a:lnTo>
                    <a:pt x="738" y="316"/>
                  </a:lnTo>
                  <a:lnTo>
                    <a:pt x="738" y="324"/>
                  </a:lnTo>
                  <a:lnTo>
                    <a:pt x="738" y="332"/>
                  </a:lnTo>
                  <a:lnTo>
                    <a:pt x="746" y="340"/>
                  </a:lnTo>
                  <a:lnTo>
                    <a:pt x="746" y="348"/>
                  </a:lnTo>
                  <a:lnTo>
                    <a:pt x="746" y="356"/>
                  </a:lnTo>
                  <a:lnTo>
                    <a:pt x="754" y="356"/>
                  </a:lnTo>
                  <a:lnTo>
                    <a:pt x="754" y="364"/>
                  </a:lnTo>
                  <a:lnTo>
                    <a:pt x="762" y="372"/>
                  </a:lnTo>
                  <a:lnTo>
                    <a:pt x="770" y="380"/>
                  </a:lnTo>
                  <a:lnTo>
                    <a:pt x="778" y="388"/>
                  </a:lnTo>
                  <a:lnTo>
                    <a:pt x="786" y="388"/>
                  </a:lnTo>
                  <a:lnTo>
                    <a:pt x="786" y="396"/>
                  </a:lnTo>
                  <a:lnTo>
                    <a:pt x="794" y="396"/>
                  </a:lnTo>
                  <a:lnTo>
                    <a:pt x="794" y="404"/>
                  </a:lnTo>
                  <a:lnTo>
                    <a:pt x="802" y="404"/>
                  </a:lnTo>
                  <a:lnTo>
                    <a:pt x="810" y="404"/>
                  </a:lnTo>
                  <a:lnTo>
                    <a:pt x="818" y="412"/>
                  </a:lnTo>
                  <a:lnTo>
                    <a:pt x="826" y="412"/>
                  </a:lnTo>
                  <a:lnTo>
                    <a:pt x="834" y="412"/>
                  </a:lnTo>
                  <a:lnTo>
                    <a:pt x="842" y="420"/>
                  </a:lnTo>
                  <a:lnTo>
                    <a:pt x="848" y="420"/>
                  </a:lnTo>
                  <a:lnTo>
                    <a:pt x="856" y="420"/>
                  </a:lnTo>
                  <a:lnTo>
                    <a:pt x="864" y="420"/>
                  </a:lnTo>
                  <a:lnTo>
                    <a:pt x="872" y="420"/>
                  </a:lnTo>
                  <a:lnTo>
                    <a:pt x="880" y="412"/>
                  </a:lnTo>
                  <a:lnTo>
                    <a:pt x="888" y="412"/>
                  </a:lnTo>
                  <a:lnTo>
                    <a:pt x="896" y="412"/>
                  </a:lnTo>
                  <a:lnTo>
                    <a:pt x="904" y="412"/>
                  </a:lnTo>
                  <a:lnTo>
                    <a:pt x="912" y="404"/>
                  </a:lnTo>
                  <a:lnTo>
                    <a:pt x="920" y="404"/>
                  </a:lnTo>
                  <a:lnTo>
                    <a:pt x="928" y="404"/>
                  </a:lnTo>
                  <a:lnTo>
                    <a:pt x="936" y="396"/>
                  </a:lnTo>
                  <a:lnTo>
                    <a:pt x="944" y="396"/>
                  </a:lnTo>
                  <a:lnTo>
                    <a:pt x="944" y="388"/>
                  </a:lnTo>
                  <a:lnTo>
                    <a:pt x="952" y="388"/>
                  </a:lnTo>
                  <a:lnTo>
                    <a:pt x="960" y="380"/>
                  </a:lnTo>
                  <a:lnTo>
                    <a:pt x="968" y="372"/>
                  </a:lnTo>
                  <a:lnTo>
                    <a:pt x="976" y="364"/>
                  </a:lnTo>
                  <a:lnTo>
                    <a:pt x="984" y="356"/>
                  </a:lnTo>
                  <a:lnTo>
                    <a:pt x="984" y="348"/>
                  </a:lnTo>
                  <a:lnTo>
                    <a:pt x="992" y="348"/>
                  </a:lnTo>
                  <a:lnTo>
                    <a:pt x="992" y="340"/>
                  </a:lnTo>
                  <a:lnTo>
                    <a:pt x="992" y="332"/>
                  </a:lnTo>
                  <a:lnTo>
                    <a:pt x="1000" y="324"/>
                  </a:lnTo>
                  <a:lnTo>
                    <a:pt x="1000" y="316"/>
                  </a:lnTo>
                  <a:lnTo>
                    <a:pt x="1000" y="308"/>
                  </a:lnTo>
                  <a:lnTo>
                    <a:pt x="1000" y="300"/>
                  </a:lnTo>
                  <a:lnTo>
                    <a:pt x="1000" y="294"/>
                  </a:lnTo>
                  <a:lnTo>
                    <a:pt x="1000" y="286"/>
                  </a:lnTo>
                  <a:lnTo>
                    <a:pt x="1000" y="278"/>
                  </a:lnTo>
                  <a:lnTo>
                    <a:pt x="1000" y="270"/>
                  </a:lnTo>
                  <a:lnTo>
                    <a:pt x="1000" y="262"/>
                  </a:lnTo>
                  <a:lnTo>
                    <a:pt x="1000" y="254"/>
                  </a:lnTo>
                  <a:lnTo>
                    <a:pt x="1000" y="246"/>
                  </a:lnTo>
                  <a:lnTo>
                    <a:pt x="1000" y="238"/>
                  </a:lnTo>
                  <a:lnTo>
                    <a:pt x="1000" y="230"/>
                  </a:lnTo>
                  <a:lnTo>
                    <a:pt x="1000" y="222"/>
                  </a:lnTo>
                  <a:lnTo>
                    <a:pt x="1000" y="214"/>
                  </a:lnTo>
                  <a:lnTo>
                    <a:pt x="992" y="214"/>
                  </a:lnTo>
                  <a:lnTo>
                    <a:pt x="992" y="206"/>
                  </a:lnTo>
                  <a:lnTo>
                    <a:pt x="992" y="198"/>
                  </a:lnTo>
                  <a:lnTo>
                    <a:pt x="992" y="190"/>
                  </a:lnTo>
                  <a:lnTo>
                    <a:pt x="984" y="190"/>
                  </a:lnTo>
                  <a:lnTo>
                    <a:pt x="984" y="182"/>
                  </a:lnTo>
                  <a:lnTo>
                    <a:pt x="976" y="174"/>
                  </a:lnTo>
                  <a:lnTo>
                    <a:pt x="976" y="166"/>
                  </a:lnTo>
                  <a:lnTo>
                    <a:pt x="968" y="158"/>
                  </a:lnTo>
                  <a:lnTo>
                    <a:pt x="960" y="150"/>
                  </a:lnTo>
                  <a:lnTo>
                    <a:pt x="960" y="142"/>
                  </a:lnTo>
                  <a:lnTo>
                    <a:pt x="952" y="134"/>
                  </a:lnTo>
                  <a:lnTo>
                    <a:pt x="952" y="126"/>
                  </a:lnTo>
                  <a:lnTo>
                    <a:pt x="944" y="126"/>
                  </a:lnTo>
                  <a:lnTo>
                    <a:pt x="944" y="118"/>
                  </a:lnTo>
                  <a:lnTo>
                    <a:pt x="936" y="110"/>
                  </a:lnTo>
                  <a:lnTo>
                    <a:pt x="928" y="102"/>
                  </a:lnTo>
                  <a:lnTo>
                    <a:pt x="920" y="94"/>
                  </a:lnTo>
                  <a:lnTo>
                    <a:pt x="912" y="86"/>
                  </a:lnTo>
                  <a:lnTo>
                    <a:pt x="904" y="86"/>
                  </a:lnTo>
                  <a:lnTo>
                    <a:pt x="904" y="78"/>
                  </a:lnTo>
                  <a:lnTo>
                    <a:pt x="896" y="78"/>
                  </a:lnTo>
                  <a:lnTo>
                    <a:pt x="888" y="72"/>
                  </a:lnTo>
                  <a:lnTo>
                    <a:pt x="880" y="72"/>
                  </a:lnTo>
                  <a:lnTo>
                    <a:pt x="872" y="64"/>
                  </a:lnTo>
                  <a:lnTo>
                    <a:pt x="864" y="64"/>
                  </a:lnTo>
                  <a:lnTo>
                    <a:pt x="864" y="56"/>
                  </a:lnTo>
                  <a:lnTo>
                    <a:pt x="856" y="56"/>
                  </a:lnTo>
                  <a:lnTo>
                    <a:pt x="842" y="48"/>
                  </a:lnTo>
                  <a:lnTo>
                    <a:pt x="834" y="48"/>
                  </a:lnTo>
                  <a:lnTo>
                    <a:pt x="826" y="48"/>
                  </a:lnTo>
                  <a:lnTo>
                    <a:pt x="818" y="48"/>
                  </a:lnTo>
                  <a:lnTo>
                    <a:pt x="810" y="40"/>
                  </a:lnTo>
                  <a:lnTo>
                    <a:pt x="794" y="40"/>
                  </a:lnTo>
                  <a:lnTo>
                    <a:pt x="786" y="40"/>
                  </a:lnTo>
                  <a:lnTo>
                    <a:pt x="778" y="40"/>
                  </a:lnTo>
                  <a:lnTo>
                    <a:pt x="762" y="40"/>
                  </a:lnTo>
                  <a:lnTo>
                    <a:pt x="754" y="40"/>
                  </a:lnTo>
                  <a:lnTo>
                    <a:pt x="738" y="48"/>
                  </a:lnTo>
                  <a:lnTo>
                    <a:pt x="730" y="48"/>
                  </a:lnTo>
                  <a:lnTo>
                    <a:pt x="722" y="48"/>
                  </a:lnTo>
                  <a:lnTo>
                    <a:pt x="706" y="56"/>
                  </a:lnTo>
                  <a:lnTo>
                    <a:pt x="698" y="56"/>
                  </a:lnTo>
                  <a:lnTo>
                    <a:pt x="682" y="64"/>
                  </a:lnTo>
                  <a:lnTo>
                    <a:pt x="674" y="64"/>
                  </a:lnTo>
                  <a:lnTo>
                    <a:pt x="658" y="72"/>
                  </a:lnTo>
                  <a:lnTo>
                    <a:pt x="650" y="78"/>
                  </a:lnTo>
                  <a:lnTo>
                    <a:pt x="642" y="86"/>
                  </a:lnTo>
                  <a:lnTo>
                    <a:pt x="628" y="86"/>
                  </a:lnTo>
                  <a:lnTo>
                    <a:pt x="620" y="94"/>
                  </a:lnTo>
                  <a:lnTo>
                    <a:pt x="612" y="102"/>
                  </a:lnTo>
                  <a:lnTo>
                    <a:pt x="604" y="110"/>
                  </a:lnTo>
                  <a:lnTo>
                    <a:pt x="588" y="118"/>
                  </a:lnTo>
                  <a:lnTo>
                    <a:pt x="580" y="126"/>
                  </a:lnTo>
                  <a:lnTo>
                    <a:pt x="572" y="134"/>
                  </a:lnTo>
                  <a:lnTo>
                    <a:pt x="564" y="142"/>
                  </a:lnTo>
                  <a:lnTo>
                    <a:pt x="556" y="158"/>
                  </a:lnTo>
                  <a:lnTo>
                    <a:pt x="548" y="166"/>
                  </a:lnTo>
                  <a:lnTo>
                    <a:pt x="540" y="174"/>
                  </a:lnTo>
                  <a:lnTo>
                    <a:pt x="532" y="182"/>
                  </a:lnTo>
                  <a:lnTo>
                    <a:pt x="524" y="190"/>
                  </a:lnTo>
                  <a:lnTo>
                    <a:pt x="516" y="198"/>
                  </a:lnTo>
                  <a:lnTo>
                    <a:pt x="508" y="214"/>
                  </a:lnTo>
                  <a:lnTo>
                    <a:pt x="500" y="222"/>
                  </a:lnTo>
                  <a:lnTo>
                    <a:pt x="492" y="230"/>
                  </a:lnTo>
                  <a:lnTo>
                    <a:pt x="492" y="238"/>
                  </a:lnTo>
                  <a:lnTo>
                    <a:pt x="492" y="246"/>
                  </a:lnTo>
                  <a:lnTo>
                    <a:pt x="484" y="254"/>
                  </a:lnTo>
                  <a:lnTo>
                    <a:pt x="476" y="262"/>
                  </a:lnTo>
                  <a:lnTo>
                    <a:pt x="468" y="270"/>
                  </a:lnTo>
                  <a:lnTo>
                    <a:pt x="468" y="278"/>
                  </a:lnTo>
                  <a:lnTo>
                    <a:pt x="460" y="294"/>
                  </a:lnTo>
                  <a:lnTo>
                    <a:pt x="452" y="300"/>
                  </a:lnTo>
                  <a:lnTo>
                    <a:pt x="452" y="308"/>
                  </a:lnTo>
                  <a:lnTo>
                    <a:pt x="444" y="316"/>
                  </a:lnTo>
                  <a:lnTo>
                    <a:pt x="436" y="324"/>
                  </a:lnTo>
                  <a:lnTo>
                    <a:pt x="428" y="332"/>
                  </a:lnTo>
                  <a:lnTo>
                    <a:pt x="420" y="340"/>
                  </a:lnTo>
                  <a:lnTo>
                    <a:pt x="420" y="348"/>
                  </a:lnTo>
                  <a:lnTo>
                    <a:pt x="412" y="356"/>
                  </a:lnTo>
                  <a:lnTo>
                    <a:pt x="406" y="364"/>
                  </a:lnTo>
                  <a:lnTo>
                    <a:pt x="398" y="380"/>
                  </a:lnTo>
                  <a:lnTo>
                    <a:pt x="390" y="388"/>
                  </a:lnTo>
                  <a:lnTo>
                    <a:pt x="382" y="396"/>
                  </a:lnTo>
                  <a:lnTo>
                    <a:pt x="374" y="404"/>
                  </a:lnTo>
                  <a:lnTo>
                    <a:pt x="366" y="412"/>
                  </a:lnTo>
                  <a:lnTo>
                    <a:pt x="358" y="412"/>
                  </a:lnTo>
                  <a:lnTo>
                    <a:pt x="350" y="420"/>
                  </a:lnTo>
                  <a:lnTo>
                    <a:pt x="334" y="428"/>
                  </a:lnTo>
                  <a:lnTo>
                    <a:pt x="326" y="436"/>
                  </a:lnTo>
                  <a:lnTo>
                    <a:pt x="318" y="444"/>
                  </a:lnTo>
                  <a:lnTo>
                    <a:pt x="310" y="444"/>
                  </a:lnTo>
                  <a:lnTo>
                    <a:pt x="302" y="452"/>
                  </a:lnTo>
                  <a:lnTo>
                    <a:pt x="294" y="452"/>
                  </a:lnTo>
                  <a:lnTo>
                    <a:pt x="278" y="460"/>
                  </a:lnTo>
                  <a:lnTo>
                    <a:pt x="270" y="460"/>
                  </a:lnTo>
                  <a:lnTo>
                    <a:pt x="262" y="460"/>
                  </a:lnTo>
                  <a:lnTo>
                    <a:pt x="254" y="460"/>
                  </a:lnTo>
                  <a:lnTo>
                    <a:pt x="246" y="468"/>
                  </a:lnTo>
                  <a:lnTo>
                    <a:pt x="238" y="468"/>
                  </a:lnTo>
                  <a:lnTo>
                    <a:pt x="230" y="468"/>
                  </a:lnTo>
                  <a:lnTo>
                    <a:pt x="222" y="468"/>
                  </a:lnTo>
                  <a:lnTo>
                    <a:pt x="214" y="468"/>
                  </a:lnTo>
                  <a:lnTo>
                    <a:pt x="206" y="468"/>
                  </a:lnTo>
                  <a:lnTo>
                    <a:pt x="198" y="468"/>
                  </a:lnTo>
                  <a:lnTo>
                    <a:pt x="192" y="468"/>
                  </a:lnTo>
                  <a:lnTo>
                    <a:pt x="184" y="468"/>
                  </a:lnTo>
                  <a:lnTo>
                    <a:pt x="176" y="468"/>
                  </a:lnTo>
                  <a:lnTo>
                    <a:pt x="168" y="468"/>
                  </a:lnTo>
                  <a:lnTo>
                    <a:pt x="160" y="468"/>
                  </a:lnTo>
                  <a:lnTo>
                    <a:pt x="152" y="468"/>
                  </a:lnTo>
                  <a:lnTo>
                    <a:pt x="144" y="468"/>
                  </a:lnTo>
                  <a:lnTo>
                    <a:pt x="136" y="460"/>
                  </a:lnTo>
                  <a:lnTo>
                    <a:pt x="128" y="460"/>
                  </a:lnTo>
                  <a:lnTo>
                    <a:pt x="120" y="460"/>
                  </a:lnTo>
                  <a:lnTo>
                    <a:pt x="112" y="452"/>
                  </a:lnTo>
                  <a:lnTo>
                    <a:pt x="104" y="452"/>
                  </a:lnTo>
                  <a:lnTo>
                    <a:pt x="96" y="444"/>
                  </a:lnTo>
                  <a:lnTo>
                    <a:pt x="88" y="444"/>
                  </a:lnTo>
                  <a:lnTo>
                    <a:pt x="80" y="436"/>
                  </a:lnTo>
                  <a:lnTo>
                    <a:pt x="72" y="428"/>
                  </a:lnTo>
                  <a:lnTo>
                    <a:pt x="64" y="420"/>
                  </a:lnTo>
                  <a:lnTo>
                    <a:pt x="56" y="420"/>
                  </a:lnTo>
                  <a:lnTo>
                    <a:pt x="56" y="412"/>
                  </a:lnTo>
                  <a:lnTo>
                    <a:pt x="48" y="404"/>
                  </a:lnTo>
                  <a:lnTo>
                    <a:pt x="40" y="396"/>
                  </a:lnTo>
                  <a:lnTo>
                    <a:pt x="32" y="388"/>
                  </a:lnTo>
                  <a:lnTo>
                    <a:pt x="24" y="380"/>
                  </a:lnTo>
                  <a:lnTo>
                    <a:pt x="24" y="372"/>
                  </a:lnTo>
                  <a:lnTo>
                    <a:pt x="16" y="364"/>
                  </a:lnTo>
                  <a:lnTo>
                    <a:pt x="16" y="356"/>
                  </a:lnTo>
                  <a:lnTo>
                    <a:pt x="8" y="348"/>
                  </a:lnTo>
                  <a:lnTo>
                    <a:pt x="8" y="340"/>
                  </a:lnTo>
                  <a:lnTo>
                    <a:pt x="8" y="332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0" y="300"/>
                  </a:lnTo>
                  <a:lnTo>
                    <a:pt x="0" y="294"/>
                  </a:lnTo>
                  <a:lnTo>
                    <a:pt x="0" y="286"/>
                  </a:lnTo>
                  <a:lnTo>
                    <a:pt x="0" y="278"/>
                  </a:lnTo>
                  <a:lnTo>
                    <a:pt x="0" y="270"/>
                  </a:lnTo>
                  <a:lnTo>
                    <a:pt x="0" y="262"/>
                  </a:lnTo>
                  <a:lnTo>
                    <a:pt x="0" y="254"/>
                  </a:lnTo>
                  <a:lnTo>
                    <a:pt x="0" y="246"/>
                  </a:lnTo>
                  <a:lnTo>
                    <a:pt x="0" y="238"/>
                  </a:lnTo>
                  <a:lnTo>
                    <a:pt x="8" y="230"/>
                  </a:lnTo>
                  <a:lnTo>
                    <a:pt x="8" y="222"/>
                  </a:lnTo>
                  <a:lnTo>
                    <a:pt x="8" y="214"/>
                  </a:lnTo>
                  <a:lnTo>
                    <a:pt x="8" y="206"/>
                  </a:lnTo>
                  <a:lnTo>
                    <a:pt x="16" y="206"/>
                  </a:lnTo>
                  <a:lnTo>
                    <a:pt x="16" y="198"/>
                  </a:lnTo>
                  <a:lnTo>
                    <a:pt x="16" y="190"/>
                  </a:lnTo>
                  <a:lnTo>
                    <a:pt x="24" y="190"/>
                  </a:lnTo>
                  <a:lnTo>
                    <a:pt x="24" y="182"/>
                  </a:lnTo>
                  <a:lnTo>
                    <a:pt x="32" y="174"/>
                  </a:lnTo>
                  <a:lnTo>
                    <a:pt x="32" y="166"/>
                  </a:lnTo>
                  <a:lnTo>
                    <a:pt x="40" y="166"/>
                  </a:lnTo>
                  <a:lnTo>
                    <a:pt x="40" y="158"/>
                  </a:lnTo>
                  <a:lnTo>
                    <a:pt x="48" y="150"/>
                  </a:lnTo>
                  <a:lnTo>
                    <a:pt x="56" y="142"/>
                  </a:lnTo>
                  <a:lnTo>
                    <a:pt x="64" y="134"/>
                  </a:lnTo>
                  <a:lnTo>
                    <a:pt x="72" y="126"/>
                  </a:lnTo>
                  <a:lnTo>
                    <a:pt x="80" y="118"/>
                  </a:lnTo>
                  <a:lnTo>
                    <a:pt x="88" y="110"/>
                  </a:lnTo>
                  <a:lnTo>
                    <a:pt x="96" y="110"/>
                  </a:lnTo>
                  <a:lnTo>
                    <a:pt x="104" y="102"/>
                  </a:lnTo>
                  <a:lnTo>
                    <a:pt x="112" y="102"/>
                  </a:lnTo>
                  <a:lnTo>
                    <a:pt x="120" y="102"/>
                  </a:lnTo>
                  <a:lnTo>
                    <a:pt x="120" y="94"/>
                  </a:lnTo>
                  <a:lnTo>
                    <a:pt x="128" y="94"/>
                  </a:lnTo>
                  <a:lnTo>
                    <a:pt x="136" y="94"/>
                  </a:lnTo>
                  <a:lnTo>
                    <a:pt x="144" y="94"/>
                  </a:lnTo>
                  <a:lnTo>
                    <a:pt x="152" y="94"/>
                  </a:lnTo>
                  <a:lnTo>
                    <a:pt x="160" y="94"/>
                  </a:lnTo>
                  <a:lnTo>
                    <a:pt x="168" y="94"/>
                  </a:lnTo>
                  <a:lnTo>
                    <a:pt x="176" y="94"/>
                  </a:lnTo>
                  <a:lnTo>
                    <a:pt x="184" y="94"/>
                  </a:lnTo>
                  <a:lnTo>
                    <a:pt x="192" y="94"/>
                  </a:lnTo>
                  <a:lnTo>
                    <a:pt x="198" y="94"/>
                  </a:lnTo>
                  <a:lnTo>
                    <a:pt x="206" y="94"/>
                  </a:lnTo>
                  <a:lnTo>
                    <a:pt x="214" y="102"/>
                  </a:lnTo>
                  <a:lnTo>
                    <a:pt x="222" y="102"/>
                  </a:lnTo>
                  <a:lnTo>
                    <a:pt x="230" y="102"/>
                  </a:lnTo>
                  <a:lnTo>
                    <a:pt x="230" y="110"/>
                  </a:lnTo>
                  <a:lnTo>
                    <a:pt x="238" y="110"/>
                  </a:lnTo>
                  <a:lnTo>
                    <a:pt x="246" y="110"/>
                  </a:lnTo>
                  <a:lnTo>
                    <a:pt x="254" y="118"/>
                  </a:lnTo>
                  <a:lnTo>
                    <a:pt x="262" y="118"/>
                  </a:lnTo>
                  <a:lnTo>
                    <a:pt x="262" y="126"/>
                  </a:lnTo>
                  <a:lnTo>
                    <a:pt x="270" y="126"/>
                  </a:lnTo>
                  <a:lnTo>
                    <a:pt x="278" y="134"/>
                  </a:lnTo>
                  <a:lnTo>
                    <a:pt x="286" y="142"/>
                  </a:lnTo>
                  <a:lnTo>
                    <a:pt x="286" y="150"/>
                  </a:lnTo>
                  <a:lnTo>
                    <a:pt x="294" y="150"/>
                  </a:lnTo>
                  <a:lnTo>
                    <a:pt x="294" y="158"/>
                  </a:lnTo>
                  <a:lnTo>
                    <a:pt x="302" y="158"/>
                  </a:lnTo>
                  <a:lnTo>
                    <a:pt x="302" y="166"/>
                  </a:lnTo>
                  <a:lnTo>
                    <a:pt x="302" y="174"/>
                  </a:lnTo>
                  <a:lnTo>
                    <a:pt x="310" y="174"/>
                  </a:lnTo>
                  <a:lnTo>
                    <a:pt x="310" y="182"/>
                  </a:lnTo>
                  <a:lnTo>
                    <a:pt x="310" y="190"/>
                  </a:lnTo>
                  <a:lnTo>
                    <a:pt x="318" y="190"/>
                  </a:lnTo>
                  <a:lnTo>
                    <a:pt x="318" y="198"/>
                  </a:lnTo>
                  <a:lnTo>
                    <a:pt x="318" y="206"/>
                  </a:lnTo>
                  <a:lnTo>
                    <a:pt x="318" y="214"/>
                  </a:lnTo>
                  <a:lnTo>
                    <a:pt x="318" y="222"/>
                  </a:lnTo>
                  <a:lnTo>
                    <a:pt x="326" y="230"/>
                  </a:lnTo>
                  <a:lnTo>
                    <a:pt x="326" y="238"/>
                  </a:lnTo>
                  <a:lnTo>
                    <a:pt x="326" y="246"/>
                  </a:lnTo>
                  <a:lnTo>
                    <a:pt x="326" y="254"/>
                  </a:lnTo>
                  <a:lnTo>
                    <a:pt x="326" y="262"/>
                  </a:lnTo>
                  <a:lnTo>
                    <a:pt x="318" y="262"/>
                  </a:lnTo>
                  <a:lnTo>
                    <a:pt x="318" y="270"/>
                  </a:lnTo>
                  <a:lnTo>
                    <a:pt x="318" y="278"/>
                  </a:lnTo>
                  <a:lnTo>
                    <a:pt x="318" y="286"/>
                  </a:lnTo>
                  <a:lnTo>
                    <a:pt x="318" y="294"/>
                  </a:lnTo>
                  <a:lnTo>
                    <a:pt x="310" y="294"/>
                  </a:lnTo>
                  <a:lnTo>
                    <a:pt x="310" y="300"/>
                  </a:lnTo>
                  <a:lnTo>
                    <a:pt x="310" y="308"/>
                  </a:lnTo>
                  <a:lnTo>
                    <a:pt x="302" y="316"/>
                  </a:lnTo>
                  <a:lnTo>
                    <a:pt x="294" y="324"/>
                  </a:lnTo>
                  <a:lnTo>
                    <a:pt x="294" y="332"/>
                  </a:lnTo>
                  <a:lnTo>
                    <a:pt x="286" y="332"/>
                  </a:lnTo>
                  <a:lnTo>
                    <a:pt x="278" y="340"/>
                  </a:lnTo>
                  <a:lnTo>
                    <a:pt x="278" y="348"/>
                  </a:lnTo>
                  <a:lnTo>
                    <a:pt x="270" y="348"/>
                  </a:lnTo>
                  <a:lnTo>
                    <a:pt x="270" y="356"/>
                  </a:lnTo>
                  <a:lnTo>
                    <a:pt x="262" y="356"/>
                  </a:lnTo>
                  <a:lnTo>
                    <a:pt x="254" y="364"/>
                  </a:lnTo>
                  <a:lnTo>
                    <a:pt x="246" y="372"/>
                  </a:lnTo>
                  <a:lnTo>
                    <a:pt x="238" y="372"/>
                  </a:lnTo>
                  <a:lnTo>
                    <a:pt x="230" y="372"/>
                  </a:lnTo>
                  <a:lnTo>
                    <a:pt x="222" y="380"/>
                  </a:lnTo>
                  <a:lnTo>
                    <a:pt x="214" y="380"/>
                  </a:lnTo>
                  <a:lnTo>
                    <a:pt x="206" y="380"/>
                  </a:lnTo>
                  <a:lnTo>
                    <a:pt x="198" y="380"/>
                  </a:lnTo>
                  <a:lnTo>
                    <a:pt x="192" y="380"/>
                  </a:lnTo>
                  <a:lnTo>
                    <a:pt x="184" y="380"/>
                  </a:lnTo>
                  <a:lnTo>
                    <a:pt x="176" y="380"/>
                  </a:lnTo>
                  <a:lnTo>
                    <a:pt x="168" y="380"/>
                  </a:lnTo>
                  <a:lnTo>
                    <a:pt x="160" y="380"/>
                  </a:lnTo>
                  <a:lnTo>
                    <a:pt x="152" y="372"/>
                  </a:lnTo>
                  <a:lnTo>
                    <a:pt x="144" y="372"/>
                  </a:lnTo>
                  <a:lnTo>
                    <a:pt x="136" y="364"/>
                  </a:lnTo>
                  <a:lnTo>
                    <a:pt x="128" y="364"/>
                  </a:lnTo>
                  <a:lnTo>
                    <a:pt x="120" y="364"/>
                  </a:lnTo>
                  <a:lnTo>
                    <a:pt x="120" y="356"/>
                  </a:lnTo>
                  <a:lnTo>
                    <a:pt x="112" y="356"/>
                  </a:lnTo>
                  <a:lnTo>
                    <a:pt x="104" y="348"/>
                  </a:lnTo>
                  <a:lnTo>
                    <a:pt x="104" y="340"/>
                  </a:lnTo>
                  <a:lnTo>
                    <a:pt x="96" y="340"/>
                  </a:lnTo>
                  <a:lnTo>
                    <a:pt x="96" y="332"/>
                  </a:lnTo>
                  <a:lnTo>
                    <a:pt x="88" y="332"/>
                  </a:lnTo>
                  <a:lnTo>
                    <a:pt x="88" y="324"/>
                  </a:lnTo>
                  <a:lnTo>
                    <a:pt x="80" y="324"/>
                  </a:lnTo>
                  <a:lnTo>
                    <a:pt x="80" y="316"/>
                  </a:lnTo>
                  <a:lnTo>
                    <a:pt x="80" y="308"/>
                  </a:lnTo>
                  <a:lnTo>
                    <a:pt x="80" y="300"/>
                  </a:lnTo>
                  <a:lnTo>
                    <a:pt x="72" y="300"/>
                  </a:lnTo>
                  <a:lnTo>
                    <a:pt x="72" y="294"/>
                  </a:lnTo>
                  <a:lnTo>
                    <a:pt x="72" y="286"/>
                  </a:lnTo>
                  <a:lnTo>
                    <a:pt x="72" y="278"/>
                  </a:lnTo>
                  <a:lnTo>
                    <a:pt x="72" y="270"/>
                  </a:lnTo>
                  <a:lnTo>
                    <a:pt x="80" y="270"/>
                  </a:lnTo>
                  <a:lnTo>
                    <a:pt x="80" y="262"/>
                  </a:lnTo>
                  <a:lnTo>
                    <a:pt x="80" y="254"/>
                  </a:lnTo>
                  <a:lnTo>
                    <a:pt x="80" y="246"/>
                  </a:lnTo>
                  <a:lnTo>
                    <a:pt x="88" y="238"/>
                  </a:lnTo>
                  <a:lnTo>
                    <a:pt x="88" y="230"/>
                  </a:lnTo>
                  <a:lnTo>
                    <a:pt x="96" y="230"/>
                  </a:lnTo>
                  <a:lnTo>
                    <a:pt x="96" y="222"/>
                  </a:lnTo>
                  <a:lnTo>
                    <a:pt x="96" y="214"/>
                  </a:lnTo>
                  <a:lnTo>
                    <a:pt x="104" y="214"/>
                  </a:lnTo>
                  <a:lnTo>
                    <a:pt x="104" y="206"/>
                  </a:lnTo>
                  <a:lnTo>
                    <a:pt x="112" y="206"/>
                  </a:lnTo>
                  <a:lnTo>
                    <a:pt x="120" y="206"/>
                  </a:lnTo>
                  <a:lnTo>
                    <a:pt x="120" y="198"/>
                  </a:lnTo>
                  <a:lnTo>
                    <a:pt x="128" y="198"/>
                  </a:lnTo>
                  <a:lnTo>
                    <a:pt x="136" y="190"/>
                  </a:lnTo>
                  <a:lnTo>
                    <a:pt x="144" y="190"/>
                  </a:lnTo>
                  <a:lnTo>
                    <a:pt x="152" y="190"/>
                  </a:lnTo>
                  <a:lnTo>
                    <a:pt x="160" y="190"/>
                  </a:lnTo>
                  <a:lnTo>
                    <a:pt x="168" y="190"/>
                  </a:lnTo>
                  <a:lnTo>
                    <a:pt x="176" y="190"/>
                  </a:lnTo>
                  <a:lnTo>
                    <a:pt x="176" y="198"/>
                  </a:lnTo>
                  <a:lnTo>
                    <a:pt x="184" y="198"/>
                  </a:lnTo>
                  <a:lnTo>
                    <a:pt x="192" y="198"/>
                  </a:lnTo>
                  <a:lnTo>
                    <a:pt x="192" y="206"/>
                  </a:lnTo>
                  <a:lnTo>
                    <a:pt x="198" y="206"/>
                  </a:lnTo>
                  <a:lnTo>
                    <a:pt x="206" y="214"/>
                  </a:lnTo>
                  <a:lnTo>
                    <a:pt x="214" y="222"/>
                  </a:lnTo>
                  <a:lnTo>
                    <a:pt x="214" y="230"/>
                  </a:lnTo>
                  <a:lnTo>
                    <a:pt x="222" y="238"/>
                  </a:lnTo>
                  <a:lnTo>
                    <a:pt x="222" y="246"/>
                  </a:lnTo>
                  <a:lnTo>
                    <a:pt x="222" y="254"/>
                  </a:lnTo>
                  <a:lnTo>
                    <a:pt x="222" y="262"/>
                  </a:lnTo>
                  <a:lnTo>
                    <a:pt x="222" y="270"/>
                  </a:lnTo>
                  <a:lnTo>
                    <a:pt x="214" y="270"/>
                  </a:lnTo>
                  <a:lnTo>
                    <a:pt x="214" y="278"/>
                  </a:lnTo>
                  <a:lnTo>
                    <a:pt x="214" y="286"/>
                  </a:lnTo>
                  <a:lnTo>
                    <a:pt x="206" y="294"/>
                  </a:lnTo>
                  <a:lnTo>
                    <a:pt x="206" y="300"/>
                  </a:lnTo>
                  <a:lnTo>
                    <a:pt x="176" y="278"/>
                  </a:lnTo>
                  <a:lnTo>
                    <a:pt x="176" y="270"/>
                  </a:lnTo>
                  <a:lnTo>
                    <a:pt x="184" y="270"/>
                  </a:lnTo>
                  <a:lnTo>
                    <a:pt x="184" y="262"/>
                  </a:lnTo>
                  <a:lnTo>
                    <a:pt x="184" y="254"/>
                  </a:lnTo>
                  <a:lnTo>
                    <a:pt x="184" y="246"/>
                  </a:lnTo>
                  <a:lnTo>
                    <a:pt x="184" y="238"/>
                  </a:lnTo>
                  <a:lnTo>
                    <a:pt x="176" y="238"/>
                  </a:lnTo>
                  <a:lnTo>
                    <a:pt x="176" y="230"/>
                  </a:lnTo>
                  <a:lnTo>
                    <a:pt x="168" y="230"/>
                  </a:lnTo>
                  <a:lnTo>
                    <a:pt x="160" y="230"/>
                  </a:lnTo>
                  <a:lnTo>
                    <a:pt x="152" y="230"/>
                  </a:lnTo>
                  <a:lnTo>
                    <a:pt x="144" y="230"/>
                  </a:lnTo>
                  <a:lnTo>
                    <a:pt x="136" y="230"/>
                  </a:lnTo>
                  <a:lnTo>
                    <a:pt x="136" y="238"/>
                  </a:lnTo>
                  <a:lnTo>
                    <a:pt x="128" y="238"/>
                  </a:lnTo>
                  <a:lnTo>
                    <a:pt x="128" y="246"/>
                  </a:lnTo>
                  <a:lnTo>
                    <a:pt x="120" y="246"/>
                  </a:lnTo>
                  <a:lnTo>
                    <a:pt x="120" y="254"/>
                  </a:lnTo>
                  <a:lnTo>
                    <a:pt x="120" y="262"/>
                  </a:lnTo>
                  <a:lnTo>
                    <a:pt x="112" y="262"/>
                  </a:lnTo>
                  <a:lnTo>
                    <a:pt x="112" y="270"/>
                  </a:lnTo>
                  <a:lnTo>
                    <a:pt x="112" y="278"/>
                  </a:lnTo>
                  <a:lnTo>
                    <a:pt x="112" y="286"/>
                  </a:lnTo>
                  <a:lnTo>
                    <a:pt x="112" y="294"/>
                  </a:lnTo>
                  <a:lnTo>
                    <a:pt x="112" y="300"/>
                  </a:lnTo>
                  <a:lnTo>
                    <a:pt x="120" y="300"/>
                  </a:lnTo>
                  <a:lnTo>
                    <a:pt x="120" y="308"/>
                  </a:lnTo>
                  <a:lnTo>
                    <a:pt x="120" y="316"/>
                  </a:lnTo>
                  <a:lnTo>
                    <a:pt x="128" y="316"/>
                  </a:lnTo>
                  <a:lnTo>
                    <a:pt x="136" y="324"/>
                  </a:lnTo>
                  <a:lnTo>
                    <a:pt x="144" y="332"/>
                  </a:lnTo>
                  <a:lnTo>
                    <a:pt x="152" y="332"/>
                  </a:lnTo>
                  <a:lnTo>
                    <a:pt x="160" y="340"/>
                  </a:lnTo>
                  <a:lnTo>
                    <a:pt x="168" y="340"/>
                  </a:lnTo>
                  <a:lnTo>
                    <a:pt x="176" y="340"/>
                  </a:lnTo>
                  <a:lnTo>
                    <a:pt x="184" y="348"/>
                  </a:lnTo>
                  <a:lnTo>
                    <a:pt x="192" y="348"/>
                  </a:lnTo>
                  <a:lnTo>
                    <a:pt x="198" y="348"/>
                  </a:lnTo>
                  <a:lnTo>
                    <a:pt x="198" y="340"/>
                  </a:lnTo>
                  <a:lnTo>
                    <a:pt x="206" y="340"/>
                  </a:lnTo>
                  <a:lnTo>
                    <a:pt x="214" y="340"/>
                  </a:lnTo>
                  <a:lnTo>
                    <a:pt x="222" y="340"/>
                  </a:lnTo>
                  <a:lnTo>
                    <a:pt x="222" y="332"/>
                  </a:lnTo>
                  <a:lnTo>
                    <a:pt x="230" y="332"/>
                  </a:lnTo>
                  <a:lnTo>
                    <a:pt x="238" y="332"/>
                  </a:lnTo>
                  <a:lnTo>
                    <a:pt x="238" y="324"/>
                  </a:lnTo>
                  <a:lnTo>
                    <a:pt x="246" y="324"/>
                  </a:lnTo>
                  <a:lnTo>
                    <a:pt x="246" y="316"/>
                  </a:lnTo>
                  <a:lnTo>
                    <a:pt x="254" y="316"/>
                  </a:lnTo>
                  <a:lnTo>
                    <a:pt x="262" y="308"/>
                  </a:lnTo>
                  <a:lnTo>
                    <a:pt x="270" y="300"/>
                  </a:lnTo>
                  <a:lnTo>
                    <a:pt x="270" y="294"/>
                  </a:lnTo>
                  <a:lnTo>
                    <a:pt x="278" y="286"/>
                  </a:lnTo>
                  <a:lnTo>
                    <a:pt x="278" y="278"/>
                  </a:lnTo>
                  <a:lnTo>
                    <a:pt x="286" y="270"/>
                  </a:lnTo>
                  <a:lnTo>
                    <a:pt x="286" y="262"/>
                  </a:lnTo>
                  <a:lnTo>
                    <a:pt x="286" y="254"/>
                  </a:lnTo>
                  <a:lnTo>
                    <a:pt x="286" y="246"/>
                  </a:lnTo>
                  <a:lnTo>
                    <a:pt x="286" y="238"/>
                  </a:lnTo>
                  <a:lnTo>
                    <a:pt x="286" y="230"/>
                  </a:lnTo>
                  <a:lnTo>
                    <a:pt x="286" y="222"/>
                  </a:lnTo>
                  <a:lnTo>
                    <a:pt x="286" y="214"/>
                  </a:lnTo>
                  <a:lnTo>
                    <a:pt x="278" y="206"/>
                  </a:lnTo>
                  <a:lnTo>
                    <a:pt x="278" y="198"/>
                  </a:lnTo>
                  <a:lnTo>
                    <a:pt x="270" y="190"/>
                  </a:lnTo>
                  <a:lnTo>
                    <a:pt x="270" y="182"/>
                  </a:lnTo>
                  <a:lnTo>
                    <a:pt x="262" y="174"/>
                  </a:lnTo>
                  <a:lnTo>
                    <a:pt x="262" y="166"/>
                  </a:lnTo>
                  <a:lnTo>
                    <a:pt x="254" y="166"/>
                  </a:lnTo>
                  <a:lnTo>
                    <a:pt x="246" y="158"/>
                  </a:lnTo>
                  <a:lnTo>
                    <a:pt x="238" y="150"/>
                  </a:lnTo>
                  <a:lnTo>
                    <a:pt x="230" y="150"/>
                  </a:lnTo>
                  <a:lnTo>
                    <a:pt x="230" y="142"/>
                  </a:lnTo>
                  <a:lnTo>
                    <a:pt x="222" y="142"/>
                  </a:lnTo>
                  <a:lnTo>
                    <a:pt x="214" y="142"/>
                  </a:lnTo>
                  <a:lnTo>
                    <a:pt x="206" y="134"/>
                  </a:lnTo>
                  <a:lnTo>
                    <a:pt x="198" y="134"/>
                  </a:lnTo>
                  <a:lnTo>
                    <a:pt x="192" y="134"/>
                  </a:lnTo>
                  <a:lnTo>
                    <a:pt x="184" y="126"/>
                  </a:lnTo>
                  <a:lnTo>
                    <a:pt x="176" y="126"/>
                  </a:lnTo>
                  <a:lnTo>
                    <a:pt x="168" y="126"/>
                  </a:lnTo>
                  <a:lnTo>
                    <a:pt x="160" y="126"/>
                  </a:lnTo>
                  <a:lnTo>
                    <a:pt x="152" y="126"/>
                  </a:lnTo>
                  <a:lnTo>
                    <a:pt x="144" y="134"/>
                  </a:lnTo>
                  <a:lnTo>
                    <a:pt x="136" y="134"/>
                  </a:lnTo>
                  <a:lnTo>
                    <a:pt x="128" y="134"/>
                  </a:lnTo>
                  <a:lnTo>
                    <a:pt x="120" y="142"/>
                  </a:lnTo>
                  <a:lnTo>
                    <a:pt x="112" y="142"/>
                  </a:lnTo>
                  <a:lnTo>
                    <a:pt x="104" y="150"/>
                  </a:lnTo>
                  <a:lnTo>
                    <a:pt x="96" y="150"/>
                  </a:lnTo>
                  <a:lnTo>
                    <a:pt x="96" y="158"/>
                  </a:lnTo>
                  <a:lnTo>
                    <a:pt x="88" y="158"/>
                  </a:lnTo>
                  <a:lnTo>
                    <a:pt x="88" y="166"/>
                  </a:lnTo>
                  <a:lnTo>
                    <a:pt x="80" y="166"/>
                  </a:lnTo>
                  <a:lnTo>
                    <a:pt x="80" y="174"/>
                  </a:lnTo>
                  <a:lnTo>
                    <a:pt x="72" y="174"/>
                  </a:lnTo>
                  <a:lnTo>
                    <a:pt x="72" y="182"/>
                  </a:lnTo>
                  <a:lnTo>
                    <a:pt x="64" y="190"/>
                  </a:lnTo>
                  <a:lnTo>
                    <a:pt x="64" y="198"/>
                  </a:lnTo>
                  <a:lnTo>
                    <a:pt x="56" y="198"/>
                  </a:lnTo>
                  <a:lnTo>
                    <a:pt x="56" y="206"/>
                  </a:lnTo>
                  <a:lnTo>
                    <a:pt x="56" y="214"/>
                  </a:lnTo>
                  <a:lnTo>
                    <a:pt x="48" y="214"/>
                  </a:lnTo>
                  <a:lnTo>
                    <a:pt x="48" y="222"/>
                  </a:lnTo>
                  <a:lnTo>
                    <a:pt x="48" y="230"/>
                  </a:lnTo>
                  <a:lnTo>
                    <a:pt x="40" y="238"/>
                  </a:lnTo>
                  <a:lnTo>
                    <a:pt x="40" y="246"/>
                  </a:lnTo>
                  <a:lnTo>
                    <a:pt x="40" y="254"/>
                  </a:lnTo>
                  <a:lnTo>
                    <a:pt x="40" y="262"/>
                  </a:lnTo>
                  <a:lnTo>
                    <a:pt x="40" y="270"/>
                  </a:lnTo>
                  <a:lnTo>
                    <a:pt x="40" y="278"/>
                  </a:lnTo>
                  <a:lnTo>
                    <a:pt x="40" y="286"/>
                  </a:lnTo>
                  <a:lnTo>
                    <a:pt x="40" y="294"/>
                  </a:lnTo>
                  <a:lnTo>
                    <a:pt x="40" y="300"/>
                  </a:lnTo>
                  <a:lnTo>
                    <a:pt x="40" y="308"/>
                  </a:lnTo>
                  <a:lnTo>
                    <a:pt x="40" y="316"/>
                  </a:lnTo>
                  <a:lnTo>
                    <a:pt x="40" y="324"/>
                  </a:lnTo>
                  <a:lnTo>
                    <a:pt x="48" y="332"/>
                  </a:lnTo>
                  <a:lnTo>
                    <a:pt x="48" y="340"/>
                  </a:lnTo>
                  <a:lnTo>
                    <a:pt x="48" y="348"/>
                  </a:lnTo>
                  <a:lnTo>
                    <a:pt x="56" y="356"/>
                  </a:lnTo>
                  <a:lnTo>
                    <a:pt x="56" y="364"/>
                  </a:lnTo>
                  <a:lnTo>
                    <a:pt x="64" y="364"/>
                  </a:lnTo>
                  <a:lnTo>
                    <a:pt x="64" y="372"/>
                  </a:lnTo>
                  <a:lnTo>
                    <a:pt x="72" y="380"/>
                  </a:lnTo>
                  <a:lnTo>
                    <a:pt x="80" y="380"/>
                  </a:lnTo>
                  <a:lnTo>
                    <a:pt x="80" y="388"/>
                  </a:lnTo>
                  <a:lnTo>
                    <a:pt x="88" y="396"/>
                  </a:lnTo>
                  <a:lnTo>
                    <a:pt x="96" y="404"/>
                  </a:lnTo>
                  <a:lnTo>
                    <a:pt x="104" y="404"/>
                  </a:lnTo>
                  <a:lnTo>
                    <a:pt x="112" y="412"/>
                  </a:lnTo>
                  <a:lnTo>
                    <a:pt x="120" y="412"/>
                  </a:lnTo>
                  <a:lnTo>
                    <a:pt x="120" y="420"/>
                  </a:lnTo>
                  <a:lnTo>
                    <a:pt x="128" y="420"/>
                  </a:lnTo>
                  <a:lnTo>
                    <a:pt x="136" y="420"/>
                  </a:lnTo>
                  <a:lnTo>
                    <a:pt x="136" y="428"/>
                  </a:lnTo>
                  <a:lnTo>
                    <a:pt x="144" y="428"/>
                  </a:lnTo>
                  <a:lnTo>
                    <a:pt x="152" y="428"/>
                  </a:lnTo>
                  <a:lnTo>
                    <a:pt x="160" y="428"/>
                  </a:lnTo>
                  <a:lnTo>
                    <a:pt x="168" y="436"/>
                  </a:lnTo>
                  <a:lnTo>
                    <a:pt x="176" y="436"/>
                  </a:lnTo>
                  <a:lnTo>
                    <a:pt x="184" y="436"/>
                  </a:lnTo>
                  <a:lnTo>
                    <a:pt x="192" y="436"/>
                  </a:lnTo>
                  <a:lnTo>
                    <a:pt x="198" y="436"/>
                  </a:lnTo>
                  <a:lnTo>
                    <a:pt x="206" y="436"/>
                  </a:lnTo>
                  <a:lnTo>
                    <a:pt x="214" y="436"/>
                  </a:lnTo>
                  <a:lnTo>
                    <a:pt x="222" y="436"/>
                  </a:lnTo>
                  <a:lnTo>
                    <a:pt x="230" y="428"/>
                  </a:lnTo>
                  <a:lnTo>
                    <a:pt x="238" y="428"/>
                  </a:lnTo>
                  <a:lnTo>
                    <a:pt x="246" y="428"/>
                  </a:lnTo>
                  <a:lnTo>
                    <a:pt x="254" y="428"/>
                  </a:lnTo>
                  <a:lnTo>
                    <a:pt x="262" y="428"/>
                  </a:lnTo>
                  <a:lnTo>
                    <a:pt x="262" y="420"/>
                  </a:lnTo>
                  <a:lnTo>
                    <a:pt x="270" y="420"/>
                  </a:lnTo>
                  <a:lnTo>
                    <a:pt x="278" y="420"/>
                  </a:lnTo>
                  <a:lnTo>
                    <a:pt x="286" y="420"/>
                  </a:lnTo>
                  <a:lnTo>
                    <a:pt x="286" y="412"/>
                  </a:lnTo>
                  <a:lnTo>
                    <a:pt x="294" y="412"/>
                  </a:lnTo>
                  <a:lnTo>
                    <a:pt x="302" y="404"/>
                  </a:lnTo>
                  <a:lnTo>
                    <a:pt x="310" y="404"/>
                  </a:lnTo>
                  <a:lnTo>
                    <a:pt x="318" y="396"/>
                  </a:lnTo>
                  <a:lnTo>
                    <a:pt x="326" y="388"/>
                  </a:lnTo>
                  <a:lnTo>
                    <a:pt x="334" y="380"/>
                  </a:lnTo>
                  <a:lnTo>
                    <a:pt x="342" y="372"/>
                  </a:lnTo>
                  <a:lnTo>
                    <a:pt x="350" y="372"/>
                  </a:lnTo>
                  <a:lnTo>
                    <a:pt x="358" y="364"/>
                  </a:lnTo>
                  <a:lnTo>
                    <a:pt x="366" y="356"/>
                  </a:lnTo>
                  <a:lnTo>
                    <a:pt x="374" y="348"/>
                  </a:lnTo>
                  <a:lnTo>
                    <a:pt x="374" y="340"/>
                  </a:lnTo>
                  <a:lnTo>
                    <a:pt x="382" y="332"/>
                  </a:lnTo>
                  <a:lnTo>
                    <a:pt x="390" y="324"/>
                  </a:lnTo>
                  <a:lnTo>
                    <a:pt x="398" y="316"/>
                  </a:lnTo>
                  <a:lnTo>
                    <a:pt x="406" y="308"/>
                  </a:lnTo>
                  <a:lnTo>
                    <a:pt x="412" y="300"/>
                  </a:lnTo>
                  <a:lnTo>
                    <a:pt x="412" y="294"/>
                  </a:lnTo>
                  <a:lnTo>
                    <a:pt x="420" y="286"/>
                  </a:lnTo>
                  <a:lnTo>
                    <a:pt x="428" y="270"/>
                  </a:lnTo>
                  <a:lnTo>
                    <a:pt x="436" y="262"/>
                  </a:lnTo>
                  <a:lnTo>
                    <a:pt x="444" y="254"/>
                  </a:lnTo>
                  <a:lnTo>
                    <a:pt x="444" y="246"/>
                  </a:lnTo>
                  <a:lnTo>
                    <a:pt x="452" y="238"/>
                  </a:lnTo>
                  <a:lnTo>
                    <a:pt x="460" y="222"/>
                  </a:lnTo>
                  <a:lnTo>
                    <a:pt x="460" y="214"/>
                  </a:lnTo>
                  <a:lnTo>
                    <a:pt x="460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447480" y="7956720"/>
              <a:ext cx="755640" cy="166032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476" h="1046">
                  <a:moveTo>
                    <a:pt x="214" y="468"/>
                  </a:moveTo>
                  <a:lnTo>
                    <a:pt x="208" y="468"/>
                  </a:lnTo>
                  <a:lnTo>
                    <a:pt x="192" y="476"/>
                  </a:lnTo>
                  <a:lnTo>
                    <a:pt x="184" y="484"/>
                  </a:lnTo>
                  <a:lnTo>
                    <a:pt x="176" y="492"/>
                  </a:lnTo>
                  <a:lnTo>
                    <a:pt x="160" y="500"/>
                  </a:lnTo>
                  <a:lnTo>
                    <a:pt x="152" y="508"/>
                  </a:lnTo>
                  <a:lnTo>
                    <a:pt x="144" y="516"/>
                  </a:lnTo>
                  <a:lnTo>
                    <a:pt x="136" y="524"/>
                  </a:lnTo>
                  <a:lnTo>
                    <a:pt x="120" y="532"/>
                  </a:lnTo>
                  <a:lnTo>
                    <a:pt x="112" y="548"/>
                  </a:lnTo>
                  <a:lnTo>
                    <a:pt x="104" y="554"/>
                  </a:lnTo>
                  <a:lnTo>
                    <a:pt x="96" y="562"/>
                  </a:lnTo>
                  <a:lnTo>
                    <a:pt x="88" y="578"/>
                  </a:lnTo>
                  <a:lnTo>
                    <a:pt x="80" y="586"/>
                  </a:lnTo>
                  <a:lnTo>
                    <a:pt x="64" y="594"/>
                  </a:lnTo>
                  <a:lnTo>
                    <a:pt x="56" y="610"/>
                  </a:lnTo>
                  <a:lnTo>
                    <a:pt x="56" y="618"/>
                  </a:lnTo>
                  <a:lnTo>
                    <a:pt x="48" y="634"/>
                  </a:lnTo>
                  <a:lnTo>
                    <a:pt x="40" y="642"/>
                  </a:lnTo>
                  <a:lnTo>
                    <a:pt x="32" y="658"/>
                  </a:lnTo>
                  <a:lnTo>
                    <a:pt x="24" y="674"/>
                  </a:lnTo>
                  <a:lnTo>
                    <a:pt x="24" y="682"/>
                  </a:lnTo>
                  <a:lnTo>
                    <a:pt x="16" y="698"/>
                  </a:lnTo>
                  <a:lnTo>
                    <a:pt x="16" y="714"/>
                  </a:lnTo>
                  <a:lnTo>
                    <a:pt x="8" y="722"/>
                  </a:lnTo>
                  <a:lnTo>
                    <a:pt x="8" y="738"/>
                  </a:lnTo>
                  <a:lnTo>
                    <a:pt x="8" y="746"/>
                  </a:lnTo>
                  <a:lnTo>
                    <a:pt x="8" y="762"/>
                  </a:lnTo>
                  <a:lnTo>
                    <a:pt x="0" y="776"/>
                  </a:lnTo>
                  <a:lnTo>
                    <a:pt x="8" y="784"/>
                  </a:lnTo>
                  <a:lnTo>
                    <a:pt x="8" y="800"/>
                  </a:lnTo>
                  <a:lnTo>
                    <a:pt x="8" y="816"/>
                  </a:lnTo>
                  <a:lnTo>
                    <a:pt x="8" y="824"/>
                  </a:lnTo>
                  <a:lnTo>
                    <a:pt x="8" y="832"/>
                  </a:lnTo>
                  <a:lnTo>
                    <a:pt x="16" y="848"/>
                  </a:lnTo>
                  <a:lnTo>
                    <a:pt x="16" y="856"/>
                  </a:lnTo>
                  <a:lnTo>
                    <a:pt x="16" y="864"/>
                  </a:lnTo>
                  <a:lnTo>
                    <a:pt x="24" y="872"/>
                  </a:lnTo>
                  <a:lnTo>
                    <a:pt x="24" y="880"/>
                  </a:lnTo>
                  <a:lnTo>
                    <a:pt x="32" y="888"/>
                  </a:lnTo>
                  <a:lnTo>
                    <a:pt x="32" y="896"/>
                  </a:lnTo>
                  <a:lnTo>
                    <a:pt x="40" y="904"/>
                  </a:lnTo>
                  <a:lnTo>
                    <a:pt x="40" y="912"/>
                  </a:lnTo>
                  <a:lnTo>
                    <a:pt x="48" y="920"/>
                  </a:lnTo>
                  <a:lnTo>
                    <a:pt x="56" y="928"/>
                  </a:lnTo>
                  <a:lnTo>
                    <a:pt x="56" y="936"/>
                  </a:lnTo>
                  <a:lnTo>
                    <a:pt x="64" y="944"/>
                  </a:lnTo>
                  <a:lnTo>
                    <a:pt x="72" y="944"/>
                  </a:lnTo>
                  <a:lnTo>
                    <a:pt x="72" y="952"/>
                  </a:lnTo>
                  <a:lnTo>
                    <a:pt x="80" y="960"/>
                  </a:lnTo>
                  <a:lnTo>
                    <a:pt x="88" y="960"/>
                  </a:lnTo>
                  <a:lnTo>
                    <a:pt x="88" y="968"/>
                  </a:lnTo>
                  <a:lnTo>
                    <a:pt x="96" y="976"/>
                  </a:lnTo>
                  <a:lnTo>
                    <a:pt x="104" y="976"/>
                  </a:lnTo>
                  <a:lnTo>
                    <a:pt x="112" y="984"/>
                  </a:lnTo>
                  <a:lnTo>
                    <a:pt x="120" y="990"/>
                  </a:lnTo>
                  <a:lnTo>
                    <a:pt x="128" y="990"/>
                  </a:lnTo>
                  <a:lnTo>
                    <a:pt x="136" y="998"/>
                  </a:lnTo>
                  <a:lnTo>
                    <a:pt x="144" y="1006"/>
                  </a:lnTo>
                  <a:lnTo>
                    <a:pt x="152" y="1006"/>
                  </a:lnTo>
                  <a:lnTo>
                    <a:pt x="160" y="1014"/>
                  </a:lnTo>
                  <a:lnTo>
                    <a:pt x="168" y="1022"/>
                  </a:lnTo>
                  <a:lnTo>
                    <a:pt x="176" y="1022"/>
                  </a:lnTo>
                  <a:lnTo>
                    <a:pt x="184" y="1030"/>
                  </a:lnTo>
                  <a:lnTo>
                    <a:pt x="192" y="1030"/>
                  </a:lnTo>
                  <a:lnTo>
                    <a:pt x="200" y="1030"/>
                  </a:lnTo>
                  <a:lnTo>
                    <a:pt x="208" y="1030"/>
                  </a:lnTo>
                  <a:lnTo>
                    <a:pt x="214" y="1038"/>
                  </a:lnTo>
                  <a:lnTo>
                    <a:pt x="222" y="1038"/>
                  </a:lnTo>
                  <a:lnTo>
                    <a:pt x="230" y="1038"/>
                  </a:lnTo>
                  <a:lnTo>
                    <a:pt x="238" y="1038"/>
                  </a:lnTo>
                  <a:lnTo>
                    <a:pt x="246" y="1038"/>
                  </a:lnTo>
                  <a:lnTo>
                    <a:pt x="254" y="1038"/>
                  </a:lnTo>
                  <a:lnTo>
                    <a:pt x="262" y="1046"/>
                  </a:lnTo>
                  <a:lnTo>
                    <a:pt x="270" y="1046"/>
                  </a:lnTo>
                  <a:lnTo>
                    <a:pt x="278" y="1046"/>
                  </a:lnTo>
                  <a:lnTo>
                    <a:pt x="286" y="1038"/>
                  </a:lnTo>
                  <a:lnTo>
                    <a:pt x="294" y="1038"/>
                  </a:lnTo>
                  <a:lnTo>
                    <a:pt x="302" y="1038"/>
                  </a:lnTo>
                  <a:lnTo>
                    <a:pt x="310" y="1038"/>
                  </a:lnTo>
                  <a:lnTo>
                    <a:pt x="318" y="1038"/>
                  </a:lnTo>
                  <a:lnTo>
                    <a:pt x="326" y="1038"/>
                  </a:lnTo>
                  <a:lnTo>
                    <a:pt x="334" y="1030"/>
                  </a:lnTo>
                  <a:lnTo>
                    <a:pt x="342" y="1030"/>
                  </a:lnTo>
                  <a:lnTo>
                    <a:pt x="350" y="1030"/>
                  </a:lnTo>
                  <a:lnTo>
                    <a:pt x="358" y="1022"/>
                  </a:lnTo>
                  <a:lnTo>
                    <a:pt x="366" y="1022"/>
                  </a:lnTo>
                  <a:lnTo>
                    <a:pt x="374" y="1022"/>
                  </a:lnTo>
                  <a:lnTo>
                    <a:pt x="382" y="1014"/>
                  </a:lnTo>
                  <a:lnTo>
                    <a:pt x="382" y="1006"/>
                  </a:lnTo>
                  <a:lnTo>
                    <a:pt x="390" y="1006"/>
                  </a:lnTo>
                  <a:lnTo>
                    <a:pt x="398" y="998"/>
                  </a:lnTo>
                  <a:lnTo>
                    <a:pt x="406" y="990"/>
                  </a:lnTo>
                  <a:lnTo>
                    <a:pt x="414" y="984"/>
                  </a:lnTo>
                  <a:lnTo>
                    <a:pt x="422" y="976"/>
                  </a:lnTo>
                  <a:lnTo>
                    <a:pt x="422" y="968"/>
                  </a:lnTo>
                  <a:lnTo>
                    <a:pt x="430" y="960"/>
                  </a:lnTo>
                  <a:lnTo>
                    <a:pt x="436" y="952"/>
                  </a:lnTo>
                  <a:lnTo>
                    <a:pt x="436" y="944"/>
                  </a:lnTo>
                  <a:lnTo>
                    <a:pt x="444" y="936"/>
                  </a:lnTo>
                  <a:lnTo>
                    <a:pt x="444" y="928"/>
                  </a:lnTo>
                  <a:lnTo>
                    <a:pt x="444" y="920"/>
                  </a:lnTo>
                  <a:lnTo>
                    <a:pt x="452" y="912"/>
                  </a:lnTo>
                  <a:lnTo>
                    <a:pt x="452" y="904"/>
                  </a:lnTo>
                  <a:lnTo>
                    <a:pt x="452" y="896"/>
                  </a:lnTo>
                  <a:lnTo>
                    <a:pt x="452" y="888"/>
                  </a:lnTo>
                  <a:lnTo>
                    <a:pt x="452" y="880"/>
                  </a:lnTo>
                  <a:lnTo>
                    <a:pt x="460" y="872"/>
                  </a:lnTo>
                  <a:lnTo>
                    <a:pt x="460" y="864"/>
                  </a:lnTo>
                  <a:lnTo>
                    <a:pt x="460" y="856"/>
                  </a:lnTo>
                  <a:lnTo>
                    <a:pt x="452" y="848"/>
                  </a:lnTo>
                  <a:lnTo>
                    <a:pt x="452" y="840"/>
                  </a:lnTo>
                  <a:lnTo>
                    <a:pt x="452" y="832"/>
                  </a:lnTo>
                  <a:lnTo>
                    <a:pt x="452" y="824"/>
                  </a:lnTo>
                  <a:lnTo>
                    <a:pt x="452" y="816"/>
                  </a:lnTo>
                  <a:lnTo>
                    <a:pt x="444" y="808"/>
                  </a:lnTo>
                  <a:lnTo>
                    <a:pt x="444" y="800"/>
                  </a:lnTo>
                  <a:lnTo>
                    <a:pt x="444" y="792"/>
                  </a:lnTo>
                  <a:lnTo>
                    <a:pt x="436" y="792"/>
                  </a:lnTo>
                  <a:lnTo>
                    <a:pt x="436" y="784"/>
                  </a:lnTo>
                  <a:lnTo>
                    <a:pt x="436" y="776"/>
                  </a:lnTo>
                  <a:lnTo>
                    <a:pt x="430" y="776"/>
                  </a:lnTo>
                  <a:lnTo>
                    <a:pt x="430" y="770"/>
                  </a:lnTo>
                  <a:lnTo>
                    <a:pt x="422" y="762"/>
                  </a:lnTo>
                  <a:lnTo>
                    <a:pt x="422" y="754"/>
                  </a:lnTo>
                  <a:lnTo>
                    <a:pt x="414" y="754"/>
                  </a:lnTo>
                  <a:lnTo>
                    <a:pt x="406" y="746"/>
                  </a:lnTo>
                  <a:lnTo>
                    <a:pt x="398" y="738"/>
                  </a:lnTo>
                  <a:lnTo>
                    <a:pt x="390" y="730"/>
                  </a:lnTo>
                  <a:lnTo>
                    <a:pt x="382" y="722"/>
                  </a:lnTo>
                  <a:lnTo>
                    <a:pt x="374" y="722"/>
                  </a:lnTo>
                  <a:lnTo>
                    <a:pt x="374" y="714"/>
                  </a:lnTo>
                  <a:lnTo>
                    <a:pt x="366" y="714"/>
                  </a:lnTo>
                  <a:lnTo>
                    <a:pt x="358" y="714"/>
                  </a:lnTo>
                  <a:lnTo>
                    <a:pt x="350" y="706"/>
                  </a:lnTo>
                  <a:lnTo>
                    <a:pt x="342" y="706"/>
                  </a:lnTo>
                  <a:lnTo>
                    <a:pt x="334" y="706"/>
                  </a:lnTo>
                  <a:lnTo>
                    <a:pt x="326" y="706"/>
                  </a:lnTo>
                  <a:lnTo>
                    <a:pt x="318" y="698"/>
                  </a:lnTo>
                  <a:lnTo>
                    <a:pt x="310" y="698"/>
                  </a:lnTo>
                  <a:lnTo>
                    <a:pt x="302" y="698"/>
                  </a:lnTo>
                  <a:lnTo>
                    <a:pt x="294" y="698"/>
                  </a:lnTo>
                  <a:lnTo>
                    <a:pt x="278" y="698"/>
                  </a:lnTo>
                  <a:lnTo>
                    <a:pt x="270" y="698"/>
                  </a:lnTo>
                  <a:lnTo>
                    <a:pt x="262" y="698"/>
                  </a:lnTo>
                  <a:lnTo>
                    <a:pt x="262" y="706"/>
                  </a:lnTo>
                  <a:lnTo>
                    <a:pt x="254" y="706"/>
                  </a:lnTo>
                  <a:lnTo>
                    <a:pt x="246" y="706"/>
                  </a:lnTo>
                  <a:lnTo>
                    <a:pt x="238" y="706"/>
                  </a:lnTo>
                  <a:lnTo>
                    <a:pt x="230" y="714"/>
                  </a:lnTo>
                  <a:lnTo>
                    <a:pt x="222" y="714"/>
                  </a:lnTo>
                  <a:lnTo>
                    <a:pt x="214" y="714"/>
                  </a:lnTo>
                  <a:lnTo>
                    <a:pt x="214" y="722"/>
                  </a:lnTo>
                  <a:lnTo>
                    <a:pt x="208" y="722"/>
                  </a:lnTo>
                  <a:lnTo>
                    <a:pt x="200" y="730"/>
                  </a:lnTo>
                  <a:lnTo>
                    <a:pt x="192" y="738"/>
                  </a:lnTo>
                  <a:lnTo>
                    <a:pt x="184" y="738"/>
                  </a:lnTo>
                  <a:lnTo>
                    <a:pt x="184" y="746"/>
                  </a:lnTo>
                  <a:lnTo>
                    <a:pt x="176" y="746"/>
                  </a:lnTo>
                  <a:lnTo>
                    <a:pt x="176" y="754"/>
                  </a:lnTo>
                  <a:lnTo>
                    <a:pt x="168" y="762"/>
                  </a:lnTo>
                  <a:lnTo>
                    <a:pt x="168" y="770"/>
                  </a:lnTo>
                  <a:lnTo>
                    <a:pt x="160" y="776"/>
                  </a:lnTo>
                  <a:lnTo>
                    <a:pt x="160" y="784"/>
                  </a:lnTo>
                  <a:lnTo>
                    <a:pt x="152" y="792"/>
                  </a:lnTo>
                  <a:lnTo>
                    <a:pt x="152" y="800"/>
                  </a:lnTo>
                  <a:lnTo>
                    <a:pt x="152" y="808"/>
                  </a:lnTo>
                  <a:lnTo>
                    <a:pt x="152" y="816"/>
                  </a:lnTo>
                  <a:lnTo>
                    <a:pt x="152" y="824"/>
                  </a:lnTo>
                  <a:lnTo>
                    <a:pt x="152" y="832"/>
                  </a:lnTo>
                  <a:lnTo>
                    <a:pt x="152" y="840"/>
                  </a:lnTo>
                  <a:lnTo>
                    <a:pt x="152" y="848"/>
                  </a:lnTo>
                  <a:lnTo>
                    <a:pt x="152" y="856"/>
                  </a:lnTo>
                  <a:lnTo>
                    <a:pt x="152" y="864"/>
                  </a:lnTo>
                  <a:lnTo>
                    <a:pt x="152" y="872"/>
                  </a:lnTo>
                  <a:lnTo>
                    <a:pt x="152" y="880"/>
                  </a:lnTo>
                  <a:lnTo>
                    <a:pt x="152" y="888"/>
                  </a:lnTo>
                  <a:lnTo>
                    <a:pt x="160" y="896"/>
                  </a:lnTo>
                  <a:lnTo>
                    <a:pt x="160" y="904"/>
                  </a:lnTo>
                  <a:lnTo>
                    <a:pt x="168" y="904"/>
                  </a:lnTo>
                  <a:lnTo>
                    <a:pt x="168" y="912"/>
                  </a:lnTo>
                  <a:lnTo>
                    <a:pt x="168" y="920"/>
                  </a:lnTo>
                  <a:lnTo>
                    <a:pt x="176" y="920"/>
                  </a:lnTo>
                  <a:lnTo>
                    <a:pt x="184" y="928"/>
                  </a:lnTo>
                  <a:lnTo>
                    <a:pt x="192" y="928"/>
                  </a:lnTo>
                  <a:lnTo>
                    <a:pt x="192" y="936"/>
                  </a:lnTo>
                  <a:lnTo>
                    <a:pt x="200" y="936"/>
                  </a:lnTo>
                  <a:lnTo>
                    <a:pt x="208" y="936"/>
                  </a:lnTo>
                  <a:lnTo>
                    <a:pt x="208" y="944"/>
                  </a:lnTo>
                  <a:lnTo>
                    <a:pt x="214" y="944"/>
                  </a:lnTo>
                  <a:lnTo>
                    <a:pt x="222" y="944"/>
                  </a:lnTo>
                  <a:lnTo>
                    <a:pt x="230" y="944"/>
                  </a:lnTo>
                  <a:lnTo>
                    <a:pt x="238" y="944"/>
                  </a:lnTo>
                  <a:lnTo>
                    <a:pt x="246" y="952"/>
                  </a:lnTo>
                  <a:lnTo>
                    <a:pt x="254" y="952"/>
                  </a:lnTo>
                  <a:lnTo>
                    <a:pt x="262" y="952"/>
                  </a:lnTo>
                  <a:lnTo>
                    <a:pt x="262" y="944"/>
                  </a:lnTo>
                  <a:lnTo>
                    <a:pt x="270" y="944"/>
                  </a:lnTo>
                  <a:lnTo>
                    <a:pt x="278" y="944"/>
                  </a:lnTo>
                  <a:lnTo>
                    <a:pt x="286" y="944"/>
                  </a:lnTo>
                  <a:lnTo>
                    <a:pt x="294" y="944"/>
                  </a:lnTo>
                  <a:lnTo>
                    <a:pt x="302" y="936"/>
                  </a:lnTo>
                  <a:lnTo>
                    <a:pt x="310" y="936"/>
                  </a:lnTo>
                  <a:lnTo>
                    <a:pt x="310" y="928"/>
                  </a:lnTo>
                  <a:lnTo>
                    <a:pt x="318" y="928"/>
                  </a:lnTo>
                  <a:lnTo>
                    <a:pt x="318" y="920"/>
                  </a:lnTo>
                  <a:lnTo>
                    <a:pt x="326" y="920"/>
                  </a:lnTo>
                  <a:lnTo>
                    <a:pt x="326" y="912"/>
                  </a:lnTo>
                  <a:lnTo>
                    <a:pt x="326" y="904"/>
                  </a:lnTo>
                  <a:lnTo>
                    <a:pt x="334" y="904"/>
                  </a:lnTo>
                  <a:lnTo>
                    <a:pt x="334" y="896"/>
                  </a:lnTo>
                  <a:lnTo>
                    <a:pt x="334" y="888"/>
                  </a:lnTo>
                  <a:lnTo>
                    <a:pt x="334" y="880"/>
                  </a:lnTo>
                  <a:lnTo>
                    <a:pt x="334" y="872"/>
                  </a:lnTo>
                  <a:lnTo>
                    <a:pt x="334" y="864"/>
                  </a:lnTo>
                  <a:lnTo>
                    <a:pt x="334" y="856"/>
                  </a:lnTo>
                  <a:lnTo>
                    <a:pt x="334" y="848"/>
                  </a:lnTo>
                  <a:lnTo>
                    <a:pt x="334" y="840"/>
                  </a:lnTo>
                  <a:lnTo>
                    <a:pt x="326" y="832"/>
                  </a:lnTo>
                  <a:lnTo>
                    <a:pt x="326" y="824"/>
                  </a:lnTo>
                  <a:lnTo>
                    <a:pt x="318" y="824"/>
                  </a:lnTo>
                  <a:lnTo>
                    <a:pt x="318" y="816"/>
                  </a:lnTo>
                  <a:lnTo>
                    <a:pt x="310" y="816"/>
                  </a:lnTo>
                  <a:lnTo>
                    <a:pt x="302" y="808"/>
                  </a:lnTo>
                  <a:lnTo>
                    <a:pt x="294" y="808"/>
                  </a:lnTo>
                  <a:lnTo>
                    <a:pt x="286" y="808"/>
                  </a:lnTo>
                  <a:lnTo>
                    <a:pt x="286" y="800"/>
                  </a:lnTo>
                  <a:lnTo>
                    <a:pt x="278" y="800"/>
                  </a:lnTo>
                  <a:lnTo>
                    <a:pt x="270" y="800"/>
                  </a:lnTo>
                  <a:lnTo>
                    <a:pt x="262" y="800"/>
                  </a:lnTo>
                  <a:lnTo>
                    <a:pt x="254" y="800"/>
                  </a:lnTo>
                  <a:lnTo>
                    <a:pt x="254" y="840"/>
                  </a:lnTo>
                  <a:lnTo>
                    <a:pt x="262" y="840"/>
                  </a:lnTo>
                  <a:lnTo>
                    <a:pt x="270" y="840"/>
                  </a:lnTo>
                  <a:lnTo>
                    <a:pt x="278" y="840"/>
                  </a:lnTo>
                  <a:lnTo>
                    <a:pt x="286" y="840"/>
                  </a:lnTo>
                  <a:lnTo>
                    <a:pt x="286" y="848"/>
                  </a:lnTo>
                  <a:lnTo>
                    <a:pt x="294" y="848"/>
                  </a:lnTo>
                  <a:lnTo>
                    <a:pt x="294" y="856"/>
                  </a:lnTo>
                  <a:lnTo>
                    <a:pt x="302" y="856"/>
                  </a:lnTo>
                  <a:lnTo>
                    <a:pt x="302" y="864"/>
                  </a:lnTo>
                  <a:lnTo>
                    <a:pt x="302" y="872"/>
                  </a:lnTo>
                  <a:lnTo>
                    <a:pt x="302" y="880"/>
                  </a:lnTo>
                  <a:lnTo>
                    <a:pt x="294" y="880"/>
                  </a:lnTo>
                  <a:lnTo>
                    <a:pt x="294" y="888"/>
                  </a:lnTo>
                  <a:lnTo>
                    <a:pt x="294" y="896"/>
                  </a:lnTo>
                  <a:lnTo>
                    <a:pt x="286" y="896"/>
                  </a:lnTo>
                  <a:lnTo>
                    <a:pt x="286" y="904"/>
                  </a:lnTo>
                  <a:lnTo>
                    <a:pt x="278" y="904"/>
                  </a:lnTo>
                  <a:lnTo>
                    <a:pt x="270" y="912"/>
                  </a:lnTo>
                  <a:lnTo>
                    <a:pt x="262" y="912"/>
                  </a:lnTo>
                  <a:lnTo>
                    <a:pt x="254" y="912"/>
                  </a:lnTo>
                  <a:lnTo>
                    <a:pt x="246" y="912"/>
                  </a:lnTo>
                  <a:lnTo>
                    <a:pt x="238" y="912"/>
                  </a:lnTo>
                  <a:lnTo>
                    <a:pt x="230" y="912"/>
                  </a:lnTo>
                  <a:lnTo>
                    <a:pt x="230" y="904"/>
                  </a:lnTo>
                  <a:lnTo>
                    <a:pt x="222" y="904"/>
                  </a:lnTo>
                  <a:lnTo>
                    <a:pt x="214" y="904"/>
                  </a:lnTo>
                  <a:lnTo>
                    <a:pt x="214" y="896"/>
                  </a:lnTo>
                  <a:lnTo>
                    <a:pt x="208" y="896"/>
                  </a:lnTo>
                  <a:lnTo>
                    <a:pt x="200" y="896"/>
                  </a:lnTo>
                  <a:lnTo>
                    <a:pt x="200" y="888"/>
                  </a:lnTo>
                  <a:lnTo>
                    <a:pt x="192" y="888"/>
                  </a:lnTo>
                  <a:lnTo>
                    <a:pt x="192" y="880"/>
                  </a:lnTo>
                  <a:lnTo>
                    <a:pt x="192" y="872"/>
                  </a:lnTo>
                  <a:lnTo>
                    <a:pt x="184" y="872"/>
                  </a:lnTo>
                  <a:lnTo>
                    <a:pt x="184" y="864"/>
                  </a:lnTo>
                  <a:lnTo>
                    <a:pt x="184" y="856"/>
                  </a:lnTo>
                  <a:lnTo>
                    <a:pt x="184" y="848"/>
                  </a:lnTo>
                  <a:lnTo>
                    <a:pt x="184" y="840"/>
                  </a:lnTo>
                  <a:lnTo>
                    <a:pt x="184" y="832"/>
                  </a:lnTo>
                  <a:lnTo>
                    <a:pt x="184" y="824"/>
                  </a:lnTo>
                  <a:lnTo>
                    <a:pt x="184" y="816"/>
                  </a:lnTo>
                  <a:lnTo>
                    <a:pt x="184" y="808"/>
                  </a:lnTo>
                  <a:lnTo>
                    <a:pt x="192" y="808"/>
                  </a:lnTo>
                  <a:lnTo>
                    <a:pt x="192" y="800"/>
                  </a:lnTo>
                  <a:lnTo>
                    <a:pt x="192" y="792"/>
                  </a:lnTo>
                  <a:lnTo>
                    <a:pt x="200" y="784"/>
                  </a:lnTo>
                  <a:lnTo>
                    <a:pt x="200" y="776"/>
                  </a:lnTo>
                  <a:lnTo>
                    <a:pt x="208" y="776"/>
                  </a:lnTo>
                  <a:lnTo>
                    <a:pt x="208" y="770"/>
                  </a:lnTo>
                  <a:lnTo>
                    <a:pt x="214" y="770"/>
                  </a:lnTo>
                  <a:lnTo>
                    <a:pt x="214" y="762"/>
                  </a:lnTo>
                  <a:lnTo>
                    <a:pt x="222" y="762"/>
                  </a:lnTo>
                  <a:lnTo>
                    <a:pt x="222" y="754"/>
                  </a:lnTo>
                  <a:lnTo>
                    <a:pt x="230" y="754"/>
                  </a:lnTo>
                  <a:lnTo>
                    <a:pt x="238" y="754"/>
                  </a:lnTo>
                  <a:lnTo>
                    <a:pt x="238" y="746"/>
                  </a:lnTo>
                  <a:lnTo>
                    <a:pt x="246" y="746"/>
                  </a:lnTo>
                  <a:lnTo>
                    <a:pt x="254" y="746"/>
                  </a:lnTo>
                  <a:lnTo>
                    <a:pt x="262" y="738"/>
                  </a:lnTo>
                  <a:lnTo>
                    <a:pt x="270" y="738"/>
                  </a:lnTo>
                  <a:lnTo>
                    <a:pt x="278" y="738"/>
                  </a:lnTo>
                  <a:lnTo>
                    <a:pt x="286" y="738"/>
                  </a:lnTo>
                  <a:lnTo>
                    <a:pt x="294" y="738"/>
                  </a:lnTo>
                  <a:lnTo>
                    <a:pt x="302" y="738"/>
                  </a:lnTo>
                  <a:lnTo>
                    <a:pt x="310" y="738"/>
                  </a:lnTo>
                  <a:lnTo>
                    <a:pt x="318" y="738"/>
                  </a:lnTo>
                  <a:lnTo>
                    <a:pt x="326" y="738"/>
                  </a:lnTo>
                  <a:lnTo>
                    <a:pt x="334" y="738"/>
                  </a:lnTo>
                  <a:lnTo>
                    <a:pt x="342" y="746"/>
                  </a:lnTo>
                  <a:lnTo>
                    <a:pt x="350" y="746"/>
                  </a:lnTo>
                  <a:lnTo>
                    <a:pt x="358" y="754"/>
                  </a:lnTo>
                  <a:lnTo>
                    <a:pt x="366" y="754"/>
                  </a:lnTo>
                  <a:lnTo>
                    <a:pt x="366" y="762"/>
                  </a:lnTo>
                  <a:lnTo>
                    <a:pt x="374" y="762"/>
                  </a:lnTo>
                  <a:lnTo>
                    <a:pt x="382" y="770"/>
                  </a:lnTo>
                  <a:lnTo>
                    <a:pt x="390" y="776"/>
                  </a:lnTo>
                  <a:lnTo>
                    <a:pt x="398" y="784"/>
                  </a:lnTo>
                  <a:lnTo>
                    <a:pt x="398" y="792"/>
                  </a:lnTo>
                  <a:lnTo>
                    <a:pt x="406" y="800"/>
                  </a:lnTo>
                  <a:lnTo>
                    <a:pt x="406" y="808"/>
                  </a:lnTo>
                  <a:lnTo>
                    <a:pt x="414" y="808"/>
                  </a:lnTo>
                  <a:lnTo>
                    <a:pt x="414" y="816"/>
                  </a:lnTo>
                  <a:lnTo>
                    <a:pt x="414" y="824"/>
                  </a:lnTo>
                  <a:lnTo>
                    <a:pt x="422" y="832"/>
                  </a:lnTo>
                  <a:lnTo>
                    <a:pt x="422" y="840"/>
                  </a:lnTo>
                  <a:lnTo>
                    <a:pt x="422" y="848"/>
                  </a:lnTo>
                  <a:lnTo>
                    <a:pt x="422" y="856"/>
                  </a:lnTo>
                  <a:lnTo>
                    <a:pt x="422" y="864"/>
                  </a:lnTo>
                  <a:lnTo>
                    <a:pt x="422" y="872"/>
                  </a:lnTo>
                  <a:lnTo>
                    <a:pt x="422" y="880"/>
                  </a:lnTo>
                  <a:lnTo>
                    <a:pt x="422" y="888"/>
                  </a:lnTo>
                  <a:lnTo>
                    <a:pt x="414" y="896"/>
                  </a:lnTo>
                  <a:lnTo>
                    <a:pt x="414" y="904"/>
                  </a:lnTo>
                  <a:lnTo>
                    <a:pt x="414" y="912"/>
                  </a:lnTo>
                  <a:lnTo>
                    <a:pt x="406" y="920"/>
                  </a:lnTo>
                  <a:lnTo>
                    <a:pt x="406" y="928"/>
                  </a:lnTo>
                  <a:lnTo>
                    <a:pt x="406" y="936"/>
                  </a:lnTo>
                  <a:lnTo>
                    <a:pt x="398" y="936"/>
                  </a:lnTo>
                  <a:lnTo>
                    <a:pt x="398" y="944"/>
                  </a:lnTo>
                  <a:lnTo>
                    <a:pt x="390" y="952"/>
                  </a:lnTo>
                  <a:lnTo>
                    <a:pt x="390" y="960"/>
                  </a:lnTo>
                  <a:lnTo>
                    <a:pt x="382" y="960"/>
                  </a:lnTo>
                  <a:lnTo>
                    <a:pt x="382" y="968"/>
                  </a:lnTo>
                  <a:lnTo>
                    <a:pt x="374" y="976"/>
                  </a:lnTo>
                  <a:lnTo>
                    <a:pt x="366" y="976"/>
                  </a:lnTo>
                  <a:lnTo>
                    <a:pt x="366" y="984"/>
                  </a:lnTo>
                  <a:lnTo>
                    <a:pt x="358" y="984"/>
                  </a:lnTo>
                  <a:lnTo>
                    <a:pt x="350" y="984"/>
                  </a:lnTo>
                  <a:lnTo>
                    <a:pt x="350" y="990"/>
                  </a:lnTo>
                  <a:lnTo>
                    <a:pt x="342" y="990"/>
                  </a:lnTo>
                  <a:lnTo>
                    <a:pt x="334" y="998"/>
                  </a:lnTo>
                  <a:lnTo>
                    <a:pt x="326" y="998"/>
                  </a:lnTo>
                  <a:lnTo>
                    <a:pt x="318" y="998"/>
                  </a:lnTo>
                  <a:lnTo>
                    <a:pt x="310" y="998"/>
                  </a:lnTo>
                  <a:lnTo>
                    <a:pt x="310" y="1006"/>
                  </a:lnTo>
                  <a:lnTo>
                    <a:pt x="302" y="1006"/>
                  </a:lnTo>
                  <a:lnTo>
                    <a:pt x="294" y="1006"/>
                  </a:lnTo>
                  <a:lnTo>
                    <a:pt x="286" y="1006"/>
                  </a:lnTo>
                  <a:lnTo>
                    <a:pt x="278" y="1006"/>
                  </a:lnTo>
                  <a:lnTo>
                    <a:pt x="270" y="1006"/>
                  </a:lnTo>
                  <a:lnTo>
                    <a:pt x="262" y="1006"/>
                  </a:lnTo>
                  <a:lnTo>
                    <a:pt x="254" y="1006"/>
                  </a:lnTo>
                  <a:lnTo>
                    <a:pt x="246" y="1006"/>
                  </a:lnTo>
                  <a:lnTo>
                    <a:pt x="238" y="1006"/>
                  </a:lnTo>
                  <a:lnTo>
                    <a:pt x="230" y="1006"/>
                  </a:lnTo>
                  <a:lnTo>
                    <a:pt x="230" y="998"/>
                  </a:lnTo>
                  <a:lnTo>
                    <a:pt x="222" y="998"/>
                  </a:lnTo>
                  <a:lnTo>
                    <a:pt x="214" y="998"/>
                  </a:lnTo>
                  <a:lnTo>
                    <a:pt x="208" y="998"/>
                  </a:lnTo>
                  <a:lnTo>
                    <a:pt x="200" y="998"/>
                  </a:lnTo>
                  <a:lnTo>
                    <a:pt x="200" y="990"/>
                  </a:lnTo>
                  <a:lnTo>
                    <a:pt x="192" y="990"/>
                  </a:lnTo>
                  <a:lnTo>
                    <a:pt x="184" y="990"/>
                  </a:lnTo>
                  <a:lnTo>
                    <a:pt x="184" y="984"/>
                  </a:lnTo>
                  <a:lnTo>
                    <a:pt x="176" y="984"/>
                  </a:lnTo>
                  <a:lnTo>
                    <a:pt x="168" y="976"/>
                  </a:lnTo>
                  <a:lnTo>
                    <a:pt x="160" y="976"/>
                  </a:lnTo>
                  <a:lnTo>
                    <a:pt x="160" y="968"/>
                  </a:lnTo>
                  <a:lnTo>
                    <a:pt x="152" y="968"/>
                  </a:lnTo>
                  <a:lnTo>
                    <a:pt x="144" y="968"/>
                  </a:lnTo>
                  <a:lnTo>
                    <a:pt x="144" y="960"/>
                  </a:lnTo>
                  <a:lnTo>
                    <a:pt x="136" y="960"/>
                  </a:lnTo>
                  <a:lnTo>
                    <a:pt x="136" y="952"/>
                  </a:lnTo>
                  <a:lnTo>
                    <a:pt x="128" y="952"/>
                  </a:lnTo>
                  <a:lnTo>
                    <a:pt x="120" y="944"/>
                  </a:lnTo>
                  <a:lnTo>
                    <a:pt x="112" y="936"/>
                  </a:lnTo>
                  <a:lnTo>
                    <a:pt x="104" y="928"/>
                  </a:lnTo>
                  <a:lnTo>
                    <a:pt x="96" y="920"/>
                  </a:lnTo>
                  <a:lnTo>
                    <a:pt x="96" y="912"/>
                  </a:lnTo>
                  <a:lnTo>
                    <a:pt x="88" y="912"/>
                  </a:lnTo>
                  <a:lnTo>
                    <a:pt x="80" y="904"/>
                  </a:lnTo>
                  <a:lnTo>
                    <a:pt x="80" y="896"/>
                  </a:lnTo>
                  <a:lnTo>
                    <a:pt x="72" y="888"/>
                  </a:lnTo>
                  <a:lnTo>
                    <a:pt x="64" y="880"/>
                  </a:lnTo>
                  <a:lnTo>
                    <a:pt x="64" y="872"/>
                  </a:lnTo>
                  <a:lnTo>
                    <a:pt x="56" y="864"/>
                  </a:lnTo>
                  <a:lnTo>
                    <a:pt x="56" y="856"/>
                  </a:lnTo>
                  <a:lnTo>
                    <a:pt x="56" y="848"/>
                  </a:lnTo>
                  <a:lnTo>
                    <a:pt x="48" y="840"/>
                  </a:lnTo>
                  <a:lnTo>
                    <a:pt x="48" y="832"/>
                  </a:lnTo>
                  <a:lnTo>
                    <a:pt x="48" y="816"/>
                  </a:lnTo>
                  <a:lnTo>
                    <a:pt x="48" y="808"/>
                  </a:lnTo>
                  <a:lnTo>
                    <a:pt x="40" y="800"/>
                  </a:lnTo>
                  <a:lnTo>
                    <a:pt x="40" y="784"/>
                  </a:lnTo>
                  <a:lnTo>
                    <a:pt x="40" y="776"/>
                  </a:lnTo>
                  <a:lnTo>
                    <a:pt x="40" y="762"/>
                  </a:lnTo>
                  <a:lnTo>
                    <a:pt x="40" y="754"/>
                  </a:lnTo>
                  <a:lnTo>
                    <a:pt x="48" y="746"/>
                  </a:lnTo>
                  <a:lnTo>
                    <a:pt x="48" y="730"/>
                  </a:lnTo>
                  <a:lnTo>
                    <a:pt x="48" y="722"/>
                  </a:lnTo>
                  <a:lnTo>
                    <a:pt x="56" y="706"/>
                  </a:lnTo>
                  <a:lnTo>
                    <a:pt x="56" y="698"/>
                  </a:lnTo>
                  <a:lnTo>
                    <a:pt x="64" y="690"/>
                  </a:lnTo>
                  <a:lnTo>
                    <a:pt x="64" y="674"/>
                  </a:lnTo>
                  <a:lnTo>
                    <a:pt x="72" y="666"/>
                  </a:lnTo>
                  <a:lnTo>
                    <a:pt x="80" y="650"/>
                  </a:lnTo>
                  <a:lnTo>
                    <a:pt x="88" y="642"/>
                  </a:lnTo>
                  <a:lnTo>
                    <a:pt x="96" y="634"/>
                  </a:lnTo>
                  <a:lnTo>
                    <a:pt x="96" y="618"/>
                  </a:lnTo>
                  <a:lnTo>
                    <a:pt x="104" y="610"/>
                  </a:lnTo>
                  <a:lnTo>
                    <a:pt x="112" y="602"/>
                  </a:lnTo>
                  <a:lnTo>
                    <a:pt x="120" y="594"/>
                  </a:lnTo>
                  <a:lnTo>
                    <a:pt x="128" y="578"/>
                  </a:lnTo>
                  <a:lnTo>
                    <a:pt x="136" y="570"/>
                  </a:lnTo>
                  <a:lnTo>
                    <a:pt x="152" y="562"/>
                  </a:lnTo>
                  <a:lnTo>
                    <a:pt x="160" y="554"/>
                  </a:lnTo>
                  <a:lnTo>
                    <a:pt x="168" y="548"/>
                  </a:lnTo>
                  <a:lnTo>
                    <a:pt x="176" y="540"/>
                  </a:lnTo>
                  <a:lnTo>
                    <a:pt x="184" y="532"/>
                  </a:lnTo>
                  <a:lnTo>
                    <a:pt x="192" y="524"/>
                  </a:lnTo>
                  <a:lnTo>
                    <a:pt x="208" y="516"/>
                  </a:lnTo>
                  <a:lnTo>
                    <a:pt x="214" y="508"/>
                  </a:lnTo>
                  <a:lnTo>
                    <a:pt x="222" y="508"/>
                  </a:lnTo>
                  <a:lnTo>
                    <a:pt x="230" y="500"/>
                  </a:lnTo>
                  <a:lnTo>
                    <a:pt x="238" y="492"/>
                  </a:lnTo>
                  <a:lnTo>
                    <a:pt x="246" y="492"/>
                  </a:lnTo>
                  <a:lnTo>
                    <a:pt x="254" y="484"/>
                  </a:lnTo>
                  <a:lnTo>
                    <a:pt x="262" y="484"/>
                  </a:lnTo>
                  <a:lnTo>
                    <a:pt x="270" y="476"/>
                  </a:lnTo>
                  <a:lnTo>
                    <a:pt x="278" y="476"/>
                  </a:lnTo>
                  <a:lnTo>
                    <a:pt x="286" y="468"/>
                  </a:lnTo>
                  <a:lnTo>
                    <a:pt x="294" y="460"/>
                  </a:lnTo>
                  <a:lnTo>
                    <a:pt x="302" y="460"/>
                  </a:lnTo>
                  <a:lnTo>
                    <a:pt x="310" y="452"/>
                  </a:lnTo>
                  <a:lnTo>
                    <a:pt x="318" y="444"/>
                  </a:lnTo>
                  <a:lnTo>
                    <a:pt x="326" y="436"/>
                  </a:lnTo>
                  <a:lnTo>
                    <a:pt x="334" y="436"/>
                  </a:lnTo>
                  <a:lnTo>
                    <a:pt x="342" y="428"/>
                  </a:lnTo>
                  <a:lnTo>
                    <a:pt x="350" y="420"/>
                  </a:lnTo>
                  <a:lnTo>
                    <a:pt x="366" y="412"/>
                  </a:lnTo>
                  <a:lnTo>
                    <a:pt x="374" y="404"/>
                  </a:lnTo>
                  <a:lnTo>
                    <a:pt x="382" y="396"/>
                  </a:lnTo>
                  <a:lnTo>
                    <a:pt x="390" y="388"/>
                  </a:lnTo>
                  <a:lnTo>
                    <a:pt x="398" y="380"/>
                  </a:lnTo>
                  <a:lnTo>
                    <a:pt x="406" y="372"/>
                  </a:lnTo>
                  <a:lnTo>
                    <a:pt x="414" y="364"/>
                  </a:lnTo>
                  <a:lnTo>
                    <a:pt x="422" y="356"/>
                  </a:lnTo>
                  <a:lnTo>
                    <a:pt x="430" y="348"/>
                  </a:lnTo>
                  <a:lnTo>
                    <a:pt x="430" y="340"/>
                  </a:lnTo>
                  <a:lnTo>
                    <a:pt x="436" y="334"/>
                  </a:lnTo>
                  <a:lnTo>
                    <a:pt x="444" y="318"/>
                  </a:lnTo>
                  <a:lnTo>
                    <a:pt x="444" y="310"/>
                  </a:lnTo>
                  <a:lnTo>
                    <a:pt x="452" y="302"/>
                  </a:lnTo>
                  <a:lnTo>
                    <a:pt x="460" y="294"/>
                  </a:lnTo>
                  <a:lnTo>
                    <a:pt x="460" y="286"/>
                  </a:lnTo>
                  <a:lnTo>
                    <a:pt x="460" y="270"/>
                  </a:lnTo>
                  <a:lnTo>
                    <a:pt x="468" y="262"/>
                  </a:lnTo>
                  <a:lnTo>
                    <a:pt x="468" y="254"/>
                  </a:lnTo>
                  <a:lnTo>
                    <a:pt x="468" y="246"/>
                  </a:lnTo>
                  <a:lnTo>
                    <a:pt x="468" y="238"/>
                  </a:lnTo>
                  <a:lnTo>
                    <a:pt x="468" y="230"/>
                  </a:lnTo>
                  <a:lnTo>
                    <a:pt x="468" y="222"/>
                  </a:lnTo>
                  <a:lnTo>
                    <a:pt x="476" y="214"/>
                  </a:lnTo>
                  <a:lnTo>
                    <a:pt x="476" y="206"/>
                  </a:lnTo>
                  <a:lnTo>
                    <a:pt x="476" y="198"/>
                  </a:lnTo>
                  <a:lnTo>
                    <a:pt x="476" y="190"/>
                  </a:lnTo>
                  <a:lnTo>
                    <a:pt x="476" y="182"/>
                  </a:lnTo>
                  <a:lnTo>
                    <a:pt x="476" y="174"/>
                  </a:lnTo>
                  <a:lnTo>
                    <a:pt x="468" y="174"/>
                  </a:lnTo>
                  <a:lnTo>
                    <a:pt x="468" y="166"/>
                  </a:lnTo>
                  <a:lnTo>
                    <a:pt x="468" y="158"/>
                  </a:lnTo>
                  <a:lnTo>
                    <a:pt x="468" y="150"/>
                  </a:lnTo>
                  <a:lnTo>
                    <a:pt x="468" y="142"/>
                  </a:lnTo>
                  <a:lnTo>
                    <a:pt x="468" y="134"/>
                  </a:lnTo>
                  <a:lnTo>
                    <a:pt x="460" y="126"/>
                  </a:lnTo>
                  <a:lnTo>
                    <a:pt x="460" y="120"/>
                  </a:lnTo>
                  <a:lnTo>
                    <a:pt x="460" y="112"/>
                  </a:lnTo>
                  <a:lnTo>
                    <a:pt x="452" y="112"/>
                  </a:lnTo>
                  <a:lnTo>
                    <a:pt x="452" y="104"/>
                  </a:lnTo>
                  <a:lnTo>
                    <a:pt x="444" y="96"/>
                  </a:lnTo>
                  <a:lnTo>
                    <a:pt x="444" y="88"/>
                  </a:lnTo>
                  <a:lnTo>
                    <a:pt x="436" y="80"/>
                  </a:lnTo>
                  <a:lnTo>
                    <a:pt x="436" y="72"/>
                  </a:lnTo>
                  <a:lnTo>
                    <a:pt x="430" y="72"/>
                  </a:lnTo>
                  <a:lnTo>
                    <a:pt x="422" y="64"/>
                  </a:lnTo>
                  <a:lnTo>
                    <a:pt x="414" y="56"/>
                  </a:lnTo>
                  <a:lnTo>
                    <a:pt x="406" y="48"/>
                  </a:lnTo>
                  <a:lnTo>
                    <a:pt x="406" y="40"/>
                  </a:lnTo>
                  <a:lnTo>
                    <a:pt x="398" y="40"/>
                  </a:lnTo>
                  <a:lnTo>
                    <a:pt x="390" y="32"/>
                  </a:lnTo>
                  <a:lnTo>
                    <a:pt x="382" y="32"/>
                  </a:lnTo>
                  <a:lnTo>
                    <a:pt x="374" y="24"/>
                  </a:lnTo>
                  <a:lnTo>
                    <a:pt x="366" y="16"/>
                  </a:lnTo>
                  <a:lnTo>
                    <a:pt x="358" y="16"/>
                  </a:lnTo>
                  <a:lnTo>
                    <a:pt x="350" y="16"/>
                  </a:lnTo>
                  <a:lnTo>
                    <a:pt x="342" y="8"/>
                  </a:lnTo>
                  <a:lnTo>
                    <a:pt x="334" y="8"/>
                  </a:lnTo>
                  <a:lnTo>
                    <a:pt x="326" y="8"/>
                  </a:lnTo>
                  <a:lnTo>
                    <a:pt x="318" y="8"/>
                  </a:lnTo>
                  <a:lnTo>
                    <a:pt x="310" y="0"/>
                  </a:lnTo>
                  <a:lnTo>
                    <a:pt x="302" y="0"/>
                  </a:lnTo>
                  <a:lnTo>
                    <a:pt x="294" y="0"/>
                  </a:lnTo>
                  <a:lnTo>
                    <a:pt x="286" y="0"/>
                  </a:lnTo>
                  <a:lnTo>
                    <a:pt x="278" y="0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4" y="0"/>
                  </a:lnTo>
                  <a:lnTo>
                    <a:pt x="246" y="0"/>
                  </a:lnTo>
                  <a:lnTo>
                    <a:pt x="238" y="8"/>
                  </a:lnTo>
                  <a:lnTo>
                    <a:pt x="230" y="8"/>
                  </a:lnTo>
                  <a:lnTo>
                    <a:pt x="222" y="8"/>
                  </a:lnTo>
                  <a:lnTo>
                    <a:pt x="214" y="16"/>
                  </a:lnTo>
                  <a:lnTo>
                    <a:pt x="208" y="16"/>
                  </a:lnTo>
                  <a:lnTo>
                    <a:pt x="200" y="16"/>
                  </a:lnTo>
                  <a:lnTo>
                    <a:pt x="200" y="24"/>
                  </a:lnTo>
                  <a:lnTo>
                    <a:pt x="192" y="24"/>
                  </a:lnTo>
                  <a:lnTo>
                    <a:pt x="184" y="32"/>
                  </a:lnTo>
                  <a:lnTo>
                    <a:pt x="176" y="32"/>
                  </a:lnTo>
                  <a:lnTo>
                    <a:pt x="168" y="40"/>
                  </a:lnTo>
                  <a:lnTo>
                    <a:pt x="160" y="48"/>
                  </a:lnTo>
                  <a:lnTo>
                    <a:pt x="152" y="48"/>
                  </a:lnTo>
                  <a:lnTo>
                    <a:pt x="152" y="56"/>
                  </a:lnTo>
                  <a:lnTo>
                    <a:pt x="144" y="56"/>
                  </a:lnTo>
                  <a:lnTo>
                    <a:pt x="144" y="64"/>
                  </a:lnTo>
                  <a:lnTo>
                    <a:pt x="136" y="64"/>
                  </a:lnTo>
                  <a:lnTo>
                    <a:pt x="136" y="72"/>
                  </a:lnTo>
                  <a:lnTo>
                    <a:pt x="128" y="72"/>
                  </a:lnTo>
                  <a:lnTo>
                    <a:pt x="128" y="80"/>
                  </a:lnTo>
                  <a:lnTo>
                    <a:pt x="120" y="88"/>
                  </a:lnTo>
                  <a:lnTo>
                    <a:pt x="112" y="96"/>
                  </a:lnTo>
                  <a:lnTo>
                    <a:pt x="112" y="104"/>
                  </a:lnTo>
                  <a:lnTo>
                    <a:pt x="104" y="112"/>
                  </a:lnTo>
                  <a:lnTo>
                    <a:pt x="104" y="120"/>
                  </a:lnTo>
                  <a:lnTo>
                    <a:pt x="104" y="126"/>
                  </a:lnTo>
                  <a:lnTo>
                    <a:pt x="96" y="134"/>
                  </a:lnTo>
                  <a:lnTo>
                    <a:pt x="96" y="142"/>
                  </a:lnTo>
                  <a:lnTo>
                    <a:pt x="96" y="150"/>
                  </a:lnTo>
                  <a:lnTo>
                    <a:pt x="96" y="158"/>
                  </a:lnTo>
                  <a:lnTo>
                    <a:pt x="96" y="166"/>
                  </a:lnTo>
                  <a:lnTo>
                    <a:pt x="96" y="174"/>
                  </a:lnTo>
                  <a:lnTo>
                    <a:pt x="96" y="182"/>
                  </a:lnTo>
                  <a:lnTo>
                    <a:pt x="96" y="190"/>
                  </a:lnTo>
                  <a:lnTo>
                    <a:pt x="96" y="198"/>
                  </a:lnTo>
                  <a:lnTo>
                    <a:pt x="96" y="206"/>
                  </a:lnTo>
                  <a:lnTo>
                    <a:pt x="104" y="206"/>
                  </a:lnTo>
                  <a:lnTo>
                    <a:pt x="104" y="214"/>
                  </a:lnTo>
                  <a:lnTo>
                    <a:pt x="104" y="222"/>
                  </a:lnTo>
                  <a:lnTo>
                    <a:pt x="104" y="230"/>
                  </a:lnTo>
                  <a:lnTo>
                    <a:pt x="112" y="238"/>
                  </a:lnTo>
                  <a:lnTo>
                    <a:pt x="112" y="246"/>
                  </a:lnTo>
                  <a:lnTo>
                    <a:pt x="120" y="246"/>
                  </a:lnTo>
                  <a:lnTo>
                    <a:pt x="120" y="254"/>
                  </a:lnTo>
                  <a:lnTo>
                    <a:pt x="120" y="262"/>
                  </a:lnTo>
                  <a:lnTo>
                    <a:pt x="128" y="270"/>
                  </a:lnTo>
                  <a:lnTo>
                    <a:pt x="136" y="278"/>
                  </a:lnTo>
                  <a:lnTo>
                    <a:pt x="144" y="278"/>
                  </a:lnTo>
                  <a:lnTo>
                    <a:pt x="144" y="286"/>
                  </a:lnTo>
                  <a:lnTo>
                    <a:pt x="152" y="294"/>
                  </a:lnTo>
                  <a:lnTo>
                    <a:pt x="160" y="302"/>
                  </a:lnTo>
                  <a:lnTo>
                    <a:pt x="168" y="302"/>
                  </a:lnTo>
                  <a:lnTo>
                    <a:pt x="176" y="310"/>
                  </a:lnTo>
                  <a:lnTo>
                    <a:pt x="184" y="310"/>
                  </a:lnTo>
                  <a:lnTo>
                    <a:pt x="192" y="318"/>
                  </a:lnTo>
                  <a:lnTo>
                    <a:pt x="200" y="318"/>
                  </a:lnTo>
                  <a:lnTo>
                    <a:pt x="208" y="318"/>
                  </a:lnTo>
                  <a:lnTo>
                    <a:pt x="214" y="318"/>
                  </a:lnTo>
                  <a:lnTo>
                    <a:pt x="222" y="326"/>
                  </a:lnTo>
                  <a:lnTo>
                    <a:pt x="230" y="326"/>
                  </a:lnTo>
                  <a:lnTo>
                    <a:pt x="238" y="326"/>
                  </a:lnTo>
                  <a:lnTo>
                    <a:pt x="246" y="326"/>
                  </a:lnTo>
                  <a:lnTo>
                    <a:pt x="254" y="326"/>
                  </a:lnTo>
                  <a:lnTo>
                    <a:pt x="262" y="326"/>
                  </a:lnTo>
                  <a:lnTo>
                    <a:pt x="270" y="326"/>
                  </a:lnTo>
                  <a:lnTo>
                    <a:pt x="278" y="318"/>
                  </a:lnTo>
                  <a:lnTo>
                    <a:pt x="286" y="318"/>
                  </a:lnTo>
                  <a:lnTo>
                    <a:pt x="294" y="318"/>
                  </a:lnTo>
                  <a:lnTo>
                    <a:pt x="302" y="310"/>
                  </a:lnTo>
                  <a:lnTo>
                    <a:pt x="310" y="310"/>
                  </a:lnTo>
                  <a:lnTo>
                    <a:pt x="318" y="310"/>
                  </a:lnTo>
                  <a:lnTo>
                    <a:pt x="318" y="302"/>
                  </a:lnTo>
                  <a:lnTo>
                    <a:pt x="326" y="302"/>
                  </a:lnTo>
                  <a:lnTo>
                    <a:pt x="334" y="294"/>
                  </a:lnTo>
                  <a:lnTo>
                    <a:pt x="334" y="286"/>
                  </a:lnTo>
                  <a:lnTo>
                    <a:pt x="342" y="286"/>
                  </a:lnTo>
                  <a:lnTo>
                    <a:pt x="350" y="278"/>
                  </a:lnTo>
                  <a:lnTo>
                    <a:pt x="350" y="270"/>
                  </a:lnTo>
                  <a:lnTo>
                    <a:pt x="358" y="270"/>
                  </a:lnTo>
                  <a:lnTo>
                    <a:pt x="358" y="262"/>
                  </a:lnTo>
                  <a:lnTo>
                    <a:pt x="366" y="254"/>
                  </a:lnTo>
                  <a:lnTo>
                    <a:pt x="374" y="246"/>
                  </a:lnTo>
                  <a:lnTo>
                    <a:pt x="374" y="238"/>
                  </a:lnTo>
                  <a:lnTo>
                    <a:pt x="382" y="230"/>
                  </a:lnTo>
                  <a:lnTo>
                    <a:pt x="382" y="222"/>
                  </a:lnTo>
                  <a:lnTo>
                    <a:pt x="382" y="214"/>
                  </a:lnTo>
                  <a:lnTo>
                    <a:pt x="382" y="206"/>
                  </a:lnTo>
                  <a:lnTo>
                    <a:pt x="382" y="198"/>
                  </a:lnTo>
                  <a:lnTo>
                    <a:pt x="382" y="190"/>
                  </a:lnTo>
                  <a:lnTo>
                    <a:pt x="382" y="182"/>
                  </a:lnTo>
                  <a:lnTo>
                    <a:pt x="382" y="174"/>
                  </a:lnTo>
                  <a:lnTo>
                    <a:pt x="382" y="166"/>
                  </a:lnTo>
                  <a:lnTo>
                    <a:pt x="382" y="158"/>
                  </a:lnTo>
                  <a:lnTo>
                    <a:pt x="382" y="150"/>
                  </a:lnTo>
                  <a:lnTo>
                    <a:pt x="374" y="150"/>
                  </a:lnTo>
                  <a:lnTo>
                    <a:pt x="374" y="142"/>
                  </a:lnTo>
                  <a:lnTo>
                    <a:pt x="374" y="134"/>
                  </a:lnTo>
                  <a:lnTo>
                    <a:pt x="366" y="126"/>
                  </a:lnTo>
                  <a:lnTo>
                    <a:pt x="358" y="120"/>
                  </a:lnTo>
                  <a:lnTo>
                    <a:pt x="358" y="112"/>
                  </a:lnTo>
                  <a:lnTo>
                    <a:pt x="350" y="112"/>
                  </a:lnTo>
                  <a:lnTo>
                    <a:pt x="350" y="104"/>
                  </a:lnTo>
                  <a:lnTo>
                    <a:pt x="342" y="104"/>
                  </a:lnTo>
                  <a:lnTo>
                    <a:pt x="342" y="96"/>
                  </a:lnTo>
                  <a:lnTo>
                    <a:pt x="334" y="96"/>
                  </a:lnTo>
                  <a:lnTo>
                    <a:pt x="334" y="88"/>
                  </a:lnTo>
                  <a:lnTo>
                    <a:pt x="326" y="88"/>
                  </a:lnTo>
                  <a:lnTo>
                    <a:pt x="318" y="88"/>
                  </a:lnTo>
                  <a:lnTo>
                    <a:pt x="318" y="80"/>
                  </a:lnTo>
                  <a:lnTo>
                    <a:pt x="310" y="80"/>
                  </a:lnTo>
                  <a:lnTo>
                    <a:pt x="302" y="80"/>
                  </a:lnTo>
                  <a:lnTo>
                    <a:pt x="294" y="80"/>
                  </a:lnTo>
                  <a:lnTo>
                    <a:pt x="286" y="80"/>
                  </a:lnTo>
                  <a:lnTo>
                    <a:pt x="278" y="80"/>
                  </a:lnTo>
                  <a:lnTo>
                    <a:pt x="270" y="80"/>
                  </a:lnTo>
                  <a:lnTo>
                    <a:pt x="262" y="80"/>
                  </a:lnTo>
                  <a:lnTo>
                    <a:pt x="254" y="80"/>
                  </a:lnTo>
                  <a:lnTo>
                    <a:pt x="246" y="88"/>
                  </a:lnTo>
                  <a:lnTo>
                    <a:pt x="238" y="88"/>
                  </a:lnTo>
                  <a:lnTo>
                    <a:pt x="230" y="96"/>
                  </a:lnTo>
                  <a:lnTo>
                    <a:pt x="222" y="96"/>
                  </a:lnTo>
                  <a:lnTo>
                    <a:pt x="222" y="104"/>
                  </a:lnTo>
                  <a:lnTo>
                    <a:pt x="214" y="104"/>
                  </a:lnTo>
                  <a:lnTo>
                    <a:pt x="214" y="112"/>
                  </a:lnTo>
                  <a:lnTo>
                    <a:pt x="208" y="112"/>
                  </a:lnTo>
                  <a:lnTo>
                    <a:pt x="208" y="120"/>
                  </a:lnTo>
                  <a:lnTo>
                    <a:pt x="200" y="120"/>
                  </a:lnTo>
                  <a:lnTo>
                    <a:pt x="200" y="126"/>
                  </a:lnTo>
                  <a:lnTo>
                    <a:pt x="200" y="134"/>
                  </a:lnTo>
                  <a:lnTo>
                    <a:pt x="192" y="134"/>
                  </a:lnTo>
                  <a:lnTo>
                    <a:pt x="192" y="142"/>
                  </a:lnTo>
                  <a:lnTo>
                    <a:pt x="192" y="150"/>
                  </a:lnTo>
                  <a:lnTo>
                    <a:pt x="192" y="158"/>
                  </a:lnTo>
                  <a:lnTo>
                    <a:pt x="192" y="166"/>
                  </a:lnTo>
                  <a:lnTo>
                    <a:pt x="192" y="174"/>
                  </a:lnTo>
                  <a:lnTo>
                    <a:pt x="200" y="174"/>
                  </a:lnTo>
                  <a:lnTo>
                    <a:pt x="200" y="182"/>
                  </a:lnTo>
                  <a:lnTo>
                    <a:pt x="200" y="190"/>
                  </a:lnTo>
                  <a:lnTo>
                    <a:pt x="208" y="190"/>
                  </a:lnTo>
                  <a:lnTo>
                    <a:pt x="208" y="198"/>
                  </a:lnTo>
                  <a:lnTo>
                    <a:pt x="208" y="206"/>
                  </a:lnTo>
                  <a:lnTo>
                    <a:pt x="214" y="206"/>
                  </a:lnTo>
                  <a:lnTo>
                    <a:pt x="214" y="214"/>
                  </a:lnTo>
                  <a:lnTo>
                    <a:pt x="222" y="214"/>
                  </a:lnTo>
                  <a:lnTo>
                    <a:pt x="230" y="214"/>
                  </a:lnTo>
                  <a:lnTo>
                    <a:pt x="230" y="222"/>
                  </a:lnTo>
                  <a:lnTo>
                    <a:pt x="238" y="222"/>
                  </a:lnTo>
                  <a:lnTo>
                    <a:pt x="246" y="222"/>
                  </a:lnTo>
                  <a:lnTo>
                    <a:pt x="254" y="222"/>
                  </a:lnTo>
                  <a:lnTo>
                    <a:pt x="262" y="222"/>
                  </a:lnTo>
                  <a:lnTo>
                    <a:pt x="270" y="222"/>
                  </a:lnTo>
                  <a:lnTo>
                    <a:pt x="278" y="222"/>
                  </a:lnTo>
                  <a:lnTo>
                    <a:pt x="278" y="214"/>
                  </a:lnTo>
                  <a:lnTo>
                    <a:pt x="286" y="214"/>
                  </a:lnTo>
                  <a:lnTo>
                    <a:pt x="294" y="214"/>
                  </a:lnTo>
                  <a:lnTo>
                    <a:pt x="294" y="206"/>
                  </a:lnTo>
                  <a:lnTo>
                    <a:pt x="302" y="206"/>
                  </a:lnTo>
                  <a:lnTo>
                    <a:pt x="278" y="174"/>
                  </a:lnTo>
                  <a:lnTo>
                    <a:pt x="278" y="182"/>
                  </a:lnTo>
                  <a:lnTo>
                    <a:pt x="270" y="182"/>
                  </a:lnTo>
                  <a:lnTo>
                    <a:pt x="262" y="182"/>
                  </a:lnTo>
                  <a:lnTo>
                    <a:pt x="254" y="182"/>
                  </a:lnTo>
                  <a:lnTo>
                    <a:pt x="246" y="182"/>
                  </a:lnTo>
                  <a:lnTo>
                    <a:pt x="238" y="182"/>
                  </a:lnTo>
                  <a:lnTo>
                    <a:pt x="238" y="174"/>
                  </a:lnTo>
                  <a:lnTo>
                    <a:pt x="230" y="174"/>
                  </a:lnTo>
                  <a:lnTo>
                    <a:pt x="230" y="166"/>
                  </a:lnTo>
                  <a:lnTo>
                    <a:pt x="230" y="158"/>
                  </a:lnTo>
                  <a:lnTo>
                    <a:pt x="230" y="150"/>
                  </a:lnTo>
                  <a:lnTo>
                    <a:pt x="230" y="142"/>
                  </a:lnTo>
                  <a:lnTo>
                    <a:pt x="238" y="142"/>
                  </a:lnTo>
                  <a:lnTo>
                    <a:pt x="238" y="134"/>
                  </a:lnTo>
                  <a:lnTo>
                    <a:pt x="246" y="134"/>
                  </a:lnTo>
                  <a:lnTo>
                    <a:pt x="246" y="126"/>
                  </a:lnTo>
                  <a:lnTo>
                    <a:pt x="254" y="126"/>
                  </a:lnTo>
                  <a:lnTo>
                    <a:pt x="254" y="120"/>
                  </a:lnTo>
                  <a:lnTo>
                    <a:pt x="262" y="120"/>
                  </a:lnTo>
                  <a:lnTo>
                    <a:pt x="270" y="120"/>
                  </a:lnTo>
                  <a:lnTo>
                    <a:pt x="270" y="112"/>
                  </a:lnTo>
                  <a:lnTo>
                    <a:pt x="278" y="112"/>
                  </a:lnTo>
                  <a:lnTo>
                    <a:pt x="286" y="112"/>
                  </a:lnTo>
                  <a:lnTo>
                    <a:pt x="294" y="112"/>
                  </a:lnTo>
                  <a:lnTo>
                    <a:pt x="302" y="112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18" y="120"/>
                  </a:lnTo>
                  <a:lnTo>
                    <a:pt x="318" y="126"/>
                  </a:lnTo>
                  <a:lnTo>
                    <a:pt x="318" y="134"/>
                  </a:lnTo>
                  <a:lnTo>
                    <a:pt x="326" y="134"/>
                  </a:lnTo>
                  <a:lnTo>
                    <a:pt x="326" y="142"/>
                  </a:lnTo>
                  <a:lnTo>
                    <a:pt x="334" y="142"/>
                  </a:lnTo>
                  <a:lnTo>
                    <a:pt x="334" y="150"/>
                  </a:lnTo>
                  <a:lnTo>
                    <a:pt x="334" y="158"/>
                  </a:lnTo>
                  <a:lnTo>
                    <a:pt x="342" y="158"/>
                  </a:lnTo>
                  <a:lnTo>
                    <a:pt x="342" y="166"/>
                  </a:lnTo>
                  <a:lnTo>
                    <a:pt x="342" y="174"/>
                  </a:lnTo>
                  <a:lnTo>
                    <a:pt x="350" y="182"/>
                  </a:lnTo>
                  <a:lnTo>
                    <a:pt x="350" y="190"/>
                  </a:lnTo>
                  <a:lnTo>
                    <a:pt x="350" y="198"/>
                  </a:lnTo>
                  <a:lnTo>
                    <a:pt x="350" y="206"/>
                  </a:lnTo>
                  <a:lnTo>
                    <a:pt x="342" y="214"/>
                  </a:lnTo>
                  <a:lnTo>
                    <a:pt x="342" y="222"/>
                  </a:lnTo>
                  <a:lnTo>
                    <a:pt x="342" y="230"/>
                  </a:lnTo>
                  <a:lnTo>
                    <a:pt x="334" y="230"/>
                  </a:lnTo>
                  <a:lnTo>
                    <a:pt x="334" y="238"/>
                  </a:lnTo>
                  <a:lnTo>
                    <a:pt x="334" y="246"/>
                  </a:lnTo>
                  <a:lnTo>
                    <a:pt x="326" y="246"/>
                  </a:lnTo>
                  <a:lnTo>
                    <a:pt x="318" y="254"/>
                  </a:lnTo>
                  <a:lnTo>
                    <a:pt x="310" y="262"/>
                  </a:lnTo>
                  <a:lnTo>
                    <a:pt x="302" y="270"/>
                  </a:lnTo>
                  <a:lnTo>
                    <a:pt x="294" y="278"/>
                  </a:lnTo>
                  <a:lnTo>
                    <a:pt x="286" y="278"/>
                  </a:lnTo>
                  <a:lnTo>
                    <a:pt x="278" y="286"/>
                  </a:lnTo>
                  <a:lnTo>
                    <a:pt x="270" y="286"/>
                  </a:lnTo>
                  <a:lnTo>
                    <a:pt x="262" y="286"/>
                  </a:lnTo>
                  <a:lnTo>
                    <a:pt x="254" y="286"/>
                  </a:lnTo>
                  <a:lnTo>
                    <a:pt x="246" y="286"/>
                  </a:lnTo>
                  <a:lnTo>
                    <a:pt x="238" y="286"/>
                  </a:lnTo>
                  <a:lnTo>
                    <a:pt x="230" y="286"/>
                  </a:lnTo>
                  <a:lnTo>
                    <a:pt x="222" y="286"/>
                  </a:lnTo>
                  <a:lnTo>
                    <a:pt x="214" y="286"/>
                  </a:lnTo>
                  <a:lnTo>
                    <a:pt x="208" y="278"/>
                  </a:lnTo>
                  <a:lnTo>
                    <a:pt x="200" y="278"/>
                  </a:lnTo>
                  <a:lnTo>
                    <a:pt x="192" y="278"/>
                  </a:lnTo>
                  <a:lnTo>
                    <a:pt x="192" y="270"/>
                  </a:lnTo>
                  <a:lnTo>
                    <a:pt x="184" y="270"/>
                  </a:lnTo>
                  <a:lnTo>
                    <a:pt x="176" y="262"/>
                  </a:lnTo>
                  <a:lnTo>
                    <a:pt x="168" y="262"/>
                  </a:lnTo>
                  <a:lnTo>
                    <a:pt x="168" y="254"/>
                  </a:lnTo>
                  <a:lnTo>
                    <a:pt x="160" y="246"/>
                  </a:lnTo>
                  <a:lnTo>
                    <a:pt x="152" y="238"/>
                  </a:lnTo>
                  <a:lnTo>
                    <a:pt x="152" y="230"/>
                  </a:lnTo>
                  <a:lnTo>
                    <a:pt x="144" y="222"/>
                  </a:lnTo>
                  <a:lnTo>
                    <a:pt x="144" y="214"/>
                  </a:lnTo>
                  <a:lnTo>
                    <a:pt x="136" y="206"/>
                  </a:lnTo>
                  <a:lnTo>
                    <a:pt x="136" y="198"/>
                  </a:lnTo>
                  <a:lnTo>
                    <a:pt x="136" y="190"/>
                  </a:lnTo>
                  <a:lnTo>
                    <a:pt x="136" y="182"/>
                  </a:lnTo>
                  <a:lnTo>
                    <a:pt x="136" y="174"/>
                  </a:lnTo>
                  <a:lnTo>
                    <a:pt x="136" y="166"/>
                  </a:lnTo>
                  <a:lnTo>
                    <a:pt x="136" y="158"/>
                  </a:lnTo>
                  <a:lnTo>
                    <a:pt x="136" y="150"/>
                  </a:lnTo>
                  <a:lnTo>
                    <a:pt x="136" y="142"/>
                  </a:lnTo>
                  <a:lnTo>
                    <a:pt x="136" y="134"/>
                  </a:lnTo>
                  <a:lnTo>
                    <a:pt x="136" y="126"/>
                  </a:lnTo>
                  <a:lnTo>
                    <a:pt x="144" y="120"/>
                  </a:lnTo>
                  <a:lnTo>
                    <a:pt x="144" y="112"/>
                  </a:lnTo>
                  <a:lnTo>
                    <a:pt x="152" y="112"/>
                  </a:lnTo>
                  <a:lnTo>
                    <a:pt x="152" y="104"/>
                  </a:lnTo>
                  <a:lnTo>
                    <a:pt x="160" y="104"/>
                  </a:lnTo>
                  <a:lnTo>
                    <a:pt x="160" y="96"/>
                  </a:lnTo>
                  <a:lnTo>
                    <a:pt x="168" y="88"/>
                  </a:lnTo>
                  <a:lnTo>
                    <a:pt x="176" y="88"/>
                  </a:lnTo>
                  <a:lnTo>
                    <a:pt x="176" y="80"/>
                  </a:lnTo>
                  <a:lnTo>
                    <a:pt x="184" y="72"/>
                  </a:lnTo>
                  <a:lnTo>
                    <a:pt x="192" y="72"/>
                  </a:lnTo>
                  <a:lnTo>
                    <a:pt x="192" y="64"/>
                  </a:lnTo>
                  <a:lnTo>
                    <a:pt x="200" y="64"/>
                  </a:lnTo>
                  <a:lnTo>
                    <a:pt x="208" y="56"/>
                  </a:lnTo>
                  <a:lnTo>
                    <a:pt x="214" y="56"/>
                  </a:lnTo>
                  <a:lnTo>
                    <a:pt x="222" y="48"/>
                  </a:lnTo>
                  <a:lnTo>
                    <a:pt x="230" y="48"/>
                  </a:lnTo>
                  <a:lnTo>
                    <a:pt x="238" y="48"/>
                  </a:lnTo>
                  <a:lnTo>
                    <a:pt x="246" y="40"/>
                  </a:lnTo>
                  <a:lnTo>
                    <a:pt x="254" y="40"/>
                  </a:lnTo>
                  <a:lnTo>
                    <a:pt x="262" y="40"/>
                  </a:lnTo>
                  <a:lnTo>
                    <a:pt x="270" y="40"/>
                  </a:lnTo>
                  <a:lnTo>
                    <a:pt x="278" y="40"/>
                  </a:lnTo>
                  <a:lnTo>
                    <a:pt x="286" y="40"/>
                  </a:lnTo>
                  <a:lnTo>
                    <a:pt x="294" y="40"/>
                  </a:lnTo>
                  <a:lnTo>
                    <a:pt x="302" y="40"/>
                  </a:lnTo>
                  <a:lnTo>
                    <a:pt x="310" y="40"/>
                  </a:lnTo>
                  <a:lnTo>
                    <a:pt x="318" y="40"/>
                  </a:lnTo>
                  <a:lnTo>
                    <a:pt x="326" y="40"/>
                  </a:lnTo>
                  <a:lnTo>
                    <a:pt x="334" y="48"/>
                  </a:lnTo>
                  <a:lnTo>
                    <a:pt x="342" y="48"/>
                  </a:lnTo>
                  <a:lnTo>
                    <a:pt x="350" y="56"/>
                  </a:lnTo>
                  <a:lnTo>
                    <a:pt x="358" y="56"/>
                  </a:lnTo>
                  <a:lnTo>
                    <a:pt x="366" y="64"/>
                  </a:lnTo>
                  <a:lnTo>
                    <a:pt x="374" y="64"/>
                  </a:lnTo>
                  <a:lnTo>
                    <a:pt x="374" y="72"/>
                  </a:lnTo>
                  <a:lnTo>
                    <a:pt x="382" y="72"/>
                  </a:lnTo>
                  <a:lnTo>
                    <a:pt x="390" y="80"/>
                  </a:lnTo>
                  <a:lnTo>
                    <a:pt x="398" y="88"/>
                  </a:lnTo>
                  <a:lnTo>
                    <a:pt x="398" y="96"/>
                  </a:lnTo>
                  <a:lnTo>
                    <a:pt x="406" y="104"/>
                  </a:lnTo>
                  <a:lnTo>
                    <a:pt x="414" y="104"/>
                  </a:lnTo>
                  <a:lnTo>
                    <a:pt x="414" y="112"/>
                  </a:lnTo>
                  <a:lnTo>
                    <a:pt x="414" y="120"/>
                  </a:lnTo>
                  <a:lnTo>
                    <a:pt x="422" y="120"/>
                  </a:lnTo>
                  <a:lnTo>
                    <a:pt x="422" y="126"/>
                  </a:lnTo>
                  <a:lnTo>
                    <a:pt x="422" y="134"/>
                  </a:lnTo>
                  <a:lnTo>
                    <a:pt x="430" y="134"/>
                  </a:lnTo>
                  <a:lnTo>
                    <a:pt x="430" y="142"/>
                  </a:lnTo>
                  <a:lnTo>
                    <a:pt x="430" y="150"/>
                  </a:lnTo>
                  <a:lnTo>
                    <a:pt x="430" y="158"/>
                  </a:lnTo>
                  <a:lnTo>
                    <a:pt x="436" y="158"/>
                  </a:lnTo>
                  <a:lnTo>
                    <a:pt x="436" y="166"/>
                  </a:lnTo>
                  <a:lnTo>
                    <a:pt x="436" y="174"/>
                  </a:lnTo>
                  <a:lnTo>
                    <a:pt x="436" y="182"/>
                  </a:lnTo>
                  <a:lnTo>
                    <a:pt x="436" y="190"/>
                  </a:lnTo>
                  <a:lnTo>
                    <a:pt x="436" y="198"/>
                  </a:lnTo>
                  <a:lnTo>
                    <a:pt x="436" y="206"/>
                  </a:lnTo>
                  <a:lnTo>
                    <a:pt x="436" y="214"/>
                  </a:lnTo>
                  <a:lnTo>
                    <a:pt x="436" y="222"/>
                  </a:lnTo>
                  <a:lnTo>
                    <a:pt x="436" y="230"/>
                  </a:lnTo>
                  <a:lnTo>
                    <a:pt x="436" y="238"/>
                  </a:lnTo>
                  <a:lnTo>
                    <a:pt x="430" y="238"/>
                  </a:lnTo>
                  <a:lnTo>
                    <a:pt x="430" y="246"/>
                  </a:lnTo>
                  <a:lnTo>
                    <a:pt x="430" y="254"/>
                  </a:lnTo>
                  <a:lnTo>
                    <a:pt x="430" y="262"/>
                  </a:lnTo>
                  <a:lnTo>
                    <a:pt x="430" y="270"/>
                  </a:lnTo>
                  <a:lnTo>
                    <a:pt x="422" y="270"/>
                  </a:lnTo>
                  <a:lnTo>
                    <a:pt x="422" y="278"/>
                  </a:lnTo>
                  <a:lnTo>
                    <a:pt x="422" y="286"/>
                  </a:lnTo>
                  <a:lnTo>
                    <a:pt x="414" y="294"/>
                  </a:lnTo>
                  <a:lnTo>
                    <a:pt x="406" y="302"/>
                  </a:lnTo>
                  <a:lnTo>
                    <a:pt x="406" y="310"/>
                  </a:lnTo>
                  <a:lnTo>
                    <a:pt x="398" y="318"/>
                  </a:lnTo>
                  <a:lnTo>
                    <a:pt x="398" y="326"/>
                  </a:lnTo>
                  <a:lnTo>
                    <a:pt x="390" y="334"/>
                  </a:lnTo>
                  <a:lnTo>
                    <a:pt x="382" y="334"/>
                  </a:lnTo>
                  <a:lnTo>
                    <a:pt x="374" y="340"/>
                  </a:lnTo>
                  <a:lnTo>
                    <a:pt x="374" y="348"/>
                  </a:lnTo>
                  <a:lnTo>
                    <a:pt x="366" y="356"/>
                  </a:lnTo>
                  <a:lnTo>
                    <a:pt x="358" y="364"/>
                  </a:lnTo>
                  <a:lnTo>
                    <a:pt x="350" y="372"/>
                  </a:lnTo>
                  <a:lnTo>
                    <a:pt x="342" y="380"/>
                  </a:lnTo>
                  <a:lnTo>
                    <a:pt x="334" y="388"/>
                  </a:lnTo>
                  <a:lnTo>
                    <a:pt x="326" y="388"/>
                  </a:lnTo>
                  <a:lnTo>
                    <a:pt x="318" y="396"/>
                  </a:lnTo>
                  <a:lnTo>
                    <a:pt x="310" y="404"/>
                  </a:lnTo>
                  <a:lnTo>
                    <a:pt x="302" y="412"/>
                  </a:lnTo>
                  <a:lnTo>
                    <a:pt x="294" y="420"/>
                  </a:lnTo>
                  <a:lnTo>
                    <a:pt x="286" y="428"/>
                  </a:lnTo>
                  <a:lnTo>
                    <a:pt x="278" y="428"/>
                  </a:lnTo>
                  <a:lnTo>
                    <a:pt x="262" y="436"/>
                  </a:lnTo>
                  <a:lnTo>
                    <a:pt x="254" y="444"/>
                  </a:lnTo>
                  <a:lnTo>
                    <a:pt x="246" y="452"/>
                  </a:lnTo>
                  <a:lnTo>
                    <a:pt x="238" y="452"/>
                  </a:lnTo>
                  <a:lnTo>
                    <a:pt x="222" y="460"/>
                  </a:lnTo>
                  <a:lnTo>
                    <a:pt x="214" y="468"/>
                  </a:lnTo>
                  <a:lnTo>
                    <a:pt x="214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447480" y="6296040"/>
              <a:ext cx="755640" cy="164772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476" h="1038">
                  <a:moveTo>
                    <a:pt x="214" y="578"/>
                  </a:moveTo>
                  <a:lnTo>
                    <a:pt x="208" y="570"/>
                  </a:lnTo>
                  <a:lnTo>
                    <a:pt x="192" y="562"/>
                  </a:lnTo>
                  <a:lnTo>
                    <a:pt x="184" y="562"/>
                  </a:lnTo>
                  <a:lnTo>
                    <a:pt x="176" y="554"/>
                  </a:lnTo>
                  <a:lnTo>
                    <a:pt x="160" y="546"/>
                  </a:lnTo>
                  <a:lnTo>
                    <a:pt x="152" y="538"/>
                  </a:lnTo>
                  <a:lnTo>
                    <a:pt x="144" y="530"/>
                  </a:lnTo>
                  <a:lnTo>
                    <a:pt x="136" y="516"/>
                  </a:lnTo>
                  <a:lnTo>
                    <a:pt x="120" y="508"/>
                  </a:lnTo>
                  <a:lnTo>
                    <a:pt x="112" y="500"/>
                  </a:lnTo>
                  <a:lnTo>
                    <a:pt x="104" y="492"/>
                  </a:lnTo>
                  <a:lnTo>
                    <a:pt x="96" y="476"/>
                  </a:lnTo>
                  <a:lnTo>
                    <a:pt x="88" y="468"/>
                  </a:lnTo>
                  <a:lnTo>
                    <a:pt x="80" y="460"/>
                  </a:lnTo>
                  <a:lnTo>
                    <a:pt x="64" y="444"/>
                  </a:lnTo>
                  <a:lnTo>
                    <a:pt x="56" y="436"/>
                  </a:lnTo>
                  <a:lnTo>
                    <a:pt x="56" y="420"/>
                  </a:lnTo>
                  <a:lnTo>
                    <a:pt x="48" y="412"/>
                  </a:lnTo>
                  <a:lnTo>
                    <a:pt x="40" y="396"/>
                  </a:lnTo>
                  <a:lnTo>
                    <a:pt x="32" y="388"/>
                  </a:lnTo>
                  <a:lnTo>
                    <a:pt x="24" y="372"/>
                  </a:lnTo>
                  <a:lnTo>
                    <a:pt x="24" y="356"/>
                  </a:lnTo>
                  <a:lnTo>
                    <a:pt x="16" y="348"/>
                  </a:lnTo>
                  <a:lnTo>
                    <a:pt x="16" y="332"/>
                  </a:lnTo>
                  <a:lnTo>
                    <a:pt x="8" y="316"/>
                  </a:lnTo>
                  <a:lnTo>
                    <a:pt x="8" y="308"/>
                  </a:lnTo>
                  <a:lnTo>
                    <a:pt x="8" y="294"/>
                  </a:lnTo>
                  <a:lnTo>
                    <a:pt x="8" y="278"/>
                  </a:lnTo>
                  <a:lnTo>
                    <a:pt x="0" y="270"/>
                  </a:lnTo>
                  <a:lnTo>
                    <a:pt x="8" y="254"/>
                  </a:lnTo>
                  <a:lnTo>
                    <a:pt x="8" y="238"/>
                  </a:lnTo>
                  <a:lnTo>
                    <a:pt x="8" y="230"/>
                  </a:lnTo>
                  <a:lnTo>
                    <a:pt x="8" y="214"/>
                  </a:lnTo>
                  <a:lnTo>
                    <a:pt x="8" y="206"/>
                  </a:lnTo>
                  <a:lnTo>
                    <a:pt x="16" y="198"/>
                  </a:lnTo>
                  <a:lnTo>
                    <a:pt x="16" y="190"/>
                  </a:lnTo>
                  <a:lnTo>
                    <a:pt x="16" y="182"/>
                  </a:lnTo>
                  <a:lnTo>
                    <a:pt x="24" y="166"/>
                  </a:lnTo>
                  <a:lnTo>
                    <a:pt x="24" y="158"/>
                  </a:lnTo>
                  <a:lnTo>
                    <a:pt x="32" y="150"/>
                  </a:lnTo>
                  <a:lnTo>
                    <a:pt x="32" y="142"/>
                  </a:lnTo>
                  <a:lnTo>
                    <a:pt x="40" y="134"/>
                  </a:lnTo>
                  <a:lnTo>
                    <a:pt x="40" y="126"/>
                  </a:lnTo>
                  <a:lnTo>
                    <a:pt x="48" y="126"/>
                  </a:lnTo>
                  <a:lnTo>
                    <a:pt x="56" y="118"/>
                  </a:lnTo>
                  <a:lnTo>
                    <a:pt x="56" y="110"/>
                  </a:lnTo>
                  <a:lnTo>
                    <a:pt x="64" y="102"/>
                  </a:lnTo>
                  <a:lnTo>
                    <a:pt x="72" y="94"/>
                  </a:lnTo>
                  <a:lnTo>
                    <a:pt x="80" y="88"/>
                  </a:lnTo>
                  <a:lnTo>
                    <a:pt x="88" y="80"/>
                  </a:lnTo>
                  <a:lnTo>
                    <a:pt x="96" y="72"/>
                  </a:lnTo>
                  <a:lnTo>
                    <a:pt x="104" y="64"/>
                  </a:lnTo>
                  <a:lnTo>
                    <a:pt x="112" y="64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8" y="48"/>
                  </a:lnTo>
                  <a:lnTo>
                    <a:pt x="136" y="48"/>
                  </a:lnTo>
                  <a:lnTo>
                    <a:pt x="136" y="40"/>
                  </a:lnTo>
                  <a:lnTo>
                    <a:pt x="144" y="40"/>
                  </a:lnTo>
                  <a:lnTo>
                    <a:pt x="152" y="32"/>
                  </a:lnTo>
                  <a:lnTo>
                    <a:pt x="160" y="32"/>
                  </a:lnTo>
                  <a:lnTo>
                    <a:pt x="168" y="24"/>
                  </a:lnTo>
                  <a:lnTo>
                    <a:pt x="176" y="24"/>
                  </a:lnTo>
                  <a:lnTo>
                    <a:pt x="184" y="16"/>
                  </a:lnTo>
                  <a:lnTo>
                    <a:pt x="192" y="16"/>
                  </a:lnTo>
                  <a:lnTo>
                    <a:pt x="200" y="16"/>
                  </a:lnTo>
                  <a:lnTo>
                    <a:pt x="208" y="8"/>
                  </a:lnTo>
                  <a:lnTo>
                    <a:pt x="214" y="8"/>
                  </a:lnTo>
                  <a:lnTo>
                    <a:pt x="222" y="8"/>
                  </a:lnTo>
                  <a:lnTo>
                    <a:pt x="230" y="8"/>
                  </a:lnTo>
                  <a:lnTo>
                    <a:pt x="238" y="0"/>
                  </a:lnTo>
                  <a:lnTo>
                    <a:pt x="246" y="0"/>
                  </a:lnTo>
                  <a:lnTo>
                    <a:pt x="254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02" y="0"/>
                  </a:lnTo>
                  <a:lnTo>
                    <a:pt x="310" y="8"/>
                  </a:lnTo>
                  <a:lnTo>
                    <a:pt x="318" y="8"/>
                  </a:lnTo>
                  <a:lnTo>
                    <a:pt x="326" y="8"/>
                  </a:lnTo>
                  <a:lnTo>
                    <a:pt x="334" y="8"/>
                  </a:lnTo>
                  <a:lnTo>
                    <a:pt x="342" y="8"/>
                  </a:lnTo>
                  <a:lnTo>
                    <a:pt x="342" y="16"/>
                  </a:lnTo>
                  <a:lnTo>
                    <a:pt x="350" y="16"/>
                  </a:lnTo>
                  <a:lnTo>
                    <a:pt x="358" y="16"/>
                  </a:lnTo>
                  <a:lnTo>
                    <a:pt x="366" y="24"/>
                  </a:lnTo>
                  <a:lnTo>
                    <a:pt x="374" y="24"/>
                  </a:lnTo>
                  <a:lnTo>
                    <a:pt x="382" y="32"/>
                  </a:lnTo>
                  <a:lnTo>
                    <a:pt x="390" y="40"/>
                  </a:lnTo>
                  <a:lnTo>
                    <a:pt x="398" y="40"/>
                  </a:lnTo>
                  <a:lnTo>
                    <a:pt x="406" y="48"/>
                  </a:lnTo>
                  <a:lnTo>
                    <a:pt x="406" y="56"/>
                  </a:lnTo>
                  <a:lnTo>
                    <a:pt x="414" y="64"/>
                  </a:lnTo>
                  <a:lnTo>
                    <a:pt x="422" y="72"/>
                  </a:lnTo>
                  <a:lnTo>
                    <a:pt x="430" y="80"/>
                  </a:lnTo>
                  <a:lnTo>
                    <a:pt x="430" y="88"/>
                  </a:lnTo>
                  <a:lnTo>
                    <a:pt x="436" y="94"/>
                  </a:lnTo>
                  <a:lnTo>
                    <a:pt x="436" y="102"/>
                  </a:lnTo>
                  <a:lnTo>
                    <a:pt x="444" y="110"/>
                  </a:lnTo>
                  <a:lnTo>
                    <a:pt x="444" y="118"/>
                  </a:lnTo>
                  <a:lnTo>
                    <a:pt x="444" y="126"/>
                  </a:lnTo>
                  <a:lnTo>
                    <a:pt x="452" y="134"/>
                  </a:lnTo>
                  <a:lnTo>
                    <a:pt x="452" y="142"/>
                  </a:lnTo>
                  <a:lnTo>
                    <a:pt x="452" y="150"/>
                  </a:lnTo>
                  <a:lnTo>
                    <a:pt x="452" y="158"/>
                  </a:lnTo>
                  <a:lnTo>
                    <a:pt x="452" y="166"/>
                  </a:lnTo>
                  <a:lnTo>
                    <a:pt x="460" y="174"/>
                  </a:lnTo>
                  <a:lnTo>
                    <a:pt x="460" y="182"/>
                  </a:lnTo>
                  <a:lnTo>
                    <a:pt x="452" y="190"/>
                  </a:lnTo>
                  <a:lnTo>
                    <a:pt x="452" y="198"/>
                  </a:lnTo>
                  <a:lnTo>
                    <a:pt x="452" y="206"/>
                  </a:lnTo>
                  <a:lnTo>
                    <a:pt x="452" y="214"/>
                  </a:lnTo>
                  <a:lnTo>
                    <a:pt x="452" y="222"/>
                  </a:lnTo>
                  <a:lnTo>
                    <a:pt x="452" y="230"/>
                  </a:lnTo>
                  <a:lnTo>
                    <a:pt x="444" y="238"/>
                  </a:lnTo>
                  <a:lnTo>
                    <a:pt x="444" y="246"/>
                  </a:lnTo>
                  <a:lnTo>
                    <a:pt x="436" y="254"/>
                  </a:lnTo>
                  <a:lnTo>
                    <a:pt x="436" y="262"/>
                  </a:lnTo>
                  <a:lnTo>
                    <a:pt x="430" y="270"/>
                  </a:lnTo>
                  <a:lnTo>
                    <a:pt x="430" y="278"/>
                  </a:lnTo>
                  <a:lnTo>
                    <a:pt x="422" y="278"/>
                  </a:lnTo>
                  <a:lnTo>
                    <a:pt x="422" y="286"/>
                  </a:lnTo>
                  <a:lnTo>
                    <a:pt x="414" y="294"/>
                  </a:lnTo>
                  <a:lnTo>
                    <a:pt x="406" y="294"/>
                  </a:lnTo>
                  <a:lnTo>
                    <a:pt x="406" y="302"/>
                  </a:lnTo>
                  <a:lnTo>
                    <a:pt x="398" y="308"/>
                  </a:lnTo>
                  <a:lnTo>
                    <a:pt x="390" y="308"/>
                  </a:lnTo>
                  <a:lnTo>
                    <a:pt x="390" y="316"/>
                  </a:lnTo>
                  <a:lnTo>
                    <a:pt x="382" y="316"/>
                  </a:lnTo>
                  <a:lnTo>
                    <a:pt x="374" y="324"/>
                  </a:lnTo>
                  <a:lnTo>
                    <a:pt x="366" y="332"/>
                  </a:lnTo>
                  <a:lnTo>
                    <a:pt x="358" y="332"/>
                  </a:lnTo>
                  <a:lnTo>
                    <a:pt x="350" y="332"/>
                  </a:lnTo>
                  <a:lnTo>
                    <a:pt x="342" y="340"/>
                  </a:lnTo>
                  <a:lnTo>
                    <a:pt x="334" y="340"/>
                  </a:lnTo>
                  <a:lnTo>
                    <a:pt x="326" y="340"/>
                  </a:lnTo>
                  <a:lnTo>
                    <a:pt x="318" y="340"/>
                  </a:lnTo>
                  <a:lnTo>
                    <a:pt x="310" y="340"/>
                  </a:lnTo>
                  <a:lnTo>
                    <a:pt x="302" y="340"/>
                  </a:lnTo>
                  <a:lnTo>
                    <a:pt x="294" y="340"/>
                  </a:lnTo>
                  <a:lnTo>
                    <a:pt x="278" y="340"/>
                  </a:lnTo>
                  <a:lnTo>
                    <a:pt x="270" y="340"/>
                  </a:lnTo>
                  <a:lnTo>
                    <a:pt x="262" y="340"/>
                  </a:lnTo>
                  <a:lnTo>
                    <a:pt x="254" y="340"/>
                  </a:lnTo>
                  <a:lnTo>
                    <a:pt x="246" y="332"/>
                  </a:lnTo>
                  <a:lnTo>
                    <a:pt x="238" y="332"/>
                  </a:lnTo>
                  <a:lnTo>
                    <a:pt x="230" y="332"/>
                  </a:lnTo>
                  <a:lnTo>
                    <a:pt x="222" y="332"/>
                  </a:lnTo>
                  <a:lnTo>
                    <a:pt x="214" y="324"/>
                  </a:lnTo>
                  <a:lnTo>
                    <a:pt x="208" y="316"/>
                  </a:lnTo>
                  <a:lnTo>
                    <a:pt x="200" y="316"/>
                  </a:lnTo>
                  <a:lnTo>
                    <a:pt x="200" y="308"/>
                  </a:lnTo>
                  <a:lnTo>
                    <a:pt x="192" y="308"/>
                  </a:lnTo>
                  <a:lnTo>
                    <a:pt x="184" y="302"/>
                  </a:lnTo>
                  <a:lnTo>
                    <a:pt x="176" y="294"/>
                  </a:lnTo>
                  <a:lnTo>
                    <a:pt x="168" y="286"/>
                  </a:lnTo>
                  <a:lnTo>
                    <a:pt x="168" y="278"/>
                  </a:lnTo>
                  <a:lnTo>
                    <a:pt x="160" y="270"/>
                  </a:lnTo>
                  <a:lnTo>
                    <a:pt x="160" y="262"/>
                  </a:lnTo>
                  <a:lnTo>
                    <a:pt x="160" y="254"/>
                  </a:lnTo>
                  <a:lnTo>
                    <a:pt x="152" y="246"/>
                  </a:lnTo>
                  <a:lnTo>
                    <a:pt x="152" y="238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4"/>
                  </a:lnTo>
                  <a:lnTo>
                    <a:pt x="152" y="206"/>
                  </a:lnTo>
                  <a:lnTo>
                    <a:pt x="152" y="198"/>
                  </a:lnTo>
                  <a:lnTo>
                    <a:pt x="152" y="190"/>
                  </a:lnTo>
                  <a:lnTo>
                    <a:pt x="152" y="182"/>
                  </a:lnTo>
                  <a:lnTo>
                    <a:pt x="152" y="174"/>
                  </a:lnTo>
                  <a:lnTo>
                    <a:pt x="152" y="166"/>
                  </a:lnTo>
                  <a:lnTo>
                    <a:pt x="152" y="158"/>
                  </a:lnTo>
                  <a:lnTo>
                    <a:pt x="152" y="150"/>
                  </a:lnTo>
                  <a:lnTo>
                    <a:pt x="160" y="150"/>
                  </a:lnTo>
                  <a:lnTo>
                    <a:pt x="160" y="142"/>
                  </a:lnTo>
                  <a:lnTo>
                    <a:pt x="168" y="134"/>
                  </a:lnTo>
                  <a:lnTo>
                    <a:pt x="168" y="126"/>
                  </a:lnTo>
                  <a:lnTo>
                    <a:pt x="176" y="126"/>
                  </a:lnTo>
                  <a:lnTo>
                    <a:pt x="176" y="118"/>
                  </a:lnTo>
                  <a:lnTo>
                    <a:pt x="184" y="118"/>
                  </a:lnTo>
                  <a:lnTo>
                    <a:pt x="192" y="110"/>
                  </a:lnTo>
                  <a:lnTo>
                    <a:pt x="200" y="110"/>
                  </a:lnTo>
                  <a:lnTo>
                    <a:pt x="200" y="102"/>
                  </a:lnTo>
                  <a:lnTo>
                    <a:pt x="208" y="102"/>
                  </a:lnTo>
                  <a:lnTo>
                    <a:pt x="214" y="102"/>
                  </a:lnTo>
                  <a:lnTo>
                    <a:pt x="222" y="102"/>
                  </a:lnTo>
                  <a:lnTo>
                    <a:pt x="222" y="94"/>
                  </a:lnTo>
                  <a:lnTo>
                    <a:pt x="230" y="94"/>
                  </a:lnTo>
                  <a:lnTo>
                    <a:pt x="238" y="94"/>
                  </a:lnTo>
                  <a:lnTo>
                    <a:pt x="246" y="94"/>
                  </a:lnTo>
                  <a:lnTo>
                    <a:pt x="254" y="94"/>
                  </a:lnTo>
                  <a:lnTo>
                    <a:pt x="262" y="94"/>
                  </a:lnTo>
                  <a:lnTo>
                    <a:pt x="270" y="94"/>
                  </a:lnTo>
                  <a:lnTo>
                    <a:pt x="278" y="94"/>
                  </a:lnTo>
                  <a:lnTo>
                    <a:pt x="286" y="102"/>
                  </a:lnTo>
                  <a:lnTo>
                    <a:pt x="294" y="102"/>
                  </a:lnTo>
                  <a:lnTo>
                    <a:pt x="302" y="102"/>
                  </a:lnTo>
                  <a:lnTo>
                    <a:pt x="302" y="110"/>
                  </a:lnTo>
                  <a:lnTo>
                    <a:pt x="310" y="110"/>
                  </a:lnTo>
                  <a:lnTo>
                    <a:pt x="310" y="118"/>
                  </a:lnTo>
                  <a:lnTo>
                    <a:pt x="318" y="118"/>
                  </a:lnTo>
                  <a:lnTo>
                    <a:pt x="318" y="126"/>
                  </a:lnTo>
                  <a:lnTo>
                    <a:pt x="326" y="126"/>
                  </a:lnTo>
                  <a:lnTo>
                    <a:pt x="326" y="134"/>
                  </a:lnTo>
                  <a:lnTo>
                    <a:pt x="326" y="142"/>
                  </a:lnTo>
                  <a:lnTo>
                    <a:pt x="334" y="142"/>
                  </a:lnTo>
                  <a:lnTo>
                    <a:pt x="334" y="150"/>
                  </a:lnTo>
                  <a:lnTo>
                    <a:pt x="334" y="158"/>
                  </a:lnTo>
                  <a:lnTo>
                    <a:pt x="334" y="166"/>
                  </a:lnTo>
                  <a:lnTo>
                    <a:pt x="334" y="174"/>
                  </a:lnTo>
                  <a:lnTo>
                    <a:pt x="334" y="182"/>
                  </a:lnTo>
                  <a:lnTo>
                    <a:pt x="334" y="190"/>
                  </a:lnTo>
                  <a:lnTo>
                    <a:pt x="334" y="198"/>
                  </a:lnTo>
                  <a:lnTo>
                    <a:pt x="334" y="206"/>
                  </a:lnTo>
                  <a:lnTo>
                    <a:pt x="326" y="206"/>
                  </a:lnTo>
                  <a:lnTo>
                    <a:pt x="326" y="214"/>
                  </a:lnTo>
                  <a:lnTo>
                    <a:pt x="318" y="214"/>
                  </a:lnTo>
                  <a:lnTo>
                    <a:pt x="318" y="222"/>
                  </a:lnTo>
                  <a:lnTo>
                    <a:pt x="310" y="222"/>
                  </a:lnTo>
                  <a:lnTo>
                    <a:pt x="310" y="230"/>
                  </a:lnTo>
                  <a:lnTo>
                    <a:pt x="302" y="230"/>
                  </a:lnTo>
                  <a:lnTo>
                    <a:pt x="294" y="238"/>
                  </a:lnTo>
                  <a:lnTo>
                    <a:pt x="286" y="238"/>
                  </a:lnTo>
                  <a:lnTo>
                    <a:pt x="278" y="238"/>
                  </a:lnTo>
                  <a:lnTo>
                    <a:pt x="270" y="238"/>
                  </a:lnTo>
                  <a:lnTo>
                    <a:pt x="270" y="246"/>
                  </a:lnTo>
                  <a:lnTo>
                    <a:pt x="262" y="246"/>
                  </a:lnTo>
                  <a:lnTo>
                    <a:pt x="254" y="246"/>
                  </a:lnTo>
                  <a:lnTo>
                    <a:pt x="254" y="206"/>
                  </a:lnTo>
                  <a:lnTo>
                    <a:pt x="262" y="206"/>
                  </a:lnTo>
                  <a:lnTo>
                    <a:pt x="270" y="206"/>
                  </a:lnTo>
                  <a:lnTo>
                    <a:pt x="278" y="206"/>
                  </a:lnTo>
                  <a:lnTo>
                    <a:pt x="278" y="198"/>
                  </a:lnTo>
                  <a:lnTo>
                    <a:pt x="286" y="198"/>
                  </a:lnTo>
                  <a:lnTo>
                    <a:pt x="294" y="198"/>
                  </a:lnTo>
                  <a:lnTo>
                    <a:pt x="294" y="190"/>
                  </a:lnTo>
                  <a:lnTo>
                    <a:pt x="294" y="182"/>
                  </a:lnTo>
                  <a:lnTo>
                    <a:pt x="302" y="182"/>
                  </a:lnTo>
                  <a:lnTo>
                    <a:pt x="302" y="174"/>
                  </a:lnTo>
                  <a:lnTo>
                    <a:pt x="302" y="166"/>
                  </a:lnTo>
                  <a:lnTo>
                    <a:pt x="302" y="158"/>
                  </a:lnTo>
                  <a:lnTo>
                    <a:pt x="294" y="158"/>
                  </a:lnTo>
                  <a:lnTo>
                    <a:pt x="294" y="150"/>
                  </a:lnTo>
                  <a:lnTo>
                    <a:pt x="286" y="142"/>
                  </a:lnTo>
                  <a:lnTo>
                    <a:pt x="278" y="142"/>
                  </a:lnTo>
                  <a:lnTo>
                    <a:pt x="278" y="134"/>
                  </a:lnTo>
                  <a:lnTo>
                    <a:pt x="270" y="134"/>
                  </a:lnTo>
                  <a:lnTo>
                    <a:pt x="262" y="134"/>
                  </a:lnTo>
                  <a:lnTo>
                    <a:pt x="254" y="134"/>
                  </a:lnTo>
                  <a:lnTo>
                    <a:pt x="246" y="134"/>
                  </a:lnTo>
                  <a:lnTo>
                    <a:pt x="238" y="134"/>
                  </a:lnTo>
                  <a:lnTo>
                    <a:pt x="230" y="134"/>
                  </a:lnTo>
                  <a:lnTo>
                    <a:pt x="222" y="134"/>
                  </a:lnTo>
                  <a:lnTo>
                    <a:pt x="222" y="142"/>
                  </a:lnTo>
                  <a:lnTo>
                    <a:pt x="214" y="142"/>
                  </a:lnTo>
                  <a:lnTo>
                    <a:pt x="208" y="142"/>
                  </a:lnTo>
                  <a:lnTo>
                    <a:pt x="208" y="150"/>
                  </a:lnTo>
                  <a:lnTo>
                    <a:pt x="200" y="150"/>
                  </a:lnTo>
                  <a:lnTo>
                    <a:pt x="200" y="158"/>
                  </a:lnTo>
                  <a:lnTo>
                    <a:pt x="192" y="158"/>
                  </a:lnTo>
                  <a:lnTo>
                    <a:pt x="192" y="166"/>
                  </a:lnTo>
                  <a:lnTo>
                    <a:pt x="192" y="174"/>
                  </a:lnTo>
                  <a:lnTo>
                    <a:pt x="184" y="174"/>
                  </a:lnTo>
                  <a:lnTo>
                    <a:pt x="184" y="182"/>
                  </a:lnTo>
                  <a:lnTo>
                    <a:pt x="184" y="190"/>
                  </a:lnTo>
                  <a:lnTo>
                    <a:pt x="184" y="198"/>
                  </a:lnTo>
                  <a:lnTo>
                    <a:pt x="184" y="206"/>
                  </a:lnTo>
                  <a:lnTo>
                    <a:pt x="184" y="214"/>
                  </a:lnTo>
                  <a:lnTo>
                    <a:pt x="184" y="222"/>
                  </a:lnTo>
                  <a:lnTo>
                    <a:pt x="184" y="230"/>
                  </a:lnTo>
                  <a:lnTo>
                    <a:pt x="192" y="238"/>
                  </a:lnTo>
                  <a:lnTo>
                    <a:pt x="192" y="246"/>
                  </a:lnTo>
                  <a:lnTo>
                    <a:pt x="192" y="254"/>
                  </a:lnTo>
                  <a:lnTo>
                    <a:pt x="200" y="254"/>
                  </a:lnTo>
                  <a:lnTo>
                    <a:pt x="200" y="262"/>
                  </a:lnTo>
                  <a:lnTo>
                    <a:pt x="208" y="270"/>
                  </a:lnTo>
                  <a:lnTo>
                    <a:pt x="208" y="278"/>
                  </a:lnTo>
                  <a:lnTo>
                    <a:pt x="214" y="278"/>
                  </a:lnTo>
                  <a:lnTo>
                    <a:pt x="222" y="286"/>
                  </a:lnTo>
                  <a:lnTo>
                    <a:pt x="230" y="294"/>
                  </a:lnTo>
                  <a:lnTo>
                    <a:pt x="238" y="294"/>
                  </a:lnTo>
                  <a:lnTo>
                    <a:pt x="246" y="302"/>
                  </a:lnTo>
                  <a:lnTo>
                    <a:pt x="254" y="302"/>
                  </a:lnTo>
                  <a:lnTo>
                    <a:pt x="262" y="302"/>
                  </a:lnTo>
                  <a:lnTo>
                    <a:pt x="270" y="302"/>
                  </a:lnTo>
                  <a:lnTo>
                    <a:pt x="278" y="308"/>
                  </a:lnTo>
                  <a:lnTo>
                    <a:pt x="286" y="308"/>
                  </a:lnTo>
                  <a:lnTo>
                    <a:pt x="294" y="308"/>
                  </a:lnTo>
                  <a:lnTo>
                    <a:pt x="302" y="308"/>
                  </a:lnTo>
                  <a:lnTo>
                    <a:pt x="310" y="308"/>
                  </a:lnTo>
                  <a:lnTo>
                    <a:pt x="318" y="308"/>
                  </a:lnTo>
                  <a:lnTo>
                    <a:pt x="326" y="308"/>
                  </a:lnTo>
                  <a:lnTo>
                    <a:pt x="326" y="302"/>
                  </a:lnTo>
                  <a:lnTo>
                    <a:pt x="334" y="302"/>
                  </a:lnTo>
                  <a:lnTo>
                    <a:pt x="342" y="302"/>
                  </a:lnTo>
                  <a:lnTo>
                    <a:pt x="350" y="294"/>
                  </a:lnTo>
                  <a:lnTo>
                    <a:pt x="358" y="294"/>
                  </a:lnTo>
                  <a:lnTo>
                    <a:pt x="366" y="286"/>
                  </a:lnTo>
                  <a:lnTo>
                    <a:pt x="374" y="286"/>
                  </a:lnTo>
                  <a:lnTo>
                    <a:pt x="374" y="278"/>
                  </a:lnTo>
                  <a:lnTo>
                    <a:pt x="382" y="278"/>
                  </a:lnTo>
                  <a:lnTo>
                    <a:pt x="382" y="270"/>
                  </a:lnTo>
                  <a:lnTo>
                    <a:pt x="390" y="270"/>
                  </a:lnTo>
                  <a:lnTo>
                    <a:pt x="390" y="262"/>
                  </a:lnTo>
                  <a:lnTo>
                    <a:pt x="398" y="262"/>
                  </a:lnTo>
                  <a:lnTo>
                    <a:pt x="398" y="254"/>
                  </a:lnTo>
                  <a:lnTo>
                    <a:pt x="398" y="246"/>
                  </a:lnTo>
                  <a:lnTo>
                    <a:pt x="406" y="246"/>
                  </a:lnTo>
                  <a:lnTo>
                    <a:pt x="406" y="238"/>
                  </a:lnTo>
                  <a:lnTo>
                    <a:pt x="414" y="230"/>
                  </a:lnTo>
                  <a:lnTo>
                    <a:pt x="414" y="222"/>
                  </a:lnTo>
                  <a:lnTo>
                    <a:pt x="414" y="214"/>
                  </a:lnTo>
                  <a:lnTo>
                    <a:pt x="422" y="214"/>
                  </a:lnTo>
                  <a:lnTo>
                    <a:pt x="422" y="206"/>
                  </a:lnTo>
                  <a:lnTo>
                    <a:pt x="422" y="198"/>
                  </a:lnTo>
                  <a:lnTo>
                    <a:pt x="422" y="190"/>
                  </a:lnTo>
                  <a:lnTo>
                    <a:pt x="422" y="182"/>
                  </a:lnTo>
                  <a:lnTo>
                    <a:pt x="422" y="174"/>
                  </a:lnTo>
                  <a:lnTo>
                    <a:pt x="422" y="166"/>
                  </a:lnTo>
                  <a:lnTo>
                    <a:pt x="422" y="158"/>
                  </a:lnTo>
                  <a:lnTo>
                    <a:pt x="422" y="150"/>
                  </a:lnTo>
                  <a:lnTo>
                    <a:pt x="414" y="150"/>
                  </a:lnTo>
                  <a:lnTo>
                    <a:pt x="414" y="142"/>
                  </a:lnTo>
                  <a:lnTo>
                    <a:pt x="414" y="134"/>
                  </a:lnTo>
                  <a:lnTo>
                    <a:pt x="414" y="126"/>
                  </a:lnTo>
                  <a:lnTo>
                    <a:pt x="406" y="126"/>
                  </a:lnTo>
                  <a:lnTo>
                    <a:pt x="406" y="118"/>
                  </a:lnTo>
                  <a:lnTo>
                    <a:pt x="406" y="110"/>
                  </a:lnTo>
                  <a:lnTo>
                    <a:pt x="398" y="102"/>
                  </a:lnTo>
                  <a:lnTo>
                    <a:pt x="390" y="94"/>
                  </a:lnTo>
                  <a:lnTo>
                    <a:pt x="390" y="88"/>
                  </a:lnTo>
                  <a:lnTo>
                    <a:pt x="382" y="80"/>
                  </a:lnTo>
                  <a:lnTo>
                    <a:pt x="374" y="72"/>
                  </a:lnTo>
                  <a:lnTo>
                    <a:pt x="366" y="72"/>
                  </a:lnTo>
                  <a:lnTo>
                    <a:pt x="366" y="64"/>
                  </a:lnTo>
                  <a:lnTo>
                    <a:pt x="358" y="64"/>
                  </a:lnTo>
                  <a:lnTo>
                    <a:pt x="350" y="56"/>
                  </a:lnTo>
                  <a:lnTo>
                    <a:pt x="342" y="56"/>
                  </a:lnTo>
                  <a:lnTo>
                    <a:pt x="342" y="48"/>
                  </a:lnTo>
                  <a:lnTo>
                    <a:pt x="334" y="48"/>
                  </a:lnTo>
                  <a:lnTo>
                    <a:pt x="326" y="48"/>
                  </a:lnTo>
                  <a:lnTo>
                    <a:pt x="318" y="48"/>
                  </a:lnTo>
                  <a:lnTo>
                    <a:pt x="310" y="40"/>
                  </a:lnTo>
                  <a:lnTo>
                    <a:pt x="302" y="40"/>
                  </a:lnTo>
                  <a:lnTo>
                    <a:pt x="294" y="40"/>
                  </a:lnTo>
                  <a:lnTo>
                    <a:pt x="286" y="40"/>
                  </a:lnTo>
                  <a:lnTo>
                    <a:pt x="278" y="40"/>
                  </a:lnTo>
                  <a:lnTo>
                    <a:pt x="270" y="40"/>
                  </a:lnTo>
                  <a:lnTo>
                    <a:pt x="262" y="40"/>
                  </a:lnTo>
                  <a:lnTo>
                    <a:pt x="254" y="40"/>
                  </a:lnTo>
                  <a:lnTo>
                    <a:pt x="246" y="40"/>
                  </a:lnTo>
                  <a:lnTo>
                    <a:pt x="238" y="40"/>
                  </a:lnTo>
                  <a:lnTo>
                    <a:pt x="230" y="40"/>
                  </a:lnTo>
                  <a:lnTo>
                    <a:pt x="222" y="48"/>
                  </a:lnTo>
                  <a:lnTo>
                    <a:pt x="214" y="48"/>
                  </a:lnTo>
                  <a:lnTo>
                    <a:pt x="208" y="48"/>
                  </a:lnTo>
                  <a:lnTo>
                    <a:pt x="200" y="48"/>
                  </a:lnTo>
                  <a:lnTo>
                    <a:pt x="192" y="56"/>
                  </a:lnTo>
                  <a:lnTo>
                    <a:pt x="184" y="56"/>
                  </a:lnTo>
                  <a:lnTo>
                    <a:pt x="176" y="64"/>
                  </a:lnTo>
                  <a:lnTo>
                    <a:pt x="168" y="72"/>
                  </a:lnTo>
                  <a:lnTo>
                    <a:pt x="160" y="72"/>
                  </a:lnTo>
                  <a:lnTo>
                    <a:pt x="152" y="80"/>
                  </a:lnTo>
                  <a:lnTo>
                    <a:pt x="144" y="80"/>
                  </a:lnTo>
                  <a:lnTo>
                    <a:pt x="144" y="88"/>
                  </a:lnTo>
                  <a:lnTo>
                    <a:pt x="136" y="88"/>
                  </a:lnTo>
                  <a:lnTo>
                    <a:pt x="136" y="94"/>
                  </a:lnTo>
                  <a:lnTo>
                    <a:pt x="128" y="94"/>
                  </a:lnTo>
                  <a:lnTo>
                    <a:pt x="120" y="102"/>
                  </a:lnTo>
                  <a:lnTo>
                    <a:pt x="112" y="110"/>
                  </a:lnTo>
                  <a:lnTo>
                    <a:pt x="104" y="110"/>
                  </a:lnTo>
                  <a:lnTo>
                    <a:pt x="104" y="118"/>
                  </a:lnTo>
                  <a:lnTo>
                    <a:pt x="96" y="126"/>
                  </a:lnTo>
                  <a:lnTo>
                    <a:pt x="88" y="134"/>
                  </a:lnTo>
                  <a:lnTo>
                    <a:pt x="80" y="142"/>
                  </a:lnTo>
                  <a:lnTo>
                    <a:pt x="72" y="150"/>
                  </a:lnTo>
                  <a:lnTo>
                    <a:pt x="72" y="158"/>
                  </a:lnTo>
                  <a:lnTo>
                    <a:pt x="64" y="166"/>
                  </a:lnTo>
                  <a:lnTo>
                    <a:pt x="64" y="174"/>
                  </a:lnTo>
                  <a:lnTo>
                    <a:pt x="56" y="182"/>
                  </a:lnTo>
                  <a:lnTo>
                    <a:pt x="56" y="190"/>
                  </a:lnTo>
                  <a:lnTo>
                    <a:pt x="56" y="198"/>
                  </a:lnTo>
                  <a:lnTo>
                    <a:pt x="48" y="206"/>
                  </a:lnTo>
                  <a:lnTo>
                    <a:pt x="48" y="214"/>
                  </a:lnTo>
                  <a:lnTo>
                    <a:pt x="48" y="222"/>
                  </a:lnTo>
                  <a:lnTo>
                    <a:pt x="48" y="238"/>
                  </a:lnTo>
                  <a:lnTo>
                    <a:pt x="40" y="246"/>
                  </a:lnTo>
                  <a:lnTo>
                    <a:pt x="40" y="254"/>
                  </a:lnTo>
                  <a:lnTo>
                    <a:pt x="40" y="270"/>
                  </a:lnTo>
                  <a:lnTo>
                    <a:pt x="40" y="278"/>
                  </a:lnTo>
                  <a:lnTo>
                    <a:pt x="40" y="294"/>
                  </a:lnTo>
                  <a:lnTo>
                    <a:pt x="48" y="302"/>
                  </a:lnTo>
                  <a:lnTo>
                    <a:pt x="48" y="316"/>
                  </a:lnTo>
                  <a:lnTo>
                    <a:pt x="48" y="324"/>
                  </a:lnTo>
                  <a:lnTo>
                    <a:pt x="56" y="332"/>
                  </a:lnTo>
                  <a:lnTo>
                    <a:pt x="56" y="348"/>
                  </a:lnTo>
                  <a:lnTo>
                    <a:pt x="64" y="356"/>
                  </a:lnTo>
                  <a:lnTo>
                    <a:pt x="64" y="372"/>
                  </a:lnTo>
                  <a:lnTo>
                    <a:pt x="72" y="380"/>
                  </a:lnTo>
                  <a:lnTo>
                    <a:pt x="80" y="388"/>
                  </a:lnTo>
                  <a:lnTo>
                    <a:pt x="88" y="404"/>
                  </a:lnTo>
                  <a:lnTo>
                    <a:pt x="96" y="412"/>
                  </a:lnTo>
                  <a:lnTo>
                    <a:pt x="96" y="420"/>
                  </a:lnTo>
                  <a:lnTo>
                    <a:pt x="104" y="428"/>
                  </a:lnTo>
                  <a:lnTo>
                    <a:pt x="112" y="444"/>
                  </a:lnTo>
                  <a:lnTo>
                    <a:pt x="120" y="452"/>
                  </a:lnTo>
                  <a:lnTo>
                    <a:pt x="128" y="460"/>
                  </a:lnTo>
                  <a:lnTo>
                    <a:pt x="136" y="468"/>
                  </a:lnTo>
                  <a:lnTo>
                    <a:pt x="152" y="476"/>
                  </a:lnTo>
                  <a:lnTo>
                    <a:pt x="160" y="492"/>
                  </a:lnTo>
                  <a:lnTo>
                    <a:pt x="168" y="500"/>
                  </a:lnTo>
                  <a:lnTo>
                    <a:pt x="176" y="508"/>
                  </a:lnTo>
                  <a:lnTo>
                    <a:pt x="184" y="516"/>
                  </a:lnTo>
                  <a:lnTo>
                    <a:pt x="192" y="516"/>
                  </a:lnTo>
                  <a:lnTo>
                    <a:pt x="208" y="522"/>
                  </a:lnTo>
                  <a:lnTo>
                    <a:pt x="214" y="530"/>
                  </a:lnTo>
                  <a:lnTo>
                    <a:pt x="222" y="538"/>
                  </a:lnTo>
                  <a:lnTo>
                    <a:pt x="230" y="546"/>
                  </a:lnTo>
                  <a:lnTo>
                    <a:pt x="238" y="546"/>
                  </a:lnTo>
                  <a:lnTo>
                    <a:pt x="246" y="554"/>
                  </a:lnTo>
                  <a:lnTo>
                    <a:pt x="254" y="554"/>
                  </a:lnTo>
                  <a:lnTo>
                    <a:pt x="262" y="562"/>
                  </a:lnTo>
                  <a:lnTo>
                    <a:pt x="270" y="562"/>
                  </a:lnTo>
                  <a:lnTo>
                    <a:pt x="278" y="570"/>
                  </a:lnTo>
                  <a:lnTo>
                    <a:pt x="286" y="578"/>
                  </a:lnTo>
                  <a:lnTo>
                    <a:pt x="294" y="578"/>
                  </a:lnTo>
                  <a:lnTo>
                    <a:pt x="302" y="586"/>
                  </a:lnTo>
                  <a:lnTo>
                    <a:pt x="310" y="594"/>
                  </a:lnTo>
                  <a:lnTo>
                    <a:pt x="318" y="594"/>
                  </a:lnTo>
                  <a:lnTo>
                    <a:pt x="326" y="602"/>
                  </a:lnTo>
                  <a:lnTo>
                    <a:pt x="334" y="610"/>
                  </a:lnTo>
                  <a:lnTo>
                    <a:pt x="342" y="618"/>
                  </a:lnTo>
                  <a:lnTo>
                    <a:pt x="350" y="626"/>
                  </a:lnTo>
                  <a:lnTo>
                    <a:pt x="366" y="634"/>
                  </a:lnTo>
                  <a:lnTo>
                    <a:pt x="374" y="642"/>
                  </a:lnTo>
                  <a:lnTo>
                    <a:pt x="382" y="650"/>
                  </a:lnTo>
                  <a:lnTo>
                    <a:pt x="390" y="658"/>
                  </a:lnTo>
                  <a:lnTo>
                    <a:pt x="398" y="666"/>
                  </a:lnTo>
                  <a:lnTo>
                    <a:pt x="406" y="674"/>
                  </a:lnTo>
                  <a:lnTo>
                    <a:pt x="414" y="682"/>
                  </a:lnTo>
                  <a:lnTo>
                    <a:pt x="422" y="690"/>
                  </a:lnTo>
                  <a:lnTo>
                    <a:pt x="430" y="698"/>
                  </a:lnTo>
                  <a:lnTo>
                    <a:pt x="430" y="706"/>
                  </a:lnTo>
                  <a:lnTo>
                    <a:pt x="436" y="714"/>
                  </a:lnTo>
                  <a:lnTo>
                    <a:pt x="444" y="722"/>
                  </a:lnTo>
                  <a:lnTo>
                    <a:pt x="444" y="738"/>
                  </a:lnTo>
                  <a:lnTo>
                    <a:pt x="452" y="744"/>
                  </a:lnTo>
                  <a:lnTo>
                    <a:pt x="460" y="752"/>
                  </a:lnTo>
                  <a:lnTo>
                    <a:pt x="460" y="760"/>
                  </a:lnTo>
                  <a:lnTo>
                    <a:pt x="460" y="776"/>
                  </a:lnTo>
                  <a:lnTo>
                    <a:pt x="468" y="776"/>
                  </a:lnTo>
                  <a:lnTo>
                    <a:pt x="468" y="784"/>
                  </a:lnTo>
                  <a:lnTo>
                    <a:pt x="468" y="792"/>
                  </a:lnTo>
                  <a:lnTo>
                    <a:pt x="468" y="800"/>
                  </a:lnTo>
                  <a:lnTo>
                    <a:pt x="468" y="808"/>
                  </a:lnTo>
                  <a:lnTo>
                    <a:pt x="468" y="816"/>
                  </a:lnTo>
                  <a:lnTo>
                    <a:pt x="468" y="824"/>
                  </a:lnTo>
                  <a:lnTo>
                    <a:pt x="476" y="832"/>
                  </a:lnTo>
                  <a:lnTo>
                    <a:pt x="476" y="840"/>
                  </a:lnTo>
                  <a:lnTo>
                    <a:pt x="476" y="848"/>
                  </a:lnTo>
                  <a:lnTo>
                    <a:pt x="476" y="856"/>
                  </a:lnTo>
                  <a:lnTo>
                    <a:pt x="476" y="864"/>
                  </a:lnTo>
                  <a:lnTo>
                    <a:pt x="468" y="872"/>
                  </a:lnTo>
                  <a:lnTo>
                    <a:pt x="468" y="880"/>
                  </a:lnTo>
                  <a:lnTo>
                    <a:pt x="468" y="888"/>
                  </a:lnTo>
                  <a:lnTo>
                    <a:pt x="468" y="896"/>
                  </a:lnTo>
                  <a:lnTo>
                    <a:pt x="468" y="904"/>
                  </a:lnTo>
                  <a:lnTo>
                    <a:pt x="468" y="912"/>
                  </a:lnTo>
                  <a:lnTo>
                    <a:pt x="460" y="912"/>
                  </a:lnTo>
                  <a:lnTo>
                    <a:pt x="460" y="920"/>
                  </a:lnTo>
                  <a:lnTo>
                    <a:pt x="460" y="928"/>
                  </a:lnTo>
                  <a:lnTo>
                    <a:pt x="452" y="936"/>
                  </a:lnTo>
                  <a:lnTo>
                    <a:pt x="452" y="944"/>
                  </a:lnTo>
                  <a:lnTo>
                    <a:pt x="444" y="944"/>
                  </a:lnTo>
                  <a:lnTo>
                    <a:pt x="444" y="952"/>
                  </a:lnTo>
                  <a:lnTo>
                    <a:pt x="436" y="958"/>
                  </a:lnTo>
                  <a:lnTo>
                    <a:pt x="436" y="966"/>
                  </a:lnTo>
                  <a:lnTo>
                    <a:pt x="430" y="974"/>
                  </a:lnTo>
                  <a:lnTo>
                    <a:pt x="422" y="982"/>
                  </a:lnTo>
                  <a:lnTo>
                    <a:pt x="414" y="990"/>
                  </a:lnTo>
                  <a:lnTo>
                    <a:pt x="406" y="990"/>
                  </a:lnTo>
                  <a:lnTo>
                    <a:pt x="406" y="998"/>
                  </a:lnTo>
                  <a:lnTo>
                    <a:pt x="398" y="1006"/>
                  </a:lnTo>
                  <a:lnTo>
                    <a:pt x="390" y="1006"/>
                  </a:lnTo>
                  <a:lnTo>
                    <a:pt x="382" y="1014"/>
                  </a:lnTo>
                  <a:lnTo>
                    <a:pt x="374" y="1014"/>
                  </a:lnTo>
                  <a:lnTo>
                    <a:pt x="374" y="1022"/>
                  </a:lnTo>
                  <a:lnTo>
                    <a:pt x="366" y="1022"/>
                  </a:lnTo>
                  <a:lnTo>
                    <a:pt x="358" y="1030"/>
                  </a:lnTo>
                  <a:lnTo>
                    <a:pt x="350" y="1030"/>
                  </a:lnTo>
                  <a:lnTo>
                    <a:pt x="342" y="1030"/>
                  </a:lnTo>
                  <a:lnTo>
                    <a:pt x="342" y="1038"/>
                  </a:lnTo>
                  <a:lnTo>
                    <a:pt x="334" y="1038"/>
                  </a:lnTo>
                  <a:lnTo>
                    <a:pt x="326" y="1038"/>
                  </a:lnTo>
                  <a:lnTo>
                    <a:pt x="318" y="1038"/>
                  </a:lnTo>
                  <a:lnTo>
                    <a:pt x="310" y="1038"/>
                  </a:lnTo>
                  <a:lnTo>
                    <a:pt x="302" y="1038"/>
                  </a:lnTo>
                  <a:lnTo>
                    <a:pt x="294" y="1038"/>
                  </a:lnTo>
                  <a:lnTo>
                    <a:pt x="286" y="1038"/>
                  </a:lnTo>
                  <a:lnTo>
                    <a:pt x="278" y="1038"/>
                  </a:lnTo>
                  <a:lnTo>
                    <a:pt x="270" y="1038"/>
                  </a:lnTo>
                  <a:lnTo>
                    <a:pt x="262" y="1038"/>
                  </a:lnTo>
                  <a:lnTo>
                    <a:pt x="254" y="1038"/>
                  </a:lnTo>
                  <a:lnTo>
                    <a:pt x="246" y="1038"/>
                  </a:lnTo>
                  <a:lnTo>
                    <a:pt x="238" y="1038"/>
                  </a:lnTo>
                  <a:lnTo>
                    <a:pt x="230" y="1038"/>
                  </a:lnTo>
                  <a:lnTo>
                    <a:pt x="222" y="1030"/>
                  </a:lnTo>
                  <a:lnTo>
                    <a:pt x="214" y="1030"/>
                  </a:lnTo>
                  <a:lnTo>
                    <a:pt x="208" y="1030"/>
                  </a:lnTo>
                  <a:lnTo>
                    <a:pt x="200" y="1022"/>
                  </a:lnTo>
                  <a:lnTo>
                    <a:pt x="192" y="1022"/>
                  </a:lnTo>
                  <a:lnTo>
                    <a:pt x="192" y="1014"/>
                  </a:lnTo>
                  <a:lnTo>
                    <a:pt x="184" y="1014"/>
                  </a:lnTo>
                  <a:lnTo>
                    <a:pt x="176" y="1014"/>
                  </a:lnTo>
                  <a:lnTo>
                    <a:pt x="176" y="1006"/>
                  </a:lnTo>
                  <a:lnTo>
                    <a:pt x="168" y="1006"/>
                  </a:lnTo>
                  <a:lnTo>
                    <a:pt x="168" y="998"/>
                  </a:lnTo>
                  <a:lnTo>
                    <a:pt x="160" y="998"/>
                  </a:lnTo>
                  <a:lnTo>
                    <a:pt x="152" y="990"/>
                  </a:lnTo>
                  <a:lnTo>
                    <a:pt x="144" y="982"/>
                  </a:lnTo>
                  <a:lnTo>
                    <a:pt x="136" y="974"/>
                  </a:lnTo>
                  <a:lnTo>
                    <a:pt x="128" y="966"/>
                  </a:lnTo>
                  <a:lnTo>
                    <a:pt x="128" y="958"/>
                  </a:lnTo>
                  <a:lnTo>
                    <a:pt x="120" y="958"/>
                  </a:lnTo>
                  <a:lnTo>
                    <a:pt x="120" y="952"/>
                  </a:lnTo>
                  <a:lnTo>
                    <a:pt x="112" y="952"/>
                  </a:lnTo>
                  <a:lnTo>
                    <a:pt x="112" y="944"/>
                  </a:lnTo>
                  <a:lnTo>
                    <a:pt x="112" y="936"/>
                  </a:lnTo>
                  <a:lnTo>
                    <a:pt x="104" y="936"/>
                  </a:lnTo>
                  <a:lnTo>
                    <a:pt x="104" y="928"/>
                  </a:lnTo>
                  <a:lnTo>
                    <a:pt x="104" y="920"/>
                  </a:lnTo>
                  <a:lnTo>
                    <a:pt x="96" y="912"/>
                  </a:lnTo>
                  <a:lnTo>
                    <a:pt x="96" y="904"/>
                  </a:lnTo>
                  <a:lnTo>
                    <a:pt x="96" y="896"/>
                  </a:lnTo>
                  <a:lnTo>
                    <a:pt x="96" y="888"/>
                  </a:lnTo>
                  <a:lnTo>
                    <a:pt x="96" y="880"/>
                  </a:lnTo>
                  <a:lnTo>
                    <a:pt x="96" y="872"/>
                  </a:lnTo>
                  <a:lnTo>
                    <a:pt x="96" y="864"/>
                  </a:lnTo>
                  <a:lnTo>
                    <a:pt x="96" y="856"/>
                  </a:lnTo>
                  <a:lnTo>
                    <a:pt x="96" y="848"/>
                  </a:lnTo>
                  <a:lnTo>
                    <a:pt x="96" y="840"/>
                  </a:lnTo>
                  <a:lnTo>
                    <a:pt x="104" y="832"/>
                  </a:lnTo>
                  <a:lnTo>
                    <a:pt x="104" y="824"/>
                  </a:lnTo>
                  <a:lnTo>
                    <a:pt x="104" y="816"/>
                  </a:lnTo>
                  <a:lnTo>
                    <a:pt x="112" y="808"/>
                  </a:lnTo>
                  <a:lnTo>
                    <a:pt x="112" y="800"/>
                  </a:lnTo>
                  <a:lnTo>
                    <a:pt x="120" y="792"/>
                  </a:lnTo>
                  <a:lnTo>
                    <a:pt x="120" y="784"/>
                  </a:lnTo>
                  <a:lnTo>
                    <a:pt x="128" y="776"/>
                  </a:lnTo>
                  <a:lnTo>
                    <a:pt x="128" y="768"/>
                  </a:lnTo>
                  <a:lnTo>
                    <a:pt x="136" y="768"/>
                  </a:lnTo>
                  <a:lnTo>
                    <a:pt x="144" y="760"/>
                  </a:lnTo>
                  <a:lnTo>
                    <a:pt x="152" y="752"/>
                  </a:lnTo>
                  <a:lnTo>
                    <a:pt x="160" y="744"/>
                  </a:lnTo>
                  <a:lnTo>
                    <a:pt x="168" y="744"/>
                  </a:lnTo>
                  <a:lnTo>
                    <a:pt x="168" y="738"/>
                  </a:lnTo>
                  <a:lnTo>
                    <a:pt x="176" y="738"/>
                  </a:lnTo>
                  <a:lnTo>
                    <a:pt x="184" y="738"/>
                  </a:lnTo>
                  <a:lnTo>
                    <a:pt x="192" y="730"/>
                  </a:lnTo>
                  <a:lnTo>
                    <a:pt x="200" y="730"/>
                  </a:lnTo>
                  <a:lnTo>
                    <a:pt x="208" y="730"/>
                  </a:lnTo>
                  <a:lnTo>
                    <a:pt x="214" y="722"/>
                  </a:lnTo>
                  <a:lnTo>
                    <a:pt x="222" y="722"/>
                  </a:lnTo>
                  <a:lnTo>
                    <a:pt x="230" y="722"/>
                  </a:lnTo>
                  <a:lnTo>
                    <a:pt x="238" y="722"/>
                  </a:lnTo>
                  <a:lnTo>
                    <a:pt x="246" y="722"/>
                  </a:lnTo>
                  <a:lnTo>
                    <a:pt x="254" y="722"/>
                  </a:lnTo>
                  <a:lnTo>
                    <a:pt x="262" y="722"/>
                  </a:lnTo>
                  <a:lnTo>
                    <a:pt x="270" y="722"/>
                  </a:lnTo>
                  <a:lnTo>
                    <a:pt x="278" y="722"/>
                  </a:lnTo>
                  <a:lnTo>
                    <a:pt x="286" y="730"/>
                  </a:lnTo>
                  <a:lnTo>
                    <a:pt x="294" y="730"/>
                  </a:lnTo>
                  <a:lnTo>
                    <a:pt x="302" y="730"/>
                  </a:lnTo>
                  <a:lnTo>
                    <a:pt x="310" y="738"/>
                  </a:lnTo>
                  <a:lnTo>
                    <a:pt x="318" y="738"/>
                  </a:lnTo>
                  <a:lnTo>
                    <a:pt x="318" y="744"/>
                  </a:lnTo>
                  <a:lnTo>
                    <a:pt x="326" y="744"/>
                  </a:lnTo>
                  <a:lnTo>
                    <a:pt x="334" y="752"/>
                  </a:lnTo>
                  <a:lnTo>
                    <a:pt x="342" y="760"/>
                  </a:lnTo>
                  <a:lnTo>
                    <a:pt x="350" y="768"/>
                  </a:lnTo>
                  <a:lnTo>
                    <a:pt x="358" y="776"/>
                  </a:lnTo>
                  <a:lnTo>
                    <a:pt x="358" y="784"/>
                  </a:lnTo>
                  <a:lnTo>
                    <a:pt x="366" y="784"/>
                  </a:lnTo>
                  <a:lnTo>
                    <a:pt x="366" y="792"/>
                  </a:lnTo>
                  <a:lnTo>
                    <a:pt x="374" y="800"/>
                  </a:lnTo>
                  <a:lnTo>
                    <a:pt x="374" y="808"/>
                  </a:lnTo>
                  <a:lnTo>
                    <a:pt x="382" y="816"/>
                  </a:lnTo>
                  <a:lnTo>
                    <a:pt x="382" y="824"/>
                  </a:lnTo>
                  <a:lnTo>
                    <a:pt x="382" y="832"/>
                  </a:lnTo>
                  <a:lnTo>
                    <a:pt x="382" y="840"/>
                  </a:lnTo>
                  <a:lnTo>
                    <a:pt x="382" y="848"/>
                  </a:lnTo>
                  <a:lnTo>
                    <a:pt x="382" y="856"/>
                  </a:lnTo>
                  <a:lnTo>
                    <a:pt x="382" y="864"/>
                  </a:lnTo>
                  <a:lnTo>
                    <a:pt x="382" y="872"/>
                  </a:lnTo>
                  <a:lnTo>
                    <a:pt x="382" y="880"/>
                  </a:lnTo>
                  <a:lnTo>
                    <a:pt x="382" y="888"/>
                  </a:lnTo>
                  <a:lnTo>
                    <a:pt x="382" y="896"/>
                  </a:lnTo>
                  <a:lnTo>
                    <a:pt x="374" y="896"/>
                  </a:lnTo>
                  <a:lnTo>
                    <a:pt x="374" y="904"/>
                  </a:lnTo>
                  <a:lnTo>
                    <a:pt x="374" y="912"/>
                  </a:lnTo>
                  <a:lnTo>
                    <a:pt x="366" y="912"/>
                  </a:lnTo>
                  <a:lnTo>
                    <a:pt x="366" y="920"/>
                  </a:lnTo>
                  <a:lnTo>
                    <a:pt x="358" y="928"/>
                  </a:lnTo>
                  <a:lnTo>
                    <a:pt x="358" y="936"/>
                  </a:lnTo>
                  <a:lnTo>
                    <a:pt x="350" y="936"/>
                  </a:lnTo>
                  <a:lnTo>
                    <a:pt x="350" y="944"/>
                  </a:lnTo>
                  <a:lnTo>
                    <a:pt x="342" y="944"/>
                  </a:lnTo>
                  <a:lnTo>
                    <a:pt x="342" y="952"/>
                  </a:lnTo>
                  <a:lnTo>
                    <a:pt x="334" y="952"/>
                  </a:lnTo>
                  <a:lnTo>
                    <a:pt x="326" y="958"/>
                  </a:lnTo>
                  <a:lnTo>
                    <a:pt x="318" y="958"/>
                  </a:lnTo>
                  <a:lnTo>
                    <a:pt x="310" y="966"/>
                  </a:lnTo>
                  <a:lnTo>
                    <a:pt x="302" y="966"/>
                  </a:lnTo>
                  <a:lnTo>
                    <a:pt x="294" y="966"/>
                  </a:lnTo>
                  <a:lnTo>
                    <a:pt x="286" y="966"/>
                  </a:lnTo>
                  <a:lnTo>
                    <a:pt x="278" y="966"/>
                  </a:lnTo>
                  <a:lnTo>
                    <a:pt x="270" y="966"/>
                  </a:lnTo>
                  <a:lnTo>
                    <a:pt x="262" y="966"/>
                  </a:lnTo>
                  <a:lnTo>
                    <a:pt x="254" y="966"/>
                  </a:lnTo>
                  <a:lnTo>
                    <a:pt x="254" y="958"/>
                  </a:lnTo>
                  <a:lnTo>
                    <a:pt x="246" y="958"/>
                  </a:lnTo>
                  <a:lnTo>
                    <a:pt x="238" y="958"/>
                  </a:lnTo>
                  <a:lnTo>
                    <a:pt x="238" y="952"/>
                  </a:lnTo>
                  <a:lnTo>
                    <a:pt x="230" y="952"/>
                  </a:lnTo>
                  <a:lnTo>
                    <a:pt x="222" y="944"/>
                  </a:lnTo>
                  <a:lnTo>
                    <a:pt x="214" y="944"/>
                  </a:lnTo>
                  <a:lnTo>
                    <a:pt x="214" y="936"/>
                  </a:lnTo>
                  <a:lnTo>
                    <a:pt x="208" y="936"/>
                  </a:lnTo>
                  <a:lnTo>
                    <a:pt x="208" y="928"/>
                  </a:lnTo>
                  <a:lnTo>
                    <a:pt x="200" y="928"/>
                  </a:lnTo>
                  <a:lnTo>
                    <a:pt x="200" y="920"/>
                  </a:lnTo>
                  <a:lnTo>
                    <a:pt x="200" y="912"/>
                  </a:lnTo>
                  <a:lnTo>
                    <a:pt x="200" y="904"/>
                  </a:lnTo>
                  <a:lnTo>
                    <a:pt x="192" y="904"/>
                  </a:lnTo>
                  <a:lnTo>
                    <a:pt x="192" y="896"/>
                  </a:lnTo>
                  <a:lnTo>
                    <a:pt x="192" y="888"/>
                  </a:lnTo>
                  <a:lnTo>
                    <a:pt x="192" y="880"/>
                  </a:lnTo>
                  <a:lnTo>
                    <a:pt x="192" y="872"/>
                  </a:lnTo>
                  <a:lnTo>
                    <a:pt x="200" y="872"/>
                  </a:lnTo>
                  <a:lnTo>
                    <a:pt x="200" y="864"/>
                  </a:lnTo>
                  <a:lnTo>
                    <a:pt x="200" y="856"/>
                  </a:lnTo>
                  <a:lnTo>
                    <a:pt x="208" y="848"/>
                  </a:lnTo>
                  <a:lnTo>
                    <a:pt x="208" y="840"/>
                  </a:lnTo>
                  <a:lnTo>
                    <a:pt x="214" y="840"/>
                  </a:lnTo>
                  <a:lnTo>
                    <a:pt x="214" y="832"/>
                  </a:lnTo>
                  <a:lnTo>
                    <a:pt x="222" y="832"/>
                  </a:lnTo>
                  <a:lnTo>
                    <a:pt x="230" y="824"/>
                  </a:lnTo>
                  <a:lnTo>
                    <a:pt x="238" y="824"/>
                  </a:lnTo>
                  <a:lnTo>
                    <a:pt x="246" y="824"/>
                  </a:lnTo>
                  <a:lnTo>
                    <a:pt x="254" y="824"/>
                  </a:lnTo>
                  <a:lnTo>
                    <a:pt x="262" y="824"/>
                  </a:lnTo>
                  <a:lnTo>
                    <a:pt x="270" y="824"/>
                  </a:lnTo>
                  <a:lnTo>
                    <a:pt x="278" y="824"/>
                  </a:lnTo>
                  <a:lnTo>
                    <a:pt x="286" y="832"/>
                  </a:lnTo>
                  <a:lnTo>
                    <a:pt x="294" y="832"/>
                  </a:lnTo>
                  <a:lnTo>
                    <a:pt x="302" y="840"/>
                  </a:lnTo>
                  <a:lnTo>
                    <a:pt x="278" y="872"/>
                  </a:lnTo>
                  <a:lnTo>
                    <a:pt x="278" y="864"/>
                  </a:lnTo>
                  <a:lnTo>
                    <a:pt x="270" y="864"/>
                  </a:lnTo>
                  <a:lnTo>
                    <a:pt x="262" y="864"/>
                  </a:lnTo>
                  <a:lnTo>
                    <a:pt x="262" y="856"/>
                  </a:lnTo>
                  <a:lnTo>
                    <a:pt x="254" y="856"/>
                  </a:lnTo>
                  <a:lnTo>
                    <a:pt x="246" y="856"/>
                  </a:lnTo>
                  <a:lnTo>
                    <a:pt x="246" y="864"/>
                  </a:lnTo>
                  <a:lnTo>
                    <a:pt x="238" y="864"/>
                  </a:lnTo>
                  <a:lnTo>
                    <a:pt x="238" y="872"/>
                  </a:lnTo>
                  <a:lnTo>
                    <a:pt x="230" y="872"/>
                  </a:lnTo>
                  <a:lnTo>
                    <a:pt x="230" y="880"/>
                  </a:lnTo>
                  <a:lnTo>
                    <a:pt x="230" y="888"/>
                  </a:lnTo>
                  <a:lnTo>
                    <a:pt x="230" y="896"/>
                  </a:lnTo>
                  <a:lnTo>
                    <a:pt x="230" y="904"/>
                  </a:lnTo>
                  <a:lnTo>
                    <a:pt x="238" y="904"/>
                  </a:lnTo>
                  <a:lnTo>
                    <a:pt x="238" y="912"/>
                  </a:lnTo>
                  <a:lnTo>
                    <a:pt x="246" y="912"/>
                  </a:lnTo>
                  <a:lnTo>
                    <a:pt x="246" y="920"/>
                  </a:lnTo>
                  <a:lnTo>
                    <a:pt x="254" y="920"/>
                  </a:lnTo>
                  <a:lnTo>
                    <a:pt x="254" y="928"/>
                  </a:lnTo>
                  <a:lnTo>
                    <a:pt x="262" y="928"/>
                  </a:lnTo>
                  <a:lnTo>
                    <a:pt x="270" y="928"/>
                  </a:lnTo>
                  <a:lnTo>
                    <a:pt x="278" y="928"/>
                  </a:lnTo>
                  <a:lnTo>
                    <a:pt x="286" y="928"/>
                  </a:lnTo>
                  <a:lnTo>
                    <a:pt x="294" y="928"/>
                  </a:lnTo>
                  <a:lnTo>
                    <a:pt x="302" y="928"/>
                  </a:lnTo>
                  <a:lnTo>
                    <a:pt x="310" y="928"/>
                  </a:lnTo>
                  <a:lnTo>
                    <a:pt x="310" y="920"/>
                  </a:lnTo>
                  <a:lnTo>
                    <a:pt x="318" y="920"/>
                  </a:lnTo>
                  <a:lnTo>
                    <a:pt x="318" y="912"/>
                  </a:lnTo>
                  <a:lnTo>
                    <a:pt x="326" y="912"/>
                  </a:lnTo>
                  <a:lnTo>
                    <a:pt x="326" y="904"/>
                  </a:lnTo>
                  <a:lnTo>
                    <a:pt x="334" y="904"/>
                  </a:lnTo>
                  <a:lnTo>
                    <a:pt x="334" y="896"/>
                  </a:lnTo>
                  <a:lnTo>
                    <a:pt x="334" y="888"/>
                  </a:lnTo>
                  <a:lnTo>
                    <a:pt x="342" y="888"/>
                  </a:lnTo>
                  <a:lnTo>
                    <a:pt x="342" y="880"/>
                  </a:lnTo>
                  <a:lnTo>
                    <a:pt x="342" y="872"/>
                  </a:lnTo>
                  <a:lnTo>
                    <a:pt x="342" y="864"/>
                  </a:lnTo>
                  <a:lnTo>
                    <a:pt x="350" y="864"/>
                  </a:lnTo>
                  <a:lnTo>
                    <a:pt x="350" y="856"/>
                  </a:lnTo>
                  <a:lnTo>
                    <a:pt x="350" y="848"/>
                  </a:lnTo>
                  <a:lnTo>
                    <a:pt x="350" y="840"/>
                  </a:lnTo>
                  <a:lnTo>
                    <a:pt x="350" y="832"/>
                  </a:lnTo>
                  <a:lnTo>
                    <a:pt x="342" y="832"/>
                  </a:lnTo>
                  <a:lnTo>
                    <a:pt x="342" y="824"/>
                  </a:lnTo>
                  <a:lnTo>
                    <a:pt x="342" y="816"/>
                  </a:lnTo>
                  <a:lnTo>
                    <a:pt x="334" y="816"/>
                  </a:lnTo>
                  <a:lnTo>
                    <a:pt x="334" y="808"/>
                  </a:lnTo>
                  <a:lnTo>
                    <a:pt x="334" y="800"/>
                  </a:lnTo>
                  <a:lnTo>
                    <a:pt x="326" y="800"/>
                  </a:lnTo>
                  <a:lnTo>
                    <a:pt x="326" y="792"/>
                  </a:lnTo>
                  <a:lnTo>
                    <a:pt x="318" y="792"/>
                  </a:lnTo>
                  <a:lnTo>
                    <a:pt x="318" y="784"/>
                  </a:lnTo>
                  <a:lnTo>
                    <a:pt x="310" y="784"/>
                  </a:lnTo>
                  <a:lnTo>
                    <a:pt x="310" y="776"/>
                  </a:lnTo>
                  <a:lnTo>
                    <a:pt x="302" y="776"/>
                  </a:lnTo>
                  <a:lnTo>
                    <a:pt x="294" y="768"/>
                  </a:lnTo>
                  <a:lnTo>
                    <a:pt x="286" y="768"/>
                  </a:lnTo>
                  <a:lnTo>
                    <a:pt x="286" y="760"/>
                  </a:lnTo>
                  <a:lnTo>
                    <a:pt x="278" y="760"/>
                  </a:lnTo>
                  <a:lnTo>
                    <a:pt x="270" y="760"/>
                  </a:lnTo>
                  <a:lnTo>
                    <a:pt x="262" y="760"/>
                  </a:lnTo>
                  <a:lnTo>
                    <a:pt x="254" y="760"/>
                  </a:lnTo>
                  <a:lnTo>
                    <a:pt x="254" y="752"/>
                  </a:lnTo>
                  <a:lnTo>
                    <a:pt x="246" y="752"/>
                  </a:lnTo>
                  <a:lnTo>
                    <a:pt x="238" y="760"/>
                  </a:lnTo>
                  <a:lnTo>
                    <a:pt x="230" y="760"/>
                  </a:lnTo>
                  <a:lnTo>
                    <a:pt x="222" y="760"/>
                  </a:lnTo>
                  <a:lnTo>
                    <a:pt x="214" y="760"/>
                  </a:lnTo>
                  <a:lnTo>
                    <a:pt x="208" y="760"/>
                  </a:lnTo>
                  <a:lnTo>
                    <a:pt x="208" y="768"/>
                  </a:lnTo>
                  <a:lnTo>
                    <a:pt x="200" y="768"/>
                  </a:lnTo>
                  <a:lnTo>
                    <a:pt x="192" y="768"/>
                  </a:lnTo>
                  <a:lnTo>
                    <a:pt x="192" y="776"/>
                  </a:lnTo>
                  <a:lnTo>
                    <a:pt x="184" y="776"/>
                  </a:lnTo>
                  <a:lnTo>
                    <a:pt x="176" y="776"/>
                  </a:lnTo>
                  <a:lnTo>
                    <a:pt x="176" y="784"/>
                  </a:lnTo>
                  <a:lnTo>
                    <a:pt x="168" y="784"/>
                  </a:lnTo>
                  <a:lnTo>
                    <a:pt x="168" y="792"/>
                  </a:lnTo>
                  <a:lnTo>
                    <a:pt x="160" y="800"/>
                  </a:lnTo>
                  <a:lnTo>
                    <a:pt x="152" y="808"/>
                  </a:lnTo>
                  <a:lnTo>
                    <a:pt x="152" y="816"/>
                  </a:lnTo>
                  <a:lnTo>
                    <a:pt x="144" y="816"/>
                  </a:lnTo>
                  <a:lnTo>
                    <a:pt x="144" y="824"/>
                  </a:lnTo>
                  <a:lnTo>
                    <a:pt x="144" y="832"/>
                  </a:lnTo>
                  <a:lnTo>
                    <a:pt x="136" y="840"/>
                  </a:lnTo>
                  <a:lnTo>
                    <a:pt x="136" y="848"/>
                  </a:lnTo>
                  <a:lnTo>
                    <a:pt x="136" y="856"/>
                  </a:lnTo>
                  <a:lnTo>
                    <a:pt x="136" y="864"/>
                  </a:lnTo>
                  <a:lnTo>
                    <a:pt x="136" y="872"/>
                  </a:lnTo>
                  <a:lnTo>
                    <a:pt x="136" y="880"/>
                  </a:lnTo>
                  <a:lnTo>
                    <a:pt x="136" y="888"/>
                  </a:lnTo>
                  <a:lnTo>
                    <a:pt x="136" y="896"/>
                  </a:lnTo>
                  <a:lnTo>
                    <a:pt x="136" y="904"/>
                  </a:lnTo>
                  <a:lnTo>
                    <a:pt x="136" y="912"/>
                  </a:lnTo>
                  <a:lnTo>
                    <a:pt x="136" y="920"/>
                  </a:lnTo>
                  <a:lnTo>
                    <a:pt x="144" y="920"/>
                  </a:lnTo>
                  <a:lnTo>
                    <a:pt x="144" y="928"/>
                  </a:lnTo>
                  <a:lnTo>
                    <a:pt x="152" y="936"/>
                  </a:lnTo>
                  <a:lnTo>
                    <a:pt x="152" y="944"/>
                  </a:lnTo>
                  <a:lnTo>
                    <a:pt x="160" y="944"/>
                  </a:lnTo>
                  <a:lnTo>
                    <a:pt x="160" y="952"/>
                  </a:lnTo>
                  <a:lnTo>
                    <a:pt x="168" y="952"/>
                  </a:lnTo>
                  <a:lnTo>
                    <a:pt x="168" y="958"/>
                  </a:lnTo>
                  <a:lnTo>
                    <a:pt x="176" y="958"/>
                  </a:lnTo>
                  <a:lnTo>
                    <a:pt x="176" y="966"/>
                  </a:lnTo>
                  <a:lnTo>
                    <a:pt x="184" y="966"/>
                  </a:lnTo>
                  <a:lnTo>
                    <a:pt x="184" y="974"/>
                  </a:lnTo>
                  <a:lnTo>
                    <a:pt x="192" y="974"/>
                  </a:lnTo>
                  <a:lnTo>
                    <a:pt x="200" y="982"/>
                  </a:lnTo>
                  <a:lnTo>
                    <a:pt x="208" y="982"/>
                  </a:lnTo>
                  <a:lnTo>
                    <a:pt x="208" y="990"/>
                  </a:lnTo>
                  <a:lnTo>
                    <a:pt x="214" y="990"/>
                  </a:lnTo>
                  <a:lnTo>
                    <a:pt x="222" y="990"/>
                  </a:lnTo>
                  <a:lnTo>
                    <a:pt x="222" y="998"/>
                  </a:lnTo>
                  <a:lnTo>
                    <a:pt x="230" y="998"/>
                  </a:lnTo>
                  <a:lnTo>
                    <a:pt x="238" y="998"/>
                  </a:lnTo>
                  <a:lnTo>
                    <a:pt x="246" y="998"/>
                  </a:lnTo>
                  <a:lnTo>
                    <a:pt x="254" y="1006"/>
                  </a:lnTo>
                  <a:lnTo>
                    <a:pt x="262" y="1006"/>
                  </a:lnTo>
                  <a:lnTo>
                    <a:pt x="270" y="1006"/>
                  </a:lnTo>
                  <a:lnTo>
                    <a:pt x="278" y="1006"/>
                  </a:lnTo>
                  <a:lnTo>
                    <a:pt x="286" y="1006"/>
                  </a:lnTo>
                  <a:lnTo>
                    <a:pt x="294" y="1006"/>
                  </a:lnTo>
                  <a:lnTo>
                    <a:pt x="302" y="1006"/>
                  </a:lnTo>
                  <a:lnTo>
                    <a:pt x="310" y="1006"/>
                  </a:lnTo>
                  <a:lnTo>
                    <a:pt x="318" y="1006"/>
                  </a:lnTo>
                  <a:lnTo>
                    <a:pt x="318" y="998"/>
                  </a:lnTo>
                  <a:lnTo>
                    <a:pt x="326" y="998"/>
                  </a:lnTo>
                  <a:lnTo>
                    <a:pt x="334" y="998"/>
                  </a:lnTo>
                  <a:lnTo>
                    <a:pt x="342" y="998"/>
                  </a:lnTo>
                  <a:lnTo>
                    <a:pt x="342" y="990"/>
                  </a:lnTo>
                  <a:lnTo>
                    <a:pt x="350" y="990"/>
                  </a:lnTo>
                  <a:lnTo>
                    <a:pt x="358" y="990"/>
                  </a:lnTo>
                  <a:lnTo>
                    <a:pt x="358" y="982"/>
                  </a:lnTo>
                  <a:lnTo>
                    <a:pt x="366" y="982"/>
                  </a:lnTo>
                  <a:lnTo>
                    <a:pt x="374" y="982"/>
                  </a:lnTo>
                  <a:lnTo>
                    <a:pt x="374" y="974"/>
                  </a:lnTo>
                  <a:lnTo>
                    <a:pt x="382" y="974"/>
                  </a:lnTo>
                  <a:lnTo>
                    <a:pt x="390" y="966"/>
                  </a:lnTo>
                  <a:lnTo>
                    <a:pt x="390" y="958"/>
                  </a:lnTo>
                  <a:lnTo>
                    <a:pt x="398" y="958"/>
                  </a:lnTo>
                  <a:lnTo>
                    <a:pt x="398" y="952"/>
                  </a:lnTo>
                  <a:lnTo>
                    <a:pt x="406" y="944"/>
                  </a:lnTo>
                  <a:lnTo>
                    <a:pt x="414" y="936"/>
                  </a:lnTo>
                  <a:lnTo>
                    <a:pt x="414" y="928"/>
                  </a:lnTo>
                  <a:lnTo>
                    <a:pt x="422" y="928"/>
                  </a:lnTo>
                  <a:lnTo>
                    <a:pt x="422" y="920"/>
                  </a:lnTo>
                  <a:lnTo>
                    <a:pt x="422" y="912"/>
                  </a:lnTo>
                  <a:lnTo>
                    <a:pt x="430" y="912"/>
                  </a:lnTo>
                  <a:lnTo>
                    <a:pt x="430" y="904"/>
                  </a:lnTo>
                  <a:lnTo>
                    <a:pt x="430" y="896"/>
                  </a:lnTo>
                  <a:lnTo>
                    <a:pt x="430" y="888"/>
                  </a:lnTo>
                  <a:lnTo>
                    <a:pt x="436" y="888"/>
                  </a:lnTo>
                  <a:lnTo>
                    <a:pt x="436" y="880"/>
                  </a:lnTo>
                  <a:lnTo>
                    <a:pt x="436" y="872"/>
                  </a:lnTo>
                  <a:lnTo>
                    <a:pt x="436" y="864"/>
                  </a:lnTo>
                  <a:lnTo>
                    <a:pt x="436" y="856"/>
                  </a:lnTo>
                  <a:lnTo>
                    <a:pt x="436" y="848"/>
                  </a:lnTo>
                  <a:lnTo>
                    <a:pt x="436" y="840"/>
                  </a:lnTo>
                  <a:lnTo>
                    <a:pt x="436" y="832"/>
                  </a:lnTo>
                  <a:lnTo>
                    <a:pt x="436" y="824"/>
                  </a:lnTo>
                  <a:lnTo>
                    <a:pt x="436" y="816"/>
                  </a:lnTo>
                  <a:lnTo>
                    <a:pt x="436" y="808"/>
                  </a:lnTo>
                  <a:lnTo>
                    <a:pt x="430" y="808"/>
                  </a:lnTo>
                  <a:lnTo>
                    <a:pt x="430" y="800"/>
                  </a:lnTo>
                  <a:lnTo>
                    <a:pt x="430" y="792"/>
                  </a:lnTo>
                  <a:lnTo>
                    <a:pt x="430" y="784"/>
                  </a:lnTo>
                  <a:lnTo>
                    <a:pt x="430" y="776"/>
                  </a:lnTo>
                  <a:lnTo>
                    <a:pt x="422" y="768"/>
                  </a:lnTo>
                  <a:lnTo>
                    <a:pt x="422" y="760"/>
                  </a:lnTo>
                  <a:lnTo>
                    <a:pt x="414" y="752"/>
                  </a:lnTo>
                  <a:lnTo>
                    <a:pt x="414" y="744"/>
                  </a:lnTo>
                  <a:lnTo>
                    <a:pt x="406" y="738"/>
                  </a:lnTo>
                  <a:lnTo>
                    <a:pt x="398" y="730"/>
                  </a:lnTo>
                  <a:lnTo>
                    <a:pt x="398" y="722"/>
                  </a:lnTo>
                  <a:lnTo>
                    <a:pt x="390" y="714"/>
                  </a:lnTo>
                  <a:lnTo>
                    <a:pt x="382" y="706"/>
                  </a:lnTo>
                  <a:lnTo>
                    <a:pt x="374" y="698"/>
                  </a:lnTo>
                  <a:lnTo>
                    <a:pt x="374" y="690"/>
                  </a:lnTo>
                  <a:lnTo>
                    <a:pt x="366" y="682"/>
                  </a:lnTo>
                  <a:lnTo>
                    <a:pt x="358" y="682"/>
                  </a:lnTo>
                  <a:lnTo>
                    <a:pt x="350" y="674"/>
                  </a:lnTo>
                  <a:lnTo>
                    <a:pt x="342" y="666"/>
                  </a:lnTo>
                  <a:lnTo>
                    <a:pt x="334" y="658"/>
                  </a:lnTo>
                  <a:lnTo>
                    <a:pt x="326" y="650"/>
                  </a:lnTo>
                  <a:lnTo>
                    <a:pt x="318" y="642"/>
                  </a:lnTo>
                  <a:lnTo>
                    <a:pt x="310" y="634"/>
                  </a:lnTo>
                  <a:lnTo>
                    <a:pt x="302" y="634"/>
                  </a:lnTo>
                  <a:lnTo>
                    <a:pt x="294" y="626"/>
                  </a:lnTo>
                  <a:lnTo>
                    <a:pt x="286" y="618"/>
                  </a:lnTo>
                  <a:lnTo>
                    <a:pt x="278" y="610"/>
                  </a:lnTo>
                  <a:lnTo>
                    <a:pt x="262" y="602"/>
                  </a:lnTo>
                  <a:lnTo>
                    <a:pt x="254" y="602"/>
                  </a:lnTo>
                  <a:lnTo>
                    <a:pt x="246" y="594"/>
                  </a:lnTo>
                  <a:lnTo>
                    <a:pt x="238" y="586"/>
                  </a:lnTo>
                  <a:lnTo>
                    <a:pt x="222" y="586"/>
                  </a:lnTo>
                  <a:lnTo>
                    <a:pt x="214" y="578"/>
                  </a:lnTo>
                  <a:lnTo>
                    <a:pt x="214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グループ化 10"/>
          <p:cNvGrpSpPr/>
          <p:nvPr/>
        </p:nvGrpSpPr>
        <p:grpSpPr>
          <a:xfrm>
            <a:off x="1755720" y="34188480"/>
            <a:ext cx="8699400" cy="8674200"/>
            <a:chOff x="1755720" y="34188480"/>
            <a:chExt cx="8699400" cy="8674200"/>
          </a:xfrm>
        </p:grpSpPr>
        <p:sp>
          <p:nvSpPr>
            <p:cNvPr id="49" name="Freeform 10"/>
            <p:cNvSpPr/>
            <p:nvPr/>
          </p:nvSpPr>
          <p:spPr>
            <a:xfrm>
              <a:off x="4825800" y="37280880"/>
              <a:ext cx="5629320" cy="5581800"/>
            </a:xfrm>
            <a:custGeom>
              <a:avLst/>
              <a:gdLst>
                <a:gd name="textAreaLeft" fmla="*/ 0 w 5629320"/>
                <a:gd name="textAreaRight" fmla="*/ 5629680 w 5629320"/>
                <a:gd name="textAreaTop" fmla="*/ 0 h 5581800"/>
                <a:gd name="textAreaBottom" fmla="*/ 5581800 h 5581800"/>
              </a:gdLst>
              <a:ahLst/>
              <a:rect l="textAreaLeft" t="textAreaTop" r="textAreaRight" b="textAreaBottom"/>
              <a:pathLst>
                <a:path w="3546" h="3516">
                  <a:moveTo>
                    <a:pt x="64" y="3290"/>
                  </a:moveTo>
                  <a:lnTo>
                    <a:pt x="80" y="3306"/>
                  </a:lnTo>
                  <a:lnTo>
                    <a:pt x="102" y="3326"/>
                  </a:lnTo>
                  <a:lnTo>
                    <a:pt x="116" y="3334"/>
                  </a:lnTo>
                  <a:lnTo>
                    <a:pt x="138" y="3348"/>
                  </a:lnTo>
                  <a:lnTo>
                    <a:pt x="160" y="3356"/>
                  </a:lnTo>
                  <a:lnTo>
                    <a:pt x="182" y="3364"/>
                  </a:lnTo>
                  <a:lnTo>
                    <a:pt x="210" y="3370"/>
                  </a:lnTo>
                  <a:lnTo>
                    <a:pt x="232" y="3370"/>
                  </a:lnTo>
                  <a:lnTo>
                    <a:pt x="254" y="3370"/>
                  </a:lnTo>
                  <a:lnTo>
                    <a:pt x="284" y="3370"/>
                  </a:lnTo>
                  <a:lnTo>
                    <a:pt x="306" y="3370"/>
                  </a:lnTo>
                  <a:lnTo>
                    <a:pt x="328" y="3364"/>
                  </a:lnTo>
                  <a:lnTo>
                    <a:pt x="350" y="3364"/>
                  </a:lnTo>
                  <a:lnTo>
                    <a:pt x="378" y="3356"/>
                  </a:lnTo>
                  <a:lnTo>
                    <a:pt x="400" y="3348"/>
                  </a:lnTo>
                  <a:lnTo>
                    <a:pt x="422" y="3342"/>
                  </a:lnTo>
                  <a:lnTo>
                    <a:pt x="438" y="3334"/>
                  </a:lnTo>
                  <a:lnTo>
                    <a:pt x="452" y="3320"/>
                  </a:lnTo>
                  <a:lnTo>
                    <a:pt x="466" y="3312"/>
                  </a:lnTo>
                  <a:lnTo>
                    <a:pt x="480" y="3306"/>
                  </a:lnTo>
                  <a:lnTo>
                    <a:pt x="488" y="3298"/>
                  </a:lnTo>
                  <a:lnTo>
                    <a:pt x="502" y="3284"/>
                  </a:lnTo>
                  <a:lnTo>
                    <a:pt x="510" y="3276"/>
                  </a:lnTo>
                  <a:lnTo>
                    <a:pt x="524" y="3262"/>
                  </a:lnTo>
                  <a:lnTo>
                    <a:pt x="532" y="3246"/>
                  </a:lnTo>
                  <a:lnTo>
                    <a:pt x="540" y="3240"/>
                  </a:lnTo>
                  <a:lnTo>
                    <a:pt x="546" y="3224"/>
                  </a:lnTo>
                  <a:lnTo>
                    <a:pt x="554" y="3210"/>
                  </a:lnTo>
                  <a:lnTo>
                    <a:pt x="562" y="3196"/>
                  </a:lnTo>
                  <a:lnTo>
                    <a:pt x="562" y="3182"/>
                  </a:lnTo>
                  <a:lnTo>
                    <a:pt x="568" y="3166"/>
                  </a:lnTo>
                  <a:lnTo>
                    <a:pt x="568" y="3152"/>
                  </a:lnTo>
                  <a:lnTo>
                    <a:pt x="584" y="3174"/>
                  </a:lnTo>
                  <a:lnTo>
                    <a:pt x="598" y="3188"/>
                  </a:lnTo>
                  <a:lnTo>
                    <a:pt x="612" y="3210"/>
                  </a:lnTo>
                  <a:lnTo>
                    <a:pt x="626" y="3224"/>
                  </a:lnTo>
                  <a:lnTo>
                    <a:pt x="648" y="3240"/>
                  </a:lnTo>
                  <a:lnTo>
                    <a:pt x="664" y="3254"/>
                  </a:lnTo>
                  <a:lnTo>
                    <a:pt x="678" y="3268"/>
                  </a:lnTo>
                  <a:lnTo>
                    <a:pt x="700" y="3284"/>
                  </a:lnTo>
                  <a:lnTo>
                    <a:pt x="714" y="3298"/>
                  </a:lnTo>
                  <a:lnTo>
                    <a:pt x="736" y="3306"/>
                  </a:lnTo>
                  <a:lnTo>
                    <a:pt x="750" y="3320"/>
                  </a:lnTo>
                  <a:lnTo>
                    <a:pt x="772" y="3326"/>
                  </a:lnTo>
                  <a:lnTo>
                    <a:pt x="788" y="3334"/>
                  </a:lnTo>
                  <a:lnTo>
                    <a:pt x="810" y="3342"/>
                  </a:lnTo>
                  <a:lnTo>
                    <a:pt x="824" y="3348"/>
                  </a:lnTo>
                  <a:lnTo>
                    <a:pt x="846" y="3348"/>
                  </a:lnTo>
                  <a:lnTo>
                    <a:pt x="874" y="3356"/>
                  </a:lnTo>
                  <a:lnTo>
                    <a:pt x="904" y="3364"/>
                  </a:lnTo>
                  <a:lnTo>
                    <a:pt x="934" y="3364"/>
                  </a:lnTo>
                  <a:lnTo>
                    <a:pt x="956" y="3364"/>
                  </a:lnTo>
                  <a:lnTo>
                    <a:pt x="984" y="3364"/>
                  </a:lnTo>
                  <a:lnTo>
                    <a:pt x="1014" y="3356"/>
                  </a:lnTo>
                  <a:lnTo>
                    <a:pt x="1042" y="3348"/>
                  </a:lnTo>
                  <a:lnTo>
                    <a:pt x="1064" y="3342"/>
                  </a:lnTo>
                  <a:lnTo>
                    <a:pt x="1086" y="3334"/>
                  </a:lnTo>
                  <a:lnTo>
                    <a:pt x="1116" y="3326"/>
                  </a:lnTo>
                  <a:lnTo>
                    <a:pt x="1138" y="3312"/>
                  </a:lnTo>
                  <a:lnTo>
                    <a:pt x="1160" y="3298"/>
                  </a:lnTo>
                  <a:lnTo>
                    <a:pt x="1182" y="3290"/>
                  </a:lnTo>
                  <a:lnTo>
                    <a:pt x="1196" y="3276"/>
                  </a:lnTo>
                  <a:lnTo>
                    <a:pt x="1218" y="3262"/>
                  </a:lnTo>
                  <a:lnTo>
                    <a:pt x="1232" y="3240"/>
                  </a:lnTo>
                  <a:lnTo>
                    <a:pt x="1232" y="3246"/>
                  </a:lnTo>
                  <a:lnTo>
                    <a:pt x="1232" y="3254"/>
                  </a:lnTo>
                  <a:lnTo>
                    <a:pt x="1232" y="3262"/>
                  </a:lnTo>
                  <a:lnTo>
                    <a:pt x="1232" y="3268"/>
                  </a:lnTo>
                  <a:lnTo>
                    <a:pt x="1232" y="3276"/>
                  </a:lnTo>
                  <a:lnTo>
                    <a:pt x="1232" y="3284"/>
                  </a:lnTo>
                  <a:lnTo>
                    <a:pt x="1232" y="3290"/>
                  </a:lnTo>
                  <a:lnTo>
                    <a:pt x="1232" y="3298"/>
                  </a:lnTo>
                  <a:lnTo>
                    <a:pt x="1240" y="3306"/>
                  </a:lnTo>
                  <a:lnTo>
                    <a:pt x="1240" y="3312"/>
                  </a:lnTo>
                  <a:lnTo>
                    <a:pt x="1240" y="3320"/>
                  </a:lnTo>
                  <a:lnTo>
                    <a:pt x="1248" y="3320"/>
                  </a:lnTo>
                  <a:lnTo>
                    <a:pt x="1248" y="3326"/>
                  </a:lnTo>
                  <a:lnTo>
                    <a:pt x="1254" y="3326"/>
                  </a:lnTo>
                  <a:lnTo>
                    <a:pt x="1254" y="3334"/>
                  </a:lnTo>
                  <a:lnTo>
                    <a:pt x="1262" y="3334"/>
                  </a:lnTo>
                  <a:lnTo>
                    <a:pt x="1262" y="3342"/>
                  </a:lnTo>
                  <a:lnTo>
                    <a:pt x="1268" y="3342"/>
                  </a:lnTo>
                  <a:lnTo>
                    <a:pt x="1268" y="3348"/>
                  </a:lnTo>
                  <a:lnTo>
                    <a:pt x="1276" y="3356"/>
                  </a:lnTo>
                  <a:lnTo>
                    <a:pt x="1284" y="3356"/>
                  </a:lnTo>
                  <a:lnTo>
                    <a:pt x="1290" y="3364"/>
                  </a:lnTo>
                  <a:lnTo>
                    <a:pt x="1298" y="3370"/>
                  </a:lnTo>
                  <a:lnTo>
                    <a:pt x="1306" y="3370"/>
                  </a:lnTo>
                  <a:lnTo>
                    <a:pt x="1312" y="3370"/>
                  </a:lnTo>
                  <a:lnTo>
                    <a:pt x="1312" y="3378"/>
                  </a:lnTo>
                  <a:lnTo>
                    <a:pt x="1320" y="3378"/>
                  </a:lnTo>
                  <a:lnTo>
                    <a:pt x="1328" y="3378"/>
                  </a:lnTo>
                  <a:lnTo>
                    <a:pt x="1334" y="3386"/>
                  </a:lnTo>
                  <a:lnTo>
                    <a:pt x="1342" y="3386"/>
                  </a:lnTo>
                  <a:lnTo>
                    <a:pt x="1350" y="3386"/>
                  </a:lnTo>
                  <a:lnTo>
                    <a:pt x="1356" y="3386"/>
                  </a:lnTo>
                  <a:lnTo>
                    <a:pt x="1364" y="3386"/>
                  </a:lnTo>
                  <a:lnTo>
                    <a:pt x="1372" y="3386"/>
                  </a:lnTo>
                  <a:lnTo>
                    <a:pt x="1378" y="3386"/>
                  </a:lnTo>
                  <a:lnTo>
                    <a:pt x="1386" y="3386"/>
                  </a:lnTo>
                  <a:lnTo>
                    <a:pt x="1394" y="3386"/>
                  </a:lnTo>
                  <a:lnTo>
                    <a:pt x="1400" y="3386"/>
                  </a:lnTo>
                  <a:lnTo>
                    <a:pt x="1408" y="3378"/>
                  </a:lnTo>
                  <a:lnTo>
                    <a:pt x="1414" y="3378"/>
                  </a:lnTo>
                  <a:lnTo>
                    <a:pt x="1422" y="3370"/>
                  </a:lnTo>
                  <a:lnTo>
                    <a:pt x="1430" y="3370"/>
                  </a:lnTo>
                  <a:lnTo>
                    <a:pt x="1436" y="3364"/>
                  </a:lnTo>
                  <a:lnTo>
                    <a:pt x="1444" y="3356"/>
                  </a:lnTo>
                  <a:lnTo>
                    <a:pt x="1452" y="3348"/>
                  </a:lnTo>
                  <a:lnTo>
                    <a:pt x="1458" y="3348"/>
                  </a:lnTo>
                  <a:lnTo>
                    <a:pt x="1466" y="3334"/>
                  </a:lnTo>
                  <a:lnTo>
                    <a:pt x="1474" y="3326"/>
                  </a:lnTo>
                  <a:lnTo>
                    <a:pt x="1480" y="3320"/>
                  </a:lnTo>
                  <a:lnTo>
                    <a:pt x="1480" y="3312"/>
                  </a:lnTo>
                  <a:lnTo>
                    <a:pt x="1488" y="3298"/>
                  </a:lnTo>
                  <a:lnTo>
                    <a:pt x="1496" y="3290"/>
                  </a:lnTo>
                  <a:lnTo>
                    <a:pt x="1502" y="3276"/>
                  </a:lnTo>
                  <a:lnTo>
                    <a:pt x="1510" y="3262"/>
                  </a:lnTo>
                  <a:lnTo>
                    <a:pt x="1510" y="3254"/>
                  </a:lnTo>
                  <a:lnTo>
                    <a:pt x="1518" y="3240"/>
                  </a:lnTo>
                  <a:lnTo>
                    <a:pt x="1524" y="3224"/>
                  </a:lnTo>
                  <a:lnTo>
                    <a:pt x="1524" y="3210"/>
                  </a:lnTo>
                  <a:lnTo>
                    <a:pt x="1532" y="3202"/>
                  </a:lnTo>
                  <a:lnTo>
                    <a:pt x="1538" y="3188"/>
                  </a:lnTo>
                  <a:lnTo>
                    <a:pt x="1538" y="3174"/>
                  </a:lnTo>
                  <a:lnTo>
                    <a:pt x="1546" y="3160"/>
                  </a:lnTo>
                  <a:lnTo>
                    <a:pt x="1554" y="3196"/>
                  </a:lnTo>
                  <a:lnTo>
                    <a:pt x="1568" y="3232"/>
                  </a:lnTo>
                  <a:lnTo>
                    <a:pt x="1590" y="3262"/>
                  </a:lnTo>
                  <a:lnTo>
                    <a:pt x="1612" y="3298"/>
                  </a:lnTo>
                  <a:lnTo>
                    <a:pt x="1634" y="3326"/>
                  </a:lnTo>
                  <a:lnTo>
                    <a:pt x="1662" y="3356"/>
                  </a:lnTo>
                  <a:lnTo>
                    <a:pt x="1692" y="3386"/>
                  </a:lnTo>
                  <a:lnTo>
                    <a:pt x="1728" y="3408"/>
                  </a:lnTo>
                  <a:lnTo>
                    <a:pt x="1766" y="3436"/>
                  </a:lnTo>
                  <a:lnTo>
                    <a:pt x="1802" y="3452"/>
                  </a:lnTo>
                  <a:lnTo>
                    <a:pt x="1838" y="3472"/>
                  </a:lnTo>
                  <a:lnTo>
                    <a:pt x="1874" y="3488"/>
                  </a:lnTo>
                  <a:lnTo>
                    <a:pt x="1918" y="3502"/>
                  </a:lnTo>
                  <a:lnTo>
                    <a:pt x="1962" y="3510"/>
                  </a:lnTo>
                  <a:lnTo>
                    <a:pt x="1998" y="3516"/>
                  </a:lnTo>
                  <a:lnTo>
                    <a:pt x="2042" y="3516"/>
                  </a:lnTo>
                  <a:lnTo>
                    <a:pt x="2050" y="3516"/>
                  </a:lnTo>
                  <a:lnTo>
                    <a:pt x="2058" y="3516"/>
                  </a:lnTo>
                  <a:lnTo>
                    <a:pt x="2064" y="3516"/>
                  </a:lnTo>
                  <a:lnTo>
                    <a:pt x="2072" y="3516"/>
                  </a:lnTo>
                  <a:lnTo>
                    <a:pt x="2078" y="3516"/>
                  </a:lnTo>
                  <a:lnTo>
                    <a:pt x="2086" y="3516"/>
                  </a:lnTo>
                  <a:lnTo>
                    <a:pt x="2094" y="3516"/>
                  </a:lnTo>
                  <a:lnTo>
                    <a:pt x="2100" y="3516"/>
                  </a:lnTo>
                  <a:lnTo>
                    <a:pt x="2108" y="3510"/>
                  </a:lnTo>
                  <a:lnTo>
                    <a:pt x="2116" y="3510"/>
                  </a:lnTo>
                  <a:lnTo>
                    <a:pt x="2122" y="3510"/>
                  </a:lnTo>
                  <a:lnTo>
                    <a:pt x="2130" y="3510"/>
                  </a:lnTo>
                  <a:lnTo>
                    <a:pt x="2138" y="3510"/>
                  </a:lnTo>
                  <a:lnTo>
                    <a:pt x="2182" y="3494"/>
                  </a:lnTo>
                  <a:lnTo>
                    <a:pt x="2224" y="3488"/>
                  </a:lnTo>
                  <a:lnTo>
                    <a:pt x="2262" y="3472"/>
                  </a:lnTo>
                  <a:lnTo>
                    <a:pt x="2306" y="3458"/>
                  </a:lnTo>
                  <a:lnTo>
                    <a:pt x="2342" y="3436"/>
                  </a:lnTo>
                  <a:lnTo>
                    <a:pt x="2370" y="3414"/>
                  </a:lnTo>
                  <a:lnTo>
                    <a:pt x="2408" y="3392"/>
                  </a:lnTo>
                  <a:lnTo>
                    <a:pt x="2436" y="3370"/>
                  </a:lnTo>
                  <a:lnTo>
                    <a:pt x="2466" y="3348"/>
                  </a:lnTo>
                  <a:lnTo>
                    <a:pt x="2494" y="3320"/>
                  </a:lnTo>
                  <a:lnTo>
                    <a:pt x="2516" y="3290"/>
                  </a:lnTo>
                  <a:lnTo>
                    <a:pt x="2538" y="3268"/>
                  </a:lnTo>
                  <a:lnTo>
                    <a:pt x="2560" y="3240"/>
                  </a:lnTo>
                  <a:lnTo>
                    <a:pt x="2576" y="3210"/>
                  </a:lnTo>
                  <a:lnTo>
                    <a:pt x="2596" y="3182"/>
                  </a:lnTo>
                  <a:lnTo>
                    <a:pt x="2612" y="3152"/>
                  </a:lnTo>
                  <a:lnTo>
                    <a:pt x="2618" y="3138"/>
                  </a:lnTo>
                  <a:lnTo>
                    <a:pt x="2634" y="3122"/>
                  </a:lnTo>
                  <a:lnTo>
                    <a:pt x="2640" y="3108"/>
                  </a:lnTo>
                  <a:lnTo>
                    <a:pt x="2656" y="3094"/>
                  </a:lnTo>
                  <a:lnTo>
                    <a:pt x="2662" y="3086"/>
                  </a:lnTo>
                  <a:lnTo>
                    <a:pt x="2678" y="3072"/>
                  </a:lnTo>
                  <a:lnTo>
                    <a:pt x="2692" y="3064"/>
                  </a:lnTo>
                  <a:lnTo>
                    <a:pt x="2706" y="3056"/>
                  </a:lnTo>
                  <a:lnTo>
                    <a:pt x="2722" y="3042"/>
                  </a:lnTo>
                  <a:lnTo>
                    <a:pt x="2736" y="3036"/>
                  </a:lnTo>
                  <a:lnTo>
                    <a:pt x="2750" y="3028"/>
                  </a:lnTo>
                  <a:lnTo>
                    <a:pt x="2764" y="3020"/>
                  </a:lnTo>
                  <a:lnTo>
                    <a:pt x="2786" y="3020"/>
                  </a:lnTo>
                  <a:lnTo>
                    <a:pt x="2802" y="3014"/>
                  </a:lnTo>
                  <a:lnTo>
                    <a:pt x="2816" y="3006"/>
                  </a:lnTo>
                  <a:lnTo>
                    <a:pt x="2830" y="3006"/>
                  </a:lnTo>
                  <a:lnTo>
                    <a:pt x="2846" y="3006"/>
                  </a:lnTo>
                  <a:lnTo>
                    <a:pt x="2852" y="2998"/>
                  </a:lnTo>
                  <a:lnTo>
                    <a:pt x="2860" y="2998"/>
                  </a:lnTo>
                  <a:lnTo>
                    <a:pt x="2874" y="2998"/>
                  </a:lnTo>
                  <a:lnTo>
                    <a:pt x="2882" y="2998"/>
                  </a:lnTo>
                  <a:lnTo>
                    <a:pt x="2888" y="2998"/>
                  </a:lnTo>
                  <a:lnTo>
                    <a:pt x="2904" y="3006"/>
                  </a:lnTo>
                  <a:lnTo>
                    <a:pt x="2910" y="3006"/>
                  </a:lnTo>
                  <a:lnTo>
                    <a:pt x="2918" y="3006"/>
                  </a:lnTo>
                  <a:lnTo>
                    <a:pt x="2926" y="3006"/>
                  </a:lnTo>
                  <a:lnTo>
                    <a:pt x="2932" y="3014"/>
                  </a:lnTo>
                  <a:lnTo>
                    <a:pt x="2940" y="3014"/>
                  </a:lnTo>
                  <a:lnTo>
                    <a:pt x="2948" y="3020"/>
                  </a:lnTo>
                  <a:lnTo>
                    <a:pt x="2954" y="3020"/>
                  </a:lnTo>
                  <a:lnTo>
                    <a:pt x="2962" y="3028"/>
                  </a:lnTo>
                  <a:lnTo>
                    <a:pt x="2970" y="3028"/>
                  </a:lnTo>
                  <a:lnTo>
                    <a:pt x="2976" y="3042"/>
                  </a:lnTo>
                  <a:lnTo>
                    <a:pt x="2992" y="3050"/>
                  </a:lnTo>
                  <a:lnTo>
                    <a:pt x="2998" y="3056"/>
                  </a:lnTo>
                  <a:lnTo>
                    <a:pt x="3006" y="3072"/>
                  </a:lnTo>
                  <a:lnTo>
                    <a:pt x="3006" y="3078"/>
                  </a:lnTo>
                  <a:lnTo>
                    <a:pt x="3012" y="3094"/>
                  </a:lnTo>
                  <a:lnTo>
                    <a:pt x="3020" y="3100"/>
                  </a:lnTo>
                  <a:lnTo>
                    <a:pt x="3020" y="3108"/>
                  </a:lnTo>
                  <a:lnTo>
                    <a:pt x="3020" y="3116"/>
                  </a:lnTo>
                  <a:lnTo>
                    <a:pt x="3020" y="3130"/>
                  </a:lnTo>
                  <a:lnTo>
                    <a:pt x="3020" y="3138"/>
                  </a:lnTo>
                  <a:lnTo>
                    <a:pt x="3020" y="3144"/>
                  </a:lnTo>
                  <a:lnTo>
                    <a:pt x="3020" y="3160"/>
                  </a:lnTo>
                  <a:lnTo>
                    <a:pt x="3020" y="3166"/>
                  </a:lnTo>
                  <a:lnTo>
                    <a:pt x="3020" y="3174"/>
                  </a:lnTo>
                  <a:lnTo>
                    <a:pt x="3020" y="3182"/>
                  </a:lnTo>
                  <a:lnTo>
                    <a:pt x="3012" y="3188"/>
                  </a:lnTo>
                  <a:lnTo>
                    <a:pt x="3012" y="3196"/>
                  </a:lnTo>
                  <a:lnTo>
                    <a:pt x="3012" y="3202"/>
                  </a:lnTo>
                  <a:lnTo>
                    <a:pt x="3006" y="3210"/>
                  </a:lnTo>
                  <a:lnTo>
                    <a:pt x="2998" y="3218"/>
                  </a:lnTo>
                  <a:lnTo>
                    <a:pt x="2998" y="3224"/>
                  </a:lnTo>
                  <a:lnTo>
                    <a:pt x="2992" y="3232"/>
                  </a:lnTo>
                  <a:lnTo>
                    <a:pt x="2984" y="3240"/>
                  </a:lnTo>
                  <a:lnTo>
                    <a:pt x="2984" y="3246"/>
                  </a:lnTo>
                  <a:lnTo>
                    <a:pt x="2976" y="3254"/>
                  </a:lnTo>
                  <a:lnTo>
                    <a:pt x="2970" y="3254"/>
                  </a:lnTo>
                  <a:lnTo>
                    <a:pt x="2962" y="3262"/>
                  </a:lnTo>
                  <a:lnTo>
                    <a:pt x="2954" y="3268"/>
                  </a:lnTo>
                  <a:lnTo>
                    <a:pt x="2948" y="3268"/>
                  </a:lnTo>
                  <a:lnTo>
                    <a:pt x="2940" y="3276"/>
                  </a:lnTo>
                  <a:lnTo>
                    <a:pt x="2932" y="3276"/>
                  </a:lnTo>
                  <a:lnTo>
                    <a:pt x="2926" y="3284"/>
                  </a:lnTo>
                  <a:lnTo>
                    <a:pt x="2918" y="3284"/>
                  </a:lnTo>
                  <a:lnTo>
                    <a:pt x="2910" y="3284"/>
                  </a:lnTo>
                  <a:lnTo>
                    <a:pt x="2896" y="3284"/>
                  </a:lnTo>
                  <a:lnTo>
                    <a:pt x="2888" y="3284"/>
                  </a:lnTo>
                  <a:lnTo>
                    <a:pt x="2882" y="3284"/>
                  </a:lnTo>
                  <a:lnTo>
                    <a:pt x="2866" y="3276"/>
                  </a:lnTo>
                  <a:lnTo>
                    <a:pt x="2860" y="3276"/>
                  </a:lnTo>
                  <a:lnTo>
                    <a:pt x="2852" y="3268"/>
                  </a:lnTo>
                  <a:lnTo>
                    <a:pt x="2846" y="3268"/>
                  </a:lnTo>
                  <a:lnTo>
                    <a:pt x="2830" y="3262"/>
                  </a:lnTo>
                  <a:lnTo>
                    <a:pt x="2824" y="3254"/>
                  </a:lnTo>
                  <a:lnTo>
                    <a:pt x="2816" y="3254"/>
                  </a:lnTo>
                  <a:lnTo>
                    <a:pt x="2816" y="3246"/>
                  </a:lnTo>
                  <a:lnTo>
                    <a:pt x="2808" y="3240"/>
                  </a:lnTo>
                  <a:lnTo>
                    <a:pt x="2802" y="3232"/>
                  </a:lnTo>
                  <a:lnTo>
                    <a:pt x="2802" y="3224"/>
                  </a:lnTo>
                  <a:lnTo>
                    <a:pt x="2794" y="3218"/>
                  </a:lnTo>
                  <a:lnTo>
                    <a:pt x="2794" y="3210"/>
                  </a:lnTo>
                  <a:lnTo>
                    <a:pt x="2794" y="3202"/>
                  </a:lnTo>
                  <a:lnTo>
                    <a:pt x="2794" y="3188"/>
                  </a:lnTo>
                  <a:lnTo>
                    <a:pt x="2786" y="3182"/>
                  </a:lnTo>
                  <a:lnTo>
                    <a:pt x="2786" y="3174"/>
                  </a:lnTo>
                  <a:lnTo>
                    <a:pt x="2794" y="3166"/>
                  </a:lnTo>
                  <a:lnTo>
                    <a:pt x="2794" y="3160"/>
                  </a:lnTo>
                  <a:lnTo>
                    <a:pt x="2794" y="3152"/>
                  </a:lnTo>
                  <a:lnTo>
                    <a:pt x="2794" y="3144"/>
                  </a:lnTo>
                  <a:lnTo>
                    <a:pt x="2802" y="3138"/>
                  </a:lnTo>
                  <a:lnTo>
                    <a:pt x="2808" y="3130"/>
                  </a:lnTo>
                  <a:lnTo>
                    <a:pt x="2808" y="3116"/>
                  </a:lnTo>
                  <a:lnTo>
                    <a:pt x="2816" y="3116"/>
                  </a:lnTo>
                  <a:lnTo>
                    <a:pt x="2824" y="3108"/>
                  </a:lnTo>
                  <a:lnTo>
                    <a:pt x="2830" y="3100"/>
                  </a:lnTo>
                  <a:lnTo>
                    <a:pt x="2838" y="3094"/>
                  </a:lnTo>
                  <a:lnTo>
                    <a:pt x="2846" y="3094"/>
                  </a:lnTo>
                  <a:lnTo>
                    <a:pt x="2852" y="3086"/>
                  </a:lnTo>
                  <a:lnTo>
                    <a:pt x="2860" y="3086"/>
                  </a:lnTo>
                  <a:lnTo>
                    <a:pt x="2866" y="3086"/>
                  </a:lnTo>
                  <a:lnTo>
                    <a:pt x="2874" y="3086"/>
                  </a:lnTo>
                  <a:lnTo>
                    <a:pt x="2882" y="3086"/>
                  </a:lnTo>
                  <a:lnTo>
                    <a:pt x="2888" y="3086"/>
                  </a:lnTo>
                  <a:lnTo>
                    <a:pt x="2896" y="3086"/>
                  </a:lnTo>
                  <a:lnTo>
                    <a:pt x="2904" y="3086"/>
                  </a:lnTo>
                  <a:lnTo>
                    <a:pt x="2910" y="3094"/>
                  </a:lnTo>
                  <a:lnTo>
                    <a:pt x="2918" y="3094"/>
                  </a:lnTo>
                  <a:lnTo>
                    <a:pt x="2926" y="3100"/>
                  </a:lnTo>
                  <a:lnTo>
                    <a:pt x="2932" y="3108"/>
                  </a:lnTo>
                  <a:lnTo>
                    <a:pt x="2940" y="3116"/>
                  </a:lnTo>
                  <a:lnTo>
                    <a:pt x="2948" y="3116"/>
                  </a:lnTo>
                  <a:lnTo>
                    <a:pt x="2948" y="3122"/>
                  </a:lnTo>
                  <a:lnTo>
                    <a:pt x="2948" y="3130"/>
                  </a:lnTo>
                  <a:lnTo>
                    <a:pt x="2954" y="3130"/>
                  </a:lnTo>
                  <a:lnTo>
                    <a:pt x="2954" y="3138"/>
                  </a:lnTo>
                  <a:lnTo>
                    <a:pt x="2954" y="3144"/>
                  </a:lnTo>
                  <a:lnTo>
                    <a:pt x="2954" y="3152"/>
                  </a:lnTo>
                  <a:lnTo>
                    <a:pt x="2954" y="3160"/>
                  </a:lnTo>
                  <a:lnTo>
                    <a:pt x="2948" y="3160"/>
                  </a:lnTo>
                  <a:lnTo>
                    <a:pt x="2948" y="3166"/>
                  </a:lnTo>
                  <a:lnTo>
                    <a:pt x="2948" y="3174"/>
                  </a:lnTo>
                  <a:lnTo>
                    <a:pt x="2940" y="3174"/>
                  </a:lnTo>
                  <a:lnTo>
                    <a:pt x="2940" y="3182"/>
                  </a:lnTo>
                  <a:lnTo>
                    <a:pt x="2932" y="3182"/>
                  </a:lnTo>
                  <a:lnTo>
                    <a:pt x="2932" y="3188"/>
                  </a:lnTo>
                  <a:lnTo>
                    <a:pt x="2926" y="3188"/>
                  </a:lnTo>
                  <a:lnTo>
                    <a:pt x="2926" y="3196"/>
                  </a:lnTo>
                  <a:lnTo>
                    <a:pt x="2918" y="3196"/>
                  </a:lnTo>
                  <a:lnTo>
                    <a:pt x="2910" y="3196"/>
                  </a:lnTo>
                  <a:lnTo>
                    <a:pt x="2904" y="3196"/>
                  </a:lnTo>
                  <a:lnTo>
                    <a:pt x="2896" y="3196"/>
                  </a:lnTo>
                  <a:lnTo>
                    <a:pt x="2896" y="3188"/>
                  </a:lnTo>
                  <a:lnTo>
                    <a:pt x="2888" y="3188"/>
                  </a:lnTo>
                  <a:lnTo>
                    <a:pt x="2888" y="3182"/>
                  </a:lnTo>
                  <a:lnTo>
                    <a:pt x="2882" y="3174"/>
                  </a:lnTo>
                  <a:lnTo>
                    <a:pt x="2882" y="3166"/>
                  </a:lnTo>
                  <a:lnTo>
                    <a:pt x="2888" y="3166"/>
                  </a:lnTo>
                  <a:lnTo>
                    <a:pt x="2888" y="3160"/>
                  </a:lnTo>
                  <a:lnTo>
                    <a:pt x="2888" y="3152"/>
                  </a:lnTo>
                  <a:lnTo>
                    <a:pt x="2896" y="3152"/>
                  </a:lnTo>
                  <a:lnTo>
                    <a:pt x="2896" y="3144"/>
                  </a:lnTo>
                  <a:lnTo>
                    <a:pt x="2874" y="3122"/>
                  </a:lnTo>
                  <a:lnTo>
                    <a:pt x="2866" y="3122"/>
                  </a:lnTo>
                  <a:lnTo>
                    <a:pt x="2866" y="3130"/>
                  </a:lnTo>
                  <a:lnTo>
                    <a:pt x="2860" y="3138"/>
                  </a:lnTo>
                  <a:lnTo>
                    <a:pt x="2860" y="3144"/>
                  </a:lnTo>
                  <a:lnTo>
                    <a:pt x="2852" y="3152"/>
                  </a:lnTo>
                  <a:lnTo>
                    <a:pt x="2852" y="3160"/>
                  </a:lnTo>
                  <a:lnTo>
                    <a:pt x="2852" y="3166"/>
                  </a:lnTo>
                  <a:lnTo>
                    <a:pt x="2852" y="3174"/>
                  </a:lnTo>
                  <a:lnTo>
                    <a:pt x="2852" y="3182"/>
                  </a:lnTo>
                  <a:lnTo>
                    <a:pt x="2852" y="3188"/>
                  </a:lnTo>
                  <a:lnTo>
                    <a:pt x="2852" y="3196"/>
                  </a:lnTo>
                  <a:lnTo>
                    <a:pt x="2860" y="3196"/>
                  </a:lnTo>
                  <a:lnTo>
                    <a:pt x="2860" y="3202"/>
                  </a:lnTo>
                  <a:lnTo>
                    <a:pt x="2860" y="3210"/>
                  </a:lnTo>
                  <a:lnTo>
                    <a:pt x="2866" y="3210"/>
                  </a:lnTo>
                  <a:lnTo>
                    <a:pt x="2874" y="3218"/>
                  </a:lnTo>
                  <a:lnTo>
                    <a:pt x="2882" y="3224"/>
                  </a:lnTo>
                  <a:lnTo>
                    <a:pt x="2888" y="3224"/>
                  </a:lnTo>
                  <a:lnTo>
                    <a:pt x="2896" y="3224"/>
                  </a:lnTo>
                  <a:lnTo>
                    <a:pt x="2896" y="3232"/>
                  </a:lnTo>
                  <a:lnTo>
                    <a:pt x="2904" y="3232"/>
                  </a:lnTo>
                  <a:lnTo>
                    <a:pt x="2910" y="3232"/>
                  </a:lnTo>
                  <a:lnTo>
                    <a:pt x="2918" y="3232"/>
                  </a:lnTo>
                  <a:lnTo>
                    <a:pt x="2926" y="3232"/>
                  </a:lnTo>
                  <a:lnTo>
                    <a:pt x="2926" y="3224"/>
                  </a:lnTo>
                  <a:lnTo>
                    <a:pt x="2932" y="3224"/>
                  </a:lnTo>
                  <a:lnTo>
                    <a:pt x="2940" y="3224"/>
                  </a:lnTo>
                  <a:lnTo>
                    <a:pt x="2940" y="3218"/>
                  </a:lnTo>
                  <a:lnTo>
                    <a:pt x="2948" y="3218"/>
                  </a:lnTo>
                  <a:lnTo>
                    <a:pt x="2954" y="3210"/>
                  </a:lnTo>
                  <a:lnTo>
                    <a:pt x="2962" y="3210"/>
                  </a:lnTo>
                  <a:lnTo>
                    <a:pt x="2962" y="3202"/>
                  </a:lnTo>
                  <a:lnTo>
                    <a:pt x="2970" y="3202"/>
                  </a:lnTo>
                  <a:lnTo>
                    <a:pt x="2970" y="3196"/>
                  </a:lnTo>
                  <a:lnTo>
                    <a:pt x="2970" y="3188"/>
                  </a:lnTo>
                  <a:lnTo>
                    <a:pt x="2976" y="3188"/>
                  </a:lnTo>
                  <a:lnTo>
                    <a:pt x="2976" y="3182"/>
                  </a:lnTo>
                  <a:lnTo>
                    <a:pt x="2984" y="3174"/>
                  </a:lnTo>
                  <a:lnTo>
                    <a:pt x="2984" y="3166"/>
                  </a:lnTo>
                  <a:lnTo>
                    <a:pt x="2984" y="3160"/>
                  </a:lnTo>
                  <a:lnTo>
                    <a:pt x="2992" y="3152"/>
                  </a:lnTo>
                  <a:lnTo>
                    <a:pt x="2992" y="3144"/>
                  </a:lnTo>
                  <a:lnTo>
                    <a:pt x="2992" y="3138"/>
                  </a:lnTo>
                  <a:lnTo>
                    <a:pt x="2992" y="3130"/>
                  </a:lnTo>
                  <a:lnTo>
                    <a:pt x="2984" y="3130"/>
                  </a:lnTo>
                  <a:lnTo>
                    <a:pt x="2984" y="3122"/>
                  </a:lnTo>
                  <a:lnTo>
                    <a:pt x="2984" y="3116"/>
                  </a:lnTo>
                  <a:lnTo>
                    <a:pt x="2976" y="3108"/>
                  </a:lnTo>
                  <a:lnTo>
                    <a:pt x="2976" y="3100"/>
                  </a:lnTo>
                  <a:lnTo>
                    <a:pt x="2970" y="3100"/>
                  </a:lnTo>
                  <a:lnTo>
                    <a:pt x="2970" y="3094"/>
                  </a:lnTo>
                  <a:lnTo>
                    <a:pt x="2962" y="3086"/>
                  </a:lnTo>
                  <a:lnTo>
                    <a:pt x="2954" y="3078"/>
                  </a:lnTo>
                  <a:lnTo>
                    <a:pt x="2948" y="3072"/>
                  </a:lnTo>
                  <a:lnTo>
                    <a:pt x="2940" y="3064"/>
                  </a:lnTo>
                  <a:lnTo>
                    <a:pt x="2926" y="3064"/>
                  </a:lnTo>
                  <a:lnTo>
                    <a:pt x="2918" y="3056"/>
                  </a:lnTo>
                  <a:lnTo>
                    <a:pt x="2904" y="3050"/>
                  </a:lnTo>
                  <a:lnTo>
                    <a:pt x="2896" y="3050"/>
                  </a:lnTo>
                  <a:lnTo>
                    <a:pt x="2888" y="3050"/>
                  </a:lnTo>
                  <a:lnTo>
                    <a:pt x="2874" y="3050"/>
                  </a:lnTo>
                  <a:lnTo>
                    <a:pt x="2866" y="3050"/>
                  </a:lnTo>
                  <a:lnTo>
                    <a:pt x="2852" y="3050"/>
                  </a:lnTo>
                  <a:lnTo>
                    <a:pt x="2846" y="3056"/>
                  </a:lnTo>
                  <a:lnTo>
                    <a:pt x="2838" y="3056"/>
                  </a:lnTo>
                  <a:lnTo>
                    <a:pt x="2824" y="3064"/>
                  </a:lnTo>
                  <a:lnTo>
                    <a:pt x="2816" y="3072"/>
                  </a:lnTo>
                  <a:lnTo>
                    <a:pt x="2802" y="3078"/>
                  </a:lnTo>
                  <a:lnTo>
                    <a:pt x="2794" y="3086"/>
                  </a:lnTo>
                  <a:lnTo>
                    <a:pt x="2786" y="3094"/>
                  </a:lnTo>
                  <a:lnTo>
                    <a:pt x="2780" y="3108"/>
                  </a:lnTo>
                  <a:lnTo>
                    <a:pt x="2772" y="3116"/>
                  </a:lnTo>
                  <a:lnTo>
                    <a:pt x="2764" y="3130"/>
                  </a:lnTo>
                  <a:lnTo>
                    <a:pt x="2764" y="3138"/>
                  </a:lnTo>
                  <a:lnTo>
                    <a:pt x="2758" y="3152"/>
                  </a:lnTo>
                  <a:lnTo>
                    <a:pt x="2758" y="3160"/>
                  </a:lnTo>
                  <a:lnTo>
                    <a:pt x="2758" y="3174"/>
                  </a:lnTo>
                  <a:lnTo>
                    <a:pt x="2758" y="3182"/>
                  </a:lnTo>
                  <a:lnTo>
                    <a:pt x="2758" y="3196"/>
                  </a:lnTo>
                  <a:lnTo>
                    <a:pt x="2758" y="3202"/>
                  </a:lnTo>
                  <a:lnTo>
                    <a:pt x="2758" y="3218"/>
                  </a:lnTo>
                  <a:lnTo>
                    <a:pt x="2764" y="3224"/>
                  </a:lnTo>
                  <a:lnTo>
                    <a:pt x="2764" y="3240"/>
                  </a:lnTo>
                  <a:lnTo>
                    <a:pt x="2772" y="3246"/>
                  </a:lnTo>
                  <a:lnTo>
                    <a:pt x="2780" y="3254"/>
                  </a:lnTo>
                  <a:lnTo>
                    <a:pt x="2786" y="3262"/>
                  </a:lnTo>
                  <a:lnTo>
                    <a:pt x="2794" y="3276"/>
                  </a:lnTo>
                  <a:lnTo>
                    <a:pt x="2802" y="3284"/>
                  </a:lnTo>
                  <a:lnTo>
                    <a:pt x="2816" y="3290"/>
                  </a:lnTo>
                  <a:lnTo>
                    <a:pt x="2824" y="3298"/>
                  </a:lnTo>
                  <a:lnTo>
                    <a:pt x="2838" y="3306"/>
                  </a:lnTo>
                  <a:lnTo>
                    <a:pt x="2846" y="3306"/>
                  </a:lnTo>
                  <a:lnTo>
                    <a:pt x="2860" y="3312"/>
                  </a:lnTo>
                  <a:lnTo>
                    <a:pt x="2874" y="3312"/>
                  </a:lnTo>
                  <a:lnTo>
                    <a:pt x="2882" y="3320"/>
                  </a:lnTo>
                  <a:lnTo>
                    <a:pt x="2896" y="3320"/>
                  </a:lnTo>
                  <a:lnTo>
                    <a:pt x="2910" y="3320"/>
                  </a:lnTo>
                  <a:lnTo>
                    <a:pt x="2926" y="3320"/>
                  </a:lnTo>
                  <a:lnTo>
                    <a:pt x="2940" y="3312"/>
                  </a:lnTo>
                  <a:lnTo>
                    <a:pt x="2948" y="3306"/>
                  </a:lnTo>
                  <a:lnTo>
                    <a:pt x="2954" y="3306"/>
                  </a:lnTo>
                  <a:lnTo>
                    <a:pt x="2970" y="3298"/>
                  </a:lnTo>
                  <a:lnTo>
                    <a:pt x="2976" y="3298"/>
                  </a:lnTo>
                  <a:lnTo>
                    <a:pt x="2984" y="3290"/>
                  </a:lnTo>
                  <a:lnTo>
                    <a:pt x="2992" y="3284"/>
                  </a:lnTo>
                  <a:lnTo>
                    <a:pt x="2998" y="3276"/>
                  </a:lnTo>
                  <a:lnTo>
                    <a:pt x="3006" y="3268"/>
                  </a:lnTo>
                  <a:lnTo>
                    <a:pt x="3012" y="3262"/>
                  </a:lnTo>
                  <a:lnTo>
                    <a:pt x="3020" y="3254"/>
                  </a:lnTo>
                  <a:lnTo>
                    <a:pt x="3028" y="3246"/>
                  </a:lnTo>
                  <a:lnTo>
                    <a:pt x="3028" y="3232"/>
                  </a:lnTo>
                  <a:lnTo>
                    <a:pt x="3034" y="3224"/>
                  </a:lnTo>
                  <a:lnTo>
                    <a:pt x="3042" y="3218"/>
                  </a:lnTo>
                  <a:lnTo>
                    <a:pt x="3042" y="3210"/>
                  </a:lnTo>
                  <a:lnTo>
                    <a:pt x="3050" y="3202"/>
                  </a:lnTo>
                  <a:lnTo>
                    <a:pt x="3050" y="3188"/>
                  </a:lnTo>
                  <a:lnTo>
                    <a:pt x="3050" y="3182"/>
                  </a:lnTo>
                  <a:lnTo>
                    <a:pt x="3056" y="3174"/>
                  </a:lnTo>
                  <a:lnTo>
                    <a:pt x="3056" y="3166"/>
                  </a:lnTo>
                  <a:lnTo>
                    <a:pt x="3056" y="3160"/>
                  </a:lnTo>
                  <a:lnTo>
                    <a:pt x="3056" y="3144"/>
                  </a:lnTo>
                  <a:lnTo>
                    <a:pt x="3056" y="3138"/>
                  </a:lnTo>
                  <a:lnTo>
                    <a:pt x="3056" y="3130"/>
                  </a:lnTo>
                  <a:lnTo>
                    <a:pt x="3056" y="3116"/>
                  </a:lnTo>
                  <a:lnTo>
                    <a:pt x="3056" y="3108"/>
                  </a:lnTo>
                  <a:lnTo>
                    <a:pt x="3050" y="3094"/>
                  </a:lnTo>
                  <a:lnTo>
                    <a:pt x="3050" y="3086"/>
                  </a:lnTo>
                  <a:lnTo>
                    <a:pt x="3042" y="3078"/>
                  </a:lnTo>
                  <a:lnTo>
                    <a:pt x="3042" y="3064"/>
                  </a:lnTo>
                  <a:lnTo>
                    <a:pt x="3034" y="3056"/>
                  </a:lnTo>
                  <a:lnTo>
                    <a:pt x="3028" y="3042"/>
                  </a:lnTo>
                  <a:lnTo>
                    <a:pt x="3020" y="3036"/>
                  </a:lnTo>
                  <a:lnTo>
                    <a:pt x="3086" y="3100"/>
                  </a:lnTo>
                  <a:lnTo>
                    <a:pt x="3174" y="3298"/>
                  </a:lnTo>
                  <a:lnTo>
                    <a:pt x="3386" y="3386"/>
                  </a:lnTo>
                  <a:lnTo>
                    <a:pt x="3298" y="3174"/>
                  </a:lnTo>
                  <a:lnTo>
                    <a:pt x="3108" y="3078"/>
                  </a:lnTo>
                  <a:lnTo>
                    <a:pt x="2618" y="2582"/>
                  </a:lnTo>
                  <a:lnTo>
                    <a:pt x="2640" y="2590"/>
                  </a:lnTo>
                  <a:lnTo>
                    <a:pt x="2670" y="2604"/>
                  </a:lnTo>
                  <a:lnTo>
                    <a:pt x="2692" y="2612"/>
                  </a:lnTo>
                  <a:lnTo>
                    <a:pt x="2722" y="2620"/>
                  </a:lnTo>
                  <a:lnTo>
                    <a:pt x="2750" y="2626"/>
                  </a:lnTo>
                  <a:lnTo>
                    <a:pt x="2772" y="2634"/>
                  </a:lnTo>
                  <a:lnTo>
                    <a:pt x="2802" y="2642"/>
                  </a:lnTo>
                  <a:lnTo>
                    <a:pt x="2830" y="2648"/>
                  </a:lnTo>
                  <a:lnTo>
                    <a:pt x="2860" y="2648"/>
                  </a:lnTo>
                  <a:lnTo>
                    <a:pt x="2888" y="2656"/>
                  </a:lnTo>
                  <a:lnTo>
                    <a:pt x="2918" y="2656"/>
                  </a:lnTo>
                  <a:lnTo>
                    <a:pt x="2948" y="2656"/>
                  </a:lnTo>
                  <a:lnTo>
                    <a:pt x="2976" y="2656"/>
                  </a:lnTo>
                  <a:lnTo>
                    <a:pt x="3006" y="2648"/>
                  </a:lnTo>
                  <a:lnTo>
                    <a:pt x="3034" y="2648"/>
                  </a:lnTo>
                  <a:lnTo>
                    <a:pt x="3064" y="2642"/>
                  </a:lnTo>
                  <a:lnTo>
                    <a:pt x="3072" y="2642"/>
                  </a:lnTo>
                  <a:lnTo>
                    <a:pt x="3078" y="2642"/>
                  </a:lnTo>
                  <a:lnTo>
                    <a:pt x="3086" y="2642"/>
                  </a:lnTo>
                  <a:lnTo>
                    <a:pt x="3094" y="2634"/>
                  </a:lnTo>
                  <a:lnTo>
                    <a:pt x="3086" y="2648"/>
                  </a:lnTo>
                  <a:lnTo>
                    <a:pt x="3078" y="2656"/>
                  </a:lnTo>
                  <a:lnTo>
                    <a:pt x="3072" y="2670"/>
                  </a:lnTo>
                  <a:lnTo>
                    <a:pt x="3056" y="2678"/>
                  </a:lnTo>
                  <a:lnTo>
                    <a:pt x="3050" y="2692"/>
                  </a:lnTo>
                  <a:lnTo>
                    <a:pt x="3042" y="2700"/>
                  </a:lnTo>
                  <a:lnTo>
                    <a:pt x="3042" y="2714"/>
                  </a:lnTo>
                  <a:lnTo>
                    <a:pt x="3034" y="2728"/>
                  </a:lnTo>
                  <a:lnTo>
                    <a:pt x="3028" y="2736"/>
                  </a:lnTo>
                  <a:lnTo>
                    <a:pt x="3020" y="2750"/>
                  </a:lnTo>
                  <a:lnTo>
                    <a:pt x="3012" y="2766"/>
                  </a:lnTo>
                  <a:lnTo>
                    <a:pt x="3012" y="2772"/>
                  </a:lnTo>
                  <a:lnTo>
                    <a:pt x="3006" y="2786"/>
                  </a:lnTo>
                  <a:lnTo>
                    <a:pt x="3006" y="2802"/>
                  </a:lnTo>
                  <a:lnTo>
                    <a:pt x="2998" y="2808"/>
                  </a:lnTo>
                  <a:lnTo>
                    <a:pt x="2998" y="2824"/>
                  </a:lnTo>
                  <a:lnTo>
                    <a:pt x="2998" y="2838"/>
                  </a:lnTo>
                  <a:lnTo>
                    <a:pt x="2998" y="2846"/>
                  </a:lnTo>
                  <a:lnTo>
                    <a:pt x="2998" y="2860"/>
                  </a:lnTo>
                  <a:lnTo>
                    <a:pt x="2998" y="2874"/>
                  </a:lnTo>
                  <a:lnTo>
                    <a:pt x="2998" y="2882"/>
                  </a:lnTo>
                  <a:lnTo>
                    <a:pt x="2998" y="2896"/>
                  </a:lnTo>
                  <a:lnTo>
                    <a:pt x="2998" y="2904"/>
                  </a:lnTo>
                  <a:lnTo>
                    <a:pt x="2998" y="2918"/>
                  </a:lnTo>
                  <a:lnTo>
                    <a:pt x="3006" y="2926"/>
                  </a:lnTo>
                  <a:lnTo>
                    <a:pt x="3006" y="2932"/>
                  </a:lnTo>
                  <a:lnTo>
                    <a:pt x="3012" y="2948"/>
                  </a:lnTo>
                  <a:lnTo>
                    <a:pt x="3012" y="2954"/>
                  </a:lnTo>
                  <a:lnTo>
                    <a:pt x="3020" y="2962"/>
                  </a:lnTo>
                  <a:lnTo>
                    <a:pt x="3020" y="2970"/>
                  </a:lnTo>
                  <a:lnTo>
                    <a:pt x="3028" y="2976"/>
                  </a:lnTo>
                  <a:lnTo>
                    <a:pt x="3034" y="2984"/>
                  </a:lnTo>
                  <a:lnTo>
                    <a:pt x="3050" y="2998"/>
                  </a:lnTo>
                  <a:lnTo>
                    <a:pt x="3056" y="3014"/>
                  </a:lnTo>
                  <a:lnTo>
                    <a:pt x="3072" y="3020"/>
                  </a:lnTo>
                  <a:lnTo>
                    <a:pt x="3086" y="3028"/>
                  </a:lnTo>
                  <a:lnTo>
                    <a:pt x="3094" y="3036"/>
                  </a:lnTo>
                  <a:lnTo>
                    <a:pt x="3108" y="3042"/>
                  </a:lnTo>
                  <a:lnTo>
                    <a:pt x="3122" y="3050"/>
                  </a:lnTo>
                  <a:lnTo>
                    <a:pt x="3130" y="3050"/>
                  </a:lnTo>
                  <a:lnTo>
                    <a:pt x="3144" y="3050"/>
                  </a:lnTo>
                  <a:lnTo>
                    <a:pt x="3158" y="3056"/>
                  </a:lnTo>
                  <a:lnTo>
                    <a:pt x="3166" y="3056"/>
                  </a:lnTo>
                  <a:lnTo>
                    <a:pt x="3180" y="3056"/>
                  </a:lnTo>
                  <a:lnTo>
                    <a:pt x="3188" y="3050"/>
                  </a:lnTo>
                  <a:lnTo>
                    <a:pt x="3202" y="3050"/>
                  </a:lnTo>
                  <a:lnTo>
                    <a:pt x="3210" y="3050"/>
                  </a:lnTo>
                  <a:lnTo>
                    <a:pt x="3218" y="3050"/>
                  </a:lnTo>
                  <a:lnTo>
                    <a:pt x="3224" y="3042"/>
                  </a:lnTo>
                  <a:lnTo>
                    <a:pt x="3240" y="3042"/>
                  </a:lnTo>
                  <a:lnTo>
                    <a:pt x="3246" y="3036"/>
                  </a:lnTo>
                  <a:lnTo>
                    <a:pt x="3254" y="3036"/>
                  </a:lnTo>
                  <a:lnTo>
                    <a:pt x="3262" y="3028"/>
                  </a:lnTo>
                  <a:lnTo>
                    <a:pt x="3276" y="3020"/>
                  </a:lnTo>
                  <a:lnTo>
                    <a:pt x="3282" y="3020"/>
                  </a:lnTo>
                  <a:lnTo>
                    <a:pt x="3290" y="3014"/>
                  </a:lnTo>
                  <a:lnTo>
                    <a:pt x="3298" y="3006"/>
                  </a:lnTo>
                  <a:lnTo>
                    <a:pt x="3304" y="2998"/>
                  </a:lnTo>
                  <a:lnTo>
                    <a:pt x="3312" y="2992"/>
                  </a:lnTo>
                  <a:lnTo>
                    <a:pt x="3320" y="2984"/>
                  </a:lnTo>
                  <a:lnTo>
                    <a:pt x="3326" y="2970"/>
                  </a:lnTo>
                  <a:lnTo>
                    <a:pt x="3326" y="2962"/>
                  </a:lnTo>
                  <a:lnTo>
                    <a:pt x="3334" y="2954"/>
                  </a:lnTo>
                  <a:lnTo>
                    <a:pt x="3342" y="2948"/>
                  </a:lnTo>
                  <a:lnTo>
                    <a:pt x="3342" y="2932"/>
                  </a:lnTo>
                  <a:lnTo>
                    <a:pt x="3348" y="2918"/>
                  </a:lnTo>
                  <a:lnTo>
                    <a:pt x="3348" y="2912"/>
                  </a:lnTo>
                  <a:lnTo>
                    <a:pt x="3348" y="2896"/>
                  </a:lnTo>
                  <a:lnTo>
                    <a:pt x="3348" y="2882"/>
                  </a:lnTo>
                  <a:lnTo>
                    <a:pt x="3348" y="2868"/>
                  </a:lnTo>
                  <a:lnTo>
                    <a:pt x="3342" y="2860"/>
                  </a:lnTo>
                  <a:lnTo>
                    <a:pt x="3334" y="2846"/>
                  </a:lnTo>
                  <a:lnTo>
                    <a:pt x="3334" y="2830"/>
                  </a:lnTo>
                  <a:lnTo>
                    <a:pt x="3326" y="2824"/>
                  </a:lnTo>
                  <a:lnTo>
                    <a:pt x="3320" y="2808"/>
                  </a:lnTo>
                  <a:lnTo>
                    <a:pt x="3312" y="2802"/>
                  </a:lnTo>
                  <a:lnTo>
                    <a:pt x="3304" y="2794"/>
                  </a:lnTo>
                  <a:lnTo>
                    <a:pt x="3298" y="2780"/>
                  </a:lnTo>
                  <a:lnTo>
                    <a:pt x="3282" y="2772"/>
                  </a:lnTo>
                  <a:lnTo>
                    <a:pt x="3276" y="2772"/>
                  </a:lnTo>
                  <a:lnTo>
                    <a:pt x="3268" y="2766"/>
                  </a:lnTo>
                  <a:lnTo>
                    <a:pt x="3254" y="2766"/>
                  </a:lnTo>
                  <a:lnTo>
                    <a:pt x="3246" y="2758"/>
                  </a:lnTo>
                  <a:lnTo>
                    <a:pt x="3240" y="2758"/>
                  </a:lnTo>
                  <a:lnTo>
                    <a:pt x="3224" y="2758"/>
                  </a:lnTo>
                  <a:lnTo>
                    <a:pt x="3218" y="2750"/>
                  </a:lnTo>
                  <a:lnTo>
                    <a:pt x="3202" y="2750"/>
                  </a:lnTo>
                  <a:lnTo>
                    <a:pt x="3188" y="2758"/>
                  </a:lnTo>
                  <a:lnTo>
                    <a:pt x="3180" y="2758"/>
                  </a:lnTo>
                  <a:lnTo>
                    <a:pt x="3166" y="2758"/>
                  </a:lnTo>
                  <a:lnTo>
                    <a:pt x="3158" y="2766"/>
                  </a:lnTo>
                  <a:lnTo>
                    <a:pt x="3144" y="2766"/>
                  </a:lnTo>
                  <a:lnTo>
                    <a:pt x="3136" y="2772"/>
                  </a:lnTo>
                  <a:lnTo>
                    <a:pt x="3130" y="2780"/>
                  </a:lnTo>
                  <a:lnTo>
                    <a:pt x="3116" y="2786"/>
                  </a:lnTo>
                  <a:lnTo>
                    <a:pt x="3108" y="2802"/>
                  </a:lnTo>
                  <a:lnTo>
                    <a:pt x="3100" y="2808"/>
                  </a:lnTo>
                  <a:lnTo>
                    <a:pt x="3094" y="2824"/>
                  </a:lnTo>
                  <a:lnTo>
                    <a:pt x="3086" y="2830"/>
                  </a:lnTo>
                  <a:lnTo>
                    <a:pt x="3086" y="2846"/>
                  </a:lnTo>
                  <a:lnTo>
                    <a:pt x="3078" y="2852"/>
                  </a:lnTo>
                  <a:lnTo>
                    <a:pt x="3078" y="2860"/>
                  </a:lnTo>
                  <a:lnTo>
                    <a:pt x="3078" y="2874"/>
                  </a:lnTo>
                  <a:lnTo>
                    <a:pt x="3078" y="2882"/>
                  </a:lnTo>
                  <a:lnTo>
                    <a:pt x="3078" y="2896"/>
                  </a:lnTo>
                  <a:lnTo>
                    <a:pt x="3086" y="2904"/>
                  </a:lnTo>
                  <a:lnTo>
                    <a:pt x="3086" y="2912"/>
                  </a:lnTo>
                  <a:lnTo>
                    <a:pt x="3094" y="2926"/>
                  </a:lnTo>
                  <a:lnTo>
                    <a:pt x="3094" y="2932"/>
                  </a:lnTo>
                  <a:lnTo>
                    <a:pt x="3100" y="2940"/>
                  </a:lnTo>
                  <a:lnTo>
                    <a:pt x="3108" y="2954"/>
                  </a:lnTo>
                  <a:lnTo>
                    <a:pt x="3116" y="2962"/>
                  </a:lnTo>
                  <a:lnTo>
                    <a:pt x="3122" y="2962"/>
                  </a:lnTo>
                  <a:lnTo>
                    <a:pt x="3122" y="2970"/>
                  </a:lnTo>
                  <a:lnTo>
                    <a:pt x="3130" y="2970"/>
                  </a:lnTo>
                  <a:lnTo>
                    <a:pt x="3136" y="2976"/>
                  </a:lnTo>
                  <a:lnTo>
                    <a:pt x="3144" y="2976"/>
                  </a:lnTo>
                  <a:lnTo>
                    <a:pt x="3144" y="2984"/>
                  </a:lnTo>
                  <a:lnTo>
                    <a:pt x="3152" y="2984"/>
                  </a:lnTo>
                  <a:lnTo>
                    <a:pt x="3158" y="2984"/>
                  </a:lnTo>
                  <a:lnTo>
                    <a:pt x="3166" y="2984"/>
                  </a:lnTo>
                  <a:lnTo>
                    <a:pt x="3174" y="2984"/>
                  </a:lnTo>
                  <a:lnTo>
                    <a:pt x="3180" y="2984"/>
                  </a:lnTo>
                  <a:lnTo>
                    <a:pt x="3188" y="2984"/>
                  </a:lnTo>
                  <a:lnTo>
                    <a:pt x="3196" y="2984"/>
                  </a:lnTo>
                  <a:lnTo>
                    <a:pt x="3202" y="2976"/>
                  </a:lnTo>
                  <a:lnTo>
                    <a:pt x="3210" y="2976"/>
                  </a:lnTo>
                  <a:lnTo>
                    <a:pt x="3218" y="2976"/>
                  </a:lnTo>
                  <a:lnTo>
                    <a:pt x="3218" y="2970"/>
                  </a:lnTo>
                  <a:lnTo>
                    <a:pt x="3224" y="2970"/>
                  </a:lnTo>
                  <a:lnTo>
                    <a:pt x="3232" y="2962"/>
                  </a:lnTo>
                  <a:lnTo>
                    <a:pt x="3240" y="2954"/>
                  </a:lnTo>
                  <a:lnTo>
                    <a:pt x="3246" y="2948"/>
                  </a:lnTo>
                  <a:lnTo>
                    <a:pt x="3254" y="2940"/>
                  </a:lnTo>
                  <a:lnTo>
                    <a:pt x="3254" y="2932"/>
                  </a:lnTo>
                  <a:lnTo>
                    <a:pt x="3254" y="2926"/>
                  </a:lnTo>
                  <a:lnTo>
                    <a:pt x="3262" y="2926"/>
                  </a:lnTo>
                  <a:lnTo>
                    <a:pt x="3262" y="2918"/>
                  </a:lnTo>
                  <a:lnTo>
                    <a:pt x="3262" y="2912"/>
                  </a:lnTo>
                  <a:lnTo>
                    <a:pt x="3262" y="2904"/>
                  </a:lnTo>
                  <a:lnTo>
                    <a:pt x="3262" y="2896"/>
                  </a:lnTo>
                  <a:lnTo>
                    <a:pt x="3254" y="2890"/>
                  </a:lnTo>
                  <a:lnTo>
                    <a:pt x="3254" y="2882"/>
                  </a:lnTo>
                  <a:lnTo>
                    <a:pt x="3246" y="2874"/>
                  </a:lnTo>
                  <a:lnTo>
                    <a:pt x="3246" y="2868"/>
                  </a:lnTo>
                  <a:lnTo>
                    <a:pt x="3240" y="2868"/>
                  </a:lnTo>
                  <a:lnTo>
                    <a:pt x="3240" y="2860"/>
                  </a:lnTo>
                  <a:lnTo>
                    <a:pt x="3232" y="2860"/>
                  </a:lnTo>
                  <a:lnTo>
                    <a:pt x="3232" y="2852"/>
                  </a:lnTo>
                  <a:lnTo>
                    <a:pt x="3224" y="2852"/>
                  </a:lnTo>
                  <a:lnTo>
                    <a:pt x="3218" y="2852"/>
                  </a:lnTo>
                  <a:lnTo>
                    <a:pt x="3218" y="2846"/>
                  </a:lnTo>
                  <a:lnTo>
                    <a:pt x="3210" y="2846"/>
                  </a:lnTo>
                  <a:lnTo>
                    <a:pt x="3202" y="2846"/>
                  </a:lnTo>
                  <a:lnTo>
                    <a:pt x="3196" y="2846"/>
                  </a:lnTo>
                  <a:lnTo>
                    <a:pt x="3188" y="2852"/>
                  </a:lnTo>
                  <a:lnTo>
                    <a:pt x="3180" y="2852"/>
                  </a:lnTo>
                  <a:lnTo>
                    <a:pt x="3174" y="2852"/>
                  </a:lnTo>
                  <a:lnTo>
                    <a:pt x="3166" y="2860"/>
                  </a:lnTo>
                  <a:lnTo>
                    <a:pt x="3158" y="2860"/>
                  </a:lnTo>
                  <a:lnTo>
                    <a:pt x="3158" y="2868"/>
                  </a:lnTo>
                  <a:lnTo>
                    <a:pt x="3152" y="2868"/>
                  </a:lnTo>
                  <a:lnTo>
                    <a:pt x="3174" y="2896"/>
                  </a:lnTo>
                  <a:lnTo>
                    <a:pt x="3180" y="2890"/>
                  </a:lnTo>
                  <a:lnTo>
                    <a:pt x="3188" y="2890"/>
                  </a:lnTo>
                  <a:lnTo>
                    <a:pt x="3188" y="2882"/>
                  </a:lnTo>
                  <a:lnTo>
                    <a:pt x="3196" y="2882"/>
                  </a:lnTo>
                  <a:lnTo>
                    <a:pt x="3202" y="2882"/>
                  </a:lnTo>
                  <a:lnTo>
                    <a:pt x="3210" y="2882"/>
                  </a:lnTo>
                  <a:lnTo>
                    <a:pt x="3210" y="2890"/>
                  </a:lnTo>
                  <a:lnTo>
                    <a:pt x="3218" y="2890"/>
                  </a:lnTo>
                  <a:lnTo>
                    <a:pt x="3218" y="2896"/>
                  </a:lnTo>
                  <a:lnTo>
                    <a:pt x="3224" y="2896"/>
                  </a:lnTo>
                  <a:lnTo>
                    <a:pt x="3224" y="2904"/>
                  </a:lnTo>
                  <a:lnTo>
                    <a:pt x="3224" y="2912"/>
                  </a:lnTo>
                  <a:lnTo>
                    <a:pt x="3224" y="2918"/>
                  </a:lnTo>
                  <a:lnTo>
                    <a:pt x="3224" y="2926"/>
                  </a:lnTo>
                  <a:lnTo>
                    <a:pt x="3218" y="2926"/>
                  </a:lnTo>
                  <a:lnTo>
                    <a:pt x="3218" y="2932"/>
                  </a:lnTo>
                  <a:lnTo>
                    <a:pt x="3210" y="2932"/>
                  </a:lnTo>
                  <a:lnTo>
                    <a:pt x="3210" y="2940"/>
                  </a:lnTo>
                  <a:lnTo>
                    <a:pt x="3202" y="2940"/>
                  </a:lnTo>
                  <a:lnTo>
                    <a:pt x="3196" y="2948"/>
                  </a:lnTo>
                  <a:lnTo>
                    <a:pt x="3188" y="2948"/>
                  </a:lnTo>
                  <a:lnTo>
                    <a:pt x="3180" y="2948"/>
                  </a:lnTo>
                  <a:lnTo>
                    <a:pt x="3180" y="2954"/>
                  </a:lnTo>
                  <a:lnTo>
                    <a:pt x="3174" y="2954"/>
                  </a:lnTo>
                  <a:lnTo>
                    <a:pt x="3166" y="2954"/>
                  </a:lnTo>
                  <a:lnTo>
                    <a:pt x="3166" y="2948"/>
                  </a:lnTo>
                  <a:lnTo>
                    <a:pt x="3158" y="2948"/>
                  </a:lnTo>
                  <a:lnTo>
                    <a:pt x="3152" y="2948"/>
                  </a:lnTo>
                  <a:lnTo>
                    <a:pt x="3144" y="2940"/>
                  </a:lnTo>
                  <a:lnTo>
                    <a:pt x="3136" y="2932"/>
                  </a:lnTo>
                  <a:lnTo>
                    <a:pt x="3130" y="2926"/>
                  </a:lnTo>
                  <a:lnTo>
                    <a:pt x="3122" y="2918"/>
                  </a:lnTo>
                  <a:lnTo>
                    <a:pt x="3122" y="2912"/>
                  </a:lnTo>
                  <a:lnTo>
                    <a:pt x="3116" y="2904"/>
                  </a:lnTo>
                  <a:lnTo>
                    <a:pt x="3116" y="2896"/>
                  </a:lnTo>
                  <a:lnTo>
                    <a:pt x="3116" y="2890"/>
                  </a:lnTo>
                  <a:lnTo>
                    <a:pt x="3116" y="2882"/>
                  </a:lnTo>
                  <a:lnTo>
                    <a:pt x="3116" y="2874"/>
                  </a:lnTo>
                  <a:lnTo>
                    <a:pt x="3116" y="2868"/>
                  </a:lnTo>
                  <a:lnTo>
                    <a:pt x="3116" y="2860"/>
                  </a:lnTo>
                  <a:lnTo>
                    <a:pt x="3116" y="2852"/>
                  </a:lnTo>
                  <a:lnTo>
                    <a:pt x="3122" y="2846"/>
                  </a:lnTo>
                  <a:lnTo>
                    <a:pt x="3122" y="2838"/>
                  </a:lnTo>
                  <a:lnTo>
                    <a:pt x="3130" y="2830"/>
                  </a:lnTo>
                  <a:lnTo>
                    <a:pt x="3136" y="2824"/>
                  </a:lnTo>
                  <a:lnTo>
                    <a:pt x="3144" y="2816"/>
                  </a:lnTo>
                  <a:lnTo>
                    <a:pt x="3152" y="2808"/>
                  </a:lnTo>
                  <a:lnTo>
                    <a:pt x="3158" y="2802"/>
                  </a:lnTo>
                  <a:lnTo>
                    <a:pt x="3166" y="2794"/>
                  </a:lnTo>
                  <a:lnTo>
                    <a:pt x="3174" y="2794"/>
                  </a:lnTo>
                  <a:lnTo>
                    <a:pt x="3180" y="2794"/>
                  </a:lnTo>
                  <a:lnTo>
                    <a:pt x="3188" y="2786"/>
                  </a:lnTo>
                  <a:lnTo>
                    <a:pt x="3196" y="2786"/>
                  </a:lnTo>
                  <a:lnTo>
                    <a:pt x="3202" y="2786"/>
                  </a:lnTo>
                  <a:lnTo>
                    <a:pt x="3210" y="2786"/>
                  </a:lnTo>
                  <a:lnTo>
                    <a:pt x="3224" y="2786"/>
                  </a:lnTo>
                  <a:lnTo>
                    <a:pt x="3232" y="2786"/>
                  </a:lnTo>
                  <a:lnTo>
                    <a:pt x="3240" y="2794"/>
                  </a:lnTo>
                  <a:lnTo>
                    <a:pt x="3246" y="2794"/>
                  </a:lnTo>
                  <a:lnTo>
                    <a:pt x="3254" y="2794"/>
                  </a:lnTo>
                  <a:lnTo>
                    <a:pt x="3262" y="2802"/>
                  </a:lnTo>
                  <a:lnTo>
                    <a:pt x="3268" y="2802"/>
                  </a:lnTo>
                  <a:lnTo>
                    <a:pt x="3276" y="2808"/>
                  </a:lnTo>
                  <a:lnTo>
                    <a:pt x="3282" y="2816"/>
                  </a:lnTo>
                  <a:lnTo>
                    <a:pt x="3282" y="2824"/>
                  </a:lnTo>
                  <a:lnTo>
                    <a:pt x="3290" y="2830"/>
                  </a:lnTo>
                  <a:lnTo>
                    <a:pt x="3298" y="2838"/>
                  </a:lnTo>
                  <a:lnTo>
                    <a:pt x="3304" y="2846"/>
                  </a:lnTo>
                  <a:lnTo>
                    <a:pt x="3304" y="2860"/>
                  </a:lnTo>
                  <a:lnTo>
                    <a:pt x="3312" y="2868"/>
                  </a:lnTo>
                  <a:lnTo>
                    <a:pt x="3312" y="2874"/>
                  </a:lnTo>
                  <a:lnTo>
                    <a:pt x="3312" y="2882"/>
                  </a:lnTo>
                  <a:lnTo>
                    <a:pt x="3312" y="2896"/>
                  </a:lnTo>
                  <a:lnTo>
                    <a:pt x="3312" y="2904"/>
                  </a:lnTo>
                  <a:lnTo>
                    <a:pt x="3312" y="2912"/>
                  </a:lnTo>
                  <a:lnTo>
                    <a:pt x="3312" y="2926"/>
                  </a:lnTo>
                  <a:lnTo>
                    <a:pt x="3304" y="2932"/>
                  </a:lnTo>
                  <a:lnTo>
                    <a:pt x="3304" y="2940"/>
                  </a:lnTo>
                  <a:lnTo>
                    <a:pt x="3298" y="2948"/>
                  </a:lnTo>
                  <a:lnTo>
                    <a:pt x="3298" y="2954"/>
                  </a:lnTo>
                  <a:lnTo>
                    <a:pt x="3290" y="2962"/>
                  </a:lnTo>
                  <a:lnTo>
                    <a:pt x="3282" y="2970"/>
                  </a:lnTo>
                  <a:lnTo>
                    <a:pt x="3282" y="2976"/>
                  </a:lnTo>
                  <a:lnTo>
                    <a:pt x="3276" y="2976"/>
                  </a:lnTo>
                  <a:lnTo>
                    <a:pt x="3268" y="2984"/>
                  </a:lnTo>
                  <a:lnTo>
                    <a:pt x="3262" y="2992"/>
                  </a:lnTo>
                  <a:lnTo>
                    <a:pt x="3254" y="2998"/>
                  </a:lnTo>
                  <a:lnTo>
                    <a:pt x="3246" y="2998"/>
                  </a:lnTo>
                  <a:lnTo>
                    <a:pt x="3240" y="3006"/>
                  </a:lnTo>
                  <a:lnTo>
                    <a:pt x="3232" y="3006"/>
                  </a:lnTo>
                  <a:lnTo>
                    <a:pt x="3224" y="3014"/>
                  </a:lnTo>
                  <a:lnTo>
                    <a:pt x="3218" y="3014"/>
                  </a:lnTo>
                  <a:lnTo>
                    <a:pt x="3210" y="3014"/>
                  </a:lnTo>
                  <a:lnTo>
                    <a:pt x="3202" y="3020"/>
                  </a:lnTo>
                  <a:lnTo>
                    <a:pt x="3196" y="3020"/>
                  </a:lnTo>
                  <a:lnTo>
                    <a:pt x="3188" y="3020"/>
                  </a:lnTo>
                  <a:lnTo>
                    <a:pt x="3174" y="3020"/>
                  </a:lnTo>
                  <a:lnTo>
                    <a:pt x="3166" y="3020"/>
                  </a:lnTo>
                  <a:lnTo>
                    <a:pt x="3158" y="3020"/>
                  </a:lnTo>
                  <a:lnTo>
                    <a:pt x="3152" y="3020"/>
                  </a:lnTo>
                  <a:lnTo>
                    <a:pt x="3136" y="3020"/>
                  </a:lnTo>
                  <a:lnTo>
                    <a:pt x="3130" y="3014"/>
                  </a:lnTo>
                  <a:lnTo>
                    <a:pt x="3122" y="3014"/>
                  </a:lnTo>
                  <a:lnTo>
                    <a:pt x="3108" y="3006"/>
                  </a:lnTo>
                  <a:lnTo>
                    <a:pt x="3100" y="2998"/>
                  </a:lnTo>
                  <a:lnTo>
                    <a:pt x="3094" y="2992"/>
                  </a:lnTo>
                  <a:lnTo>
                    <a:pt x="3078" y="2984"/>
                  </a:lnTo>
                  <a:lnTo>
                    <a:pt x="3072" y="2976"/>
                  </a:lnTo>
                  <a:lnTo>
                    <a:pt x="3064" y="2962"/>
                  </a:lnTo>
                  <a:lnTo>
                    <a:pt x="3056" y="2962"/>
                  </a:lnTo>
                  <a:lnTo>
                    <a:pt x="3050" y="2954"/>
                  </a:lnTo>
                  <a:lnTo>
                    <a:pt x="3050" y="2948"/>
                  </a:lnTo>
                  <a:lnTo>
                    <a:pt x="3042" y="2940"/>
                  </a:lnTo>
                  <a:lnTo>
                    <a:pt x="3042" y="2932"/>
                  </a:lnTo>
                  <a:lnTo>
                    <a:pt x="3034" y="2926"/>
                  </a:lnTo>
                  <a:lnTo>
                    <a:pt x="3034" y="2918"/>
                  </a:lnTo>
                  <a:lnTo>
                    <a:pt x="3034" y="2904"/>
                  </a:lnTo>
                  <a:lnTo>
                    <a:pt x="3034" y="2896"/>
                  </a:lnTo>
                  <a:lnTo>
                    <a:pt x="3028" y="2890"/>
                  </a:lnTo>
                  <a:lnTo>
                    <a:pt x="3028" y="2882"/>
                  </a:lnTo>
                  <a:lnTo>
                    <a:pt x="3028" y="2868"/>
                  </a:lnTo>
                  <a:lnTo>
                    <a:pt x="3028" y="2860"/>
                  </a:lnTo>
                  <a:lnTo>
                    <a:pt x="3028" y="2852"/>
                  </a:lnTo>
                  <a:lnTo>
                    <a:pt x="3028" y="2838"/>
                  </a:lnTo>
                  <a:lnTo>
                    <a:pt x="3034" y="2830"/>
                  </a:lnTo>
                  <a:lnTo>
                    <a:pt x="3034" y="2816"/>
                  </a:lnTo>
                  <a:lnTo>
                    <a:pt x="3042" y="2794"/>
                  </a:lnTo>
                  <a:lnTo>
                    <a:pt x="3042" y="2780"/>
                  </a:lnTo>
                  <a:lnTo>
                    <a:pt x="3050" y="2766"/>
                  </a:lnTo>
                  <a:lnTo>
                    <a:pt x="3056" y="2750"/>
                  </a:lnTo>
                  <a:lnTo>
                    <a:pt x="3064" y="2736"/>
                  </a:lnTo>
                  <a:lnTo>
                    <a:pt x="3072" y="2722"/>
                  </a:lnTo>
                  <a:lnTo>
                    <a:pt x="3086" y="2706"/>
                  </a:lnTo>
                  <a:lnTo>
                    <a:pt x="3094" y="2692"/>
                  </a:lnTo>
                  <a:lnTo>
                    <a:pt x="3100" y="2678"/>
                  </a:lnTo>
                  <a:lnTo>
                    <a:pt x="3116" y="2662"/>
                  </a:lnTo>
                  <a:lnTo>
                    <a:pt x="3130" y="2648"/>
                  </a:lnTo>
                  <a:lnTo>
                    <a:pt x="3136" y="2642"/>
                  </a:lnTo>
                  <a:lnTo>
                    <a:pt x="3152" y="2626"/>
                  </a:lnTo>
                  <a:lnTo>
                    <a:pt x="3166" y="2620"/>
                  </a:lnTo>
                  <a:lnTo>
                    <a:pt x="3180" y="2604"/>
                  </a:lnTo>
                  <a:lnTo>
                    <a:pt x="3210" y="2590"/>
                  </a:lnTo>
                  <a:lnTo>
                    <a:pt x="3240" y="2576"/>
                  </a:lnTo>
                  <a:lnTo>
                    <a:pt x="3268" y="2554"/>
                  </a:lnTo>
                  <a:lnTo>
                    <a:pt x="3298" y="2538"/>
                  </a:lnTo>
                  <a:lnTo>
                    <a:pt x="3320" y="2510"/>
                  </a:lnTo>
                  <a:lnTo>
                    <a:pt x="3348" y="2488"/>
                  </a:lnTo>
                  <a:lnTo>
                    <a:pt x="3378" y="2458"/>
                  </a:lnTo>
                  <a:lnTo>
                    <a:pt x="3400" y="2436"/>
                  </a:lnTo>
                  <a:lnTo>
                    <a:pt x="3422" y="2400"/>
                  </a:lnTo>
                  <a:lnTo>
                    <a:pt x="3444" y="2372"/>
                  </a:lnTo>
                  <a:lnTo>
                    <a:pt x="3466" y="2334"/>
                  </a:lnTo>
                  <a:lnTo>
                    <a:pt x="3488" y="2298"/>
                  </a:lnTo>
                  <a:lnTo>
                    <a:pt x="3502" y="2262"/>
                  </a:lnTo>
                  <a:lnTo>
                    <a:pt x="3516" y="2218"/>
                  </a:lnTo>
                  <a:lnTo>
                    <a:pt x="3530" y="2174"/>
                  </a:lnTo>
                  <a:lnTo>
                    <a:pt x="3538" y="2130"/>
                  </a:lnTo>
                  <a:lnTo>
                    <a:pt x="3538" y="2122"/>
                  </a:lnTo>
                  <a:lnTo>
                    <a:pt x="3538" y="2116"/>
                  </a:lnTo>
                  <a:lnTo>
                    <a:pt x="3546" y="2108"/>
                  </a:lnTo>
                  <a:lnTo>
                    <a:pt x="3546" y="2102"/>
                  </a:lnTo>
                  <a:lnTo>
                    <a:pt x="3546" y="2094"/>
                  </a:lnTo>
                  <a:lnTo>
                    <a:pt x="3546" y="2086"/>
                  </a:lnTo>
                  <a:lnTo>
                    <a:pt x="3546" y="2080"/>
                  </a:lnTo>
                  <a:lnTo>
                    <a:pt x="3546" y="2072"/>
                  </a:lnTo>
                  <a:lnTo>
                    <a:pt x="3546" y="2064"/>
                  </a:lnTo>
                  <a:lnTo>
                    <a:pt x="3546" y="2058"/>
                  </a:lnTo>
                  <a:lnTo>
                    <a:pt x="3546" y="2050"/>
                  </a:lnTo>
                  <a:lnTo>
                    <a:pt x="3546" y="2042"/>
                  </a:lnTo>
                  <a:lnTo>
                    <a:pt x="3546" y="1998"/>
                  </a:lnTo>
                  <a:lnTo>
                    <a:pt x="3538" y="1956"/>
                  </a:lnTo>
                  <a:lnTo>
                    <a:pt x="3530" y="1912"/>
                  </a:lnTo>
                  <a:lnTo>
                    <a:pt x="3516" y="1874"/>
                  </a:lnTo>
                  <a:lnTo>
                    <a:pt x="3502" y="1832"/>
                  </a:lnTo>
                  <a:lnTo>
                    <a:pt x="3480" y="1794"/>
                  </a:lnTo>
                  <a:lnTo>
                    <a:pt x="3466" y="1758"/>
                  </a:lnTo>
                  <a:lnTo>
                    <a:pt x="3444" y="1722"/>
                  </a:lnTo>
                  <a:lnTo>
                    <a:pt x="3414" y="1692"/>
                  </a:lnTo>
                  <a:lnTo>
                    <a:pt x="3386" y="1664"/>
                  </a:lnTo>
                  <a:lnTo>
                    <a:pt x="3356" y="1634"/>
                  </a:lnTo>
                  <a:lnTo>
                    <a:pt x="3326" y="1604"/>
                  </a:lnTo>
                  <a:lnTo>
                    <a:pt x="3290" y="1584"/>
                  </a:lnTo>
                  <a:lnTo>
                    <a:pt x="3262" y="1568"/>
                  </a:lnTo>
                  <a:lnTo>
                    <a:pt x="3224" y="1554"/>
                  </a:lnTo>
                  <a:lnTo>
                    <a:pt x="3188" y="1540"/>
                  </a:lnTo>
                  <a:lnTo>
                    <a:pt x="3202" y="1540"/>
                  </a:lnTo>
                  <a:lnTo>
                    <a:pt x="3218" y="1532"/>
                  </a:lnTo>
                  <a:lnTo>
                    <a:pt x="3232" y="1532"/>
                  </a:lnTo>
                  <a:lnTo>
                    <a:pt x="3246" y="1524"/>
                  </a:lnTo>
                  <a:lnTo>
                    <a:pt x="3254" y="1524"/>
                  </a:lnTo>
                  <a:lnTo>
                    <a:pt x="3268" y="1518"/>
                  </a:lnTo>
                  <a:lnTo>
                    <a:pt x="3282" y="1510"/>
                  </a:lnTo>
                  <a:lnTo>
                    <a:pt x="3298" y="1502"/>
                  </a:lnTo>
                  <a:lnTo>
                    <a:pt x="3304" y="1502"/>
                  </a:lnTo>
                  <a:lnTo>
                    <a:pt x="3320" y="1496"/>
                  </a:lnTo>
                  <a:lnTo>
                    <a:pt x="3326" y="1488"/>
                  </a:lnTo>
                  <a:lnTo>
                    <a:pt x="3342" y="1480"/>
                  </a:lnTo>
                  <a:lnTo>
                    <a:pt x="3348" y="1474"/>
                  </a:lnTo>
                  <a:lnTo>
                    <a:pt x="3356" y="1466"/>
                  </a:lnTo>
                  <a:lnTo>
                    <a:pt x="3364" y="1458"/>
                  </a:lnTo>
                  <a:lnTo>
                    <a:pt x="3370" y="1452"/>
                  </a:lnTo>
                  <a:lnTo>
                    <a:pt x="3378" y="1452"/>
                  </a:lnTo>
                  <a:lnTo>
                    <a:pt x="3386" y="1444"/>
                  </a:lnTo>
                  <a:lnTo>
                    <a:pt x="3392" y="1438"/>
                  </a:lnTo>
                  <a:lnTo>
                    <a:pt x="3392" y="1430"/>
                  </a:lnTo>
                  <a:lnTo>
                    <a:pt x="3400" y="1422"/>
                  </a:lnTo>
                  <a:lnTo>
                    <a:pt x="3406" y="1416"/>
                  </a:lnTo>
                  <a:lnTo>
                    <a:pt x="3406" y="1408"/>
                  </a:lnTo>
                  <a:lnTo>
                    <a:pt x="3406" y="1400"/>
                  </a:lnTo>
                  <a:lnTo>
                    <a:pt x="3414" y="1394"/>
                  </a:lnTo>
                  <a:lnTo>
                    <a:pt x="3414" y="1386"/>
                  </a:lnTo>
                  <a:lnTo>
                    <a:pt x="3414" y="1378"/>
                  </a:lnTo>
                  <a:lnTo>
                    <a:pt x="3414" y="1372"/>
                  </a:lnTo>
                  <a:lnTo>
                    <a:pt x="3414" y="1364"/>
                  </a:lnTo>
                  <a:lnTo>
                    <a:pt x="3414" y="1356"/>
                  </a:lnTo>
                  <a:lnTo>
                    <a:pt x="3414" y="1350"/>
                  </a:lnTo>
                  <a:lnTo>
                    <a:pt x="3414" y="1342"/>
                  </a:lnTo>
                  <a:lnTo>
                    <a:pt x="3414" y="1334"/>
                  </a:lnTo>
                  <a:lnTo>
                    <a:pt x="3406" y="1328"/>
                  </a:lnTo>
                  <a:lnTo>
                    <a:pt x="3406" y="1320"/>
                  </a:lnTo>
                  <a:lnTo>
                    <a:pt x="3406" y="1314"/>
                  </a:lnTo>
                  <a:lnTo>
                    <a:pt x="3400" y="1306"/>
                  </a:lnTo>
                  <a:lnTo>
                    <a:pt x="3400" y="1298"/>
                  </a:lnTo>
                  <a:lnTo>
                    <a:pt x="3400" y="1292"/>
                  </a:lnTo>
                  <a:lnTo>
                    <a:pt x="3392" y="1292"/>
                  </a:lnTo>
                  <a:lnTo>
                    <a:pt x="3392" y="1284"/>
                  </a:lnTo>
                  <a:lnTo>
                    <a:pt x="3386" y="1276"/>
                  </a:lnTo>
                  <a:lnTo>
                    <a:pt x="3386" y="1270"/>
                  </a:lnTo>
                  <a:lnTo>
                    <a:pt x="3378" y="1270"/>
                  </a:lnTo>
                  <a:lnTo>
                    <a:pt x="3378" y="1262"/>
                  </a:lnTo>
                  <a:lnTo>
                    <a:pt x="3370" y="1262"/>
                  </a:lnTo>
                  <a:lnTo>
                    <a:pt x="3370" y="1254"/>
                  </a:lnTo>
                  <a:lnTo>
                    <a:pt x="3364" y="1254"/>
                  </a:lnTo>
                  <a:lnTo>
                    <a:pt x="3364" y="1248"/>
                  </a:lnTo>
                  <a:lnTo>
                    <a:pt x="3356" y="1248"/>
                  </a:lnTo>
                  <a:lnTo>
                    <a:pt x="3348" y="1240"/>
                  </a:lnTo>
                  <a:lnTo>
                    <a:pt x="3342" y="1240"/>
                  </a:lnTo>
                  <a:lnTo>
                    <a:pt x="3334" y="1232"/>
                  </a:lnTo>
                  <a:lnTo>
                    <a:pt x="3326" y="1232"/>
                  </a:lnTo>
                  <a:lnTo>
                    <a:pt x="3320" y="1232"/>
                  </a:lnTo>
                  <a:lnTo>
                    <a:pt x="3312" y="1226"/>
                  </a:lnTo>
                  <a:lnTo>
                    <a:pt x="3304" y="1226"/>
                  </a:lnTo>
                  <a:lnTo>
                    <a:pt x="3298" y="1226"/>
                  </a:lnTo>
                  <a:lnTo>
                    <a:pt x="3290" y="1226"/>
                  </a:lnTo>
                  <a:lnTo>
                    <a:pt x="3282" y="1226"/>
                  </a:lnTo>
                  <a:lnTo>
                    <a:pt x="3276" y="1226"/>
                  </a:lnTo>
                  <a:lnTo>
                    <a:pt x="3268" y="1226"/>
                  </a:lnTo>
                  <a:lnTo>
                    <a:pt x="3290" y="1210"/>
                  </a:lnTo>
                  <a:lnTo>
                    <a:pt x="3304" y="1196"/>
                  </a:lnTo>
                  <a:lnTo>
                    <a:pt x="3320" y="1174"/>
                  </a:lnTo>
                  <a:lnTo>
                    <a:pt x="3326" y="1152"/>
                  </a:lnTo>
                  <a:lnTo>
                    <a:pt x="3342" y="1130"/>
                  </a:lnTo>
                  <a:lnTo>
                    <a:pt x="3356" y="1108"/>
                  </a:lnTo>
                  <a:lnTo>
                    <a:pt x="3364" y="1086"/>
                  </a:lnTo>
                  <a:lnTo>
                    <a:pt x="3370" y="1064"/>
                  </a:lnTo>
                  <a:lnTo>
                    <a:pt x="3378" y="1036"/>
                  </a:lnTo>
                  <a:lnTo>
                    <a:pt x="3386" y="1014"/>
                  </a:lnTo>
                  <a:lnTo>
                    <a:pt x="3392" y="984"/>
                  </a:lnTo>
                  <a:lnTo>
                    <a:pt x="3392" y="956"/>
                  </a:lnTo>
                  <a:lnTo>
                    <a:pt x="3392" y="926"/>
                  </a:lnTo>
                  <a:lnTo>
                    <a:pt x="3392" y="898"/>
                  </a:lnTo>
                  <a:lnTo>
                    <a:pt x="3386" y="868"/>
                  </a:lnTo>
                  <a:lnTo>
                    <a:pt x="3378" y="838"/>
                  </a:lnTo>
                  <a:lnTo>
                    <a:pt x="3378" y="824"/>
                  </a:lnTo>
                  <a:lnTo>
                    <a:pt x="3370" y="802"/>
                  </a:lnTo>
                  <a:lnTo>
                    <a:pt x="3364" y="788"/>
                  </a:lnTo>
                  <a:lnTo>
                    <a:pt x="3356" y="766"/>
                  </a:lnTo>
                  <a:lnTo>
                    <a:pt x="3348" y="752"/>
                  </a:lnTo>
                  <a:lnTo>
                    <a:pt x="3334" y="730"/>
                  </a:lnTo>
                  <a:lnTo>
                    <a:pt x="3326" y="714"/>
                  </a:lnTo>
                  <a:lnTo>
                    <a:pt x="3312" y="692"/>
                  </a:lnTo>
                  <a:lnTo>
                    <a:pt x="3298" y="678"/>
                  </a:lnTo>
                  <a:lnTo>
                    <a:pt x="3282" y="656"/>
                  </a:lnTo>
                  <a:lnTo>
                    <a:pt x="3268" y="642"/>
                  </a:lnTo>
                  <a:lnTo>
                    <a:pt x="3254" y="628"/>
                  </a:lnTo>
                  <a:lnTo>
                    <a:pt x="3240" y="612"/>
                  </a:lnTo>
                  <a:lnTo>
                    <a:pt x="3218" y="598"/>
                  </a:lnTo>
                  <a:lnTo>
                    <a:pt x="3202" y="584"/>
                  </a:lnTo>
                  <a:lnTo>
                    <a:pt x="3180" y="568"/>
                  </a:lnTo>
                  <a:lnTo>
                    <a:pt x="3196" y="568"/>
                  </a:lnTo>
                  <a:lnTo>
                    <a:pt x="3210" y="562"/>
                  </a:lnTo>
                  <a:lnTo>
                    <a:pt x="3224" y="554"/>
                  </a:lnTo>
                  <a:lnTo>
                    <a:pt x="3240" y="554"/>
                  </a:lnTo>
                  <a:lnTo>
                    <a:pt x="3254" y="546"/>
                  </a:lnTo>
                  <a:lnTo>
                    <a:pt x="3268" y="540"/>
                  </a:lnTo>
                  <a:lnTo>
                    <a:pt x="3276" y="532"/>
                  </a:lnTo>
                  <a:lnTo>
                    <a:pt x="3290" y="518"/>
                  </a:lnTo>
                  <a:lnTo>
                    <a:pt x="3304" y="510"/>
                  </a:lnTo>
                  <a:lnTo>
                    <a:pt x="3312" y="496"/>
                  </a:lnTo>
                  <a:lnTo>
                    <a:pt x="3326" y="488"/>
                  </a:lnTo>
                  <a:lnTo>
                    <a:pt x="3334" y="474"/>
                  </a:lnTo>
                  <a:lnTo>
                    <a:pt x="3342" y="460"/>
                  </a:lnTo>
                  <a:lnTo>
                    <a:pt x="3348" y="444"/>
                  </a:lnTo>
                  <a:lnTo>
                    <a:pt x="3364" y="430"/>
                  </a:lnTo>
                  <a:lnTo>
                    <a:pt x="3370" y="416"/>
                  </a:lnTo>
                  <a:lnTo>
                    <a:pt x="3378" y="394"/>
                  </a:lnTo>
                  <a:lnTo>
                    <a:pt x="3386" y="372"/>
                  </a:lnTo>
                  <a:lnTo>
                    <a:pt x="3392" y="350"/>
                  </a:lnTo>
                  <a:lnTo>
                    <a:pt x="3400" y="328"/>
                  </a:lnTo>
                  <a:lnTo>
                    <a:pt x="3400" y="298"/>
                  </a:lnTo>
                  <a:lnTo>
                    <a:pt x="3400" y="276"/>
                  </a:lnTo>
                  <a:lnTo>
                    <a:pt x="3400" y="254"/>
                  </a:lnTo>
                  <a:lnTo>
                    <a:pt x="3400" y="226"/>
                  </a:lnTo>
                  <a:lnTo>
                    <a:pt x="3400" y="204"/>
                  </a:lnTo>
                  <a:lnTo>
                    <a:pt x="3392" y="182"/>
                  </a:lnTo>
                  <a:lnTo>
                    <a:pt x="3386" y="160"/>
                  </a:lnTo>
                  <a:lnTo>
                    <a:pt x="3378" y="138"/>
                  </a:lnTo>
                  <a:lnTo>
                    <a:pt x="3364" y="116"/>
                  </a:lnTo>
                  <a:lnTo>
                    <a:pt x="3356" y="94"/>
                  </a:lnTo>
                  <a:lnTo>
                    <a:pt x="3334" y="80"/>
                  </a:lnTo>
                  <a:lnTo>
                    <a:pt x="3320" y="58"/>
                  </a:lnTo>
                  <a:lnTo>
                    <a:pt x="3304" y="50"/>
                  </a:lnTo>
                  <a:lnTo>
                    <a:pt x="3290" y="36"/>
                  </a:lnTo>
                  <a:lnTo>
                    <a:pt x="3276" y="28"/>
                  </a:lnTo>
                  <a:lnTo>
                    <a:pt x="3262" y="22"/>
                  </a:lnTo>
                  <a:lnTo>
                    <a:pt x="3246" y="14"/>
                  </a:lnTo>
                  <a:lnTo>
                    <a:pt x="3232" y="6"/>
                  </a:lnTo>
                  <a:lnTo>
                    <a:pt x="3218" y="6"/>
                  </a:lnTo>
                  <a:lnTo>
                    <a:pt x="3202" y="0"/>
                  </a:lnTo>
                  <a:lnTo>
                    <a:pt x="3188" y="0"/>
                  </a:lnTo>
                  <a:lnTo>
                    <a:pt x="3174" y="0"/>
                  </a:lnTo>
                  <a:lnTo>
                    <a:pt x="3166" y="0"/>
                  </a:lnTo>
                  <a:lnTo>
                    <a:pt x="3152" y="0"/>
                  </a:lnTo>
                  <a:lnTo>
                    <a:pt x="3136" y="0"/>
                  </a:lnTo>
                  <a:lnTo>
                    <a:pt x="3130" y="0"/>
                  </a:lnTo>
                  <a:lnTo>
                    <a:pt x="3116" y="0"/>
                  </a:lnTo>
                  <a:lnTo>
                    <a:pt x="3100" y="0"/>
                  </a:lnTo>
                  <a:lnTo>
                    <a:pt x="3094" y="6"/>
                  </a:lnTo>
                  <a:lnTo>
                    <a:pt x="3078" y="6"/>
                  </a:lnTo>
                  <a:lnTo>
                    <a:pt x="3072" y="14"/>
                  </a:lnTo>
                  <a:lnTo>
                    <a:pt x="3064" y="14"/>
                  </a:lnTo>
                  <a:lnTo>
                    <a:pt x="3050" y="22"/>
                  </a:lnTo>
                  <a:lnTo>
                    <a:pt x="3042" y="28"/>
                  </a:lnTo>
                  <a:lnTo>
                    <a:pt x="3034" y="36"/>
                  </a:lnTo>
                  <a:lnTo>
                    <a:pt x="3020" y="44"/>
                  </a:lnTo>
                  <a:lnTo>
                    <a:pt x="3012" y="50"/>
                  </a:lnTo>
                  <a:lnTo>
                    <a:pt x="3006" y="58"/>
                  </a:lnTo>
                  <a:lnTo>
                    <a:pt x="2998" y="66"/>
                  </a:lnTo>
                  <a:lnTo>
                    <a:pt x="2992" y="72"/>
                  </a:lnTo>
                  <a:lnTo>
                    <a:pt x="2984" y="80"/>
                  </a:lnTo>
                  <a:lnTo>
                    <a:pt x="2976" y="94"/>
                  </a:lnTo>
                  <a:lnTo>
                    <a:pt x="2970" y="102"/>
                  </a:lnTo>
                  <a:lnTo>
                    <a:pt x="2962" y="110"/>
                  </a:lnTo>
                  <a:lnTo>
                    <a:pt x="2954" y="124"/>
                  </a:lnTo>
                  <a:lnTo>
                    <a:pt x="2954" y="138"/>
                  </a:lnTo>
                  <a:lnTo>
                    <a:pt x="2948" y="152"/>
                  </a:lnTo>
                  <a:lnTo>
                    <a:pt x="2948" y="168"/>
                  </a:lnTo>
                  <a:lnTo>
                    <a:pt x="2948" y="182"/>
                  </a:lnTo>
                  <a:lnTo>
                    <a:pt x="2948" y="196"/>
                  </a:lnTo>
                  <a:lnTo>
                    <a:pt x="2954" y="212"/>
                  </a:lnTo>
                  <a:lnTo>
                    <a:pt x="2954" y="226"/>
                  </a:lnTo>
                  <a:lnTo>
                    <a:pt x="2962" y="240"/>
                  </a:lnTo>
                  <a:lnTo>
                    <a:pt x="2970" y="254"/>
                  </a:lnTo>
                  <a:lnTo>
                    <a:pt x="2976" y="270"/>
                  </a:lnTo>
                  <a:lnTo>
                    <a:pt x="2984" y="276"/>
                  </a:lnTo>
                  <a:lnTo>
                    <a:pt x="2992" y="292"/>
                  </a:lnTo>
                  <a:lnTo>
                    <a:pt x="3006" y="298"/>
                  </a:lnTo>
                  <a:lnTo>
                    <a:pt x="3012" y="306"/>
                  </a:lnTo>
                  <a:lnTo>
                    <a:pt x="3020" y="314"/>
                  </a:lnTo>
                  <a:lnTo>
                    <a:pt x="3034" y="320"/>
                  </a:lnTo>
                  <a:lnTo>
                    <a:pt x="3042" y="328"/>
                  </a:lnTo>
                  <a:lnTo>
                    <a:pt x="3056" y="328"/>
                  </a:lnTo>
                  <a:lnTo>
                    <a:pt x="3072" y="336"/>
                  </a:lnTo>
                  <a:lnTo>
                    <a:pt x="3078" y="336"/>
                  </a:lnTo>
                  <a:lnTo>
                    <a:pt x="3094" y="336"/>
                  </a:lnTo>
                  <a:lnTo>
                    <a:pt x="3108" y="342"/>
                  </a:lnTo>
                  <a:lnTo>
                    <a:pt x="3116" y="342"/>
                  </a:lnTo>
                  <a:lnTo>
                    <a:pt x="3130" y="336"/>
                  </a:lnTo>
                  <a:lnTo>
                    <a:pt x="3144" y="336"/>
                  </a:lnTo>
                  <a:lnTo>
                    <a:pt x="3158" y="328"/>
                  </a:lnTo>
                  <a:lnTo>
                    <a:pt x="3166" y="328"/>
                  </a:lnTo>
                  <a:lnTo>
                    <a:pt x="3180" y="320"/>
                  </a:lnTo>
                  <a:lnTo>
                    <a:pt x="3196" y="314"/>
                  </a:lnTo>
                  <a:lnTo>
                    <a:pt x="3202" y="298"/>
                  </a:lnTo>
                  <a:lnTo>
                    <a:pt x="3218" y="292"/>
                  </a:lnTo>
                  <a:lnTo>
                    <a:pt x="3224" y="276"/>
                  </a:lnTo>
                  <a:lnTo>
                    <a:pt x="3232" y="270"/>
                  </a:lnTo>
                  <a:lnTo>
                    <a:pt x="3240" y="254"/>
                  </a:lnTo>
                  <a:lnTo>
                    <a:pt x="3246" y="248"/>
                  </a:lnTo>
                  <a:lnTo>
                    <a:pt x="3246" y="234"/>
                  </a:lnTo>
                  <a:lnTo>
                    <a:pt x="3254" y="226"/>
                  </a:lnTo>
                  <a:lnTo>
                    <a:pt x="3254" y="212"/>
                  </a:lnTo>
                  <a:lnTo>
                    <a:pt x="3254" y="196"/>
                  </a:lnTo>
                  <a:lnTo>
                    <a:pt x="3254" y="190"/>
                  </a:lnTo>
                  <a:lnTo>
                    <a:pt x="3246" y="174"/>
                  </a:lnTo>
                  <a:lnTo>
                    <a:pt x="3246" y="168"/>
                  </a:lnTo>
                  <a:lnTo>
                    <a:pt x="3240" y="152"/>
                  </a:lnTo>
                  <a:lnTo>
                    <a:pt x="3240" y="138"/>
                  </a:lnTo>
                  <a:lnTo>
                    <a:pt x="3232" y="130"/>
                  </a:lnTo>
                  <a:lnTo>
                    <a:pt x="3224" y="116"/>
                  </a:lnTo>
                  <a:lnTo>
                    <a:pt x="3210" y="110"/>
                  </a:lnTo>
                  <a:lnTo>
                    <a:pt x="3210" y="102"/>
                  </a:lnTo>
                  <a:lnTo>
                    <a:pt x="3202" y="102"/>
                  </a:lnTo>
                  <a:lnTo>
                    <a:pt x="3202" y="94"/>
                  </a:lnTo>
                  <a:lnTo>
                    <a:pt x="3196" y="94"/>
                  </a:lnTo>
                  <a:lnTo>
                    <a:pt x="3196" y="88"/>
                  </a:lnTo>
                  <a:lnTo>
                    <a:pt x="3188" y="88"/>
                  </a:lnTo>
                  <a:lnTo>
                    <a:pt x="3180" y="88"/>
                  </a:lnTo>
                  <a:lnTo>
                    <a:pt x="3174" y="80"/>
                  </a:lnTo>
                  <a:lnTo>
                    <a:pt x="3166" y="80"/>
                  </a:lnTo>
                  <a:lnTo>
                    <a:pt x="3158" y="80"/>
                  </a:lnTo>
                  <a:lnTo>
                    <a:pt x="3152" y="80"/>
                  </a:lnTo>
                  <a:lnTo>
                    <a:pt x="3144" y="80"/>
                  </a:lnTo>
                  <a:lnTo>
                    <a:pt x="3136" y="80"/>
                  </a:lnTo>
                  <a:lnTo>
                    <a:pt x="3130" y="80"/>
                  </a:lnTo>
                  <a:lnTo>
                    <a:pt x="3122" y="80"/>
                  </a:lnTo>
                  <a:lnTo>
                    <a:pt x="3116" y="88"/>
                  </a:lnTo>
                  <a:lnTo>
                    <a:pt x="3108" y="88"/>
                  </a:lnTo>
                  <a:lnTo>
                    <a:pt x="3100" y="88"/>
                  </a:lnTo>
                  <a:lnTo>
                    <a:pt x="3094" y="94"/>
                  </a:lnTo>
                  <a:lnTo>
                    <a:pt x="3086" y="102"/>
                  </a:lnTo>
                  <a:lnTo>
                    <a:pt x="3078" y="110"/>
                  </a:lnTo>
                  <a:lnTo>
                    <a:pt x="3072" y="110"/>
                  </a:lnTo>
                  <a:lnTo>
                    <a:pt x="3072" y="116"/>
                  </a:lnTo>
                  <a:lnTo>
                    <a:pt x="3064" y="116"/>
                  </a:lnTo>
                  <a:lnTo>
                    <a:pt x="3064" y="124"/>
                  </a:lnTo>
                  <a:lnTo>
                    <a:pt x="3056" y="130"/>
                  </a:lnTo>
                  <a:lnTo>
                    <a:pt x="3056" y="138"/>
                  </a:lnTo>
                  <a:lnTo>
                    <a:pt x="3056" y="146"/>
                  </a:lnTo>
                  <a:lnTo>
                    <a:pt x="3050" y="152"/>
                  </a:lnTo>
                  <a:lnTo>
                    <a:pt x="3050" y="160"/>
                  </a:lnTo>
                  <a:lnTo>
                    <a:pt x="3050" y="168"/>
                  </a:lnTo>
                  <a:lnTo>
                    <a:pt x="3050" y="174"/>
                  </a:lnTo>
                  <a:lnTo>
                    <a:pt x="3056" y="182"/>
                  </a:lnTo>
                  <a:lnTo>
                    <a:pt x="3056" y="190"/>
                  </a:lnTo>
                  <a:lnTo>
                    <a:pt x="3056" y="196"/>
                  </a:lnTo>
                  <a:lnTo>
                    <a:pt x="3064" y="196"/>
                  </a:lnTo>
                  <a:lnTo>
                    <a:pt x="3064" y="204"/>
                  </a:lnTo>
                  <a:lnTo>
                    <a:pt x="3072" y="204"/>
                  </a:lnTo>
                  <a:lnTo>
                    <a:pt x="3072" y="212"/>
                  </a:lnTo>
                  <a:lnTo>
                    <a:pt x="3078" y="218"/>
                  </a:lnTo>
                  <a:lnTo>
                    <a:pt x="3086" y="218"/>
                  </a:lnTo>
                  <a:lnTo>
                    <a:pt x="3086" y="226"/>
                  </a:lnTo>
                  <a:lnTo>
                    <a:pt x="3094" y="226"/>
                  </a:lnTo>
                  <a:lnTo>
                    <a:pt x="3100" y="226"/>
                  </a:lnTo>
                  <a:lnTo>
                    <a:pt x="3108" y="234"/>
                  </a:lnTo>
                  <a:lnTo>
                    <a:pt x="3116" y="234"/>
                  </a:lnTo>
                  <a:lnTo>
                    <a:pt x="3122" y="234"/>
                  </a:lnTo>
                  <a:lnTo>
                    <a:pt x="3130" y="226"/>
                  </a:lnTo>
                  <a:lnTo>
                    <a:pt x="3136" y="226"/>
                  </a:lnTo>
                  <a:lnTo>
                    <a:pt x="3144" y="226"/>
                  </a:lnTo>
                  <a:lnTo>
                    <a:pt x="3152" y="218"/>
                  </a:lnTo>
                  <a:lnTo>
                    <a:pt x="3158" y="218"/>
                  </a:lnTo>
                  <a:lnTo>
                    <a:pt x="3166" y="212"/>
                  </a:lnTo>
                  <a:lnTo>
                    <a:pt x="3144" y="182"/>
                  </a:lnTo>
                  <a:lnTo>
                    <a:pt x="3144" y="190"/>
                  </a:lnTo>
                  <a:lnTo>
                    <a:pt x="3136" y="190"/>
                  </a:lnTo>
                  <a:lnTo>
                    <a:pt x="3130" y="190"/>
                  </a:lnTo>
                  <a:lnTo>
                    <a:pt x="3130" y="196"/>
                  </a:lnTo>
                  <a:lnTo>
                    <a:pt x="3122" y="196"/>
                  </a:lnTo>
                  <a:lnTo>
                    <a:pt x="3116" y="196"/>
                  </a:lnTo>
                  <a:lnTo>
                    <a:pt x="3108" y="196"/>
                  </a:lnTo>
                  <a:lnTo>
                    <a:pt x="3100" y="196"/>
                  </a:lnTo>
                  <a:lnTo>
                    <a:pt x="3100" y="190"/>
                  </a:lnTo>
                  <a:lnTo>
                    <a:pt x="3094" y="190"/>
                  </a:lnTo>
                  <a:lnTo>
                    <a:pt x="3094" y="182"/>
                  </a:lnTo>
                  <a:lnTo>
                    <a:pt x="3086" y="174"/>
                  </a:lnTo>
                  <a:lnTo>
                    <a:pt x="3086" y="168"/>
                  </a:lnTo>
                  <a:lnTo>
                    <a:pt x="3086" y="160"/>
                  </a:lnTo>
                  <a:lnTo>
                    <a:pt x="3086" y="152"/>
                  </a:lnTo>
                  <a:lnTo>
                    <a:pt x="3086" y="146"/>
                  </a:lnTo>
                  <a:lnTo>
                    <a:pt x="3094" y="146"/>
                  </a:lnTo>
                  <a:lnTo>
                    <a:pt x="3094" y="138"/>
                  </a:lnTo>
                  <a:lnTo>
                    <a:pt x="3100" y="130"/>
                  </a:lnTo>
                  <a:lnTo>
                    <a:pt x="3108" y="124"/>
                  </a:lnTo>
                  <a:lnTo>
                    <a:pt x="3116" y="124"/>
                  </a:lnTo>
                  <a:lnTo>
                    <a:pt x="3122" y="116"/>
                  </a:lnTo>
                  <a:lnTo>
                    <a:pt x="3130" y="116"/>
                  </a:lnTo>
                  <a:lnTo>
                    <a:pt x="3136" y="116"/>
                  </a:lnTo>
                  <a:lnTo>
                    <a:pt x="3136" y="110"/>
                  </a:lnTo>
                  <a:lnTo>
                    <a:pt x="3144" y="110"/>
                  </a:lnTo>
                  <a:lnTo>
                    <a:pt x="3152" y="110"/>
                  </a:lnTo>
                  <a:lnTo>
                    <a:pt x="3158" y="110"/>
                  </a:lnTo>
                  <a:lnTo>
                    <a:pt x="3158" y="116"/>
                  </a:lnTo>
                  <a:lnTo>
                    <a:pt x="3166" y="116"/>
                  </a:lnTo>
                  <a:lnTo>
                    <a:pt x="3174" y="116"/>
                  </a:lnTo>
                  <a:lnTo>
                    <a:pt x="3174" y="124"/>
                  </a:lnTo>
                  <a:lnTo>
                    <a:pt x="3180" y="124"/>
                  </a:lnTo>
                  <a:lnTo>
                    <a:pt x="3188" y="124"/>
                  </a:lnTo>
                  <a:lnTo>
                    <a:pt x="3188" y="130"/>
                  </a:lnTo>
                  <a:lnTo>
                    <a:pt x="3196" y="138"/>
                  </a:lnTo>
                  <a:lnTo>
                    <a:pt x="3202" y="146"/>
                  </a:lnTo>
                  <a:lnTo>
                    <a:pt x="3210" y="152"/>
                  </a:lnTo>
                  <a:lnTo>
                    <a:pt x="3210" y="160"/>
                  </a:lnTo>
                  <a:lnTo>
                    <a:pt x="3218" y="174"/>
                  </a:lnTo>
                  <a:lnTo>
                    <a:pt x="3218" y="182"/>
                  </a:lnTo>
                  <a:lnTo>
                    <a:pt x="3218" y="190"/>
                  </a:lnTo>
                  <a:lnTo>
                    <a:pt x="3218" y="196"/>
                  </a:lnTo>
                  <a:lnTo>
                    <a:pt x="3218" y="212"/>
                  </a:lnTo>
                  <a:lnTo>
                    <a:pt x="3218" y="218"/>
                  </a:lnTo>
                  <a:lnTo>
                    <a:pt x="3218" y="226"/>
                  </a:lnTo>
                  <a:lnTo>
                    <a:pt x="3210" y="234"/>
                  </a:lnTo>
                  <a:lnTo>
                    <a:pt x="3210" y="240"/>
                  </a:lnTo>
                  <a:lnTo>
                    <a:pt x="3202" y="254"/>
                  </a:lnTo>
                  <a:lnTo>
                    <a:pt x="3196" y="262"/>
                  </a:lnTo>
                  <a:lnTo>
                    <a:pt x="3188" y="270"/>
                  </a:lnTo>
                  <a:lnTo>
                    <a:pt x="3180" y="276"/>
                  </a:lnTo>
                  <a:lnTo>
                    <a:pt x="3174" y="284"/>
                  </a:lnTo>
                  <a:lnTo>
                    <a:pt x="3158" y="292"/>
                  </a:lnTo>
                  <a:lnTo>
                    <a:pt x="3152" y="298"/>
                  </a:lnTo>
                  <a:lnTo>
                    <a:pt x="3144" y="298"/>
                  </a:lnTo>
                  <a:lnTo>
                    <a:pt x="3136" y="306"/>
                  </a:lnTo>
                  <a:lnTo>
                    <a:pt x="3122" y="306"/>
                  </a:lnTo>
                  <a:lnTo>
                    <a:pt x="3116" y="306"/>
                  </a:lnTo>
                  <a:lnTo>
                    <a:pt x="3108" y="306"/>
                  </a:lnTo>
                  <a:lnTo>
                    <a:pt x="3094" y="306"/>
                  </a:lnTo>
                  <a:lnTo>
                    <a:pt x="3086" y="306"/>
                  </a:lnTo>
                  <a:lnTo>
                    <a:pt x="3078" y="298"/>
                  </a:lnTo>
                  <a:lnTo>
                    <a:pt x="3064" y="298"/>
                  </a:lnTo>
                  <a:lnTo>
                    <a:pt x="3056" y="298"/>
                  </a:lnTo>
                  <a:lnTo>
                    <a:pt x="3050" y="292"/>
                  </a:lnTo>
                  <a:lnTo>
                    <a:pt x="3042" y="284"/>
                  </a:lnTo>
                  <a:lnTo>
                    <a:pt x="3034" y="284"/>
                  </a:lnTo>
                  <a:lnTo>
                    <a:pt x="3028" y="276"/>
                  </a:lnTo>
                  <a:lnTo>
                    <a:pt x="3020" y="270"/>
                  </a:lnTo>
                  <a:lnTo>
                    <a:pt x="3012" y="254"/>
                  </a:lnTo>
                  <a:lnTo>
                    <a:pt x="3006" y="248"/>
                  </a:lnTo>
                  <a:lnTo>
                    <a:pt x="2998" y="240"/>
                  </a:lnTo>
                  <a:lnTo>
                    <a:pt x="2992" y="226"/>
                  </a:lnTo>
                  <a:lnTo>
                    <a:pt x="2992" y="218"/>
                  </a:lnTo>
                  <a:lnTo>
                    <a:pt x="2984" y="204"/>
                  </a:lnTo>
                  <a:lnTo>
                    <a:pt x="2984" y="196"/>
                  </a:lnTo>
                  <a:lnTo>
                    <a:pt x="2984" y="182"/>
                  </a:lnTo>
                  <a:lnTo>
                    <a:pt x="2984" y="168"/>
                  </a:lnTo>
                  <a:lnTo>
                    <a:pt x="2984" y="160"/>
                  </a:lnTo>
                  <a:lnTo>
                    <a:pt x="2984" y="146"/>
                  </a:lnTo>
                  <a:lnTo>
                    <a:pt x="2984" y="138"/>
                  </a:lnTo>
                  <a:lnTo>
                    <a:pt x="2992" y="124"/>
                  </a:lnTo>
                  <a:lnTo>
                    <a:pt x="2998" y="116"/>
                  </a:lnTo>
                  <a:lnTo>
                    <a:pt x="2998" y="110"/>
                  </a:lnTo>
                  <a:lnTo>
                    <a:pt x="3006" y="102"/>
                  </a:lnTo>
                  <a:lnTo>
                    <a:pt x="3012" y="94"/>
                  </a:lnTo>
                  <a:lnTo>
                    <a:pt x="3020" y="88"/>
                  </a:lnTo>
                  <a:lnTo>
                    <a:pt x="3028" y="80"/>
                  </a:lnTo>
                  <a:lnTo>
                    <a:pt x="3034" y="72"/>
                  </a:lnTo>
                  <a:lnTo>
                    <a:pt x="3042" y="66"/>
                  </a:lnTo>
                  <a:lnTo>
                    <a:pt x="3050" y="66"/>
                  </a:lnTo>
                  <a:lnTo>
                    <a:pt x="3056" y="58"/>
                  </a:lnTo>
                  <a:lnTo>
                    <a:pt x="3064" y="50"/>
                  </a:lnTo>
                  <a:lnTo>
                    <a:pt x="3078" y="50"/>
                  </a:lnTo>
                  <a:lnTo>
                    <a:pt x="3086" y="44"/>
                  </a:lnTo>
                  <a:lnTo>
                    <a:pt x="3094" y="44"/>
                  </a:lnTo>
                  <a:lnTo>
                    <a:pt x="3100" y="36"/>
                  </a:lnTo>
                  <a:lnTo>
                    <a:pt x="3108" y="36"/>
                  </a:lnTo>
                  <a:lnTo>
                    <a:pt x="3116" y="36"/>
                  </a:lnTo>
                  <a:lnTo>
                    <a:pt x="3130" y="36"/>
                  </a:lnTo>
                  <a:lnTo>
                    <a:pt x="3136" y="36"/>
                  </a:lnTo>
                  <a:lnTo>
                    <a:pt x="3152" y="28"/>
                  </a:lnTo>
                  <a:lnTo>
                    <a:pt x="3158" y="28"/>
                  </a:lnTo>
                  <a:lnTo>
                    <a:pt x="3174" y="28"/>
                  </a:lnTo>
                  <a:lnTo>
                    <a:pt x="3180" y="36"/>
                  </a:lnTo>
                  <a:lnTo>
                    <a:pt x="3196" y="36"/>
                  </a:lnTo>
                  <a:lnTo>
                    <a:pt x="3202" y="36"/>
                  </a:lnTo>
                  <a:lnTo>
                    <a:pt x="3218" y="44"/>
                  </a:lnTo>
                  <a:lnTo>
                    <a:pt x="3232" y="44"/>
                  </a:lnTo>
                  <a:lnTo>
                    <a:pt x="3240" y="50"/>
                  </a:lnTo>
                  <a:lnTo>
                    <a:pt x="3254" y="58"/>
                  </a:lnTo>
                  <a:lnTo>
                    <a:pt x="3268" y="66"/>
                  </a:lnTo>
                  <a:lnTo>
                    <a:pt x="3282" y="72"/>
                  </a:lnTo>
                  <a:lnTo>
                    <a:pt x="3298" y="88"/>
                  </a:lnTo>
                  <a:lnTo>
                    <a:pt x="3312" y="102"/>
                  </a:lnTo>
                  <a:lnTo>
                    <a:pt x="3326" y="116"/>
                  </a:lnTo>
                  <a:lnTo>
                    <a:pt x="3334" y="130"/>
                  </a:lnTo>
                  <a:lnTo>
                    <a:pt x="3348" y="152"/>
                  </a:lnTo>
                  <a:lnTo>
                    <a:pt x="3356" y="174"/>
                  </a:lnTo>
                  <a:lnTo>
                    <a:pt x="3356" y="190"/>
                  </a:lnTo>
                  <a:lnTo>
                    <a:pt x="3364" y="212"/>
                  </a:lnTo>
                  <a:lnTo>
                    <a:pt x="3364" y="234"/>
                  </a:lnTo>
                  <a:lnTo>
                    <a:pt x="3364" y="254"/>
                  </a:lnTo>
                  <a:lnTo>
                    <a:pt x="3364" y="276"/>
                  </a:lnTo>
                  <a:lnTo>
                    <a:pt x="3364" y="298"/>
                  </a:lnTo>
                  <a:lnTo>
                    <a:pt x="3364" y="320"/>
                  </a:lnTo>
                  <a:lnTo>
                    <a:pt x="3356" y="342"/>
                  </a:lnTo>
                  <a:lnTo>
                    <a:pt x="3348" y="364"/>
                  </a:lnTo>
                  <a:lnTo>
                    <a:pt x="3342" y="386"/>
                  </a:lnTo>
                  <a:lnTo>
                    <a:pt x="3334" y="400"/>
                  </a:lnTo>
                  <a:lnTo>
                    <a:pt x="3334" y="408"/>
                  </a:lnTo>
                  <a:lnTo>
                    <a:pt x="3326" y="422"/>
                  </a:lnTo>
                  <a:lnTo>
                    <a:pt x="3320" y="430"/>
                  </a:lnTo>
                  <a:lnTo>
                    <a:pt x="3312" y="444"/>
                  </a:lnTo>
                  <a:lnTo>
                    <a:pt x="3304" y="452"/>
                  </a:lnTo>
                  <a:lnTo>
                    <a:pt x="3298" y="466"/>
                  </a:lnTo>
                  <a:lnTo>
                    <a:pt x="3282" y="482"/>
                  </a:lnTo>
                  <a:lnTo>
                    <a:pt x="3276" y="488"/>
                  </a:lnTo>
                  <a:lnTo>
                    <a:pt x="3262" y="504"/>
                  </a:lnTo>
                  <a:lnTo>
                    <a:pt x="3246" y="510"/>
                  </a:lnTo>
                  <a:lnTo>
                    <a:pt x="3232" y="518"/>
                  </a:lnTo>
                  <a:lnTo>
                    <a:pt x="3210" y="524"/>
                  </a:lnTo>
                  <a:lnTo>
                    <a:pt x="3196" y="532"/>
                  </a:lnTo>
                  <a:lnTo>
                    <a:pt x="3174" y="532"/>
                  </a:lnTo>
                  <a:lnTo>
                    <a:pt x="3152" y="540"/>
                  </a:lnTo>
                  <a:lnTo>
                    <a:pt x="3130" y="540"/>
                  </a:lnTo>
                  <a:lnTo>
                    <a:pt x="3130" y="532"/>
                  </a:lnTo>
                  <a:lnTo>
                    <a:pt x="3122" y="532"/>
                  </a:lnTo>
                  <a:lnTo>
                    <a:pt x="3116" y="532"/>
                  </a:lnTo>
                  <a:lnTo>
                    <a:pt x="3116" y="524"/>
                  </a:lnTo>
                  <a:lnTo>
                    <a:pt x="3108" y="524"/>
                  </a:lnTo>
                  <a:lnTo>
                    <a:pt x="3100" y="524"/>
                  </a:lnTo>
                  <a:lnTo>
                    <a:pt x="3094" y="518"/>
                  </a:lnTo>
                  <a:lnTo>
                    <a:pt x="3086" y="518"/>
                  </a:lnTo>
                  <a:lnTo>
                    <a:pt x="3078" y="518"/>
                  </a:lnTo>
                  <a:lnTo>
                    <a:pt x="3078" y="510"/>
                  </a:lnTo>
                  <a:lnTo>
                    <a:pt x="3072" y="510"/>
                  </a:lnTo>
                  <a:lnTo>
                    <a:pt x="3064" y="510"/>
                  </a:lnTo>
                  <a:lnTo>
                    <a:pt x="3028" y="504"/>
                  </a:lnTo>
                  <a:lnTo>
                    <a:pt x="2998" y="496"/>
                  </a:lnTo>
                  <a:lnTo>
                    <a:pt x="2962" y="488"/>
                  </a:lnTo>
                  <a:lnTo>
                    <a:pt x="2932" y="482"/>
                  </a:lnTo>
                  <a:lnTo>
                    <a:pt x="2904" y="482"/>
                  </a:lnTo>
                  <a:lnTo>
                    <a:pt x="2874" y="482"/>
                  </a:lnTo>
                  <a:lnTo>
                    <a:pt x="2838" y="482"/>
                  </a:lnTo>
                  <a:lnTo>
                    <a:pt x="2808" y="488"/>
                  </a:lnTo>
                  <a:lnTo>
                    <a:pt x="2780" y="496"/>
                  </a:lnTo>
                  <a:lnTo>
                    <a:pt x="2750" y="504"/>
                  </a:lnTo>
                  <a:lnTo>
                    <a:pt x="2722" y="510"/>
                  </a:lnTo>
                  <a:lnTo>
                    <a:pt x="2692" y="518"/>
                  </a:lnTo>
                  <a:lnTo>
                    <a:pt x="2662" y="532"/>
                  </a:lnTo>
                  <a:lnTo>
                    <a:pt x="2634" y="546"/>
                  </a:lnTo>
                  <a:lnTo>
                    <a:pt x="2596" y="568"/>
                  </a:lnTo>
                  <a:lnTo>
                    <a:pt x="2568" y="584"/>
                  </a:lnTo>
                  <a:lnTo>
                    <a:pt x="2538" y="606"/>
                  </a:lnTo>
                  <a:lnTo>
                    <a:pt x="2516" y="620"/>
                  </a:lnTo>
                  <a:lnTo>
                    <a:pt x="2488" y="642"/>
                  </a:lnTo>
                  <a:lnTo>
                    <a:pt x="2466" y="664"/>
                  </a:lnTo>
                  <a:lnTo>
                    <a:pt x="2436" y="686"/>
                  </a:lnTo>
                  <a:lnTo>
                    <a:pt x="2414" y="708"/>
                  </a:lnTo>
                  <a:lnTo>
                    <a:pt x="2392" y="730"/>
                  </a:lnTo>
                  <a:lnTo>
                    <a:pt x="2370" y="752"/>
                  </a:lnTo>
                  <a:lnTo>
                    <a:pt x="2348" y="780"/>
                  </a:lnTo>
                  <a:lnTo>
                    <a:pt x="2328" y="802"/>
                  </a:lnTo>
                  <a:lnTo>
                    <a:pt x="2312" y="832"/>
                  </a:lnTo>
                  <a:lnTo>
                    <a:pt x="2290" y="860"/>
                  </a:lnTo>
                  <a:lnTo>
                    <a:pt x="2268" y="890"/>
                  </a:lnTo>
                  <a:lnTo>
                    <a:pt x="2254" y="918"/>
                  </a:lnTo>
                  <a:lnTo>
                    <a:pt x="2240" y="948"/>
                  </a:lnTo>
                  <a:lnTo>
                    <a:pt x="2224" y="978"/>
                  </a:lnTo>
                  <a:lnTo>
                    <a:pt x="2210" y="1000"/>
                  </a:lnTo>
                  <a:lnTo>
                    <a:pt x="2202" y="1022"/>
                  </a:lnTo>
                  <a:lnTo>
                    <a:pt x="2196" y="1044"/>
                  </a:lnTo>
                  <a:lnTo>
                    <a:pt x="2188" y="1058"/>
                  </a:lnTo>
                  <a:lnTo>
                    <a:pt x="2182" y="1080"/>
                  </a:lnTo>
                  <a:lnTo>
                    <a:pt x="2174" y="1102"/>
                  </a:lnTo>
                  <a:lnTo>
                    <a:pt x="2166" y="1124"/>
                  </a:lnTo>
                  <a:lnTo>
                    <a:pt x="2160" y="1146"/>
                  </a:lnTo>
                  <a:lnTo>
                    <a:pt x="2152" y="1160"/>
                  </a:lnTo>
                  <a:lnTo>
                    <a:pt x="2144" y="1182"/>
                  </a:lnTo>
                  <a:lnTo>
                    <a:pt x="2144" y="1204"/>
                  </a:lnTo>
                  <a:lnTo>
                    <a:pt x="2138" y="1226"/>
                  </a:lnTo>
                  <a:lnTo>
                    <a:pt x="2130" y="1248"/>
                  </a:lnTo>
                  <a:lnTo>
                    <a:pt x="2130" y="1270"/>
                  </a:lnTo>
                  <a:lnTo>
                    <a:pt x="2122" y="1292"/>
                  </a:lnTo>
                  <a:lnTo>
                    <a:pt x="2122" y="1314"/>
                  </a:lnTo>
                  <a:lnTo>
                    <a:pt x="2108" y="1378"/>
                  </a:lnTo>
                  <a:lnTo>
                    <a:pt x="2108" y="1438"/>
                  </a:lnTo>
                  <a:lnTo>
                    <a:pt x="2100" y="1496"/>
                  </a:lnTo>
                  <a:lnTo>
                    <a:pt x="2100" y="1554"/>
                  </a:lnTo>
                  <a:lnTo>
                    <a:pt x="2108" y="1612"/>
                  </a:lnTo>
                  <a:lnTo>
                    <a:pt x="2108" y="1678"/>
                  </a:lnTo>
                  <a:lnTo>
                    <a:pt x="2116" y="1736"/>
                  </a:lnTo>
                  <a:lnTo>
                    <a:pt x="2130" y="1794"/>
                  </a:lnTo>
                  <a:lnTo>
                    <a:pt x="2138" y="1854"/>
                  </a:lnTo>
                  <a:lnTo>
                    <a:pt x="2152" y="1912"/>
                  </a:lnTo>
                  <a:lnTo>
                    <a:pt x="2174" y="1970"/>
                  </a:lnTo>
                  <a:lnTo>
                    <a:pt x="2196" y="2028"/>
                  </a:lnTo>
                  <a:lnTo>
                    <a:pt x="2218" y="2086"/>
                  </a:lnTo>
                  <a:lnTo>
                    <a:pt x="2240" y="2144"/>
                  </a:lnTo>
                  <a:lnTo>
                    <a:pt x="2268" y="2196"/>
                  </a:lnTo>
                  <a:lnTo>
                    <a:pt x="2298" y="2254"/>
                  </a:lnTo>
                  <a:lnTo>
                    <a:pt x="2218" y="2174"/>
                  </a:lnTo>
                  <a:lnTo>
                    <a:pt x="2166" y="2050"/>
                  </a:lnTo>
                  <a:lnTo>
                    <a:pt x="1976" y="1956"/>
                  </a:lnTo>
                  <a:lnTo>
                    <a:pt x="2064" y="2144"/>
                  </a:lnTo>
                  <a:lnTo>
                    <a:pt x="2196" y="2196"/>
                  </a:lnTo>
                  <a:lnTo>
                    <a:pt x="2276" y="2284"/>
                  </a:lnTo>
                  <a:lnTo>
                    <a:pt x="2224" y="2248"/>
                  </a:lnTo>
                  <a:lnTo>
                    <a:pt x="2166" y="2218"/>
                  </a:lnTo>
                  <a:lnTo>
                    <a:pt x="2108" y="2196"/>
                  </a:lnTo>
                  <a:lnTo>
                    <a:pt x="2050" y="2174"/>
                  </a:lnTo>
                  <a:lnTo>
                    <a:pt x="1992" y="2152"/>
                  </a:lnTo>
                  <a:lnTo>
                    <a:pt x="1932" y="2130"/>
                  </a:lnTo>
                  <a:lnTo>
                    <a:pt x="1868" y="2116"/>
                  </a:lnTo>
                  <a:lnTo>
                    <a:pt x="1808" y="2102"/>
                  </a:lnTo>
                  <a:lnTo>
                    <a:pt x="1750" y="2086"/>
                  </a:lnTo>
                  <a:lnTo>
                    <a:pt x="1684" y="2080"/>
                  </a:lnTo>
                  <a:lnTo>
                    <a:pt x="1626" y="2080"/>
                  </a:lnTo>
                  <a:lnTo>
                    <a:pt x="1568" y="2072"/>
                  </a:lnTo>
                  <a:lnTo>
                    <a:pt x="1502" y="2072"/>
                  </a:lnTo>
                  <a:lnTo>
                    <a:pt x="1444" y="2072"/>
                  </a:lnTo>
                  <a:lnTo>
                    <a:pt x="1378" y="2080"/>
                  </a:lnTo>
                  <a:lnTo>
                    <a:pt x="1320" y="2086"/>
                  </a:lnTo>
                  <a:lnTo>
                    <a:pt x="1298" y="2094"/>
                  </a:lnTo>
                  <a:lnTo>
                    <a:pt x="1276" y="2094"/>
                  </a:lnTo>
                  <a:lnTo>
                    <a:pt x="1254" y="2102"/>
                  </a:lnTo>
                  <a:lnTo>
                    <a:pt x="1232" y="2108"/>
                  </a:lnTo>
                  <a:lnTo>
                    <a:pt x="1210" y="2108"/>
                  </a:lnTo>
                  <a:lnTo>
                    <a:pt x="1188" y="2116"/>
                  </a:lnTo>
                  <a:lnTo>
                    <a:pt x="1166" y="2122"/>
                  </a:lnTo>
                  <a:lnTo>
                    <a:pt x="1144" y="2130"/>
                  </a:lnTo>
                  <a:lnTo>
                    <a:pt x="1124" y="2138"/>
                  </a:lnTo>
                  <a:lnTo>
                    <a:pt x="1102" y="2144"/>
                  </a:lnTo>
                  <a:lnTo>
                    <a:pt x="1080" y="2152"/>
                  </a:lnTo>
                  <a:lnTo>
                    <a:pt x="1064" y="2160"/>
                  </a:lnTo>
                  <a:lnTo>
                    <a:pt x="1042" y="2166"/>
                  </a:lnTo>
                  <a:lnTo>
                    <a:pt x="1020" y="2174"/>
                  </a:lnTo>
                  <a:lnTo>
                    <a:pt x="998" y="2182"/>
                  </a:lnTo>
                  <a:lnTo>
                    <a:pt x="984" y="2188"/>
                  </a:lnTo>
                  <a:lnTo>
                    <a:pt x="956" y="2210"/>
                  </a:lnTo>
                  <a:lnTo>
                    <a:pt x="918" y="2226"/>
                  </a:lnTo>
                  <a:lnTo>
                    <a:pt x="890" y="2240"/>
                  </a:lnTo>
                  <a:lnTo>
                    <a:pt x="860" y="2262"/>
                  </a:lnTo>
                  <a:lnTo>
                    <a:pt x="838" y="2276"/>
                  </a:lnTo>
                  <a:lnTo>
                    <a:pt x="810" y="2298"/>
                  </a:lnTo>
                  <a:lnTo>
                    <a:pt x="780" y="2320"/>
                  </a:lnTo>
                  <a:lnTo>
                    <a:pt x="758" y="2342"/>
                  </a:lnTo>
                  <a:lnTo>
                    <a:pt x="728" y="2364"/>
                  </a:lnTo>
                  <a:lnTo>
                    <a:pt x="708" y="2386"/>
                  </a:lnTo>
                  <a:lnTo>
                    <a:pt x="686" y="2408"/>
                  </a:lnTo>
                  <a:lnTo>
                    <a:pt x="664" y="2436"/>
                  </a:lnTo>
                  <a:lnTo>
                    <a:pt x="642" y="2458"/>
                  </a:lnTo>
                  <a:lnTo>
                    <a:pt x="620" y="2488"/>
                  </a:lnTo>
                  <a:lnTo>
                    <a:pt x="604" y="2510"/>
                  </a:lnTo>
                  <a:lnTo>
                    <a:pt x="584" y="2538"/>
                  </a:lnTo>
                  <a:lnTo>
                    <a:pt x="568" y="2568"/>
                  </a:lnTo>
                  <a:lnTo>
                    <a:pt x="554" y="2604"/>
                  </a:lnTo>
                  <a:lnTo>
                    <a:pt x="540" y="2634"/>
                  </a:lnTo>
                  <a:lnTo>
                    <a:pt x="524" y="2662"/>
                  </a:lnTo>
                  <a:lnTo>
                    <a:pt x="510" y="2692"/>
                  </a:lnTo>
                  <a:lnTo>
                    <a:pt x="502" y="2722"/>
                  </a:lnTo>
                  <a:lnTo>
                    <a:pt x="496" y="2750"/>
                  </a:lnTo>
                  <a:lnTo>
                    <a:pt x="488" y="2780"/>
                  </a:lnTo>
                  <a:lnTo>
                    <a:pt x="488" y="2808"/>
                  </a:lnTo>
                  <a:lnTo>
                    <a:pt x="488" y="2838"/>
                  </a:lnTo>
                  <a:lnTo>
                    <a:pt x="488" y="2874"/>
                  </a:lnTo>
                  <a:lnTo>
                    <a:pt x="488" y="2904"/>
                  </a:lnTo>
                  <a:lnTo>
                    <a:pt x="496" y="2932"/>
                  </a:lnTo>
                  <a:lnTo>
                    <a:pt x="496" y="2970"/>
                  </a:lnTo>
                  <a:lnTo>
                    <a:pt x="502" y="2998"/>
                  </a:lnTo>
                  <a:lnTo>
                    <a:pt x="518" y="3036"/>
                  </a:lnTo>
                  <a:lnTo>
                    <a:pt x="518" y="3042"/>
                  </a:lnTo>
                  <a:lnTo>
                    <a:pt x="518" y="3050"/>
                  </a:lnTo>
                  <a:lnTo>
                    <a:pt x="524" y="3056"/>
                  </a:lnTo>
                  <a:lnTo>
                    <a:pt x="524" y="3064"/>
                  </a:lnTo>
                  <a:lnTo>
                    <a:pt x="524" y="3072"/>
                  </a:lnTo>
                  <a:lnTo>
                    <a:pt x="532" y="3078"/>
                  </a:lnTo>
                  <a:lnTo>
                    <a:pt x="532" y="3086"/>
                  </a:lnTo>
                  <a:lnTo>
                    <a:pt x="532" y="3094"/>
                  </a:lnTo>
                  <a:lnTo>
                    <a:pt x="540" y="3094"/>
                  </a:lnTo>
                  <a:lnTo>
                    <a:pt x="540" y="3100"/>
                  </a:lnTo>
                  <a:lnTo>
                    <a:pt x="540" y="3122"/>
                  </a:lnTo>
                  <a:lnTo>
                    <a:pt x="540" y="3144"/>
                  </a:lnTo>
                  <a:lnTo>
                    <a:pt x="532" y="3166"/>
                  </a:lnTo>
                  <a:lnTo>
                    <a:pt x="532" y="3182"/>
                  </a:lnTo>
                  <a:lnTo>
                    <a:pt x="524" y="3202"/>
                  </a:lnTo>
                  <a:lnTo>
                    <a:pt x="510" y="3218"/>
                  </a:lnTo>
                  <a:lnTo>
                    <a:pt x="502" y="3232"/>
                  </a:lnTo>
                  <a:lnTo>
                    <a:pt x="496" y="3246"/>
                  </a:lnTo>
                  <a:lnTo>
                    <a:pt x="480" y="3254"/>
                  </a:lnTo>
                  <a:lnTo>
                    <a:pt x="474" y="3268"/>
                  </a:lnTo>
                  <a:lnTo>
                    <a:pt x="458" y="3276"/>
                  </a:lnTo>
                  <a:lnTo>
                    <a:pt x="444" y="3284"/>
                  </a:lnTo>
                  <a:lnTo>
                    <a:pt x="438" y="3290"/>
                  </a:lnTo>
                  <a:lnTo>
                    <a:pt x="422" y="3298"/>
                  </a:lnTo>
                  <a:lnTo>
                    <a:pt x="416" y="3306"/>
                  </a:lnTo>
                  <a:lnTo>
                    <a:pt x="408" y="3306"/>
                  </a:lnTo>
                  <a:lnTo>
                    <a:pt x="386" y="3320"/>
                  </a:lnTo>
                  <a:lnTo>
                    <a:pt x="364" y="3326"/>
                  </a:lnTo>
                  <a:lnTo>
                    <a:pt x="342" y="3326"/>
                  </a:lnTo>
                  <a:lnTo>
                    <a:pt x="320" y="3334"/>
                  </a:lnTo>
                  <a:lnTo>
                    <a:pt x="298" y="3334"/>
                  </a:lnTo>
                  <a:lnTo>
                    <a:pt x="276" y="3342"/>
                  </a:lnTo>
                  <a:lnTo>
                    <a:pt x="254" y="3342"/>
                  </a:lnTo>
                  <a:lnTo>
                    <a:pt x="232" y="3334"/>
                  </a:lnTo>
                  <a:lnTo>
                    <a:pt x="210" y="3334"/>
                  </a:lnTo>
                  <a:lnTo>
                    <a:pt x="196" y="3326"/>
                  </a:lnTo>
                  <a:lnTo>
                    <a:pt x="174" y="3326"/>
                  </a:lnTo>
                  <a:lnTo>
                    <a:pt x="152" y="3320"/>
                  </a:lnTo>
                  <a:lnTo>
                    <a:pt x="138" y="3306"/>
                  </a:lnTo>
                  <a:lnTo>
                    <a:pt x="116" y="3298"/>
                  </a:lnTo>
                  <a:lnTo>
                    <a:pt x="102" y="3284"/>
                  </a:lnTo>
                  <a:lnTo>
                    <a:pt x="86" y="3268"/>
                  </a:lnTo>
                  <a:lnTo>
                    <a:pt x="80" y="3254"/>
                  </a:lnTo>
                  <a:lnTo>
                    <a:pt x="72" y="3240"/>
                  </a:lnTo>
                  <a:lnTo>
                    <a:pt x="58" y="3224"/>
                  </a:lnTo>
                  <a:lnTo>
                    <a:pt x="50" y="3218"/>
                  </a:lnTo>
                  <a:lnTo>
                    <a:pt x="50" y="3202"/>
                  </a:lnTo>
                  <a:lnTo>
                    <a:pt x="44" y="3188"/>
                  </a:lnTo>
                  <a:lnTo>
                    <a:pt x="44" y="3174"/>
                  </a:lnTo>
                  <a:lnTo>
                    <a:pt x="36" y="3166"/>
                  </a:lnTo>
                  <a:lnTo>
                    <a:pt x="36" y="3152"/>
                  </a:lnTo>
                  <a:lnTo>
                    <a:pt x="36" y="3144"/>
                  </a:lnTo>
                  <a:lnTo>
                    <a:pt x="36" y="3130"/>
                  </a:lnTo>
                  <a:lnTo>
                    <a:pt x="36" y="3122"/>
                  </a:lnTo>
                  <a:lnTo>
                    <a:pt x="36" y="3108"/>
                  </a:lnTo>
                  <a:lnTo>
                    <a:pt x="36" y="3100"/>
                  </a:lnTo>
                  <a:lnTo>
                    <a:pt x="36" y="3094"/>
                  </a:lnTo>
                  <a:lnTo>
                    <a:pt x="36" y="3078"/>
                  </a:lnTo>
                  <a:lnTo>
                    <a:pt x="44" y="3072"/>
                  </a:lnTo>
                  <a:lnTo>
                    <a:pt x="44" y="3064"/>
                  </a:lnTo>
                  <a:lnTo>
                    <a:pt x="50" y="3056"/>
                  </a:lnTo>
                  <a:lnTo>
                    <a:pt x="50" y="3050"/>
                  </a:lnTo>
                  <a:lnTo>
                    <a:pt x="58" y="3036"/>
                  </a:lnTo>
                  <a:lnTo>
                    <a:pt x="58" y="3028"/>
                  </a:lnTo>
                  <a:lnTo>
                    <a:pt x="64" y="3020"/>
                  </a:lnTo>
                  <a:lnTo>
                    <a:pt x="72" y="3014"/>
                  </a:lnTo>
                  <a:lnTo>
                    <a:pt x="80" y="3006"/>
                  </a:lnTo>
                  <a:lnTo>
                    <a:pt x="86" y="2998"/>
                  </a:lnTo>
                  <a:lnTo>
                    <a:pt x="94" y="2992"/>
                  </a:lnTo>
                  <a:lnTo>
                    <a:pt x="102" y="2984"/>
                  </a:lnTo>
                  <a:lnTo>
                    <a:pt x="108" y="2976"/>
                  </a:lnTo>
                  <a:lnTo>
                    <a:pt x="116" y="2970"/>
                  </a:lnTo>
                  <a:lnTo>
                    <a:pt x="124" y="2970"/>
                  </a:lnTo>
                  <a:lnTo>
                    <a:pt x="130" y="2962"/>
                  </a:lnTo>
                  <a:lnTo>
                    <a:pt x="138" y="2954"/>
                  </a:lnTo>
                  <a:lnTo>
                    <a:pt x="152" y="2954"/>
                  </a:lnTo>
                  <a:lnTo>
                    <a:pt x="160" y="2954"/>
                  </a:lnTo>
                  <a:lnTo>
                    <a:pt x="174" y="2954"/>
                  </a:lnTo>
                  <a:lnTo>
                    <a:pt x="182" y="2954"/>
                  </a:lnTo>
                  <a:lnTo>
                    <a:pt x="196" y="2954"/>
                  </a:lnTo>
                  <a:lnTo>
                    <a:pt x="210" y="2954"/>
                  </a:lnTo>
                  <a:lnTo>
                    <a:pt x="218" y="2962"/>
                  </a:lnTo>
                  <a:lnTo>
                    <a:pt x="232" y="2962"/>
                  </a:lnTo>
                  <a:lnTo>
                    <a:pt x="240" y="2970"/>
                  </a:lnTo>
                  <a:lnTo>
                    <a:pt x="254" y="2976"/>
                  </a:lnTo>
                  <a:lnTo>
                    <a:pt x="262" y="2984"/>
                  </a:lnTo>
                  <a:lnTo>
                    <a:pt x="270" y="2992"/>
                  </a:lnTo>
                  <a:lnTo>
                    <a:pt x="276" y="2998"/>
                  </a:lnTo>
                  <a:lnTo>
                    <a:pt x="284" y="3006"/>
                  </a:lnTo>
                  <a:lnTo>
                    <a:pt x="292" y="3014"/>
                  </a:lnTo>
                  <a:lnTo>
                    <a:pt x="292" y="3020"/>
                  </a:lnTo>
                  <a:lnTo>
                    <a:pt x="298" y="3028"/>
                  </a:lnTo>
                  <a:lnTo>
                    <a:pt x="298" y="3036"/>
                  </a:lnTo>
                  <a:lnTo>
                    <a:pt x="306" y="3050"/>
                  </a:lnTo>
                  <a:lnTo>
                    <a:pt x="306" y="3056"/>
                  </a:lnTo>
                  <a:lnTo>
                    <a:pt x="306" y="3064"/>
                  </a:lnTo>
                  <a:lnTo>
                    <a:pt x="306" y="3078"/>
                  </a:lnTo>
                  <a:lnTo>
                    <a:pt x="306" y="3086"/>
                  </a:lnTo>
                  <a:lnTo>
                    <a:pt x="306" y="3094"/>
                  </a:lnTo>
                  <a:lnTo>
                    <a:pt x="306" y="3108"/>
                  </a:lnTo>
                  <a:lnTo>
                    <a:pt x="298" y="3116"/>
                  </a:lnTo>
                  <a:lnTo>
                    <a:pt x="298" y="3122"/>
                  </a:lnTo>
                  <a:lnTo>
                    <a:pt x="292" y="3130"/>
                  </a:lnTo>
                  <a:lnTo>
                    <a:pt x="284" y="3144"/>
                  </a:lnTo>
                  <a:lnTo>
                    <a:pt x="276" y="3152"/>
                  </a:lnTo>
                  <a:lnTo>
                    <a:pt x="270" y="3160"/>
                  </a:lnTo>
                  <a:lnTo>
                    <a:pt x="262" y="3166"/>
                  </a:lnTo>
                  <a:lnTo>
                    <a:pt x="254" y="3174"/>
                  </a:lnTo>
                  <a:lnTo>
                    <a:pt x="248" y="3182"/>
                  </a:lnTo>
                  <a:lnTo>
                    <a:pt x="240" y="3182"/>
                  </a:lnTo>
                  <a:lnTo>
                    <a:pt x="226" y="3188"/>
                  </a:lnTo>
                  <a:lnTo>
                    <a:pt x="218" y="3188"/>
                  </a:lnTo>
                  <a:lnTo>
                    <a:pt x="210" y="3188"/>
                  </a:lnTo>
                  <a:lnTo>
                    <a:pt x="204" y="3188"/>
                  </a:lnTo>
                  <a:lnTo>
                    <a:pt x="196" y="3188"/>
                  </a:lnTo>
                  <a:lnTo>
                    <a:pt x="182" y="3188"/>
                  </a:lnTo>
                  <a:lnTo>
                    <a:pt x="174" y="3182"/>
                  </a:lnTo>
                  <a:lnTo>
                    <a:pt x="168" y="3182"/>
                  </a:lnTo>
                  <a:lnTo>
                    <a:pt x="160" y="3174"/>
                  </a:lnTo>
                  <a:lnTo>
                    <a:pt x="152" y="3174"/>
                  </a:lnTo>
                  <a:lnTo>
                    <a:pt x="146" y="3166"/>
                  </a:lnTo>
                  <a:lnTo>
                    <a:pt x="130" y="3160"/>
                  </a:lnTo>
                  <a:lnTo>
                    <a:pt x="130" y="3152"/>
                  </a:lnTo>
                  <a:lnTo>
                    <a:pt x="124" y="3152"/>
                  </a:lnTo>
                  <a:lnTo>
                    <a:pt x="124" y="3144"/>
                  </a:lnTo>
                  <a:lnTo>
                    <a:pt x="124" y="3138"/>
                  </a:lnTo>
                  <a:lnTo>
                    <a:pt x="116" y="3138"/>
                  </a:lnTo>
                  <a:lnTo>
                    <a:pt x="116" y="3130"/>
                  </a:lnTo>
                  <a:lnTo>
                    <a:pt x="116" y="3122"/>
                  </a:lnTo>
                  <a:lnTo>
                    <a:pt x="116" y="3116"/>
                  </a:lnTo>
                  <a:lnTo>
                    <a:pt x="116" y="3108"/>
                  </a:lnTo>
                  <a:lnTo>
                    <a:pt x="116" y="3100"/>
                  </a:lnTo>
                  <a:lnTo>
                    <a:pt x="124" y="3094"/>
                  </a:lnTo>
                  <a:lnTo>
                    <a:pt x="124" y="3086"/>
                  </a:lnTo>
                  <a:lnTo>
                    <a:pt x="130" y="3078"/>
                  </a:lnTo>
                  <a:lnTo>
                    <a:pt x="138" y="3072"/>
                  </a:lnTo>
                  <a:lnTo>
                    <a:pt x="138" y="3064"/>
                  </a:lnTo>
                  <a:lnTo>
                    <a:pt x="146" y="3064"/>
                  </a:lnTo>
                  <a:lnTo>
                    <a:pt x="146" y="3056"/>
                  </a:lnTo>
                  <a:lnTo>
                    <a:pt x="152" y="3056"/>
                  </a:lnTo>
                  <a:lnTo>
                    <a:pt x="160" y="3056"/>
                  </a:lnTo>
                  <a:lnTo>
                    <a:pt x="168" y="3056"/>
                  </a:lnTo>
                  <a:lnTo>
                    <a:pt x="174" y="3056"/>
                  </a:lnTo>
                  <a:lnTo>
                    <a:pt x="182" y="3056"/>
                  </a:lnTo>
                  <a:lnTo>
                    <a:pt x="182" y="3064"/>
                  </a:lnTo>
                  <a:lnTo>
                    <a:pt x="190" y="3064"/>
                  </a:lnTo>
                  <a:lnTo>
                    <a:pt x="196" y="3072"/>
                  </a:lnTo>
                  <a:lnTo>
                    <a:pt x="196" y="3078"/>
                  </a:lnTo>
                  <a:lnTo>
                    <a:pt x="196" y="3086"/>
                  </a:lnTo>
                  <a:lnTo>
                    <a:pt x="196" y="3094"/>
                  </a:lnTo>
                  <a:lnTo>
                    <a:pt x="196" y="3100"/>
                  </a:lnTo>
                  <a:lnTo>
                    <a:pt x="190" y="3108"/>
                  </a:lnTo>
                  <a:lnTo>
                    <a:pt x="190" y="3116"/>
                  </a:lnTo>
                  <a:lnTo>
                    <a:pt x="210" y="3138"/>
                  </a:lnTo>
                  <a:lnTo>
                    <a:pt x="218" y="3138"/>
                  </a:lnTo>
                  <a:lnTo>
                    <a:pt x="218" y="3130"/>
                  </a:lnTo>
                  <a:lnTo>
                    <a:pt x="226" y="3122"/>
                  </a:lnTo>
                  <a:lnTo>
                    <a:pt x="226" y="3116"/>
                  </a:lnTo>
                  <a:lnTo>
                    <a:pt x="232" y="3108"/>
                  </a:lnTo>
                  <a:lnTo>
                    <a:pt x="232" y="3100"/>
                  </a:lnTo>
                  <a:lnTo>
                    <a:pt x="232" y="3094"/>
                  </a:lnTo>
                  <a:lnTo>
                    <a:pt x="232" y="3086"/>
                  </a:lnTo>
                  <a:lnTo>
                    <a:pt x="232" y="3078"/>
                  </a:lnTo>
                  <a:lnTo>
                    <a:pt x="232" y="3072"/>
                  </a:lnTo>
                  <a:lnTo>
                    <a:pt x="232" y="3064"/>
                  </a:lnTo>
                  <a:lnTo>
                    <a:pt x="226" y="3056"/>
                  </a:lnTo>
                  <a:lnTo>
                    <a:pt x="226" y="3050"/>
                  </a:lnTo>
                  <a:lnTo>
                    <a:pt x="218" y="3050"/>
                  </a:lnTo>
                  <a:lnTo>
                    <a:pt x="218" y="3042"/>
                  </a:lnTo>
                  <a:lnTo>
                    <a:pt x="210" y="3042"/>
                  </a:lnTo>
                  <a:lnTo>
                    <a:pt x="210" y="3036"/>
                  </a:lnTo>
                  <a:lnTo>
                    <a:pt x="204" y="3036"/>
                  </a:lnTo>
                  <a:lnTo>
                    <a:pt x="196" y="3036"/>
                  </a:lnTo>
                  <a:lnTo>
                    <a:pt x="196" y="3028"/>
                  </a:lnTo>
                  <a:lnTo>
                    <a:pt x="190" y="3028"/>
                  </a:lnTo>
                  <a:lnTo>
                    <a:pt x="182" y="3028"/>
                  </a:lnTo>
                  <a:lnTo>
                    <a:pt x="182" y="3020"/>
                  </a:lnTo>
                  <a:lnTo>
                    <a:pt x="174" y="3020"/>
                  </a:lnTo>
                  <a:lnTo>
                    <a:pt x="168" y="3020"/>
                  </a:lnTo>
                  <a:lnTo>
                    <a:pt x="160" y="3020"/>
                  </a:lnTo>
                  <a:lnTo>
                    <a:pt x="152" y="3020"/>
                  </a:lnTo>
                  <a:lnTo>
                    <a:pt x="146" y="3020"/>
                  </a:lnTo>
                  <a:lnTo>
                    <a:pt x="146" y="3028"/>
                  </a:lnTo>
                  <a:lnTo>
                    <a:pt x="138" y="3028"/>
                  </a:lnTo>
                  <a:lnTo>
                    <a:pt x="130" y="3028"/>
                  </a:lnTo>
                  <a:lnTo>
                    <a:pt x="130" y="3036"/>
                  </a:lnTo>
                  <a:lnTo>
                    <a:pt x="124" y="3036"/>
                  </a:lnTo>
                  <a:lnTo>
                    <a:pt x="116" y="3042"/>
                  </a:lnTo>
                  <a:lnTo>
                    <a:pt x="108" y="3042"/>
                  </a:lnTo>
                  <a:lnTo>
                    <a:pt x="108" y="3050"/>
                  </a:lnTo>
                  <a:lnTo>
                    <a:pt x="102" y="3056"/>
                  </a:lnTo>
                  <a:lnTo>
                    <a:pt x="102" y="3064"/>
                  </a:lnTo>
                  <a:lnTo>
                    <a:pt x="94" y="3072"/>
                  </a:lnTo>
                  <a:lnTo>
                    <a:pt x="94" y="3078"/>
                  </a:lnTo>
                  <a:lnTo>
                    <a:pt x="86" y="3086"/>
                  </a:lnTo>
                  <a:lnTo>
                    <a:pt x="86" y="3094"/>
                  </a:lnTo>
                  <a:lnTo>
                    <a:pt x="86" y="3100"/>
                  </a:lnTo>
                  <a:lnTo>
                    <a:pt x="80" y="3100"/>
                  </a:lnTo>
                  <a:lnTo>
                    <a:pt x="80" y="3108"/>
                  </a:lnTo>
                  <a:lnTo>
                    <a:pt x="80" y="3116"/>
                  </a:lnTo>
                  <a:lnTo>
                    <a:pt x="80" y="3122"/>
                  </a:lnTo>
                  <a:lnTo>
                    <a:pt x="80" y="3130"/>
                  </a:lnTo>
                  <a:lnTo>
                    <a:pt x="80" y="3138"/>
                  </a:lnTo>
                  <a:lnTo>
                    <a:pt x="86" y="3144"/>
                  </a:lnTo>
                  <a:lnTo>
                    <a:pt x="86" y="3152"/>
                  </a:lnTo>
                  <a:lnTo>
                    <a:pt x="86" y="3160"/>
                  </a:lnTo>
                  <a:lnTo>
                    <a:pt x="94" y="3166"/>
                  </a:lnTo>
                  <a:lnTo>
                    <a:pt x="94" y="3174"/>
                  </a:lnTo>
                  <a:lnTo>
                    <a:pt x="102" y="3174"/>
                  </a:lnTo>
                  <a:lnTo>
                    <a:pt x="108" y="3182"/>
                  </a:lnTo>
                  <a:lnTo>
                    <a:pt x="124" y="3196"/>
                  </a:lnTo>
                  <a:lnTo>
                    <a:pt x="130" y="3202"/>
                  </a:lnTo>
                  <a:lnTo>
                    <a:pt x="146" y="3210"/>
                  </a:lnTo>
                  <a:lnTo>
                    <a:pt x="152" y="3210"/>
                  </a:lnTo>
                  <a:lnTo>
                    <a:pt x="168" y="3218"/>
                  </a:lnTo>
                  <a:lnTo>
                    <a:pt x="174" y="3218"/>
                  </a:lnTo>
                  <a:lnTo>
                    <a:pt x="190" y="3224"/>
                  </a:lnTo>
                  <a:lnTo>
                    <a:pt x="204" y="3224"/>
                  </a:lnTo>
                  <a:lnTo>
                    <a:pt x="210" y="3224"/>
                  </a:lnTo>
                  <a:lnTo>
                    <a:pt x="226" y="3224"/>
                  </a:lnTo>
                  <a:lnTo>
                    <a:pt x="232" y="3218"/>
                  </a:lnTo>
                  <a:lnTo>
                    <a:pt x="248" y="3218"/>
                  </a:lnTo>
                  <a:lnTo>
                    <a:pt x="262" y="3210"/>
                  </a:lnTo>
                  <a:lnTo>
                    <a:pt x="270" y="3202"/>
                  </a:lnTo>
                  <a:lnTo>
                    <a:pt x="284" y="3196"/>
                  </a:lnTo>
                  <a:lnTo>
                    <a:pt x="292" y="3188"/>
                  </a:lnTo>
                  <a:lnTo>
                    <a:pt x="306" y="3174"/>
                  </a:lnTo>
                  <a:lnTo>
                    <a:pt x="314" y="3166"/>
                  </a:lnTo>
                  <a:lnTo>
                    <a:pt x="320" y="3152"/>
                  </a:lnTo>
                  <a:lnTo>
                    <a:pt x="328" y="3138"/>
                  </a:lnTo>
                  <a:lnTo>
                    <a:pt x="334" y="3130"/>
                  </a:lnTo>
                  <a:lnTo>
                    <a:pt x="334" y="3116"/>
                  </a:lnTo>
                  <a:lnTo>
                    <a:pt x="342" y="3100"/>
                  </a:lnTo>
                  <a:lnTo>
                    <a:pt x="342" y="3086"/>
                  </a:lnTo>
                  <a:lnTo>
                    <a:pt x="342" y="3078"/>
                  </a:lnTo>
                  <a:lnTo>
                    <a:pt x="342" y="3064"/>
                  </a:lnTo>
                  <a:lnTo>
                    <a:pt x="342" y="3050"/>
                  </a:lnTo>
                  <a:lnTo>
                    <a:pt x="334" y="3036"/>
                  </a:lnTo>
                  <a:lnTo>
                    <a:pt x="334" y="3028"/>
                  </a:lnTo>
                  <a:lnTo>
                    <a:pt x="328" y="3014"/>
                  </a:lnTo>
                  <a:lnTo>
                    <a:pt x="328" y="3006"/>
                  </a:lnTo>
                  <a:lnTo>
                    <a:pt x="320" y="2992"/>
                  </a:lnTo>
                  <a:lnTo>
                    <a:pt x="314" y="2984"/>
                  </a:lnTo>
                  <a:lnTo>
                    <a:pt x="306" y="2970"/>
                  </a:lnTo>
                  <a:lnTo>
                    <a:pt x="292" y="2962"/>
                  </a:lnTo>
                  <a:lnTo>
                    <a:pt x="284" y="2954"/>
                  </a:lnTo>
                  <a:lnTo>
                    <a:pt x="270" y="2948"/>
                  </a:lnTo>
                  <a:lnTo>
                    <a:pt x="262" y="2940"/>
                  </a:lnTo>
                  <a:lnTo>
                    <a:pt x="248" y="2932"/>
                  </a:lnTo>
                  <a:lnTo>
                    <a:pt x="232" y="2926"/>
                  </a:lnTo>
                  <a:lnTo>
                    <a:pt x="218" y="2926"/>
                  </a:lnTo>
                  <a:lnTo>
                    <a:pt x="204" y="2918"/>
                  </a:lnTo>
                  <a:lnTo>
                    <a:pt x="190" y="2918"/>
                  </a:lnTo>
                  <a:lnTo>
                    <a:pt x="174" y="2918"/>
                  </a:lnTo>
                  <a:lnTo>
                    <a:pt x="160" y="2918"/>
                  </a:lnTo>
                  <a:lnTo>
                    <a:pt x="146" y="2926"/>
                  </a:lnTo>
                  <a:lnTo>
                    <a:pt x="130" y="2926"/>
                  </a:lnTo>
                  <a:lnTo>
                    <a:pt x="116" y="2932"/>
                  </a:lnTo>
                  <a:lnTo>
                    <a:pt x="108" y="2940"/>
                  </a:lnTo>
                  <a:lnTo>
                    <a:pt x="94" y="2940"/>
                  </a:lnTo>
                  <a:lnTo>
                    <a:pt x="86" y="2948"/>
                  </a:lnTo>
                  <a:lnTo>
                    <a:pt x="80" y="2954"/>
                  </a:lnTo>
                  <a:lnTo>
                    <a:pt x="64" y="2962"/>
                  </a:lnTo>
                  <a:lnTo>
                    <a:pt x="58" y="2976"/>
                  </a:lnTo>
                  <a:lnTo>
                    <a:pt x="50" y="2984"/>
                  </a:lnTo>
                  <a:lnTo>
                    <a:pt x="44" y="2992"/>
                  </a:lnTo>
                  <a:lnTo>
                    <a:pt x="36" y="2998"/>
                  </a:lnTo>
                  <a:lnTo>
                    <a:pt x="28" y="3014"/>
                  </a:lnTo>
                  <a:lnTo>
                    <a:pt x="22" y="3020"/>
                  </a:lnTo>
                  <a:lnTo>
                    <a:pt x="22" y="3036"/>
                  </a:lnTo>
                  <a:lnTo>
                    <a:pt x="14" y="3042"/>
                  </a:lnTo>
                  <a:lnTo>
                    <a:pt x="14" y="3056"/>
                  </a:lnTo>
                  <a:lnTo>
                    <a:pt x="6" y="3064"/>
                  </a:lnTo>
                  <a:lnTo>
                    <a:pt x="6" y="3072"/>
                  </a:lnTo>
                  <a:lnTo>
                    <a:pt x="6" y="3086"/>
                  </a:lnTo>
                  <a:lnTo>
                    <a:pt x="0" y="3100"/>
                  </a:lnTo>
                  <a:lnTo>
                    <a:pt x="0" y="3108"/>
                  </a:lnTo>
                  <a:lnTo>
                    <a:pt x="0" y="3122"/>
                  </a:lnTo>
                  <a:lnTo>
                    <a:pt x="0" y="3138"/>
                  </a:lnTo>
                  <a:lnTo>
                    <a:pt x="0" y="3152"/>
                  </a:lnTo>
                  <a:lnTo>
                    <a:pt x="0" y="3160"/>
                  </a:lnTo>
                  <a:lnTo>
                    <a:pt x="6" y="3174"/>
                  </a:lnTo>
                  <a:lnTo>
                    <a:pt x="6" y="3188"/>
                  </a:lnTo>
                  <a:lnTo>
                    <a:pt x="14" y="3202"/>
                  </a:lnTo>
                  <a:lnTo>
                    <a:pt x="22" y="3218"/>
                  </a:lnTo>
                  <a:lnTo>
                    <a:pt x="22" y="3232"/>
                  </a:lnTo>
                  <a:lnTo>
                    <a:pt x="36" y="3246"/>
                  </a:lnTo>
                  <a:lnTo>
                    <a:pt x="44" y="3262"/>
                  </a:lnTo>
                  <a:lnTo>
                    <a:pt x="50" y="3276"/>
                  </a:lnTo>
                  <a:lnTo>
                    <a:pt x="64" y="3290"/>
                  </a:lnTo>
                  <a:lnTo>
                    <a:pt x="64" y="3290"/>
                  </a:lnTo>
                  <a:close/>
                  <a:moveTo>
                    <a:pt x="1430" y="3320"/>
                  </a:moveTo>
                  <a:lnTo>
                    <a:pt x="1430" y="3326"/>
                  </a:lnTo>
                  <a:lnTo>
                    <a:pt x="1422" y="3326"/>
                  </a:lnTo>
                  <a:lnTo>
                    <a:pt x="1422" y="3334"/>
                  </a:lnTo>
                  <a:lnTo>
                    <a:pt x="1414" y="3334"/>
                  </a:lnTo>
                  <a:lnTo>
                    <a:pt x="1414" y="3342"/>
                  </a:lnTo>
                  <a:lnTo>
                    <a:pt x="1408" y="3342"/>
                  </a:lnTo>
                  <a:lnTo>
                    <a:pt x="1400" y="3342"/>
                  </a:lnTo>
                  <a:lnTo>
                    <a:pt x="1400" y="3348"/>
                  </a:lnTo>
                  <a:lnTo>
                    <a:pt x="1394" y="3348"/>
                  </a:lnTo>
                  <a:lnTo>
                    <a:pt x="1386" y="3348"/>
                  </a:lnTo>
                  <a:lnTo>
                    <a:pt x="1378" y="3348"/>
                  </a:lnTo>
                  <a:lnTo>
                    <a:pt x="1372" y="3356"/>
                  </a:lnTo>
                  <a:lnTo>
                    <a:pt x="1364" y="3348"/>
                  </a:lnTo>
                  <a:lnTo>
                    <a:pt x="1356" y="3348"/>
                  </a:lnTo>
                  <a:lnTo>
                    <a:pt x="1350" y="3348"/>
                  </a:lnTo>
                  <a:lnTo>
                    <a:pt x="1342" y="3348"/>
                  </a:lnTo>
                  <a:lnTo>
                    <a:pt x="1334" y="3348"/>
                  </a:lnTo>
                  <a:lnTo>
                    <a:pt x="1328" y="3348"/>
                  </a:lnTo>
                  <a:lnTo>
                    <a:pt x="1328" y="3342"/>
                  </a:lnTo>
                  <a:lnTo>
                    <a:pt x="1320" y="3342"/>
                  </a:lnTo>
                  <a:lnTo>
                    <a:pt x="1312" y="3342"/>
                  </a:lnTo>
                  <a:lnTo>
                    <a:pt x="1312" y="3334"/>
                  </a:lnTo>
                  <a:lnTo>
                    <a:pt x="1306" y="3334"/>
                  </a:lnTo>
                  <a:lnTo>
                    <a:pt x="1298" y="3326"/>
                  </a:lnTo>
                  <a:lnTo>
                    <a:pt x="1290" y="3320"/>
                  </a:lnTo>
                  <a:lnTo>
                    <a:pt x="1284" y="3312"/>
                  </a:lnTo>
                  <a:lnTo>
                    <a:pt x="1276" y="3312"/>
                  </a:lnTo>
                  <a:lnTo>
                    <a:pt x="1276" y="3306"/>
                  </a:lnTo>
                  <a:lnTo>
                    <a:pt x="1268" y="3298"/>
                  </a:lnTo>
                  <a:lnTo>
                    <a:pt x="1268" y="3290"/>
                  </a:lnTo>
                  <a:lnTo>
                    <a:pt x="1268" y="3284"/>
                  </a:lnTo>
                  <a:lnTo>
                    <a:pt x="1262" y="3276"/>
                  </a:lnTo>
                  <a:lnTo>
                    <a:pt x="1262" y="3268"/>
                  </a:lnTo>
                  <a:lnTo>
                    <a:pt x="1262" y="3262"/>
                  </a:lnTo>
                  <a:lnTo>
                    <a:pt x="1262" y="3254"/>
                  </a:lnTo>
                  <a:lnTo>
                    <a:pt x="1268" y="3246"/>
                  </a:lnTo>
                  <a:lnTo>
                    <a:pt x="1268" y="3240"/>
                  </a:lnTo>
                  <a:lnTo>
                    <a:pt x="1268" y="3232"/>
                  </a:lnTo>
                  <a:lnTo>
                    <a:pt x="1276" y="3224"/>
                  </a:lnTo>
                  <a:lnTo>
                    <a:pt x="1276" y="3218"/>
                  </a:lnTo>
                  <a:lnTo>
                    <a:pt x="1284" y="3210"/>
                  </a:lnTo>
                  <a:lnTo>
                    <a:pt x="1284" y="3202"/>
                  </a:lnTo>
                  <a:lnTo>
                    <a:pt x="1290" y="3202"/>
                  </a:lnTo>
                  <a:lnTo>
                    <a:pt x="1298" y="3196"/>
                  </a:lnTo>
                  <a:lnTo>
                    <a:pt x="1306" y="3196"/>
                  </a:lnTo>
                  <a:lnTo>
                    <a:pt x="1306" y="3188"/>
                  </a:lnTo>
                  <a:lnTo>
                    <a:pt x="1312" y="3188"/>
                  </a:lnTo>
                  <a:lnTo>
                    <a:pt x="1320" y="3188"/>
                  </a:lnTo>
                  <a:lnTo>
                    <a:pt x="1328" y="3188"/>
                  </a:lnTo>
                  <a:lnTo>
                    <a:pt x="1334" y="3188"/>
                  </a:lnTo>
                  <a:lnTo>
                    <a:pt x="1350" y="3188"/>
                  </a:lnTo>
                  <a:lnTo>
                    <a:pt x="1356" y="3196"/>
                  </a:lnTo>
                  <a:lnTo>
                    <a:pt x="1364" y="3196"/>
                  </a:lnTo>
                  <a:lnTo>
                    <a:pt x="1372" y="3196"/>
                  </a:lnTo>
                  <a:lnTo>
                    <a:pt x="1378" y="3202"/>
                  </a:lnTo>
                  <a:lnTo>
                    <a:pt x="1386" y="3202"/>
                  </a:lnTo>
                  <a:lnTo>
                    <a:pt x="1386" y="3210"/>
                  </a:lnTo>
                  <a:lnTo>
                    <a:pt x="1394" y="3210"/>
                  </a:lnTo>
                  <a:lnTo>
                    <a:pt x="1394" y="3218"/>
                  </a:lnTo>
                  <a:lnTo>
                    <a:pt x="1400" y="3218"/>
                  </a:lnTo>
                  <a:lnTo>
                    <a:pt x="1400" y="3224"/>
                  </a:lnTo>
                  <a:lnTo>
                    <a:pt x="1400" y="3232"/>
                  </a:lnTo>
                  <a:lnTo>
                    <a:pt x="1400" y="3240"/>
                  </a:lnTo>
                  <a:lnTo>
                    <a:pt x="1400" y="3246"/>
                  </a:lnTo>
                  <a:lnTo>
                    <a:pt x="1400" y="3254"/>
                  </a:lnTo>
                  <a:lnTo>
                    <a:pt x="1400" y="3262"/>
                  </a:lnTo>
                  <a:lnTo>
                    <a:pt x="1400" y="3268"/>
                  </a:lnTo>
                  <a:lnTo>
                    <a:pt x="1394" y="3268"/>
                  </a:lnTo>
                  <a:lnTo>
                    <a:pt x="1394" y="3276"/>
                  </a:lnTo>
                  <a:lnTo>
                    <a:pt x="1386" y="3276"/>
                  </a:lnTo>
                  <a:lnTo>
                    <a:pt x="1378" y="3276"/>
                  </a:lnTo>
                  <a:lnTo>
                    <a:pt x="1378" y="3284"/>
                  </a:lnTo>
                  <a:lnTo>
                    <a:pt x="1372" y="3284"/>
                  </a:lnTo>
                  <a:lnTo>
                    <a:pt x="1364" y="3284"/>
                  </a:lnTo>
                  <a:lnTo>
                    <a:pt x="1356" y="3284"/>
                  </a:lnTo>
                  <a:lnTo>
                    <a:pt x="1342" y="3312"/>
                  </a:lnTo>
                  <a:lnTo>
                    <a:pt x="1350" y="3312"/>
                  </a:lnTo>
                  <a:lnTo>
                    <a:pt x="1350" y="3320"/>
                  </a:lnTo>
                  <a:lnTo>
                    <a:pt x="1356" y="3320"/>
                  </a:lnTo>
                  <a:lnTo>
                    <a:pt x="1364" y="3320"/>
                  </a:lnTo>
                  <a:lnTo>
                    <a:pt x="1372" y="3320"/>
                  </a:lnTo>
                  <a:lnTo>
                    <a:pt x="1378" y="3320"/>
                  </a:lnTo>
                  <a:lnTo>
                    <a:pt x="1378" y="3312"/>
                  </a:lnTo>
                  <a:lnTo>
                    <a:pt x="1386" y="3312"/>
                  </a:lnTo>
                  <a:lnTo>
                    <a:pt x="1394" y="3312"/>
                  </a:lnTo>
                  <a:lnTo>
                    <a:pt x="1400" y="3306"/>
                  </a:lnTo>
                  <a:lnTo>
                    <a:pt x="1408" y="3306"/>
                  </a:lnTo>
                  <a:lnTo>
                    <a:pt x="1408" y="3298"/>
                  </a:lnTo>
                  <a:lnTo>
                    <a:pt x="1414" y="3298"/>
                  </a:lnTo>
                  <a:lnTo>
                    <a:pt x="1414" y="3290"/>
                  </a:lnTo>
                  <a:lnTo>
                    <a:pt x="1422" y="3290"/>
                  </a:lnTo>
                  <a:lnTo>
                    <a:pt x="1422" y="3284"/>
                  </a:lnTo>
                  <a:lnTo>
                    <a:pt x="1430" y="3276"/>
                  </a:lnTo>
                  <a:lnTo>
                    <a:pt x="1430" y="3268"/>
                  </a:lnTo>
                  <a:lnTo>
                    <a:pt x="1436" y="3268"/>
                  </a:lnTo>
                  <a:lnTo>
                    <a:pt x="1436" y="3262"/>
                  </a:lnTo>
                  <a:lnTo>
                    <a:pt x="1436" y="3254"/>
                  </a:lnTo>
                  <a:lnTo>
                    <a:pt x="1436" y="3246"/>
                  </a:lnTo>
                  <a:lnTo>
                    <a:pt x="1436" y="3240"/>
                  </a:lnTo>
                  <a:lnTo>
                    <a:pt x="1436" y="3232"/>
                  </a:lnTo>
                  <a:lnTo>
                    <a:pt x="1436" y="3224"/>
                  </a:lnTo>
                  <a:lnTo>
                    <a:pt x="1436" y="3218"/>
                  </a:lnTo>
                  <a:lnTo>
                    <a:pt x="1430" y="3210"/>
                  </a:lnTo>
                  <a:lnTo>
                    <a:pt x="1430" y="3202"/>
                  </a:lnTo>
                  <a:lnTo>
                    <a:pt x="1422" y="3196"/>
                  </a:lnTo>
                  <a:lnTo>
                    <a:pt x="1414" y="3188"/>
                  </a:lnTo>
                  <a:lnTo>
                    <a:pt x="1414" y="3182"/>
                  </a:lnTo>
                  <a:lnTo>
                    <a:pt x="1408" y="3182"/>
                  </a:lnTo>
                  <a:lnTo>
                    <a:pt x="1394" y="3174"/>
                  </a:lnTo>
                  <a:lnTo>
                    <a:pt x="1386" y="3166"/>
                  </a:lnTo>
                  <a:lnTo>
                    <a:pt x="1372" y="3166"/>
                  </a:lnTo>
                  <a:lnTo>
                    <a:pt x="1364" y="3160"/>
                  </a:lnTo>
                  <a:lnTo>
                    <a:pt x="1356" y="3160"/>
                  </a:lnTo>
                  <a:lnTo>
                    <a:pt x="1350" y="3160"/>
                  </a:lnTo>
                  <a:lnTo>
                    <a:pt x="1342" y="3160"/>
                  </a:lnTo>
                  <a:lnTo>
                    <a:pt x="1334" y="3160"/>
                  </a:lnTo>
                  <a:lnTo>
                    <a:pt x="1328" y="3160"/>
                  </a:lnTo>
                  <a:lnTo>
                    <a:pt x="1320" y="3160"/>
                  </a:lnTo>
                  <a:lnTo>
                    <a:pt x="1312" y="3160"/>
                  </a:lnTo>
                  <a:lnTo>
                    <a:pt x="1306" y="3160"/>
                  </a:lnTo>
                  <a:lnTo>
                    <a:pt x="1298" y="3160"/>
                  </a:lnTo>
                  <a:lnTo>
                    <a:pt x="1290" y="3160"/>
                  </a:lnTo>
                  <a:lnTo>
                    <a:pt x="1298" y="3152"/>
                  </a:lnTo>
                  <a:lnTo>
                    <a:pt x="1306" y="3138"/>
                  </a:lnTo>
                  <a:lnTo>
                    <a:pt x="1312" y="3122"/>
                  </a:lnTo>
                  <a:lnTo>
                    <a:pt x="1312" y="3108"/>
                  </a:lnTo>
                  <a:lnTo>
                    <a:pt x="1320" y="3100"/>
                  </a:lnTo>
                  <a:lnTo>
                    <a:pt x="1328" y="3086"/>
                  </a:lnTo>
                  <a:lnTo>
                    <a:pt x="1328" y="3072"/>
                  </a:lnTo>
                  <a:lnTo>
                    <a:pt x="1328" y="3056"/>
                  </a:lnTo>
                  <a:lnTo>
                    <a:pt x="1334" y="3042"/>
                  </a:lnTo>
                  <a:lnTo>
                    <a:pt x="1334" y="3028"/>
                  </a:lnTo>
                  <a:lnTo>
                    <a:pt x="1334" y="3014"/>
                  </a:lnTo>
                  <a:lnTo>
                    <a:pt x="1334" y="2998"/>
                  </a:lnTo>
                  <a:lnTo>
                    <a:pt x="1334" y="2984"/>
                  </a:lnTo>
                  <a:lnTo>
                    <a:pt x="1334" y="2976"/>
                  </a:lnTo>
                  <a:lnTo>
                    <a:pt x="1334" y="2962"/>
                  </a:lnTo>
                  <a:lnTo>
                    <a:pt x="1334" y="2948"/>
                  </a:lnTo>
                  <a:lnTo>
                    <a:pt x="1328" y="2932"/>
                  </a:lnTo>
                  <a:lnTo>
                    <a:pt x="1328" y="2912"/>
                  </a:lnTo>
                  <a:lnTo>
                    <a:pt x="1328" y="2896"/>
                  </a:lnTo>
                  <a:lnTo>
                    <a:pt x="1320" y="2882"/>
                  </a:lnTo>
                  <a:lnTo>
                    <a:pt x="1312" y="2868"/>
                  </a:lnTo>
                  <a:lnTo>
                    <a:pt x="1306" y="2852"/>
                  </a:lnTo>
                  <a:lnTo>
                    <a:pt x="1298" y="2846"/>
                  </a:lnTo>
                  <a:lnTo>
                    <a:pt x="1290" y="2830"/>
                  </a:lnTo>
                  <a:lnTo>
                    <a:pt x="1284" y="2816"/>
                  </a:lnTo>
                  <a:lnTo>
                    <a:pt x="1276" y="2802"/>
                  </a:lnTo>
                  <a:lnTo>
                    <a:pt x="1268" y="2794"/>
                  </a:lnTo>
                  <a:lnTo>
                    <a:pt x="1254" y="2780"/>
                  </a:lnTo>
                  <a:lnTo>
                    <a:pt x="1248" y="2772"/>
                  </a:lnTo>
                  <a:lnTo>
                    <a:pt x="1240" y="2758"/>
                  </a:lnTo>
                  <a:lnTo>
                    <a:pt x="1226" y="2750"/>
                  </a:lnTo>
                  <a:lnTo>
                    <a:pt x="1210" y="2744"/>
                  </a:lnTo>
                  <a:lnTo>
                    <a:pt x="1204" y="2736"/>
                  </a:lnTo>
                  <a:lnTo>
                    <a:pt x="1188" y="2728"/>
                  </a:lnTo>
                  <a:lnTo>
                    <a:pt x="1174" y="2722"/>
                  </a:lnTo>
                  <a:lnTo>
                    <a:pt x="1160" y="2714"/>
                  </a:lnTo>
                  <a:lnTo>
                    <a:pt x="1152" y="2706"/>
                  </a:lnTo>
                  <a:lnTo>
                    <a:pt x="1138" y="2706"/>
                  </a:lnTo>
                  <a:lnTo>
                    <a:pt x="1124" y="2706"/>
                  </a:lnTo>
                  <a:lnTo>
                    <a:pt x="1108" y="2700"/>
                  </a:lnTo>
                  <a:lnTo>
                    <a:pt x="1094" y="2700"/>
                  </a:lnTo>
                  <a:lnTo>
                    <a:pt x="1080" y="2700"/>
                  </a:lnTo>
                  <a:lnTo>
                    <a:pt x="1064" y="2700"/>
                  </a:lnTo>
                  <a:lnTo>
                    <a:pt x="1050" y="2706"/>
                  </a:lnTo>
                  <a:lnTo>
                    <a:pt x="1042" y="2706"/>
                  </a:lnTo>
                  <a:lnTo>
                    <a:pt x="1028" y="2706"/>
                  </a:lnTo>
                  <a:lnTo>
                    <a:pt x="1014" y="2714"/>
                  </a:lnTo>
                  <a:lnTo>
                    <a:pt x="998" y="2722"/>
                  </a:lnTo>
                  <a:lnTo>
                    <a:pt x="984" y="2728"/>
                  </a:lnTo>
                  <a:lnTo>
                    <a:pt x="978" y="2728"/>
                  </a:lnTo>
                  <a:lnTo>
                    <a:pt x="962" y="2736"/>
                  </a:lnTo>
                  <a:lnTo>
                    <a:pt x="956" y="2750"/>
                  </a:lnTo>
                  <a:lnTo>
                    <a:pt x="940" y="2758"/>
                  </a:lnTo>
                  <a:lnTo>
                    <a:pt x="934" y="2766"/>
                  </a:lnTo>
                  <a:lnTo>
                    <a:pt x="926" y="2772"/>
                  </a:lnTo>
                  <a:lnTo>
                    <a:pt x="918" y="2780"/>
                  </a:lnTo>
                  <a:lnTo>
                    <a:pt x="912" y="2794"/>
                  </a:lnTo>
                  <a:lnTo>
                    <a:pt x="904" y="2802"/>
                  </a:lnTo>
                  <a:lnTo>
                    <a:pt x="896" y="2816"/>
                  </a:lnTo>
                  <a:lnTo>
                    <a:pt x="890" y="2824"/>
                  </a:lnTo>
                  <a:lnTo>
                    <a:pt x="890" y="2838"/>
                  </a:lnTo>
                  <a:lnTo>
                    <a:pt x="882" y="2846"/>
                  </a:lnTo>
                  <a:lnTo>
                    <a:pt x="882" y="2860"/>
                  </a:lnTo>
                  <a:lnTo>
                    <a:pt x="882" y="2868"/>
                  </a:lnTo>
                  <a:lnTo>
                    <a:pt x="882" y="2882"/>
                  </a:lnTo>
                  <a:lnTo>
                    <a:pt x="882" y="2890"/>
                  </a:lnTo>
                  <a:lnTo>
                    <a:pt x="882" y="2896"/>
                  </a:lnTo>
                  <a:lnTo>
                    <a:pt x="882" y="2904"/>
                  </a:lnTo>
                  <a:lnTo>
                    <a:pt x="882" y="2912"/>
                  </a:lnTo>
                  <a:lnTo>
                    <a:pt x="882" y="2926"/>
                  </a:lnTo>
                  <a:lnTo>
                    <a:pt x="890" y="2932"/>
                  </a:lnTo>
                  <a:lnTo>
                    <a:pt x="890" y="2940"/>
                  </a:lnTo>
                  <a:lnTo>
                    <a:pt x="896" y="2948"/>
                  </a:lnTo>
                  <a:lnTo>
                    <a:pt x="896" y="2954"/>
                  </a:lnTo>
                  <a:lnTo>
                    <a:pt x="904" y="2962"/>
                  </a:lnTo>
                  <a:lnTo>
                    <a:pt x="912" y="2970"/>
                  </a:lnTo>
                  <a:lnTo>
                    <a:pt x="912" y="2976"/>
                  </a:lnTo>
                  <a:lnTo>
                    <a:pt x="918" y="2984"/>
                  </a:lnTo>
                  <a:lnTo>
                    <a:pt x="926" y="2992"/>
                  </a:lnTo>
                  <a:lnTo>
                    <a:pt x="934" y="2998"/>
                  </a:lnTo>
                  <a:lnTo>
                    <a:pt x="940" y="3006"/>
                  </a:lnTo>
                  <a:lnTo>
                    <a:pt x="948" y="3014"/>
                  </a:lnTo>
                  <a:lnTo>
                    <a:pt x="956" y="3014"/>
                  </a:lnTo>
                  <a:lnTo>
                    <a:pt x="962" y="3020"/>
                  </a:lnTo>
                  <a:lnTo>
                    <a:pt x="970" y="3028"/>
                  </a:lnTo>
                  <a:lnTo>
                    <a:pt x="978" y="3028"/>
                  </a:lnTo>
                  <a:lnTo>
                    <a:pt x="992" y="3036"/>
                  </a:lnTo>
                  <a:lnTo>
                    <a:pt x="998" y="3036"/>
                  </a:lnTo>
                  <a:lnTo>
                    <a:pt x="1006" y="3036"/>
                  </a:lnTo>
                  <a:lnTo>
                    <a:pt x="1014" y="3042"/>
                  </a:lnTo>
                  <a:lnTo>
                    <a:pt x="1020" y="3042"/>
                  </a:lnTo>
                  <a:lnTo>
                    <a:pt x="1028" y="3042"/>
                  </a:lnTo>
                  <a:lnTo>
                    <a:pt x="1036" y="3042"/>
                  </a:lnTo>
                  <a:lnTo>
                    <a:pt x="1042" y="3042"/>
                  </a:lnTo>
                  <a:lnTo>
                    <a:pt x="1058" y="3042"/>
                  </a:lnTo>
                  <a:lnTo>
                    <a:pt x="1064" y="3042"/>
                  </a:lnTo>
                  <a:lnTo>
                    <a:pt x="1064" y="3036"/>
                  </a:lnTo>
                  <a:lnTo>
                    <a:pt x="1072" y="3036"/>
                  </a:lnTo>
                  <a:lnTo>
                    <a:pt x="1080" y="3036"/>
                  </a:lnTo>
                  <a:lnTo>
                    <a:pt x="1086" y="3028"/>
                  </a:lnTo>
                  <a:lnTo>
                    <a:pt x="1094" y="3028"/>
                  </a:lnTo>
                  <a:lnTo>
                    <a:pt x="1102" y="3028"/>
                  </a:lnTo>
                  <a:lnTo>
                    <a:pt x="1102" y="3020"/>
                  </a:lnTo>
                  <a:lnTo>
                    <a:pt x="1108" y="3020"/>
                  </a:lnTo>
                  <a:lnTo>
                    <a:pt x="1108" y="3014"/>
                  </a:lnTo>
                  <a:lnTo>
                    <a:pt x="1108" y="3020"/>
                  </a:lnTo>
                  <a:lnTo>
                    <a:pt x="1102" y="3028"/>
                  </a:lnTo>
                  <a:lnTo>
                    <a:pt x="1094" y="3036"/>
                  </a:lnTo>
                  <a:lnTo>
                    <a:pt x="1094" y="3042"/>
                  </a:lnTo>
                  <a:lnTo>
                    <a:pt x="1086" y="3042"/>
                  </a:lnTo>
                  <a:lnTo>
                    <a:pt x="1086" y="3050"/>
                  </a:lnTo>
                  <a:lnTo>
                    <a:pt x="1080" y="3050"/>
                  </a:lnTo>
                  <a:lnTo>
                    <a:pt x="1072" y="3056"/>
                  </a:lnTo>
                  <a:lnTo>
                    <a:pt x="1064" y="3056"/>
                  </a:lnTo>
                  <a:lnTo>
                    <a:pt x="1064" y="3064"/>
                  </a:lnTo>
                  <a:lnTo>
                    <a:pt x="1058" y="3064"/>
                  </a:lnTo>
                  <a:lnTo>
                    <a:pt x="1042" y="3072"/>
                  </a:lnTo>
                  <a:lnTo>
                    <a:pt x="1028" y="3078"/>
                  </a:lnTo>
                  <a:lnTo>
                    <a:pt x="1006" y="3078"/>
                  </a:lnTo>
                  <a:lnTo>
                    <a:pt x="992" y="3078"/>
                  </a:lnTo>
                  <a:lnTo>
                    <a:pt x="978" y="3078"/>
                  </a:lnTo>
                  <a:lnTo>
                    <a:pt x="962" y="3078"/>
                  </a:lnTo>
                  <a:lnTo>
                    <a:pt x="940" y="3072"/>
                  </a:lnTo>
                  <a:lnTo>
                    <a:pt x="926" y="3072"/>
                  </a:lnTo>
                  <a:lnTo>
                    <a:pt x="912" y="3056"/>
                  </a:lnTo>
                  <a:lnTo>
                    <a:pt x="896" y="3050"/>
                  </a:lnTo>
                  <a:lnTo>
                    <a:pt x="882" y="3042"/>
                  </a:lnTo>
                  <a:lnTo>
                    <a:pt x="868" y="3028"/>
                  </a:lnTo>
                  <a:lnTo>
                    <a:pt x="854" y="3014"/>
                  </a:lnTo>
                  <a:lnTo>
                    <a:pt x="846" y="2998"/>
                  </a:lnTo>
                  <a:lnTo>
                    <a:pt x="832" y="2976"/>
                  </a:lnTo>
                  <a:lnTo>
                    <a:pt x="824" y="2954"/>
                  </a:lnTo>
                  <a:lnTo>
                    <a:pt x="816" y="2948"/>
                  </a:lnTo>
                  <a:lnTo>
                    <a:pt x="810" y="2932"/>
                  </a:lnTo>
                  <a:lnTo>
                    <a:pt x="802" y="2918"/>
                  </a:lnTo>
                  <a:lnTo>
                    <a:pt x="802" y="2904"/>
                  </a:lnTo>
                  <a:lnTo>
                    <a:pt x="794" y="2890"/>
                  </a:lnTo>
                  <a:lnTo>
                    <a:pt x="794" y="2874"/>
                  </a:lnTo>
                  <a:lnTo>
                    <a:pt x="794" y="2860"/>
                  </a:lnTo>
                  <a:lnTo>
                    <a:pt x="794" y="2846"/>
                  </a:lnTo>
                  <a:lnTo>
                    <a:pt x="794" y="2830"/>
                  </a:lnTo>
                  <a:lnTo>
                    <a:pt x="794" y="2816"/>
                  </a:lnTo>
                  <a:lnTo>
                    <a:pt x="802" y="2802"/>
                  </a:lnTo>
                  <a:lnTo>
                    <a:pt x="802" y="2786"/>
                  </a:lnTo>
                  <a:lnTo>
                    <a:pt x="810" y="2772"/>
                  </a:lnTo>
                  <a:lnTo>
                    <a:pt x="816" y="2758"/>
                  </a:lnTo>
                  <a:lnTo>
                    <a:pt x="824" y="2744"/>
                  </a:lnTo>
                  <a:lnTo>
                    <a:pt x="824" y="2728"/>
                  </a:lnTo>
                  <a:lnTo>
                    <a:pt x="832" y="2722"/>
                  </a:lnTo>
                  <a:lnTo>
                    <a:pt x="838" y="2706"/>
                  </a:lnTo>
                  <a:lnTo>
                    <a:pt x="846" y="2700"/>
                  </a:lnTo>
                  <a:lnTo>
                    <a:pt x="860" y="2684"/>
                  </a:lnTo>
                  <a:lnTo>
                    <a:pt x="868" y="2670"/>
                  </a:lnTo>
                  <a:lnTo>
                    <a:pt x="882" y="2662"/>
                  </a:lnTo>
                  <a:lnTo>
                    <a:pt x="896" y="2648"/>
                  </a:lnTo>
                  <a:lnTo>
                    <a:pt x="912" y="2634"/>
                  </a:lnTo>
                  <a:lnTo>
                    <a:pt x="926" y="2626"/>
                  </a:lnTo>
                  <a:lnTo>
                    <a:pt x="940" y="2612"/>
                  </a:lnTo>
                  <a:lnTo>
                    <a:pt x="962" y="2604"/>
                  </a:lnTo>
                  <a:lnTo>
                    <a:pt x="984" y="2598"/>
                  </a:lnTo>
                  <a:lnTo>
                    <a:pt x="1006" y="2590"/>
                  </a:lnTo>
                  <a:lnTo>
                    <a:pt x="1036" y="2582"/>
                  </a:lnTo>
                  <a:lnTo>
                    <a:pt x="1064" y="2576"/>
                  </a:lnTo>
                  <a:lnTo>
                    <a:pt x="1094" y="2568"/>
                  </a:lnTo>
                  <a:lnTo>
                    <a:pt x="1130" y="2568"/>
                  </a:lnTo>
                  <a:lnTo>
                    <a:pt x="1160" y="2568"/>
                  </a:lnTo>
                  <a:lnTo>
                    <a:pt x="1196" y="2576"/>
                  </a:lnTo>
                  <a:lnTo>
                    <a:pt x="1232" y="2582"/>
                  </a:lnTo>
                  <a:lnTo>
                    <a:pt x="1262" y="2590"/>
                  </a:lnTo>
                  <a:lnTo>
                    <a:pt x="1298" y="2604"/>
                  </a:lnTo>
                  <a:lnTo>
                    <a:pt x="1328" y="2626"/>
                  </a:lnTo>
                  <a:lnTo>
                    <a:pt x="1364" y="2642"/>
                  </a:lnTo>
                  <a:lnTo>
                    <a:pt x="1394" y="2670"/>
                  </a:lnTo>
                  <a:lnTo>
                    <a:pt x="1414" y="2700"/>
                  </a:lnTo>
                  <a:lnTo>
                    <a:pt x="1444" y="2728"/>
                  </a:lnTo>
                  <a:lnTo>
                    <a:pt x="1466" y="2766"/>
                  </a:lnTo>
                  <a:lnTo>
                    <a:pt x="1480" y="2802"/>
                  </a:lnTo>
                  <a:lnTo>
                    <a:pt x="1502" y="2846"/>
                  </a:lnTo>
                  <a:lnTo>
                    <a:pt x="1518" y="2890"/>
                  </a:lnTo>
                  <a:lnTo>
                    <a:pt x="1524" y="2940"/>
                  </a:lnTo>
                  <a:lnTo>
                    <a:pt x="1524" y="2948"/>
                  </a:lnTo>
                  <a:lnTo>
                    <a:pt x="1524" y="2954"/>
                  </a:lnTo>
                  <a:lnTo>
                    <a:pt x="1524" y="2962"/>
                  </a:lnTo>
                  <a:lnTo>
                    <a:pt x="1524" y="2970"/>
                  </a:lnTo>
                  <a:lnTo>
                    <a:pt x="1524" y="2976"/>
                  </a:lnTo>
                  <a:lnTo>
                    <a:pt x="1524" y="2984"/>
                  </a:lnTo>
                  <a:lnTo>
                    <a:pt x="1524" y="2992"/>
                  </a:lnTo>
                  <a:lnTo>
                    <a:pt x="1532" y="2998"/>
                  </a:lnTo>
                  <a:lnTo>
                    <a:pt x="1532" y="3006"/>
                  </a:lnTo>
                  <a:lnTo>
                    <a:pt x="1466" y="2976"/>
                  </a:lnTo>
                  <a:lnTo>
                    <a:pt x="1386" y="3006"/>
                  </a:lnTo>
                  <a:lnTo>
                    <a:pt x="1466" y="3042"/>
                  </a:lnTo>
                  <a:lnTo>
                    <a:pt x="1532" y="3014"/>
                  </a:lnTo>
                  <a:lnTo>
                    <a:pt x="1524" y="3036"/>
                  </a:lnTo>
                  <a:lnTo>
                    <a:pt x="1524" y="3056"/>
                  </a:lnTo>
                  <a:lnTo>
                    <a:pt x="1524" y="3078"/>
                  </a:lnTo>
                  <a:lnTo>
                    <a:pt x="1524" y="3100"/>
                  </a:lnTo>
                  <a:lnTo>
                    <a:pt x="1518" y="3122"/>
                  </a:lnTo>
                  <a:lnTo>
                    <a:pt x="1510" y="3144"/>
                  </a:lnTo>
                  <a:lnTo>
                    <a:pt x="1510" y="3166"/>
                  </a:lnTo>
                  <a:lnTo>
                    <a:pt x="1502" y="3188"/>
                  </a:lnTo>
                  <a:lnTo>
                    <a:pt x="1496" y="3210"/>
                  </a:lnTo>
                  <a:lnTo>
                    <a:pt x="1488" y="3232"/>
                  </a:lnTo>
                  <a:lnTo>
                    <a:pt x="1480" y="3246"/>
                  </a:lnTo>
                  <a:lnTo>
                    <a:pt x="1474" y="3262"/>
                  </a:lnTo>
                  <a:lnTo>
                    <a:pt x="1458" y="3284"/>
                  </a:lnTo>
                  <a:lnTo>
                    <a:pt x="1452" y="3298"/>
                  </a:lnTo>
                  <a:lnTo>
                    <a:pt x="1444" y="3312"/>
                  </a:lnTo>
                  <a:lnTo>
                    <a:pt x="1430" y="3320"/>
                  </a:lnTo>
                  <a:lnTo>
                    <a:pt x="1430" y="3320"/>
                  </a:lnTo>
                  <a:close/>
                  <a:moveTo>
                    <a:pt x="2992" y="3006"/>
                  </a:moveTo>
                  <a:lnTo>
                    <a:pt x="2984" y="2998"/>
                  </a:lnTo>
                  <a:lnTo>
                    <a:pt x="2976" y="2992"/>
                  </a:lnTo>
                  <a:lnTo>
                    <a:pt x="2962" y="2992"/>
                  </a:lnTo>
                  <a:lnTo>
                    <a:pt x="2954" y="2984"/>
                  </a:lnTo>
                  <a:lnTo>
                    <a:pt x="2948" y="2976"/>
                  </a:lnTo>
                  <a:lnTo>
                    <a:pt x="2940" y="2976"/>
                  </a:lnTo>
                  <a:lnTo>
                    <a:pt x="2926" y="2976"/>
                  </a:lnTo>
                  <a:lnTo>
                    <a:pt x="2918" y="2970"/>
                  </a:lnTo>
                  <a:lnTo>
                    <a:pt x="2904" y="2970"/>
                  </a:lnTo>
                  <a:lnTo>
                    <a:pt x="2896" y="2970"/>
                  </a:lnTo>
                  <a:lnTo>
                    <a:pt x="2888" y="2970"/>
                  </a:lnTo>
                  <a:lnTo>
                    <a:pt x="2874" y="2970"/>
                  </a:lnTo>
                  <a:lnTo>
                    <a:pt x="2860" y="2970"/>
                  </a:lnTo>
                  <a:lnTo>
                    <a:pt x="2852" y="2970"/>
                  </a:lnTo>
                  <a:lnTo>
                    <a:pt x="2838" y="2970"/>
                  </a:lnTo>
                  <a:lnTo>
                    <a:pt x="2824" y="2970"/>
                  </a:lnTo>
                  <a:lnTo>
                    <a:pt x="2816" y="2976"/>
                  </a:lnTo>
                  <a:lnTo>
                    <a:pt x="2802" y="2976"/>
                  </a:lnTo>
                  <a:lnTo>
                    <a:pt x="2786" y="2976"/>
                  </a:lnTo>
                  <a:lnTo>
                    <a:pt x="2780" y="2984"/>
                  </a:lnTo>
                  <a:lnTo>
                    <a:pt x="2764" y="2992"/>
                  </a:lnTo>
                  <a:lnTo>
                    <a:pt x="2750" y="2992"/>
                  </a:lnTo>
                  <a:lnTo>
                    <a:pt x="2742" y="2998"/>
                  </a:lnTo>
                  <a:lnTo>
                    <a:pt x="2728" y="3006"/>
                  </a:lnTo>
                  <a:lnTo>
                    <a:pt x="2714" y="3014"/>
                  </a:lnTo>
                  <a:lnTo>
                    <a:pt x="2706" y="3020"/>
                  </a:lnTo>
                  <a:lnTo>
                    <a:pt x="2692" y="3020"/>
                  </a:lnTo>
                  <a:lnTo>
                    <a:pt x="2684" y="3028"/>
                  </a:lnTo>
                  <a:lnTo>
                    <a:pt x="2670" y="3036"/>
                  </a:lnTo>
                  <a:lnTo>
                    <a:pt x="2662" y="3050"/>
                  </a:lnTo>
                  <a:lnTo>
                    <a:pt x="2648" y="3056"/>
                  </a:lnTo>
                  <a:lnTo>
                    <a:pt x="2640" y="3064"/>
                  </a:lnTo>
                  <a:lnTo>
                    <a:pt x="2640" y="3056"/>
                  </a:lnTo>
                  <a:lnTo>
                    <a:pt x="2640" y="3050"/>
                  </a:lnTo>
                  <a:lnTo>
                    <a:pt x="2648" y="3042"/>
                  </a:lnTo>
                  <a:lnTo>
                    <a:pt x="2648" y="3036"/>
                  </a:lnTo>
                  <a:lnTo>
                    <a:pt x="2656" y="3006"/>
                  </a:lnTo>
                  <a:lnTo>
                    <a:pt x="2656" y="2976"/>
                  </a:lnTo>
                  <a:lnTo>
                    <a:pt x="2656" y="2948"/>
                  </a:lnTo>
                  <a:lnTo>
                    <a:pt x="2656" y="2918"/>
                  </a:lnTo>
                  <a:lnTo>
                    <a:pt x="2656" y="2890"/>
                  </a:lnTo>
                  <a:lnTo>
                    <a:pt x="2656" y="2860"/>
                  </a:lnTo>
                  <a:lnTo>
                    <a:pt x="2656" y="2830"/>
                  </a:lnTo>
                  <a:lnTo>
                    <a:pt x="2648" y="2802"/>
                  </a:lnTo>
                  <a:lnTo>
                    <a:pt x="2648" y="2772"/>
                  </a:lnTo>
                  <a:lnTo>
                    <a:pt x="2640" y="2750"/>
                  </a:lnTo>
                  <a:lnTo>
                    <a:pt x="2634" y="2722"/>
                  </a:lnTo>
                  <a:lnTo>
                    <a:pt x="2626" y="2692"/>
                  </a:lnTo>
                  <a:lnTo>
                    <a:pt x="2618" y="2670"/>
                  </a:lnTo>
                  <a:lnTo>
                    <a:pt x="2604" y="2642"/>
                  </a:lnTo>
                  <a:lnTo>
                    <a:pt x="2596" y="2620"/>
                  </a:lnTo>
                  <a:lnTo>
                    <a:pt x="2582" y="2590"/>
                  </a:lnTo>
                  <a:lnTo>
                    <a:pt x="2998" y="3006"/>
                  </a:lnTo>
                  <a:lnTo>
                    <a:pt x="2992" y="3006"/>
                  </a:lnTo>
                  <a:lnTo>
                    <a:pt x="2992" y="3006"/>
                  </a:lnTo>
                  <a:close/>
                  <a:moveTo>
                    <a:pt x="3276" y="1262"/>
                  </a:moveTo>
                  <a:lnTo>
                    <a:pt x="3282" y="1262"/>
                  </a:lnTo>
                  <a:lnTo>
                    <a:pt x="3290" y="1262"/>
                  </a:lnTo>
                  <a:lnTo>
                    <a:pt x="3298" y="1262"/>
                  </a:lnTo>
                  <a:lnTo>
                    <a:pt x="3304" y="1262"/>
                  </a:lnTo>
                  <a:lnTo>
                    <a:pt x="3312" y="1262"/>
                  </a:lnTo>
                  <a:lnTo>
                    <a:pt x="3320" y="1262"/>
                  </a:lnTo>
                  <a:lnTo>
                    <a:pt x="3320" y="1270"/>
                  </a:lnTo>
                  <a:lnTo>
                    <a:pt x="3326" y="1270"/>
                  </a:lnTo>
                  <a:lnTo>
                    <a:pt x="3334" y="1270"/>
                  </a:lnTo>
                  <a:lnTo>
                    <a:pt x="3334" y="1276"/>
                  </a:lnTo>
                  <a:lnTo>
                    <a:pt x="3342" y="1276"/>
                  </a:lnTo>
                  <a:lnTo>
                    <a:pt x="3342" y="1284"/>
                  </a:lnTo>
                  <a:lnTo>
                    <a:pt x="3348" y="1284"/>
                  </a:lnTo>
                  <a:lnTo>
                    <a:pt x="3356" y="1292"/>
                  </a:lnTo>
                  <a:lnTo>
                    <a:pt x="3356" y="1298"/>
                  </a:lnTo>
                  <a:lnTo>
                    <a:pt x="3364" y="1306"/>
                  </a:lnTo>
                  <a:lnTo>
                    <a:pt x="3370" y="1314"/>
                  </a:lnTo>
                  <a:lnTo>
                    <a:pt x="3370" y="1320"/>
                  </a:lnTo>
                  <a:lnTo>
                    <a:pt x="3378" y="1328"/>
                  </a:lnTo>
                  <a:lnTo>
                    <a:pt x="3378" y="1334"/>
                  </a:lnTo>
                  <a:lnTo>
                    <a:pt x="3378" y="1342"/>
                  </a:lnTo>
                  <a:lnTo>
                    <a:pt x="3378" y="1350"/>
                  </a:lnTo>
                  <a:lnTo>
                    <a:pt x="3386" y="1356"/>
                  </a:lnTo>
                  <a:lnTo>
                    <a:pt x="3386" y="1364"/>
                  </a:lnTo>
                  <a:lnTo>
                    <a:pt x="3386" y="1372"/>
                  </a:lnTo>
                  <a:lnTo>
                    <a:pt x="3386" y="1378"/>
                  </a:lnTo>
                  <a:lnTo>
                    <a:pt x="3378" y="1386"/>
                  </a:lnTo>
                  <a:lnTo>
                    <a:pt x="3378" y="1394"/>
                  </a:lnTo>
                  <a:lnTo>
                    <a:pt x="3378" y="1400"/>
                  </a:lnTo>
                  <a:lnTo>
                    <a:pt x="3370" y="1408"/>
                  </a:lnTo>
                  <a:lnTo>
                    <a:pt x="3364" y="1416"/>
                  </a:lnTo>
                  <a:lnTo>
                    <a:pt x="3364" y="1422"/>
                  </a:lnTo>
                  <a:lnTo>
                    <a:pt x="3356" y="1422"/>
                  </a:lnTo>
                  <a:lnTo>
                    <a:pt x="3348" y="1430"/>
                  </a:lnTo>
                  <a:lnTo>
                    <a:pt x="3342" y="1438"/>
                  </a:lnTo>
                  <a:lnTo>
                    <a:pt x="3326" y="1452"/>
                  </a:lnTo>
                  <a:lnTo>
                    <a:pt x="3312" y="1458"/>
                  </a:lnTo>
                  <a:lnTo>
                    <a:pt x="3298" y="1466"/>
                  </a:lnTo>
                  <a:lnTo>
                    <a:pt x="3276" y="1474"/>
                  </a:lnTo>
                  <a:lnTo>
                    <a:pt x="3262" y="1480"/>
                  </a:lnTo>
                  <a:lnTo>
                    <a:pt x="3240" y="1488"/>
                  </a:lnTo>
                  <a:lnTo>
                    <a:pt x="3218" y="1496"/>
                  </a:lnTo>
                  <a:lnTo>
                    <a:pt x="3196" y="1502"/>
                  </a:lnTo>
                  <a:lnTo>
                    <a:pt x="3174" y="1510"/>
                  </a:lnTo>
                  <a:lnTo>
                    <a:pt x="3152" y="1510"/>
                  </a:lnTo>
                  <a:lnTo>
                    <a:pt x="3130" y="1518"/>
                  </a:lnTo>
                  <a:lnTo>
                    <a:pt x="3108" y="1518"/>
                  </a:lnTo>
                  <a:lnTo>
                    <a:pt x="3086" y="1524"/>
                  </a:lnTo>
                  <a:lnTo>
                    <a:pt x="3064" y="1524"/>
                  </a:lnTo>
                  <a:lnTo>
                    <a:pt x="3042" y="1524"/>
                  </a:lnTo>
                  <a:lnTo>
                    <a:pt x="3064" y="1458"/>
                  </a:lnTo>
                  <a:lnTo>
                    <a:pt x="3034" y="1378"/>
                  </a:lnTo>
                  <a:lnTo>
                    <a:pt x="3006" y="1458"/>
                  </a:lnTo>
                  <a:lnTo>
                    <a:pt x="3034" y="1524"/>
                  </a:lnTo>
                  <a:lnTo>
                    <a:pt x="3028" y="1524"/>
                  </a:lnTo>
                  <a:lnTo>
                    <a:pt x="3020" y="1524"/>
                  </a:lnTo>
                  <a:lnTo>
                    <a:pt x="3012" y="1524"/>
                  </a:lnTo>
                  <a:lnTo>
                    <a:pt x="3006" y="1524"/>
                  </a:lnTo>
                  <a:lnTo>
                    <a:pt x="2998" y="1524"/>
                  </a:lnTo>
                  <a:lnTo>
                    <a:pt x="2992" y="1524"/>
                  </a:lnTo>
                  <a:lnTo>
                    <a:pt x="2984" y="1524"/>
                  </a:lnTo>
                  <a:lnTo>
                    <a:pt x="2976" y="1518"/>
                  </a:lnTo>
                  <a:lnTo>
                    <a:pt x="2970" y="1518"/>
                  </a:lnTo>
                  <a:lnTo>
                    <a:pt x="2918" y="1510"/>
                  </a:lnTo>
                  <a:lnTo>
                    <a:pt x="2874" y="1496"/>
                  </a:lnTo>
                  <a:lnTo>
                    <a:pt x="2830" y="1480"/>
                  </a:lnTo>
                  <a:lnTo>
                    <a:pt x="2794" y="1458"/>
                  </a:lnTo>
                  <a:lnTo>
                    <a:pt x="2758" y="1438"/>
                  </a:lnTo>
                  <a:lnTo>
                    <a:pt x="2728" y="1416"/>
                  </a:lnTo>
                  <a:lnTo>
                    <a:pt x="2700" y="1386"/>
                  </a:lnTo>
                  <a:lnTo>
                    <a:pt x="2670" y="1356"/>
                  </a:lnTo>
                  <a:lnTo>
                    <a:pt x="2656" y="1328"/>
                  </a:lnTo>
                  <a:lnTo>
                    <a:pt x="2634" y="1292"/>
                  </a:lnTo>
                  <a:lnTo>
                    <a:pt x="2618" y="1262"/>
                  </a:lnTo>
                  <a:lnTo>
                    <a:pt x="2612" y="1226"/>
                  </a:lnTo>
                  <a:lnTo>
                    <a:pt x="2604" y="1196"/>
                  </a:lnTo>
                  <a:lnTo>
                    <a:pt x="2596" y="1160"/>
                  </a:lnTo>
                  <a:lnTo>
                    <a:pt x="2596" y="1124"/>
                  </a:lnTo>
                  <a:lnTo>
                    <a:pt x="2596" y="1086"/>
                  </a:lnTo>
                  <a:lnTo>
                    <a:pt x="2604" y="1058"/>
                  </a:lnTo>
                  <a:lnTo>
                    <a:pt x="2612" y="1036"/>
                  </a:lnTo>
                  <a:lnTo>
                    <a:pt x="2612" y="1006"/>
                  </a:lnTo>
                  <a:lnTo>
                    <a:pt x="2626" y="984"/>
                  </a:lnTo>
                  <a:lnTo>
                    <a:pt x="2634" y="962"/>
                  </a:lnTo>
                  <a:lnTo>
                    <a:pt x="2640" y="940"/>
                  </a:lnTo>
                  <a:lnTo>
                    <a:pt x="2656" y="926"/>
                  </a:lnTo>
                  <a:lnTo>
                    <a:pt x="2662" y="904"/>
                  </a:lnTo>
                  <a:lnTo>
                    <a:pt x="2678" y="890"/>
                  </a:lnTo>
                  <a:lnTo>
                    <a:pt x="2692" y="876"/>
                  </a:lnTo>
                  <a:lnTo>
                    <a:pt x="2700" y="868"/>
                  </a:lnTo>
                  <a:lnTo>
                    <a:pt x="2714" y="854"/>
                  </a:lnTo>
                  <a:lnTo>
                    <a:pt x="2728" y="846"/>
                  </a:lnTo>
                  <a:lnTo>
                    <a:pt x="2736" y="838"/>
                  </a:lnTo>
                  <a:lnTo>
                    <a:pt x="2750" y="832"/>
                  </a:lnTo>
                  <a:lnTo>
                    <a:pt x="2758" y="824"/>
                  </a:lnTo>
                  <a:lnTo>
                    <a:pt x="2772" y="816"/>
                  </a:lnTo>
                  <a:lnTo>
                    <a:pt x="2786" y="810"/>
                  </a:lnTo>
                  <a:lnTo>
                    <a:pt x="2802" y="810"/>
                  </a:lnTo>
                  <a:lnTo>
                    <a:pt x="2816" y="802"/>
                  </a:lnTo>
                  <a:lnTo>
                    <a:pt x="2830" y="794"/>
                  </a:lnTo>
                  <a:lnTo>
                    <a:pt x="2846" y="794"/>
                  </a:lnTo>
                  <a:lnTo>
                    <a:pt x="2860" y="794"/>
                  </a:lnTo>
                  <a:lnTo>
                    <a:pt x="2882" y="794"/>
                  </a:lnTo>
                  <a:lnTo>
                    <a:pt x="2896" y="794"/>
                  </a:lnTo>
                  <a:lnTo>
                    <a:pt x="2910" y="794"/>
                  </a:lnTo>
                  <a:lnTo>
                    <a:pt x="2918" y="794"/>
                  </a:lnTo>
                  <a:lnTo>
                    <a:pt x="2932" y="794"/>
                  </a:lnTo>
                  <a:lnTo>
                    <a:pt x="2948" y="802"/>
                  </a:lnTo>
                  <a:lnTo>
                    <a:pt x="2962" y="802"/>
                  </a:lnTo>
                  <a:lnTo>
                    <a:pt x="2976" y="810"/>
                  </a:lnTo>
                  <a:lnTo>
                    <a:pt x="2992" y="816"/>
                  </a:lnTo>
                  <a:lnTo>
                    <a:pt x="3006" y="832"/>
                  </a:lnTo>
                  <a:lnTo>
                    <a:pt x="3028" y="838"/>
                  </a:lnTo>
                  <a:lnTo>
                    <a:pt x="3042" y="854"/>
                  </a:lnTo>
                  <a:lnTo>
                    <a:pt x="3056" y="868"/>
                  </a:lnTo>
                  <a:lnTo>
                    <a:pt x="3072" y="882"/>
                  </a:lnTo>
                  <a:lnTo>
                    <a:pt x="3078" y="898"/>
                  </a:lnTo>
                  <a:lnTo>
                    <a:pt x="3094" y="912"/>
                  </a:lnTo>
                  <a:lnTo>
                    <a:pt x="3100" y="926"/>
                  </a:lnTo>
                  <a:lnTo>
                    <a:pt x="3100" y="940"/>
                  </a:lnTo>
                  <a:lnTo>
                    <a:pt x="3108" y="956"/>
                  </a:lnTo>
                  <a:lnTo>
                    <a:pt x="3108" y="970"/>
                  </a:lnTo>
                  <a:lnTo>
                    <a:pt x="3108" y="992"/>
                  </a:lnTo>
                  <a:lnTo>
                    <a:pt x="3108" y="1006"/>
                  </a:lnTo>
                  <a:lnTo>
                    <a:pt x="3108" y="1022"/>
                  </a:lnTo>
                  <a:lnTo>
                    <a:pt x="3100" y="1044"/>
                  </a:lnTo>
                  <a:lnTo>
                    <a:pt x="3094" y="1058"/>
                  </a:lnTo>
                  <a:lnTo>
                    <a:pt x="3086" y="1064"/>
                  </a:lnTo>
                  <a:lnTo>
                    <a:pt x="3086" y="1072"/>
                  </a:lnTo>
                  <a:lnTo>
                    <a:pt x="3078" y="1072"/>
                  </a:lnTo>
                  <a:lnTo>
                    <a:pt x="3078" y="1080"/>
                  </a:lnTo>
                  <a:lnTo>
                    <a:pt x="3072" y="1086"/>
                  </a:lnTo>
                  <a:lnTo>
                    <a:pt x="3064" y="1094"/>
                  </a:lnTo>
                  <a:lnTo>
                    <a:pt x="3056" y="1094"/>
                  </a:lnTo>
                  <a:lnTo>
                    <a:pt x="3056" y="1102"/>
                  </a:lnTo>
                  <a:lnTo>
                    <a:pt x="3050" y="1102"/>
                  </a:lnTo>
                  <a:lnTo>
                    <a:pt x="3050" y="1108"/>
                  </a:lnTo>
                  <a:lnTo>
                    <a:pt x="3042" y="1108"/>
                  </a:lnTo>
                  <a:lnTo>
                    <a:pt x="3050" y="1108"/>
                  </a:lnTo>
                  <a:lnTo>
                    <a:pt x="3050" y="1102"/>
                  </a:lnTo>
                  <a:lnTo>
                    <a:pt x="3050" y="1094"/>
                  </a:lnTo>
                  <a:lnTo>
                    <a:pt x="3056" y="1094"/>
                  </a:lnTo>
                  <a:lnTo>
                    <a:pt x="3056" y="1086"/>
                  </a:lnTo>
                  <a:lnTo>
                    <a:pt x="3056" y="1080"/>
                  </a:lnTo>
                  <a:lnTo>
                    <a:pt x="3064" y="1080"/>
                  </a:lnTo>
                  <a:lnTo>
                    <a:pt x="3064" y="1072"/>
                  </a:lnTo>
                  <a:lnTo>
                    <a:pt x="3064" y="1064"/>
                  </a:lnTo>
                  <a:lnTo>
                    <a:pt x="3064" y="1058"/>
                  </a:lnTo>
                  <a:lnTo>
                    <a:pt x="3072" y="1050"/>
                  </a:lnTo>
                  <a:lnTo>
                    <a:pt x="3072" y="1044"/>
                  </a:lnTo>
                  <a:lnTo>
                    <a:pt x="3072" y="1036"/>
                  </a:lnTo>
                  <a:lnTo>
                    <a:pt x="3072" y="1028"/>
                  </a:lnTo>
                  <a:lnTo>
                    <a:pt x="3072" y="1022"/>
                  </a:lnTo>
                  <a:lnTo>
                    <a:pt x="3072" y="1014"/>
                  </a:lnTo>
                  <a:lnTo>
                    <a:pt x="3064" y="1000"/>
                  </a:lnTo>
                  <a:lnTo>
                    <a:pt x="3064" y="992"/>
                  </a:lnTo>
                  <a:lnTo>
                    <a:pt x="3064" y="984"/>
                  </a:lnTo>
                  <a:lnTo>
                    <a:pt x="3056" y="978"/>
                  </a:lnTo>
                  <a:lnTo>
                    <a:pt x="3056" y="970"/>
                  </a:lnTo>
                  <a:lnTo>
                    <a:pt x="3050" y="962"/>
                  </a:lnTo>
                  <a:lnTo>
                    <a:pt x="3050" y="956"/>
                  </a:lnTo>
                  <a:lnTo>
                    <a:pt x="3042" y="948"/>
                  </a:lnTo>
                  <a:lnTo>
                    <a:pt x="3034" y="940"/>
                  </a:lnTo>
                  <a:lnTo>
                    <a:pt x="3028" y="934"/>
                  </a:lnTo>
                  <a:lnTo>
                    <a:pt x="3020" y="926"/>
                  </a:lnTo>
                  <a:lnTo>
                    <a:pt x="3012" y="918"/>
                  </a:lnTo>
                  <a:lnTo>
                    <a:pt x="3006" y="912"/>
                  </a:lnTo>
                  <a:lnTo>
                    <a:pt x="2998" y="904"/>
                  </a:lnTo>
                  <a:lnTo>
                    <a:pt x="2992" y="898"/>
                  </a:lnTo>
                  <a:lnTo>
                    <a:pt x="2984" y="898"/>
                  </a:lnTo>
                  <a:lnTo>
                    <a:pt x="2976" y="890"/>
                  </a:lnTo>
                  <a:lnTo>
                    <a:pt x="2970" y="890"/>
                  </a:lnTo>
                  <a:lnTo>
                    <a:pt x="2962" y="882"/>
                  </a:lnTo>
                  <a:lnTo>
                    <a:pt x="2954" y="882"/>
                  </a:lnTo>
                  <a:lnTo>
                    <a:pt x="2940" y="882"/>
                  </a:lnTo>
                  <a:lnTo>
                    <a:pt x="2932" y="876"/>
                  </a:lnTo>
                  <a:lnTo>
                    <a:pt x="2926" y="876"/>
                  </a:lnTo>
                  <a:lnTo>
                    <a:pt x="2918" y="876"/>
                  </a:lnTo>
                  <a:lnTo>
                    <a:pt x="2910" y="876"/>
                  </a:lnTo>
                  <a:lnTo>
                    <a:pt x="2896" y="876"/>
                  </a:lnTo>
                  <a:lnTo>
                    <a:pt x="2888" y="882"/>
                  </a:lnTo>
                  <a:lnTo>
                    <a:pt x="2874" y="882"/>
                  </a:lnTo>
                  <a:lnTo>
                    <a:pt x="2866" y="882"/>
                  </a:lnTo>
                  <a:lnTo>
                    <a:pt x="2852" y="890"/>
                  </a:lnTo>
                  <a:lnTo>
                    <a:pt x="2846" y="898"/>
                  </a:lnTo>
                  <a:lnTo>
                    <a:pt x="2830" y="898"/>
                  </a:lnTo>
                  <a:lnTo>
                    <a:pt x="2824" y="904"/>
                  </a:lnTo>
                  <a:lnTo>
                    <a:pt x="2808" y="912"/>
                  </a:lnTo>
                  <a:lnTo>
                    <a:pt x="2802" y="918"/>
                  </a:lnTo>
                  <a:lnTo>
                    <a:pt x="2794" y="934"/>
                  </a:lnTo>
                  <a:lnTo>
                    <a:pt x="2786" y="940"/>
                  </a:lnTo>
                  <a:lnTo>
                    <a:pt x="2780" y="948"/>
                  </a:lnTo>
                  <a:lnTo>
                    <a:pt x="2772" y="962"/>
                  </a:lnTo>
                  <a:lnTo>
                    <a:pt x="2764" y="970"/>
                  </a:lnTo>
                  <a:lnTo>
                    <a:pt x="2758" y="984"/>
                  </a:lnTo>
                  <a:lnTo>
                    <a:pt x="2750" y="1000"/>
                  </a:lnTo>
                  <a:lnTo>
                    <a:pt x="2742" y="1006"/>
                  </a:lnTo>
                  <a:lnTo>
                    <a:pt x="2742" y="1022"/>
                  </a:lnTo>
                  <a:lnTo>
                    <a:pt x="2736" y="1036"/>
                  </a:lnTo>
                  <a:lnTo>
                    <a:pt x="2736" y="1050"/>
                  </a:lnTo>
                  <a:lnTo>
                    <a:pt x="2728" y="1064"/>
                  </a:lnTo>
                  <a:lnTo>
                    <a:pt x="2728" y="1080"/>
                  </a:lnTo>
                  <a:lnTo>
                    <a:pt x="2728" y="1094"/>
                  </a:lnTo>
                  <a:lnTo>
                    <a:pt x="2728" y="1108"/>
                  </a:lnTo>
                  <a:lnTo>
                    <a:pt x="2736" y="1116"/>
                  </a:lnTo>
                  <a:lnTo>
                    <a:pt x="2736" y="1130"/>
                  </a:lnTo>
                  <a:lnTo>
                    <a:pt x="2742" y="1146"/>
                  </a:lnTo>
                  <a:lnTo>
                    <a:pt x="2742" y="1160"/>
                  </a:lnTo>
                  <a:lnTo>
                    <a:pt x="2750" y="1174"/>
                  </a:lnTo>
                  <a:lnTo>
                    <a:pt x="2758" y="1188"/>
                  </a:lnTo>
                  <a:lnTo>
                    <a:pt x="2764" y="1196"/>
                  </a:lnTo>
                  <a:lnTo>
                    <a:pt x="2772" y="1210"/>
                  </a:lnTo>
                  <a:lnTo>
                    <a:pt x="2780" y="1226"/>
                  </a:lnTo>
                  <a:lnTo>
                    <a:pt x="2794" y="1232"/>
                  </a:lnTo>
                  <a:lnTo>
                    <a:pt x="2802" y="1248"/>
                  </a:lnTo>
                  <a:lnTo>
                    <a:pt x="2808" y="1254"/>
                  </a:lnTo>
                  <a:lnTo>
                    <a:pt x="2824" y="1262"/>
                  </a:lnTo>
                  <a:lnTo>
                    <a:pt x="2838" y="1276"/>
                  </a:lnTo>
                  <a:lnTo>
                    <a:pt x="2846" y="1284"/>
                  </a:lnTo>
                  <a:lnTo>
                    <a:pt x="2860" y="1292"/>
                  </a:lnTo>
                  <a:lnTo>
                    <a:pt x="2874" y="1298"/>
                  </a:lnTo>
                  <a:lnTo>
                    <a:pt x="2888" y="1306"/>
                  </a:lnTo>
                  <a:lnTo>
                    <a:pt x="2904" y="1314"/>
                  </a:lnTo>
                  <a:lnTo>
                    <a:pt x="2918" y="1320"/>
                  </a:lnTo>
                  <a:lnTo>
                    <a:pt x="2932" y="1320"/>
                  </a:lnTo>
                  <a:lnTo>
                    <a:pt x="2948" y="1328"/>
                  </a:lnTo>
                  <a:lnTo>
                    <a:pt x="2962" y="1328"/>
                  </a:lnTo>
                  <a:lnTo>
                    <a:pt x="2976" y="1328"/>
                  </a:lnTo>
                  <a:lnTo>
                    <a:pt x="2992" y="1334"/>
                  </a:lnTo>
                  <a:lnTo>
                    <a:pt x="3006" y="1334"/>
                  </a:lnTo>
                  <a:lnTo>
                    <a:pt x="3020" y="1334"/>
                  </a:lnTo>
                  <a:lnTo>
                    <a:pt x="3034" y="1334"/>
                  </a:lnTo>
                  <a:lnTo>
                    <a:pt x="3042" y="1334"/>
                  </a:lnTo>
                  <a:lnTo>
                    <a:pt x="3056" y="1334"/>
                  </a:lnTo>
                  <a:lnTo>
                    <a:pt x="3072" y="1328"/>
                  </a:lnTo>
                  <a:lnTo>
                    <a:pt x="3086" y="1328"/>
                  </a:lnTo>
                  <a:lnTo>
                    <a:pt x="3100" y="1328"/>
                  </a:lnTo>
                  <a:lnTo>
                    <a:pt x="3116" y="1320"/>
                  </a:lnTo>
                  <a:lnTo>
                    <a:pt x="3130" y="1320"/>
                  </a:lnTo>
                  <a:lnTo>
                    <a:pt x="3136" y="1314"/>
                  </a:lnTo>
                  <a:lnTo>
                    <a:pt x="3152" y="1306"/>
                  </a:lnTo>
                  <a:lnTo>
                    <a:pt x="3166" y="1306"/>
                  </a:lnTo>
                  <a:lnTo>
                    <a:pt x="3180" y="1298"/>
                  </a:lnTo>
                  <a:lnTo>
                    <a:pt x="3196" y="1292"/>
                  </a:lnTo>
                  <a:lnTo>
                    <a:pt x="3188" y="1292"/>
                  </a:lnTo>
                  <a:lnTo>
                    <a:pt x="3188" y="1298"/>
                  </a:lnTo>
                  <a:lnTo>
                    <a:pt x="3188" y="1306"/>
                  </a:lnTo>
                  <a:lnTo>
                    <a:pt x="3188" y="1314"/>
                  </a:lnTo>
                  <a:lnTo>
                    <a:pt x="3188" y="1320"/>
                  </a:lnTo>
                  <a:lnTo>
                    <a:pt x="3188" y="1328"/>
                  </a:lnTo>
                  <a:lnTo>
                    <a:pt x="3188" y="1334"/>
                  </a:lnTo>
                  <a:lnTo>
                    <a:pt x="3188" y="1342"/>
                  </a:lnTo>
                  <a:lnTo>
                    <a:pt x="3188" y="1350"/>
                  </a:lnTo>
                  <a:lnTo>
                    <a:pt x="3188" y="1356"/>
                  </a:lnTo>
                  <a:lnTo>
                    <a:pt x="3188" y="1372"/>
                  </a:lnTo>
                  <a:lnTo>
                    <a:pt x="3196" y="1386"/>
                  </a:lnTo>
                  <a:lnTo>
                    <a:pt x="3202" y="1394"/>
                  </a:lnTo>
                  <a:lnTo>
                    <a:pt x="3210" y="1400"/>
                  </a:lnTo>
                  <a:lnTo>
                    <a:pt x="3210" y="1408"/>
                  </a:lnTo>
                  <a:lnTo>
                    <a:pt x="3218" y="1416"/>
                  </a:lnTo>
                  <a:lnTo>
                    <a:pt x="3224" y="1422"/>
                  </a:lnTo>
                  <a:lnTo>
                    <a:pt x="3232" y="1422"/>
                  </a:lnTo>
                  <a:lnTo>
                    <a:pt x="3240" y="1430"/>
                  </a:lnTo>
                  <a:lnTo>
                    <a:pt x="3246" y="1430"/>
                  </a:lnTo>
                  <a:lnTo>
                    <a:pt x="3254" y="1430"/>
                  </a:lnTo>
                  <a:lnTo>
                    <a:pt x="3254" y="1438"/>
                  </a:lnTo>
                  <a:lnTo>
                    <a:pt x="3262" y="1438"/>
                  </a:lnTo>
                  <a:lnTo>
                    <a:pt x="3268" y="1438"/>
                  </a:lnTo>
                  <a:lnTo>
                    <a:pt x="3276" y="1438"/>
                  </a:lnTo>
                  <a:lnTo>
                    <a:pt x="3282" y="1438"/>
                  </a:lnTo>
                  <a:lnTo>
                    <a:pt x="3282" y="1430"/>
                  </a:lnTo>
                  <a:lnTo>
                    <a:pt x="3290" y="1430"/>
                  </a:lnTo>
                  <a:lnTo>
                    <a:pt x="3298" y="1430"/>
                  </a:lnTo>
                  <a:lnTo>
                    <a:pt x="3304" y="1430"/>
                  </a:lnTo>
                  <a:lnTo>
                    <a:pt x="3304" y="1422"/>
                  </a:lnTo>
                  <a:lnTo>
                    <a:pt x="3312" y="1422"/>
                  </a:lnTo>
                  <a:lnTo>
                    <a:pt x="3320" y="1422"/>
                  </a:lnTo>
                  <a:lnTo>
                    <a:pt x="3320" y="1416"/>
                  </a:lnTo>
                  <a:lnTo>
                    <a:pt x="3326" y="1416"/>
                  </a:lnTo>
                  <a:lnTo>
                    <a:pt x="3326" y="1408"/>
                  </a:lnTo>
                  <a:lnTo>
                    <a:pt x="3334" y="1408"/>
                  </a:lnTo>
                  <a:lnTo>
                    <a:pt x="3334" y="1400"/>
                  </a:lnTo>
                  <a:lnTo>
                    <a:pt x="3342" y="1394"/>
                  </a:lnTo>
                  <a:lnTo>
                    <a:pt x="3342" y="1386"/>
                  </a:lnTo>
                  <a:lnTo>
                    <a:pt x="3348" y="1378"/>
                  </a:lnTo>
                  <a:lnTo>
                    <a:pt x="3348" y="1372"/>
                  </a:lnTo>
                  <a:lnTo>
                    <a:pt x="3348" y="1364"/>
                  </a:lnTo>
                  <a:lnTo>
                    <a:pt x="3348" y="1356"/>
                  </a:lnTo>
                  <a:lnTo>
                    <a:pt x="3348" y="1350"/>
                  </a:lnTo>
                  <a:lnTo>
                    <a:pt x="3348" y="1342"/>
                  </a:lnTo>
                  <a:lnTo>
                    <a:pt x="3342" y="1342"/>
                  </a:lnTo>
                  <a:lnTo>
                    <a:pt x="3342" y="1334"/>
                  </a:lnTo>
                  <a:lnTo>
                    <a:pt x="3312" y="1356"/>
                  </a:lnTo>
                  <a:lnTo>
                    <a:pt x="3312" y="1364"/>
                  </a:lnTo>
                  <a:lnTo>
                    <a:pt x="3312" y="1372"/>
                  </a:lnTo>
                  <a:lnTo>
                    <a:pt x="3312" y="1378"/>
                  </a:lnTo>
                  <a:lnTo>
                    <a:pt x="3304" y="1378"/>
                  </a:lnTo>
                  <a:lnTo>
                    <a:pt x="3304" y="1386"/>
                  </a:lnTo>
                  <a:lnTo>
                    <a:pt x="3298" y="1394"/>
                  </a:lnTo>
                  <a:lnTo>
                    <a:pt x="3290" y="1394"/>
                  </a:lnTo>
                  <a:lnTo>
                    <a:pt x="3290" y="1400"/>
                  </a:lnTo>
                  <a:lnTo>
                    <a:pt x="3282" y="1400"/>
                  </a:lnTo>
                  <a:lnTo>
                    <a:pt x="3276" y="1400"/>
                  </a:lnTo>
                  <a:lnTo>
                    <a:pt x="3268" y="1400"/>
                  </a:lnTo>
                  <a:lnTo>
                    <a:pt x="3262" y="1400"/>
                  </a:lnTo>
                  <a:lnTo>
                    <a:pt x="3254" y="1400"/>
                  </a:lnTo>
                  <a:lnTo>
                    <a:pt x="3254" y="1394"/>
                  </a:lnTo>
                  <a:lnTo>
                    <a:pt x="3246" y="1394"/>
                  </a:lnTo>
                  <a:lnTo>
                    <a:pt x="3240" y="1386"/>
                  </a:lnTo>
                  <a:lnTo>
                    <a:pt x="3232" y="1378"/>
                  </a:lnTo>
                  <a:lnTo>
                    <a:pt x="3232" y="1372"/>
                  </a:lnTo>
                  <a:lnTo>
                    <a:pt x="3224" y="1364"/>
                  </a:lnTo>
                  <a:lnTo>
                    <a:pt x="3224" y="1356"/>
                  </a:lnTo>
                  <a:lnTo>
                    <a:pt x="3224" y="1350"/>
                  </a:lnTo>
                  <a:lnTo>
                    <a:pt x="3218" y="1342"/>
                  </a:lnTo>
                  <a:lnTo>
                    <a:pt x="3218" y="1334"/>
                  </a:lnTo>
                  <a:lnTo>
                    <a:pt x="3218" y="1328"/>
                  </a:lnTo>
                  <a:lnTo>
                    <a:pt x="3218" y="1320"/>
                  </a:lnTo>
                  <a:lnTo>
                    <a:pt x="3218" y="1314"/>
                  </a:lnTo>
                  <a:lnTo>
                    <a:pt x="3224" y="1306"/>
                  </a:lnTo>
                  <a:lnTo>
                    <a:pt x="3224" y="1298"/>
                  </a:lnTo>
                  <a:lnTo>
                    <a:pt x="3224" y="1292"/>
                  </a:lnTo>
                  <a:lnTo>
                    <a:pt x="3232" y="1292"/>
                  </a:lnTo>
                  <a:lnTo>
                    <a:pt x="3232" y="1284"/>
                  </a:lnTo>
                  <a:lnTo>
                    <a:pt x="3240" y="1276"/>
                  </a:lnTo>
                  <a:lnTo>
                    <a:pt x="3246" y="1276"/>
                  </a:lnTo>
                  <a:lnTo>
                    <a:pt x="3254" y="1270"/>
                  </a:lnTo>
                  <a:lnTo>
                    <a:pt x="3262" y="1270"/>
                  </a:lnTo>
                  <a:lnTo>
                    <a:pt x="3268" y="1270"/>
                  </a:lnTo>
                  <a:lnTo>
                    <a:pt x="3276" y="1262"/>
                  </a:lnTo>
                  <a:lnTo>
                    <a:pt x="3276" y="1262"/>
                  </a:lnTo>
                  <a:close/>
                  <a:moveTo>
                    <a:pt x="2182" y="1204"/>
                  </a:moveTo>
                  <a:lnTo>
                    <a:pt x="2182" y="1188"/>
                  </a:lnTo>
                  <a:lnTo>
                    <a:pt x="2188" y="1174"/>
                  </a:lnTo>
                  <a:lnTo>
                    <a:pt x="2188" y="1160"/>
                  </a:lnTo>
                  <a:lnTo>
                    <a:pt x="2196" y="1146"/>
                  </a:lnTo>
                  <a:lnTo>
                    <a:pt x="2196" y="1138"/>
                  </a:lnTo>
                  <a:lnTo>
                    <a:pt x="2202" y="1124"/>
                  </a:lnTo>
                  <a:lnTo>
                    <a:pt x="2202" y="1108"/>
                  </a:lnTo>
                  <a:lnTo>
                    <a:pt x="2210" y="1094"/>
                  </a:lnTo>
                  <a:lnTo>
                    <a:pt x="2218" y="1080"/>
                  </a:lnTo>
                  <a:lnTo>
                    <a:pt x="2218" y="1072"/>
                  </a:lnTo>
                  <a:lnTo>
                    <a:pt x="2224" y="1058"/>
                  </a:lnTo>
                  <a:lnTo>
                    <a:pt x="2232" y="1044"/>
                  </a:lnTo>
                  <a:lnTo>
                    <a:pt x="2240" y="1036"/>
                  </a:lnTo>
                  <a:lnTo>
                    <a:pt x="2240" y="1022"/>
                  </a:lnTo>
                  <a:lnTo>
                    <a:pt x="2246" y="1006"/>
                  </a:lnTo>
                  <a:lnTo>
                    <a:pt x="2254" y="1000"/>
                  </a:lnTo>
                  <a:lnTo>
                    <a:pt x="2268" y="962"/>
                  </a:lnTo>
                  <a:lnTo>
                    <a:pt x="2284" y="940"/>
                  </a:lnTo>
                  <a:lnTo>
                    <a:pt x="2298" y="912"/>
                  </a:lnTo>
                  <a:lnTo>
                    <a:pt x="2312" y="882"/>
                  </a:lnTo>
                  <a:lnTo>
                    <a:pt x="2334" y="854"/>
                  </a:lnTo>
                  <a:lnTo>
                    <a:pt x="2356" y="832"/>
                  </a:lnTo>
                  <a:lnTo>
                    <a:pt x="2370" y="802"/>
                  </a:lnTo>
                  <a:lnTo>
                    <a:pt x="2392" y="780"/>
                  </a:lnTo>
                  <a:lnTo>
                    <a:pt x="2414" y="752"/>
                  </a:lnTo>
                  <a:lnTo>
                    <a:pt x="2436" y="730"/>
                  </a:lnTo>
                  <a:lnTo>
                    <a:pt x="2458" y="708"/>
                  </a:lnTo>
                  <a:lnTo>
                    <a:pt x="2488" y="686"/>
                  </a:lnTo>
                  <a:lnTo>
                    <a:pt x="2510" y="670"/>
                  </a:lnTo>
                  <a:lnTo>
                    <a:pt x="2532" y="648"/>
                  </a:lnTo>
                  <a:lnTo>
                    <a:pt x="2560" y="628"/>
                  </a:lnTo>
                  <a:lnTo>
                    <a:pt x="2590" y="612"/>
                  </a:lnTo>
                  <a:lnTo>
                    <a:pt x="2618" y="590"/>
                  </a:lnTo>
                  <a:lnTo>
                    <a:pt x="2656" y="576"/>
                  </a:lnTo>
                  <a:lnTo>
                    <a:pt x="2684" y="562"/>
                  </a:lnTo>
                  <a:lnTo>
                    <a:pt x="2722" y="546"/>
                  </a:lnTo>
                  <a:lnTo>
                    <a:pt x="2750" y="540"/>
                  </a:lnTo>
                  <a:lnTo>
                    <a:pt x="2780" y="532"/>
                  </a:lnTo>
                  <a:lnTo>
                    <a:pt x="2808" y="524"/>
                  </a:lnTo>
                  <a:lnTo>
                    <a:pt x="2838" y="518"/>
                  </a:lnTo>
                  <a:lnTo>
                    <a:pt x="2866" y="518"/>
                  </a:lnTo>
                  <a:lnTo>
                    <a:pt x="2888" y="518"/>
                  </a:lnTo>
                  <a:lnTo>
                    <a:pt x="2918" y="518"/>
                  </a:lnTo>
                  <a:lnTo>
                    <a:pt x="2948" y="518"/>
                  </a:lnTo>
                  <a:lnTo>
                    <a:pt x="2976" y="524"/>
                  </a:lnTo>
                  <a:lnTo>
                    <a:pt x="2998" y="532"/>
                  </a:lnTo>
                  <a:lnTo>
                    <a:pt x="3028" y="532"/>
                  </a:lnTo>
                  <a:lnTo>
                    <a:pt x="3056" y="540"/>
                  </a:lnTo>
                  <a:lnTo>
                    <a:pt x="3056" y="546"/>
                  </a:lnTo>
                  <a:lnTo>
                    <a:pt x="3064" y="546"/>
                  </a:lnTo>
                  <a:lnTo>
                    <a:pt x="3072" y="546"/>
                  </a:lnTo>
                  <a:lnTo>
                    <a:pt x="3078" y="554"/>
                  </a:lnTo>
                  <a:lnTo>
                    <a:pt x="3086" y="554"/>
                  </a:lnTo>
                  <a:lnTo>
                    <a:pt x="3094" y="554"/>
                  </a:lnTo>
                  <a:lnTo>
                    <a:pt x="3094" y="562"/>
                  </a:lnTo>
                  <a:lnTo>
                    <a:pt x="3100" y="562"/>
                  </a:lnTo>
                  <a:lnTo>
                    <a:pt x="3100" y="568"/>
                  </a:lnTo>
                  <a:lnTo>
                    <a:pt x="3108" y="568"/>
                  </a:lnTo>
                  <a:lnTo>
                    <a:pt x="3116" y="568"/>
                  </a:lnTo>
                  <a:lnTo>
                    <a:pt x="3136" y="584"/>
                  </a:lnTo>
                  <a:lnTo>
                    <a:pt x="3158" y="590"/>
                  </a:lnTo>
                  <a:lnTo>
                    <a:pt x="3180" y="606"/>
                  </a:lnTo>
                  <a:lnTo>
                    <a:pt x="3202" y="620"/>
                  </a:lnTo>
                  <a:lnTo>
                    <a:pt x="3218" y="642"/>
                  </a:lnTo>
                  <a:lnTo>
                    <a:pt x="3232" y="656"/>
                  </a:lnTo>
                  <a:lnTo>
                    <a:pt x="3254" y="670"/>
                  </a:lnTo>
                  <a:lnTo>
                    <a:pt x="3268" y="692"/>
                  </a:lnTo>
                  <a:lnTo>
                    <a:pt x="3282" y="714"/>
                  </a:lnTo>
                  <a:lnTo>
                    <a:pt x="3298" y="730"/>
                  </a:lnTo>
                  <a:lnTo>
                    <a:pt x="3304" y="752"/>
                  </a:lnTo>
                  <a:lnTo>
                    <a:pt x="3320" y="774"/>
                  </a:lnTo>
                  <a:lnTo>
                    <a:pt x="3326" y="788"/>
                  </a:lnTo>
                  <a:lnTo>
                    <a:pt x="3334" y="810"/>
                  </a:lnTo>
                  <a:lnTo>
                    <a:pt x="3342" y="832"/>
                  </a:lnTo>
                  <a:lnTo>
                    <a:pt x="3348" y="846"/>
                  </a:lnTo>
                  <a:lnTo>
                    <a:pt x="3356" y="876"/>
                  </a:lnTo>
                  <a:lnTo>
                    <a:pt x="3356" y="904"/>
                  </a:lnTo>
                  <a:lnTo>
                    <a:pt x="3356" y="934"/>
                  </a:lnTo>
                  <a:lnTo>
                    <a:pt x="3356" y="962"/>
                  </a:lnTo>
                  <a:lnTo>
                    <a:pt x="3356" y="992"/>
                  </a:lnTo>
                  <a:lnTo>
                    <a:pt x="3348" y="1022"/>
                  </a:lnTo>
                  <a:lnTo>
                    <a:pt x="3342" y="1050"/>
                  </a:lnTo>
                  <a:lnTo>
                    <a:pt x="3334" y="1072"/>
                  </a:lnTo>
                  <a:lnTo>
                    <a:pt x="3326" y="1094"/>
                  </a:lnTo>
                  <a:lnTo>
                    <a:pt x="3312" y="1124"/>
                  </a:lnTo>
                  <a:lnTo>
                    <a:pt x="3298" y="1146"/>
                  </a:lnTo>
                  <a:lnTo>
                    <a:pt x="3282" y="1160"/>
                  </a:lnTo>
                  <a:lnTo>
                    <a:pt x="3268" y="1182"/>
                  </a:lnTo>
                  <a:lnTo>
                    <a:pt x="3254" y="1196"/>
                  </a:lnTo>
                  <a:lnTo>
                    <a:pt x="3240" y="1218"/>
                  </a:lnTo>
                  <a:lnTo>
                    <a:pt x="3218" y="1232"/>
                  </a:lnTo>
                  <a:lnTo>
                    <a:pt x="3210" y="1240"/>
                  </a:lnTo>
                  <a:lnTo>
                    <a:pt x="3196" y="1248"/>
                  </a:lnTo>
                  <a:lnTo>
                    <a:pt x="3180" y="1254"/>
                  </a:lnTo>
                  <a:lnTo>
                    <a:pt x="3166" y="1270"/>
                  </a:lnTo>
                  <a:lnTo>
                    <a:pt x="3152" y="1270"/>
                  </a:lnTo>
                  <a:lnTo>
                    <a:pt x="3136" y="1276"/>
                  </a:lnTo>
                  <a:lnTo>
                    <a:pt x="3122" y="1284"/>
                  </a:lnTo>
                  <a:lnTo>
                    <a:pt x="3108" y="1292"/>
                  </a:lnTo>
                  <a:lnTo>
                    <a:pt x="3086" y="1292"/>
                  </a:lnTo>
                  <a:lnTo>
                    <a:pt x="3072" y="1298"/>
                  </a:lnTo>
                  <a:lnTo>
                    <a:pt x="3056" y="1298"/>
                  </a:lnTo>
                  <a:lnTo>
                    <a:pt x="3042" y="1298"/>
                  </a:lnTo>
                  <a:lnTo>
                    <a:pt x="3028" y="1298"/>
                  </a:lnTo>
                  <a:lnTo>
                    <a:pt x="3012" y="1298"/>
                  </a:lnTo>
                  <a:lnTo>
                    <a:pt x="2998" y="1298"/>
                  </a:lnTo>
                  <a:lnTo>
                    <a:pt x="2976" y="1298"/>
                  </a:lnTo>
                  <a:lnTo>
                    <a:pt x="2970" y="1298"/>
                  </a:lnTo>
                  <a:lnTo>
                    <a:pt x="2954" y="1292"/>
                  </a:lnTo>
                  <a:lnTo>
                    <a:pt x="2940" y="1292"/>
                  </a:lnTo>
                  <a:lnTo>
                    <a:pt x="2926" y="1284"/>
                  </a:lnTo>
                  <a:lnTo>
                    <a:pt x="2910" y="1276"/>
                  </a:lnTo>
                  <a:lnTo>
                    <a:pt x="2904" y="1276"/>
                  </a:lnTo>
                  <a:lnTo>
                    <a:pt x="2888" y="1270"/>
                  </a:lnTo>
                  <a:lnTo>
                    <a:pt x="2874" y="1262"/>
                  </a:lnTo>
                  <a:lnTo>
                    <a:pt x="2866" y="1254"/>
                  </a:lnTo>
                  <a:lnTo>
                    <a:pt x="2852" y="1248"/>
                  </a:lnTo>
                  <a:lnTo>
                    <a:pt x="2846" y="1240"/>
                  </a:lnTo>
                  <a:lnTo>
                    <a:pt x="2830" y="1232"/>
                  </a:lnTo>
                  <a:lnTo>
                    <a:pt x="2824" y="1218"/>
                  </a:lnTo>
                  <a:lnTo>
                    <a:pt x="2816" y="1210"/>
                  </a:lnTo>
                  <a:lnTo>
                    <a:pt x="2808" y="1204"/>
                  </a:lnTo>
                  <a:lnTo>
                    <a:pt x="2802" y="1188"/>
                  </a:lnTo>
                  <a:lnTo>
                    <a:pt x="2794" y="1182"/>
                  </a:lnTo>
                  <a:lnTo>
                    <a:pt x="2786" y="1168"/>
                  </a:lnTo>
                  <a:lnTo>
                    <a:pt x="2780" y="1160"/>
                  </a:lnTo>
                  <a:lnTo>
                    <a:pt x="2772" y="1146"/>
                  </a:lnTo>
                  <a:lnTo>
                    <a:pt x="2772" y="1138"/>
                  </a:lnTo>
                  <a:lnTo>
                    <a:pt x="2764" y="1124"/>
                  </a:lnTo>
                  <a:lnTo>
                    <a:pt x="2764" y="1116"/>
                  </a:lnTo>
                  <a:lnTo>
                    <a:pt x="2764" y="1102"/>
                  </a:lnTo>
                  <a:lnTo>
                    <a:pt x="2764" y="1094"/>
                  </a:lnTo>
                  <a:lnTo>
                    <a:pt x="2764" y="1080"/>
                  </a:lnTo>
                  <a:lnTo>
                    <a:pt x="2764" y="1064"/>
                  </a:lnTo>
                  <a:lnTo>
                    <a:pt x="2764" y="1058"/>
                  </a:lnTo>
                  <a:lnTo>
                    <a:pt x="2764" y="1044"/>
                  </a:lnTo>
                  <a:lnTo>
                    <a:pt x="2772" y="1036"/>
                  </a:lnTo>
                  <a:lnTo>
                    <a:pt x="2772" y="1022"/>
                  </a:lnTo>
                  <a:lnTo>
                    <a:pt x="2780" y="1006"/>
                  </a:lnTo>
                  <a:lnTo>
                    <a:pt x="2786" y="1000"/>
                  </a:lnTo>
                  <a:lnTo>
                    <a:pt x="2794" y="992"/>
                  </a:lnTo>
                  <a:lnTo>
                    <a:pt x="2794" y="978"/>
                  </a:lnTo>
                  <a:lnTo>
                    <a:pt x="2802" y="970"/>
                  </a:lnTo>
                  <a:lnTo>
                    <a:pt x="2808" y="962"/>
                  </a:lnTo>
                  <a:lnTo>
                    <a:pt x="2816" y="956"/>
                  </a:lnTo>
                  <a:lnTo>
                    <a:pt x="2824" y="948"/>
                  </a:lnTo>
                  <a:lnTo>
                    <a:pt x="2830" y="940"/>
                  </a:lnTo>
                  <a:lnTo>
                    <a:pt x="2838" y="934"/>
                  </a:lnTo>
                  <a:lnTo>
                    <a:pt x="2846" y="926"/>
                  </a:lnTo>
                  <a:lnTo>
                    <a:pt x="2860" y="926"/>
                  </a:lnTo>
                  <a:lnTo>
                    <a:pt x="2866" y="918"/>
                  </a:lnTo>
                  <a:lnTo>
                    <a:pt x="2874" y="918"/>
                  </a:lnTo>
                  <a:lnTo>
                    <a:pt x="2882" y="912"/>
                  </a:lnTo>
                  <a:lnTo>
                    <a:pt x="2896" y="912"/>
                  </a:lnTo>
                  <a:lnTo>
                    <a:pt x="2904" y="912"/>
                  </a:lnTo>
                  <a:lnTo>
                    <a:pt x="2910" y="912"/>
                  </a:lnTo>
                  <a:lnTo>
                    <a:pt x="2918" y="912"/>
                  </a:lnTo>
                  <a:lnTo>
                    <a:pt x="2926" y="912"/>
                  </a:lnTo>
                  <a:lnTo>
                    <a:pt x="2932" y="912"/>
                  </a:lnTo>
                  <a:lnTo>
                    <a:pt x="2940" y="912"/>
                  </a:lnTo>
                  <a:lnTo>
                    <a:pt x="2948" y="918"/>
                  </a:lnTo>
                  <a:lnTo>
                    <a:pt x="2954" y="918"/>
                  </a:lnTo>
                  <a:lnTo>
                    <a:pt x="2962" y="918"/>
                  </a:lnTo>
                  <a:lnTo>
                    <a:pt x="2970" y="926"/>
                  </a:lnTo>
                  <a:lnTo>
                    <a:pt x="2976" y="926"/>
                  </a:lnTo>
                  <a:lnTo>
                    <a:pt x="2984" y="934"/>
                  </a:lnTo>
                  <a:lnTo>
                    <a:pt x="2984" y="940"/>
                  </a:lnTo>
                  <a:lnTo>
                    <a:pt x="2992" y="940"/>
                  </a:lnTo>
                  <a:lnTo>
                    <a:pt x="2998" y="948"/>
                  </a:lnTo>
                  <a:lnTo>
                    <a:pt x="3006" y="956"/>
                  </a:lnTo>
                  <a:lnTo>
                    <a:pt x="3006" y="962"/>
                  </a:lnTo>
                  <a:lnTo>
                    <a:pt x="3012" y="962"/>
                  </a:lnTo>
                  <a:lnTo>
                    <a:pt x="3020" y="970"/>
                  </a:lnTo>
                  <a:lnTo>
                    <a:pt x="3020" y="978"/>
                  </a:lnTo>
                  <a:lnTo>
                    <a:pt x="3028" y="984"/>
                  </a:lnTo>
                  <a:lnTo>
                    <a:pt x="3028" y="992"/>
                  </a:lnTo>
                  <a:lnTo>
                    <a:pt x="3034" y="1000"/>
                  </a:lnTo>
                  <a:lnTo>
                    <a:pt x="3034" y="1006"/>
                  </a:lnTo>
                  <a:lnTo>
                    <a:pt x="3034" y="1014"/>
                  </a:lnTo>
                  <a:lnTo>
                    <a:pt x="3034" y="1022"/>
                  </a:lnTo>
                  <a:lnTo>
                    <a:pt x="3034" y="1028"/>
                  </a:lnTo>
                  <a:lnTo>
                    <a:pt x="3034" y="1036"/>
                  </a:lnTo>
                  <a:lnTo>
                    <a:pt x="3034" y="1044"/>
                  </a:lnTo>
                  <a:lnTo>
                    <a:pt x="3034" y="1050"/>
                  </a:lnTo>
                  <a:lnTo>
                    <a:pt x="3034" y="1064"/>
                  </a:lnTo>
                  <a:lnTo>
                    <a:pt x="3028" y="1072"/>
                  </a:lnTo>
                  <a:lnTo>
                    <a:pt x="3020" y="1080"/>
                  </a:lnTo>
                  <a:lnTo>
                    <a:pt x="3020" y="1086"/>
                  </a:lnTo>
                  <a:lnTo>
                    <a:pt x="3012" y="1094"/>
                  </a:lnTo>
                  <a:lnTo>
                    <a:pt x="3006" y="1102"/>
                  </a:lnTo>
                  <a:lnTo>
                    <a:pt x="2998" y="1102"/>
                  </a:lnTo>
                  <a:lnTo>
                    <a:pt x="2992" y="1108"/>
                  </a:lnTo>
                  <a:lnTo>
                    <a:pt x="2984" y="1108"/>
                  </a:lnTo>
                  <a:lnTo>
                    <a:pt x="2976" y="1116"/>
                  </a:lnTo>
                  <a:lnTo>
                    <a:pt x="2970" y="1116"/>
                  </a:lnTo>
                  <a:lnTo>
                    <a:pt x="2962" y="1116"/>
                  </a:lnTo>
                  <a:lnTo>
                    <a:pt x="2954" y="1116"/>
                  </a:lnTo>
                  <a:lnTo>
                    <a:pt x="2948" y="1116"/>
                  </a:lnTo>
                  <a:lnTo>
                    <a:pt x="2940" y="1116"/>
                  </a:lnTo>
                  <a:lnTo>
                    <a:pt x="2932" y="1116"/>
                  </a:lnTo>
                  <a:lnTo>
                    <a:pt x="2874" y="1124"/>
                  </a:lnTo>
                  <a:lnTo>
                    <a:pt x="2918" y="1152"/>
                  </a:lnTo>
                  <a:lnTo>
                    <a:pt x="2926" y="1152"/>
                  </a:lnTo>
                  <a:lnTo>
                    <a:pt x="2932" y="1160"/>
                  </a:lnTo>
                  <a:lnTo>
                    <a:pt x="2940" y="1160"/>
                  </a:lnTo>
                  <a:lnTo>
                    <a:pt x="2948" y="1160"/>
                  </a:lnTo>
                  <a:lnTo>
                    <a:pt x="2948" y="1168"/>
                  </a:lnTo>
                  <a:lnTo>
                    <a:pt x="2954" y="1168"/>
                  </a:lnTo>
                  <a:lnTo>
                    <a:pt x="2962" y="1168"/>
                  </a:lnTo>
                  <a:lnTo>
                    <a:pt x="2970" y="1168"/>
                  </a:lnTo>
                  <a:lnTo>
                    <a:pt x="2976" y="1168"/>
                  </a:lnTo>
                  <a:lnTo>
                    <a:pt x="2984" y="1168"/>
                  </a:lnTo>
                  <a:lnTo>
                    <a:pt x="2992" y="1168"/>
                  </a:lnTo>
                  <a:lnTo>
                    <a:pt x="2998" y="1168"/>
                  </a:lnTo>
                  <a:lnTo>
                    <a:pt x="3006" y="1160"/>
                  </a:lnTo>
                  <a:lnTo>
                    <a:pt x="3020" y="1160"/>
                  </a:lnTo>
                  <a:lnTo>
                    <a:pt x="3028" y="1160"/>
                  </a:lnTo>
                  <a:lnTo>
                    <a:pt x="3034" y="1152"/>
                  </a:lnTo>
                  <a:lnTo>
                    <a:pt x="3042" y="1152"/>
                  </a:lnTo>
                  <a:lnTo>
                    <a:pt x="3050" y="1146"/>
                  </a:lnTo>
                  <a:lnTo>
                    <a:pt x="3056" y="1138"/>
                  </a:lnTo>
                  <a:lnTo>
                    <a:pt x="3064" y="1138"/>
                  </a:lnTo>
                  <a:lnTo>
                    <a:pt x="3078" y="1130"/>
                  </a:lnTo>
                  <a:lnTo>
                    <a:pt x="3086" y="1124"/>
                  </a:lnTo>
                  <a:lnTo>
                    <a:pt x="3094" y="1116"/>
                  </a:lnTo>
                  <a:lnTo>
                    <a:pt x="3094" y="1108"/>
                  </a:lnTo>
                  <a:lnTo>
                    <a:pt x="3100" y="1102"/>
                  </a:lnTo>
                  <a:lnTo>
                    <a:pt x="3108" y="1094"/>
                  </a:lnTo>
                  <a:lnTo>
                    <a:pt x="3116" y="1086"/>
                  </a:lnTo>
                  <a:lnTo>
                    <a:pt x="3116" y="1080"/>
                  </a:lnTo>
                  <a:lnTo>
                    <a:pt x="3122" y="1072"/>
                  </a:lnTo>
                  <a:lnTo>
                    <a:pt x="3130" y="1050"/>
                  </a:lnTo>
                  <a:lnTo>
                    <a:pt x="3136" y="1036"/>
                  </a:lnTo>
                  <a:lnTo>
                    <a:pt x="3144" y="1014"/>
                  </a:lnTo>
                  <a:lnTo>
                    <a:pt x="3144" y="992"/>
                  </a:lnTo>
                  <a:lnTo>
                    <a:pt x="3144" y="970"/>
                  </a:lnTo>
                  <a:lnTo>
                    <a:pt x="3144" y="956"/>
                  </a:lnTo>
                  <a:lnTo>
                    <a:pt x="3136" y="934"/>
                  </a:lnTo>
                  <a:lnTo>
                    <a:pt x="3130" y="912"/>
                  </a:lnTo>
                  <a:lnTo>
                    <a:pt x="3122" y="898"/>
                  </a:lnTo>
                  <a:lnTo>
                    <a:pt x="3108" y="876"/>
                  </a:lnTo>
                  <a:lnTo>
                    <a:pt x="3100" y="860"/>
                  </a:lnTo>
                  <a:lnTo>
                    <a:pt x="3086" y="846"/>
                  </a:lnTo>
                  <a:lnTo>
                    <a:pt x="3064" y="832"/>
                  </a:lnTo>
                  <a:lnTo>
                    <a:pt x="3050" y="816"/>
                  </a:lnTo>
                  <a:lnTo>
                    <a:pt x="3028" y="802"/>
                  </a:lnTo>
                  <a:lnTo>
                    <a:pt x="3006" y="788"/>
                  </a:lnTo>
                  <a:lnTo>
                    <a:pt x="2992" y="780"/>
                  </a:lnTo>
                  <a:lnTo>
                    <a:pt x="2976" y="774"/>
                  </a:lnTo>
                  <a:lnTo>
                    <a:pt x="2962" y="766"/>
                  </a:lnTo>
                  <a:lnTo>
                    <a:pt x="2948" y="766"/>
                  </a:lnTo>
                  <a:lnTo>
                    <a:pt x="2926" y="758"/>
                  </a:lnTo>
                  <a:lnTo>
                    <a:pt x="2910" y="758"/>
                  </a:lnTo>
                  <a:lnTo>
                    <a:pt x="2896" y="758"/>
                  </a:lnTo>
                  <a:lnTo>
                    <a:pt x="2874" y="758"/>
                  </a:lnTo>
                  <a:lnTo>
                    <a:pt x="2860" y="758"/>
                  </a:lnTo>
                  <a:lnTo>
                    <a:pt x="2846" y="758"/>
                  </a:lnTo>
                  <a:lnTo>
                    <a:pt x="2824" y="766"/>
                  </a:lnTo>
                  <a:lnTo>
                    <a:pt x="2808" y="766"/>
                  </a:lnTo>
                  <a:lnTo>
                    <a:pt x="2794" y="774"/>
                  </a:lnTo>
                  <a:lnTo>
                    <a:pt x="2780" y="780"/>
                  </a:lnTo>
                  <a:lnTo>
                    <a:pt x="2758" y="788"/>
                  </a:lnTo>
                  <a:lnTo>
                    <a:pt x="2742" y="794"/>
                  </a:lnTo>
                  <a:lnTo>
                    <a:pt x="2728" y="802"/>
                  </a:lnTo>
                  <a:lnTo>
                    <a:pt x="2722" y="810"/>
                  </a:lnTo>
                  <a:lnTo>
                    <a:pt x="2706" y="816"/>
                  </a:lnTo>
                  <a:lnTo>
                    <a:pt x="2692" y="832"/>
                  </a:lnTo>
                  <a:lnTo>
                    <a:pt x="2678" y="838"/>
                  </a:lnTo>
                  <a:lnTo>
                    <a:pt x="2662" y="854"/>
                  </a:lnTo>
                  <a:lnTo>
                    <a:pt x="2656" y="868"/>
                  </a:lnTo>
                  <a:lnTo>
                    <a:pt x="2640" y="882"/>
                  </a:lnTo>
                  <a:lnTo>
                    <a:pt x="2626" y="904"/>
                  </a:lnTo>
                  <a:lnTo>
                    <a:pt x="2612" y="926"/>
                  </a:lnTo>
                  <a:lnTo>
                    <a:pt x="2604" y="948"/>
                  </a:lnTo>
                  <a:lnTo>
                    <a:pt x="2590" y="970"/>
                  </a:lnTo>
                  <a:lnTo>
                    <a:pt x="2582" y="1000"/>
                  </a:lnTo>
                  <a:lnTo>
                    <a:pt x="2576" y="1022"/>
                  </a:lnTo>
                  <a:lnTo>
                    <a:pt x="2568" y="1058"/>
                  </a:lnTo>
                  <a:lnTo>
                    <a:pt x="2568" y="1086"/>
                  </a:lnTo>
                  <a:lnTo>
                    <a:pt x="2568" y="1102"/>
                  </a:lnTo>
                  <a:lnTo>
                    <a:pt x="2560" y="1116"/>
                  </a:lnTo>
                  <a:lnTo>
                    <a:pt x="2560" y="1138"/>
                  </a:lnTo>
                  <a:lnTo>
                    <a:pt x="2568" y="1152"/>
                  </a:lnTo>
                  <a:lnTo>
                    <a:pt x="2568" y="1168"/>
                  </a:lnTo>
                  <a:lnTo>
                    <a:pt x="2568" y="1182"/>
                  </a:lnTo>
                  <a:lnTo>
                    <a:pt x="2568" y="1196"/>
                  </a:lnTo>
                  <a:lnTo>
                    <a:pt x="2576" y="1210"/>
                  </a:lnTo>
                  <a:lnTo>
                    <a:pt x="2576" y="1232"/>
                  </a:lnTo>
                  <a:lnTo>
                    <a:pt x="2582" y="1248"/>
                  </a:lnTo>
                  <a:lnTo>
                    <a:pt x="2582" y="1262"/>
                  </a:lnTo>
                  <a:lnTo>
                    <a:pt x="2590" y="1276"/>
                  </a:lnTo>
                  <a:lnTo>
                    <a:pt x="2596" y="1292"/>
                  </a:lnTo>
                  <a:lnTo>
                    <a:pt x="2604" y="1306"/>
                  </a:lnTo>
                  <a:lnTo>
                    <a:pt x="2612" y="1320"/>
                  </a:lnTo>
                  <a:lnTo>
                    <a:pt x="2618" y="1334"/>
                  </a:lnTo>
                  <a:lnTo>
                    <a:pt x="2612" y="1334"/>
                  </a:lnTo>
                  <a:lnTo>
                    <a:pt x="2596" y="1328"/>
                  </a:lnTo>
                  <a:lnTo>
                    <a:pt x="2590" y="1328"/>
                  </a:lnTo>
                  <a:lnTo>
                    <a:pt x="2582" y="1320"/>
                  </a:lnTo>
                  <a:lnTo>
                    <a:pt x="2576" y="1320"/>
                  </a:lnTo>
                  <a:lnTo>
                    <a:pt x="2560" y="1320"/>
                  </a:lnTo>
                  <a:lnTo>
                    <a:pt x="2554" y="1320"/>
                  </a:lnTo>
                  <a:lnTo>
                    <a:pt x="2546" y="1320"/>
                  </a:lnTo>
                  <a:lnTo>
                    <a:pt x="2538" y="1320"/>
                  </a:lnTo>
                  <a:lnTo>
                    <a:pt x="2524" y="1320"/>
                  </a:lnTo>
                  <a:lnTo>
                    <a:pt x="2516" y="1320"/>
                  </a:lnTo>
                  <a:lnTo>
                    <a:pt x="2510" y="1320"/>
                  </a:lnTo>
                  <a:lnTo>
                    <a:pt x="2502" y="1320"/>
                  </a:lnTo>
                  <a:lnTo>
                    <a:pt x="2494" y="1320"/>
                  </a:lnTo>
                  <a:lnTo>
                    <a:pt x="2488" y="1320"/>
                  </a:lnTo>
                  <a:lnTo>
                    <a:pt x="2472" y="1328"/>
                  </a:lnTo>
                  <a:lnTo>
                    <a:pt x="2466" y="1328"/>
                  </a:lnTo>
                  <a:lnTo>
                    <a:pt x="2452" y="1334"/>
                  </a:lnTo>
                  <a:lnTo>
                    <a:pt x="2436" y="1342"/>
                  </a:lnTo>
                  <a:lnTo>
                    <a:pt x="2422" y="1350"/>
                  </a:lnTo>
                  <a:lnTo>
                    <a:pt x="2408" y="1364"/>
                  </a:lnTo>
                  <a:lnTo>
                    <a:pt x="2400" y="1372"/>
                  </a:lnTo>
                  <a:lnTo>
                    <a:pt x="2386" y="1386"/>
                  </a:lnTo>
                  <a:lnTo>
                    <a:pt x="2378" y="1394"/>
                  </a:lnTo>
                  <a:lnTo>
                    <a:pt x="2370" y="1408"/>
                  </a:lnTo>
                  <a:lnTo>
                    <a:pt x="2364" y="1422"/>
                  </a:lnTo>
                  <a:lnTo>
                    <a:pt x="2356" y="1438"/>
                  </a:lnTo>
                  <a:lnTo>
                    <a:pt x="2348" y="1458"/>
                  </a:lnTo>
                  <a:lnTo>
                    <a:pt x="2342" y="1474"/>
                  </a:lnTo>
                  <a:lnTo>
                    <a:pt x="2342" y="1488"/>
                  </a:lnTo>
                  <a:lnTo>
                    <a:pt x="2342" y="1510"/>
                  </a:lnTo>
                  <a:lnTo>
                    <a:pt x="2342" y="1524"/>
                  </a:lnTo>
                  <a:lnTo>
                    <a:pt x="2348" y="1546"/>
                  </a:lnTo>
                  <a:lnTo>
                    <a:pt x="2348" y="1562"/>
                  </a:lnTo>
                  <a:lnTo>
                    <a:pt x="2356" y="1576"/>
                  </a:lnTo>
                  <a:lnTo>
                    <a:pt x="2364" y="1590"/>
                  </a:lnTo>
                  <a:lnTo>
                    <a:pt x="2370" y="1604"/>
                  </a:lnTo>
                  <a:lnTo>
                    <a:pt x="2378" y="1620"/>
                  </a:lnTo>
                  <a:lnTo>
                    <a:pt x="2392" y="1626"/>
                  </a:lnTo>
                  <a:lnTo>
                    <a:pt x="2400" y="1642"/>
                  </a:lnTo>
                  <a:lnTo>
                    <a:pt x="2414" y="1648"/>
                  </a:lnTo>
                  <a:lnTo>
                    <a:pt x="2422" y="1656"/>
                  </a:lnTo>
                  <a:lnTo>
                    <a:pt x="2436" y="1664"/>
                  </a:lnTo>
                  <a:lnTo>
                    <a:pt x="2452" y="1664"/>
                  </a:lnTo>
                  <a:lnTo>
                    <a:pt x="2466" y="1670"/>
                  </a:lnTo>
                  <a:lnTo>
                    <a:pt x="2488" y="1670"/>
                  </a:lnTo>
                  <a:lnTo>
                    <a:pt x="2502" y="1678"/>
                  </a:lnTo>
                  <a:lnTo>
                    <a:pt x="2516" y="1678"/>
                  </a:lnTo>
                  <a:lnTo>
                    <a:pt x="2524" y="1678"/>
                  </a:lnTo>
                  <a:lnTo>
                    <a:pt x="2532" y="1678"/>
                  </a:lnTo>
                  <a:lnTo>
                    <a:pt x="2538" y="1670"/>
                  </a:lnTo>
                  <a:lnTo>
                    <a:pt x="2546" y="1670"/>
                  </a:lnTo>
                  <a:lnTo>
                    <a:pt x="2554" y="1670"/>
                  </a:lnTo>
                  <a:lnTo>
                    <a:pt x="2560" y="1670"/>
                  </a:lnTo>
                  <a:lnTo>
                    <a:pt x="2560" y="1664"/>
                  </a:lnTo>
                  <a:lnTo>
                    <a:pt x="2568" y="1664"/>
                  </a:lnTo>
                  <a:lnTo>
                    <a:pt x="2576" y="1664"/>
                  </a:lnTo>
                  <a:lnTo>
                    <a:pt x="2576" y="1656"/>
                  </a:lnTo>
                  <a:lnTo>
                    <a:pt x="2582" y="1656"/>
                  </a:lnTo>
                  <a:lnTo>
                    <a:pt x="2590" y="1648"/>
                  </a:lnTo>
                  <a:lnTo>
                    <a:pt x="2596" y="1642"/>
                  </a:lnTo>
                  <a:lnTo>
                    <a:pt x="2604" y="1634"/>
                  </a:lnTo>
                  <a:lnTo>
                    <a:pt x="2612" y="1626"/>
                  </a:lnTo>
                  <a:lnTo>
                    <a:pt x="2612" y="1620"/>
                  </a:lnTo>
                  <a:lnTo>
                    <a:pt x="2618" y="1612"/>
                  </a:lnTo>
                  <a:lnTo>
                    <a:pt x="2618" y="1604"/>
                  </a:lnTo>
                  <a:lnTo>
                    <a:pt x="2618" y="1598"/>
                  </a:lnTo>
                  <a:lnTo>
                    <a:pt x="2626" y="1590"/>
                  </a:lnTo>
                  <a:lnTo>
                    <a:pt x="2626" y="1584"/>
                  </a:lnTo>
                  <a:lnTo>
                    <a:pt x="2626" y="1576"/>
                  </a:lnTo>
                  <a:lnTo>
                    <a:pt x="2626" y="1568"/>
                  </a:lnTo>
                  <a:lnTo>
                    <a:pt x="2626" y="1562"/>
                  </a:lnTo>
                  <a:lnTo>
                    <a:pt x="2626" y="1554"/>
                  </a:lnTo>
                  <a:lnTo>
                    <a:pt x="2626" y="1546"/>
                  </a:lnTo>
                  <a:lnTo>
                    <a:pt x="2626" y="1540"/>
                  </a:lnTo>
                  <a:lnTo>
                    <a:pt x="2626" y="1532"/>
                  </a:lnTo>
                  <a:lnTo>
                    <a:pt x="2626" y="1524"/>
                  </a:lnTo>
                  <a:lnTo>
                    <a:pt x="2626" y="1518"/>
                  </a:lnTo>
                  <a:lnTo>
                    <a:pt x="2618" y="1510"/>
                  </a:lnTo>
                  <a:lnTo>
                    <a:pt x="2618" y="1502"/>
                  </a:lnTo>
                  <a:lnTo>
                    <a:pt x="2612" y="1496"/>
                  </a:lnTo>
                  <a:lnTo>
                    <a:pt x="2612" y="1488"/>
                  </a:lnTo>
                  <a:lnTo>
                    <a:pt x="2604" y="1488"/>
                  </a:lnTo>
                  <a:lnTo>
                    <a:pt x="2604" y="1480"/>
                  </a:lnTo>
                  <a:lnTo>
                    <a:pt x="2596" y="1480"/>
                  </a:lnTo>
                  <a:lnTo>
                    <a:pt x="2596" y="1474"/>
                  </a:lnTo>
                  <a:lnTo>
                    <a:pt x="2590" y="1474"/>
                  </a:lnTo>
                  <a:lnTo>
                    <a:pt x="2582" y="1474"/>
                  </a:lnTo>
                  <a:lnTo>
                    <a:pt x="2582" y="1466"/>
                  </a:lnTo>
                  <a:lnTo>
                    <a:pt x="2576" y="1466"/>
                  </a:lnTo>
                  <a:lnTo>
                    <a:pt x="2568" y="1466"/>
                  </a:lnTo>
                  <a:lnTo>
                    <a:pt x="2560" y="1458"/>
                  </a:lnTo>
                  <a:lnTo>
                    <a:pt x="2554" y="1458"/>
                  </a:lnTo>
                  <a:lnTo>
                    <a:pt x="2546" y="1458"/>
                  </a:lnTo>
                  <a:lnTo>
                    <a:pt x="2538" y="1458"/>
                  </a:lnTo>
                  <a:lnTo>
                    <a:pt x="2532" y="1458"/>
                  </a:lnTo>
                  <a:lnTo>
                    <a:pt x="2524" y="1458"/>
                  </a:lnTo>
                  <a:lnTo>
                    <a:pt x="2516" y="1466"/>
                  </a:lnTo>
                  <a:lnTo>
                    <a:pt x="2502" y="1466"/>
                  </a:lnTo>
                  <a:lnTo>
                    <a:pt x="2494" y="1474"/>
                  </a:lnTo>
                  <a:lnTo>
                    <a:pt x="2488" y="1480"/>
                  </a:lnTo>
                  <a:lnTo>
                    <a:pt x="2488" y="1488"/>
                  </a:lnTo>
                  <a:lnTo>
                    <a:pt x="2480" y="1496"/>
                  </a:lnTo>
                  <a:lnTo>
                    <a:pt x="2472" y="1496"/>
                  </a:lnTo>
                  <a:lnTo>
                    <a:pt x="2472" y="1502"/>
                  </a:lnTo>
                  <a:lnTo>
                    <a:pt x="2472" y="1510"/>
                  </a:lnTo>
                  <a:lnTo>
                    <a:pt x="2466" y="1518"/>
                  </a:lnTo>
                  <a:lnTo>
                    <a:pt x="2466" y="1524"/>
                  </a:lnTo>
                  <a:lnTo>
                    <a:pt x="2466" y="1532"/>
                  </a:lnTo>
                  <a:lnTo>
                    <a:pt x="2466" y="1540"/>
                  </a:lnTo>
                  <a:lnTo>
                    <a:pt x="2466" y="1546"/>
                  </a:lnTo>
                  <a:lnTo>
                    <a:pt x="2466" y="1554"/>
                  </a:lnTo>
                  <a:lnTo>
                    <a:pt x="2494" y="1554"/>
                  </a:lnTo>
                  <a:lnTo>
                    <a:pt x="2494" y="1546"/>
                  </a:lnTo>
                  <a:lnTo>
                    <a:pt x="2502" y="1546"/>
                  </a:lnTo>
                  <a:lnTo>
                    <a:pt x="2502" y="1540"/>
                  </a:lnTo>
                  <a:lnTo>
                    <a:pt x="2502" y="1532"/>
                  </a:lnTo>
                  <a:lnTo>
                    <a:pt x="2502" y="1524"/>
                  </a:lnTo>
                  <a:lnTo>
                    <a:pt x="2502" y="1518"/>
                  </a:lnTo>
                  <a:lnTo>
                    <a:pt x="2510" y="1518"/>
                  </a:lnTo>
                  <a:lnTo>
                    <a:pt x="2510" y="1510"/>
                  </a:lnTo>
                  <a:lnTo>
                    <a:pt x="2510" y="1502"/>
                  </a:lnTo>
                  <a:lnTo>
                    <a:pt x="2516" y="1502"/>
                  </a:lnTo>
                  <a:lnTo>
                    <a:pt x="2524" y="1496"/>
                  </a:lnTo>
                  <a:lnTo>
                    <a:pt x="2532" y="1496"/>
                  </a:lnTo>
                  <a:lnTo>
                    <a:pt x="2538" y="1496"/>
                  </a:lnTo>
                  <a:lnTo>
                    <a:pt x="2546" y="1496"/>
                  </a:lnTo>
                  <a:lnTo>
                    <a:pt x="2554" y="1496"/>
                  </a:lnTo>
                  <a:lnTo>
                    <a:pt x="2560" y="1496"/>
                  </a:lnTo>
                  <a:lnTo>
                    <a:pt x="2568" y="1496"/>
                  </a:lnTo>
                  <a:lnTo>
                    <a:pt x="2568" y="1502"/>
                  </a:lnTo>
                  <a:lnTo>
                    <a:pt x="2576" y="1502"/>
                  </a:lnTo>
                  <a:lnTo>
                    <a:pt x="2582" y="1510"/>
                  </a:lnTo>
                  <a:lnTo>
                    <a:pt x="2582" y="1518"/>
                  </a:lnTo>
                  <a:lnTo>
                    <a:pt x="2590" y="1518"/>
                  </a:lnTo>
                  <a:lnTo>
                    <a:pt x="2590" y="1524"/>
                  </a:lnTo>
                  <a:lnTo>
                    <a:pt x="2590" y="1532"/>
                  </a:lnTo>
                  <a:lnTo>
                    <a:pt x="2590" y="1540"/>
                  </a:lnTo>
                  <a:lnTo>
                    <a:pt x="2596" y="1540"/>
                  </a:lnTo>
                  <a:lnTo>
                    <a:pt x="2596" y="1546"/>
                  </a:lnTo>
                  <a:lnTo>
                    <a:pt x="2596" y="1554"/>
                  </a:lnTo>
                  <a:lnTo>
                    <a:pt x="2596" y="1562"/>
                  </a:lnTo>
                  <a:lnTo>
                    <a:pt x="2596" y="1568"/>
                  </a:lnTo>
                  <a:lnTo>
                    <a:pt x="2590" y="1576"/>
                  </a:lnTo>
                  <a:lnTo>
                    <a:pt x="2590" y="1584"/>
                  </a:lnTo>
                  <a:lnTo>
                    <a:pt x="2590" y="1590"/>
                  </a:lnTo>
                  <a:lnTo>
                    <a:pt x="2590" y="1598"/>
                  </a:lnTo>
                  <a:lnTo>
                    <a:pt x="2582" y="1598"/>
                  </a:lnTo>
                  <a:lnTo>
                    <a:pt x="2582" y="1604"/>
                  </a:lnTo>
                  <a:lnTo>
                    <a:pt x="2576" y="1612"/>
                  </a:lnTo>
                  <a:lnTo>
                    <a:pt x="2576" y="1620"/>
                  </a:lnTo>
                  <a:lnTo>
                    <a:pt x="2568" y="1620"/>
                  </a:lnTo>
                  <a:lnTo>
                    <a:pt x="2568" y="1626"/>
                  </a:lnTo>
                  <a:lnTo>
                    <a:pt x="2560" y="1626"/>
                  </a:lnTo>
                  <a:lnTo>
                    <a:pt x="2554" y="1634"/>
                  </a:lnTo>
                  <a:lnTo>
                    <a:pt x="2546" y="1634"/>
                  </a:lnTo>
                  <a:lnTo>
                    <a:pt x="2538" y="1642"/>
                  </a:lnTo>
                  <a:lnTo>
                    <a:pt x="2532" y="1642"/>
                  </a:lnTo>
                  <a:lnTo>
                    <a:pt x="2524" y="1642"/>
                  </a:lnTo>
                  <a:lnTo>
                    <a:pt x="2516" y="1642"/>
                  </a:lnTo>
                  <a:lnTo>
                    <a:pt x="2502" y="1642"/>
                  </a:lnTo>
                  <a:lnTo>
                    <a:pt x="2488" y="1642"/>
                  </a:lnTo>
                  <a:lnTo>
                    <a:pt x="2480" y="1642"/>
                  </a:lnTo>
                  <a:lnTo>
                    <a:pt x="2466" y="1634"/>
                  </a:lnTo>
                  <a:lnTo>
                    <a:pt x="2452" y="1634"/>
                  </a:lnTo>
                  <a:lnTo>
                    <a:pt x="2444" y="1626"/>
                  </a:lnTo>
                  <a:lnTo>
                    <a:pt x="2430" y="1620"/>
                  </a:lnTo>
                  <a:lnTo>
                    <a:pt x="2422" y="1612"/>
                  </a:lnTo>
                  <a:lnTo>
                    <a:pt x="2414" y="1604"/>
                  </a:lnTo>
                  <a:lnTo>
                    <a:pt x="2408" y="1598"/>
                  </a:lnTo>
                  <a:lnTo>
                    <a:pt x="2400" y="1584"/>
                  </a:lnTo>
                  <a:lnTo>
                    <a:pt x="2392" y="1576"/>
                  </a:lnTo>
                  <a:lnTo>
                    <a:pt x="2386" y="1562"/>
                  </a:lnTo>
                  <a:lnTo>
                    <a:pt x="2386" y="1554"/>
                  </a:lnTo>
                  <a:lnTo>
                    <a:pt x="2378" y="1540"/>
                  </a:lnTo>
                  <a:lnTo>
                    <a:pt x="2378" y="1524"/>
                  </a:lnTo>
                  <a:lnTo>
                    <a:pt x="2378" y="1510"/>
                  </a:lnTo>
                  <a:lnTo>
                    <a:pt x="2378" y="1496"/>
                  </a:lnTo>
                  <a:lnTo>
                    <a:pt x="2378" y="1480"/>
                  </a:lnTo>
                  <a:lnTo>
                    <a:pt x="2378" y="1466"/>
                  </a:lnTo>
                  <a:lnTo>
                    <a:pt x="2386" y="1452"/>
                  </a:lnTo>
                  <a:lnTo>
                    <a:pt x="2392" y="1438"/>
                  </a:lnTo>
                  <a:lnTo>
                    <a:pt x="2400" y="1430"/>
                  </a:lnTo>
                  <a:lnTo>
                    <a:pt x="2408" y="1416"/>
                  </a:lnTo>
                  <a:lnTo>
                    <a:pt x="2414" y="1408"/>
                  </a:lnTo>
                  <a:lnTo>
                    <a:pt x="2422" y="1394"/>
                  </a:lnTo>
                  <a:lnTo>
                    <a:pt x="2430" y="1386"/>
                  </a:lnTo>
                  <a:lnTo>
                    <a:pt x="2444" y="1378"/>
                  </a:lnTo>
                  <a:lnTo>
                    <a:pt x="2452" y="1372"/>
                  </a:lnTo>
                  <a:lnTo>
                    <a:pt x="2466" y="1364"/>
                  </a:lnTo>
                  <a:lnTo>
                    <a:pt x="2472" y="1364"/>
                  </a:lnTo>
                  <a:lnTo>
                    <a:pt x="2488" y="1356"/>
                  </a:lnTo>
                  <a:lnTo>
                    <a:pt x="2502" y="1356"/>
                  </a:lnTo>
                  <a:lnTo>
                    <a:pt x="2516" y="1350"/>
                  </a:lnTo>
                  <a:lnTo>
                    <a:pt x="2524" y="1350"/>
                  </a:lnTo>
                  <a:lnTo>
                    <a:pt x="2538" y="1350"/>
                  </a:lnTo>
                  <a:lnTo>
                    <a:pt x="2560" y="1350"/>
                  </a:lnTo>
                  <a:lnTo>
                    <a:pt x="2576" y="1356"/>
                  </a:lnTo>
                  <a:lnTo>
                    <a:pt x="2590" y="1356"/>
                  </a:lnTo>
                  <a:lnTo>
                    <a:pt x="2604" y="1364"/>
                  </a:lnTo>
                  <a:lnTo>
                    <a:pt x="2618" y="1372"/>
                  </a:lnTo>
                  <a:lnTo>
                    <a:pt x="2626" y="1378"/>
                  </a:lnTo>
                  <a:lnTo>
                    <a:pt x="2640" y="1386"/>
                  </a:lnTo>
                  <a:lnTo>
                    <a:pt x="2656" y="1400"/>
                  </a:lnTo>
                  <a:lnTo>
                    <a:pt x="2662" y="1408"/>
                  </a:lnTo>
                  <a:lnTo>
                    <a:pt x="2678" y="1422"/>
                  </a:lnTo>
                  <a:lnTo>
                    <a:pt x="2684" y="1430"/>
                  </a:lnTo>
                  <a:lnTo>
                    <a:pt x="2692" y="1444"/>
                  </a:lnTo>
                  <a:lnTo>
                    <a:pt x="2692" y="1458"/>
                  </a:lnTo>
                  <a:lnTo>
                    <a:pt x="2700" y="1466"/>
                  </a:lnTo>
                  <a:lnTo>
                    <a:pt x="2700" y="1480"/>
                  </a:lnTo>
                  <a:lnTo>
                    <a:pt x="2706" y="1496"/>
                  </a:lnTo>
                  <a:lnTo>
                    <a:pt x="2706" y="1510"/>
                  </a:lnTo>
                  <a:lnTo>
                    <a:pt x="2706" y="1518"/>
                  </a:lnTo>
                  <a:lnTo>
                    <a:pt x="2706" y="1532"/>
                  </a:lnTo>
                  <a:lnTo>
                    <a:pt x="2706" y="1546"/>
                  </a:lnTo>
                  <a:lnTo>
                    <a:pt x="2706" y="1562"/>
                  </a:lnTo>
                  <a:lnTo>
                    <a:pt x="2706" y="1576"/>
                  </a:lnTo>
                  <a:lnTo>
                    <a:pt x="2700" y="1584"/>
                  </a:lnTo>
                  <a:lnTo>
                    <a:pt x="2700" y="1598"/>
                  </a:lnTo>
                  <a:lnTo>
                    <a:pt x="2692" y="1612"/>
                  </a:lnTo>
                  <a:lnTo>
                    <a:pt x="2692" y="1620"/>
                  </a:lnTo>
                  <a:lnTo>
                    <a:pt x="2684" y="1634"/>
                  </a:lnTo>
                  <a:lnTo>
                    <a:pt x="2678" y="1642"/>
                  </a:lnTo>
                  <a:lnTo>
                    <a:pt x="2670" y="1656"/>
                  </a:lnTo>
                  <a:lnTo>
                    <a:pt x="2662" y="1664"/>
                  </a:lnTo>
                  <a:lnTo>
                    <a:pt x="2656" y="1678"/>
                  </a:lnTo>
                  <a:lnTo>
                    <a:pt x="2648" y="1686"/>
                  </a:lnTo>
                  <a:lnTo>
                    <a:pt x="2640" y="1692"/>
                  </a:lnTo>
                  <a:lnTo>
                    <a:pt x="2626" y="1708"/>
                  </a:lnTo>
                  <a:lnTo>
                    <a:pt x="2618" y="1714"/>
                  </a:lnTo>
                  <a:lnTo>
                    <a:pt x="2604" y="1722"/>
                  </a:lnTo>
                  <a:lnTo>
                    <a:pt x="2590" y="1728"/>
                  </a:lnTo>
                  <a:lnTo>
                    <a:pt x="2576" y="1736"/>
                  </a:lnTo>
                  <a:lnTo>
                    <a:pt x="2560" y="1744"/>
                  </a:lnTo>
                  <a:lnTo>
                    <a:pt x="2546" y="1750"/>
                  </a:lnTo>
                  <a:lnTo>
                    <a:pt x="2524" y="1758"/>
                  </a:lnTo>
                  <a:lnTo>
                    <a:pt x="2510" y="1758"/>
                  </a:lnTo>
                  <a:lnTo>
                    <a:pt x="2488" y="1758"/>
                  </a:lnTo>
                  <a:lnTo>
                    <a:pt x="2466" y="1758"/>
                  </a:lnTo>
                  <a:lnTo>
                    <a:pt x="2452" y="1758"/>
                  </a:lnTo>
                  <a:lnTo>
                    <a:pt x="2436" y="1758"/>
                  </a:lnTo>
                  <a:lnTo>
                    <a:pt x="2430" y="1750"/>
                  </a:lnTo>
                  <a:lnTo>
                    <a:pt x="2414" y="1750"/>
                  </a:lnTo>
                  <a:lnTo>
                    <a:pt x="2400" y="1744"/>
                  </a:lnTo>
                  <a:lnTo>
                    <a:pt x="2392" y="1736"/>
                  </a:lnTo>
                  <a:lnTo>
                    <a:pt x="2378" y="1728"/>
                  </a:lnTo>
                  <a:lnTo>
                    <a:pt x="2364" y="1722"/>
                  </a:lnTo>
                  <a:lnTo>
                    <a:pt x="2356" y="1714"/>
                  </a:lnTo>
                  <a:lnTo>
                    <a:pt x="2342" y="1708"/>
                  </a:lnTo>
                  <a:lnTo>
                    <a:pt x="2334" y="1692"/>
                  </a:lnTo>
                  <a:lnTo>
                    <a:pt x="2320" y="1686"/>
                  </a:lnTo>
                  <a:lnTo>
                    <a:pt x="2312" y="1670"/>
                  </a:lnTo>
                  <a:lnTo>
                    <a:pt x="2298" y="1664"/>
                  </a:lnTo>
                  <a:lnTo>
                    <a:pt x="2290" y="1648"/>
                  </a:lnTo>
                  <a:lnTo>
                    <a:pt x="2276" y="1634"/>
                  </a:lnTo>
                  <a:lnTo>
                    <a:pt x="2262" y="1612"/>
                  </a:lnTo>
                  <a:lnTo>
                    <a:pt x="2246" y="1590"/>
                  </a:lnTo>
                  <a:lnTo>
                    <a:pt x="2232" y="1562"/>
                  </a:lnTo>
                  <a:lnTo>
                    <a:pt x="2218" y="1540"/>
                  </a:lnTo>
                  <a:lnTo>
                    <a:pt x="2210" y="1510"/>
                  </a:lnTo>
                  <a:lnTo>
                    <a:pt x="2196" y="1480"/>
                  </a:lnTo>
                  <a:lnTo>
                    <a:pt x="2188" y="1452"/>
                  </a:lnTo>
                  <a:lnTo>
                    <a:pt x="2182" y="1422"/>
                  </a:lnTo>
                  <a:lnTo>
                    <a:pt x="2174" y="1394"/>
                  </a:lnTo>
                  <a:lnTo>
                    <a:pt x="2174" y="1372"/>
                  </a:lnTo>
                  <a:lnTo>
                    <a:pt x="2166" y="1342"/>
                  </a:lnTo>
                  <a:lnTo>
                    <a:pt x="2166" y="1314"/>
                  </a:lnTo>
                  <a:lnTo>
                    <a:pt x="2166" y="1284"/>
                  </a:lnTo>
                  <a:lnTo>
                    <a:pt x="2174" y="1254"/>
                  </a:lnTo>
                  <a:lnTo>
                    <a:pt x="2174" y="1226"/>
                  </a:lnTo>
                  <a:lnTo>
                    <a:pt x="2182" y="1204"/>
                  </a:lnTo>
                  <a:lnTo>
                    <a:pt x="2182" y="1204"/>
                  </a:lnTo>
                  <a:close/>
                  <a:moveTo>
                    <a:pt x="2356" y="2284"/>
                  </a:moveTo>
                  <a:lnTo>
                    <a:pt x="2320" y="2232"/>
                  </a:lnTo>
                  <a:lnTo>
                    <a:pt x="2298" y="2182"/>
                  </a:lnTo>
                  <a:lnTo>
                    <a:pt x="2268" y="2122"/>
                  </a:lnTo>
                  <a:lnTo>
                    <a:pt x="2246" y="2072"/>
                  </a:lnTo>
                  <a:lnTo>
                    <a:pt x="2224" y="2014"/>
                  </a:lnTo>
                  <a:lnTo>
                    <a:pt x="2202" y="1962"/>
                  </a:lnTo>
                  <a:lnTo>
                    <a:pt x="2188" y="1904"/>
                  </a:lnTo>
                  <a:lnTo>
                    <a:pt x="2174" y="1854"/>
                  </a:lnTo>
                  <a:lnTo>
                    <a:pt x="2166" y="1794"/>
                  </a:lnTo>
                  <a:lnTo>
                    <a:pt x="2152" y="1736"/>
                  </a:lnTo>
                  <a:lnTo>
                    <a:pt x="2144" y="1686"/>
                  </a:lnTo>
                  <a:lnTo>
                    <a:pt x="2144" y="1626"/>
                  </a:lnTo>
                  <a:lnTo>
                    <a:pt x="2138" y="1568"/>
                  </a:lnTo>
                  <a:lnTo>
                    <a:pt x="2138" y="1518"/>
                  </a:lnTo>
                  <a:lnTo>
                    <a:pt x="2138" y="1458"/>
                  </a:lnTo>
                  <a:lnTo>
                    <a:pt x="2144" y="1408"/>
                  </a:lnTo>
                  <a:lnTo>
                    <a:pt x="2144" y="1422"/>
                  </a:lnTo>
                  <a:lnTo>
                    <a:pt x="2152" y="1438"/>
                  </a:lnTo>
                  <a:lnTo>
                    <a:pt x="2152" y="1458"/>
                  </a:lnTo>
                  <a:lnTo>
                    <a:pt x="2160" y="1474"/>
                  </a:lnTo>
                  <a:lnTo>
                    <a:pt x="2166" y="1488"/>
                  </a:lnTo>
                  <a:lnTo>
                    <a:pt x="2166" y="1502"/>
                  </a:lnTo>
                  <a:lnTo>
                    <a:pt x="2174" y="1524"/>
                  </a:lnTo>
                  <a:lnTo>
                    <a:pt x="2182" y="1540"/>
                  </a:lnTo>
                  <a:lnTo>
                    <a:pt x="2188" y="1554"/>
                  </a:lnTo>
                  <a:lnTo>
                    <a:pt x="2196" y="1568"/>
                  </a:lnTo>
                  <a:lnTo>
                    <a:pt x="2202" y="1584"/>
                  </a:lnTo>
                  <a:lnTo>
                    <a:pt x="2210" y="1598"/>
                  </a:lnTo>
                  <a:lnTo>
                    <a:pt x="2224" y="1612"/>
                  </a:lnTo>
                  <a:lnTo>
                    <a:pt x="2232" y="1626"/>
                  </a:lnTo>
                  <a:lnTo>
                    <a:pt x="2240" y="1642"/>
                  </a:lnTo>
                  <a:lnTo>
                    <a:pt x="2254" y="1656"/>
                  </a:lnTo>
                  <a:lnTo>
                    <a:pt x="2262" y="1670"/>
                  </a:lnTo>
                  <a:lnTo>
                    <a:pt x="2276" y="1686"/>
                  </a:lnTo>
                  <a:lnTo>
                    <a:pt x="2284" y="1700"/>
                  </a:lnTo>
                  <a:lnTo>
                    <a:pt x="2298" y="1714"/>
                  </a:lnTo>
                  <a:lnTo>
                    <a:pt x="2312" y="1722"/>
                  </a:lnTo>
                  <a:lnTo>
                    <a:pt x="2328" y="1736"/>
                  </a:lnTo>
                  <a:lnTo>
                    <a:pt x="2334" y="1744"/>
                  </a:lnTo>
                  <a:lnTo>
                    <a:pt x="2348" y="1750"/>
                  </a:lnTo>
                  <a:lnTo>
                    <a:pt x="2364" y="1758"/>
                  </a:lnTo>
                  <a:lnTo>
                    <a:pt x="2378" y="1766"/>
                  </a:lnTo>
                  <a:lnTo>
                    <a:pt x="2392" y="1772"/>
                  </a:lnTo>
                  <a:lnTo>
                    <a:pt x="2408" y="1780"/>
                  </a:lnTo>
                  <a:lnTo>
                    <a:pt x="2422" y="1788"/>
                  </a:lnTo>
                  <a:lnTo>
                    <a:pt x="2436" y="1788"/>
                  </a:lnTo>
                  <a:lnTo>
                    <a:pt x="2444" y="1788"/>
                  </a:lnTo>
                  <a:lnTo>
                    <a:pt x="2458" y="1794"/>
                  </a:lnTo>
                  <a:lnTo>
                    <a:pt x="2488" y="1794"/>
                  </a:lnTo>
                  <a:lnTo>
                    <a:pt x="2510" y="1788"/>
                  </a:lnTo>
                  <a:lnTo>
                    <a:pt x="2538" y="1788"/>
                  </a:lnTo>
                  <a:lnTo>
                    <a:pt x="2554" y="1780"/>
                  </a:lnTo>
                  <a:lnTo>
                    <a:pt x="2576" y="1780"/>
                  </a:lnTo>
                  <a:lnTo>
                    <a:pt x="2596" y="1772"/>
                  </a:lnTo>
                  <a:lnTo>
                    <a:pt x="2612" y="1758"/>
                  </a:lnTo>
                  <a:lnTo>
                    <a:pt x="2626" y="1750"/>
                  </a:lnTo>
                  <a:lnTo>
                    <a:pt x="2640" y="1744"/>
                  </a:lnTo>
                  <a:lnTo>
                    <a:pt x="2656" y="1728"/>
                  </a:lnTo>
                  <a:lnTo>
                    <a:pt x="2662" y="1722"/>
                  </a:lnTo>
                  <a:lnTo>
                    <a:pt x="2678" y="1708"/>
                  </a:lnTo>
                  <a:lnTo>
                    <a:pt x="2684" y="1692"/>
                  </a:lnTo>
                  <a:lnTo>
                    <a:pt x="2692" y="1686"/>
                  </a:lnTo>
                  <a:lnTo>
                    <a:pt x="2706" y="1670"/>
                  </a:lnTo>
                  <a:lnTo>
                    <a:pt x="2714" y="1656"/>
                  </a:lnTo>
                  <a:lnTo>
                    <a:pt x="2714" y="1648"/>
                  </a:lnTo>
                  <a:lnTo>
                    <a:pt x="2722" y="1642"/>
                  </a:lnTo>
                  <a:lnTo>
                    <a:pt x="2728" y="1626"/>
                  </a:lnTo>
                  <a:lnTo>
                    <a:pt x="2728" y="1612"/>
                  </a:lnTo>
                  <a:lnTo>
                    <a:pt x="2736" y="1604"/>
                  </a:lnTo>
                  <a:lnTo>
                    <a:pt x="2736" y="1590"/>
                  </a:lnTo>
                  <a:lnTo>
                    <a:pt x="2736" y="1576"/>
                  </a:lnTo>
                  <a:lnTo>
                    <a:pt x="2736" y="1568"/>
                  </a:lnTo>
                  <a:lnTo>
                    <a:pt x="2742" y="1554"/>
                  </a:lnTo>
                  <a:lnTo>
                    <a:pt x="2742" y="1540"/>
                  </a:lnTo>
                  <a:lnTo>
                    <a:pt x="2742" y="1524"/>
                  </a:lnTo>
                  <a:lnTo>
                    <a:pt x="2742" y="1510"/>
                  </a:lnTo>
                  <a:lnTo>
                    <a:pt x="2736" y="1502"/>
                  </a:lnTo>
                  <a:lnTo>
                    <a:pt x="2736" y="1488"/>
                  </a:lnTo>
                  <a:lnTo>
                    <a:pt x="2736" y="1474"/>
                  </a:lnTo>
                  <a:lnTo>
                    <a:pt x="2736" y="1458"/>
                  </a:lnTo>
                  <a:lnTo>
                    <a:pt x="2742" y="1466"/>
                  </a:lnTo>
                  <a:lnTo>
                    <a:pt x="2750" y="1474"/>
                  </a:lnTo>
                  <a:lnTo>
                    <a:pt x="2764" y="1480"/>
                  </a:lnTo>
                  <a:lnTo>
                    <a:pt x="2772" y="1488"/>
                  </a:lnTo>
                  <a:lnTo>
                    <a:pt x="2786" y="1496"/>
                  </a:lnTo>
                  <a:lnTo>
                    <a:pt x="2802" y="1502"/>
                  </a:lnTo>
                  <a:lnTo>
                    <a:pt x="2808" y="1510"/>
                  </a:lnTo>
                  <a:lnTo>
                    <a:pt x="2824" y="1510"/>
                  </a:lnTo>
                  <a:lnTo>
                    <a:pt x="2838" y="1518"/>
                  </a:lnTo>
                  <a:lnTo>
                    <a:pt x="2852" y="1524"/>
                  </a:lnTo>
                  <a:lnTo>
                    <a:pt x="2866" y="1532"/>
                  </a:lnTo>
                  <a:lnTo>
                    <a:pt x="2882" y="1532"/>
                  </a:lnTo>
                  <a:lnTo>
                    <a:pt x="2896" y="1540"/>
                  </a:lnTo>
                  <a:lnTo>
                    <a:pt x="2910" y="1540"/>
                  </a:lnTo>
                  <a:lnTo>
                    <a:pt x="2926" y="1546"/>
                  </a:lnTo>
                  <a:lnTo>
                    <a:pt x="2940" y="1546"/>
                  </a:lnTo>
                  <a:lnTo>
                    <a:pt x="2932" y="1554"/>
                  </a:lnTo>
                  <a:lnTo>
                    <a:pt x="2926" y="1554"/>
                  </a:lnTo>
                  <a:lnTo>
                    <a:pt x="2918" y="1554"/>
                  </a:lnTo>
                  <a:lnTo>
                    <a:pt x="2910" y="1562"/>
                  </a:lnTo>
                  <a:lnTo>
                    <a:pt x="2896" y="1562"/>
                  </a:lnTo>
                  <a:lnTo>
                    <a:pt x="2888" y="1562"/>
                  </a:lnTo>
                  <a:lnTo>
                    <a:pt x="2882" y="1568"/>
                  </a:lnTo>
                  <a:lnTo>
                    <a:pt x="2874" y="1568"/>
                  </a:lnTo>
                  <a:lnTo>
                    <a:pt x="2866" y="1576"/>
                  </a:lnTo>
                  <a:lnTo>
                    <a:pt x="2860" y="1576"/>
                  </a:lnTo>
                  <a:lnTo>
                    <a:pt x="2852" y="1584"/>
                  </a:lnTo>
                  <a:lnTo>
                    <a:pt x="2846" y="1584"/>
                  </a:lnTo>
                  <a:lnTo>
                    <a:pt x="2838" y="1590"/>
                  </a:lnTo>
                  <a:lnTo>
                    <a:pt x="2830" y="1590"/>
                  </a:lnTo>
                  <a:lnTo>
                    <a:pt x="2824" y="1598"/>
                  </a:lnTo>
                  <a:lnTo>
                    <a:pt x="2824" y="1604"/>
                  </a:lnTo>
                  <a:lnTo>
                    <a:pt x="2802" y="1612"/>
                  </a:lnTo>
                  <a:lnTo>
                    <a:pt x="2786" y="1626"/>
                  </a:lnTo>
                  <a:lnTo>
                    <a:pt x="2764" y="1642"/>
                  </a:lnTo>
                  <a:lnTo>
                    <a:pt x="2750" y="1656"/>
                  </a:lnTo>
                  <a:lnTo>
                    <a:pt x="2736" y="1670"/>
                  </a:lnTo>
                  <a:lnTo>
                    <a:pt x="2722" y="1686"/>
                  </a:lnTo>
                  <a:lnTo>
                    <a:pt x="2714" y="1700"/>
                  </a:lnTo>
                  <a:lnTo>
                    <a:pt x="2700" y="1722"/>
                  </a:lnTo>
                  <a:lnTo>
                    <a:pt x="2684" y="1736"/>
                  </a:lnTo>
                  <a:lnTo>
                    <a:pt x="2678" y="1750"/>
                  </a:lnTo>
                  <a:lnTo>
                    <a:pt x="2670" y="1772"/>
                  </a:lnTo>
                  <a:lnTo>
                    <a:pt x="2656" y="1794"/>
                  </a:lnTo>
                  <a:lnTo>
                    <a:pt x="2648" y="1810"/>
                  </a:lnTo>
                  <a:lnTo>
                    <a:pt x="2640" y="1832"/>
                  </a:lnTo>
                  <a:lnTo>
                    <a:pt x="2640" y="1854"/>
                  </a:lnTo>
                  <a:lnTo>
                    <a:pt x="2634" y="1874"/>
                  </a:lnTo>
                  <a:lnTo>
                    <a:pt x="2634" y="1890"/>
                  </a:lnTo>
                  <a:lnTo>
                    <a:pt x="2626" y="1912"/>
                  </a:lnTo>
                  <a:lnTo>
                    <a:pt x="2626" y="1934"/>
                  </a:lnTo>
                  <a:lnTo>
                    <a:pt x="2626" y="1956"/>
                  </a:lnTo>
                  <a:lnTo>
                    <a:pt x="2626" y="1978"/>
                  </a:lnTo>
                  <a:lnTo>
                    <a:pt x="2626" y="1992"/>
                  </a:lnTo>
                  <a:lnTo>
                    <a:pt x="2634" y="2014"/>
                  </a:lnTo>
                  <a:lnTo>
                    <a:pt x="2634" y="2036"/>
                  </a:lnTo>
                  <a:lnTo>
                    <a:pt x="2640" y="2058"/>
                  </a:lnTo>
                  <a:lnTo>
                    <a:pt x="2648" y="2080"/>
                  </a:lnTo>
                  <a:lnTo>
                    <a:pt x="2656" y="2094"/>
                  </a:lnTo>
                  <a:lnTo>
                    <a:pt x="2662" y="2116"/>
                  </a:lnTo>
                  <a:lnTo>
                    <a:pt x="2670" y="2138"/>
                  </a:lnTo>
                  <a:lnTo>
                    <a:pt x="2684" y="2160"/>
                  </a:lnTo>
                  <a:lnTo>
                    <a:pt x="2700" y="2174"/>
                  </a:lnTo>
                  <a:lnTo>
                    <a:pt x="2706" y="2196"/>
                  </a:lnTo>
                  <a:lnTo>
                    <a:pt x="2722" y="2210"/>
                  </a:lnTo>
                  <a:lnTo>
                    <a:pt x="2736" y="2226"/>
                  </a:lnTo>
                  <a:lnTo>
                    <a:pt x="2750" y="2240"/>
                  </a:lnTo>
                  <a:lnTo>
                    <a:pt x="2758" y="2254"/>
                  </a:lnTo>
                  <a:lnTo>
                    <a:pt x="2772" y="2268"/>
                  </a:lnTo>
                  <a:lnTo>
                    <a:pt x="2786" y="2284"/>
                  </a:lnTo>
                  <a:lnTo>
                    <a:pt x="2802" y="2298"/>
                  </a:lnTo>
                  <a:lnTo>
                    <a:pt x="2824" y="2306"/>
                  </a:lnTo>
                  <a:lnTo>
                    <a:pt x="2838" y="2320"/>
                  </a:lnTo>
                  <a:lnTo>
                    <a:pt x="2852" y="2328"/>
                  </a:lnTo>
                  <a:lnTo>
                    <a:pt x="2866" y="2334"/>
                  </a:lnTo>
                  <a:lnTo>
                    <a:pt x="2882" y="2342"/>
                  </a:lnTo>
                  <a:lnTo>
                    <a:pt x="2896" y="2350"/>
                  </a:lnTo>
                  <a:lnTo>
                    <a:pt x="2918" y="2356"/>
                  </a:lnTo>
                  <a:lnTo>
                    <a:pt x="2932" y="2356"/>
                  </a:lnTo>
                  <a:lnTo>
                    <a:pt x="2948" y="2364"/>
                  </a:lnTo>
                  <a:lnTo>
                    <a:pt x="2962" y="2364"/>
                  </a:lnTo>
                  <a:lnTo>
                    <a:pt x="2976" y="2364"/>
                  </a:lnTo>
                  <a:lnTo>
                    <a:pt x="2998" y="2364"/>
                  </a:lnTo>
                  <a:lnTo>
                    <a:pt x="3012" y="2364"/>
                  </a:lnTo>
                  <a:lnTo>
                    <a:pt x="3028" y="2356"/>
                  </a:lnTo>
                  <a:lnTo>
                    <a:pt x="3042" y="2356"/>
                  </a:lnTo>
                  <a:lnTo>
                    <a:pt x="3064" y="2356"/>
                  </a:lnTo>
                  <a:lnTo>
                    <a:pt x="3078" y="2350"/>
                  </a:lnTo>
                  <a:lnTo>
                    <a:pt x="3094" y="2342"/>
                  </a:lnTo>
                  <a:lnTo>
                    <a:pt x="3108" y="2334"/>
                  </a:lnTo>
                  <a:lnTo>
                    <a:pt x="3122" y="2328"/>
                  </a:lnTo>
                  <a:lnTo>
                    <a:pt x="3136" y="2320"/>
                  </a:lnTo>
                  <a:lnTo>
                    <a:pt x="3152" y="2312"/>
                  </a:lnTo>
                  <a:lnTo>
                    <a:pt x="3166" y="2306"/>
                  </a:lnTo>
                  <a:lnTo>
                    <a:pt x="3180" y="2298"/>
                  </a:lnTo>
                  <a:lnTo>
                    <a:pt x="3196" y="2284"/>
                  </a:lnTo>
                  <a:lnTo>
                    <a:pt x="3210" y="2276"/>
                  </a:lnTo>
                  <a:lnTo>
                    <a:pt x="3218" y="2262"/>
                  </a:lnTo>
                  <a:lnTo>
                    <a:pt x="3232" y="2254"/>
                  </a:lnTo>
                  <a:lnTo>
                    <a:pt x="3240" y="2240"/>
                  </a:lnTo>
                  <a:lnTo>
                    <a:pt x="3246" y="2226"/>
                  </a:lnTo>
                  <a:lnTo>
                    <a:pt x="3254" y="2218"/>
                  </a:lnTo>
                  <a:lnTo>
                    <a:pt x="3268" y="2204"/>
                  </a:lnTo>
                  <a:lnTo>
                    <a:pt x="3276" y="2188"/>
                  </a:lnTo>
                  <a:lnTo>
                    <a:pt x="3276" y="2174"/>
                  </a:lnTo>
                  <a:lnTo>
                    <a:pt x="3282" y="2160"/>
                  </a:lnTo>
                  <a:lnTo>
                    <a:pt x="3290" y="2144"/>
                  </a:lnTo>
                  <a:lnTo>
                    <a:pt x="3298" y="2130"/>
                  </a:lnTo>
                  <a:lnTo>
                    <a:pt x="3298" y="2116"/>
                  </a:lnTo>
                  <a:lnTo>
                    <a:pt x="3298" y="2102"/>
                  </a:lnTo>
                  <a:lnTo>
                    <a:pt x="3304" y="2086"/>
                  </a:lnTo>
                  <a:lnTo>
                    <a:pt x="3304" y="2072"/>
                  </a:lnTo>
                  <a:lnTo>
                    <a:pt x="3304" y="2042"/>
                  </a:lnTo>
                  <a:lnTo>
                    <a:pt x="3298" y="2014"/>
                  </a:lnTo>
                  <a:lnTo>
                    <a:pt x="3290" y="1984"/>
                  </a:lnTo>
                  <a:lnTo>
                    <a:pt x="3282" y="1962"/>
                  </a:lnTo>
                  <a:lnTo>
                    <a:pt x="3268" y="1940"/>
                  </a:lnTo>
                  <a:lnTo>
                    <a:pt x="3254" y="1918"/>
                  </a:lnTo>
                  <a:lnTo>
                    <a:pt x="3240" y="1896"/>
                  </a:lnTo>
                  <a:lnTo>
                    <a:pt x="3224" y="1874"/>
                  </a:lnTo>
                  <a:lnTo>
                    <a:pt x="3202" y="1860"/>
                  </a:lnTo>
                  <a:lnTo>
                    <a:pt x="3188" y="1846"/>
                  </a:lnTo>
                  <a:lnTo>
                    <a:pt x="3166" y="1832"/>
                  </a:lnTo>
                  <a:lnTo>
                    <a:pt x="3144" y="1824"/>
                  </a:lnTo>
                  <a:lnTo>
                    <a:pt x="3130" y="1816"/>
                  </a:lnTo>
                  <a:lnTo>
                    <a:pt x="3108" y="1810"/>
                  </a:lnTo>
                  <a:lnTo>
                    <a:pt x="3094" y="1802"/>
                  </a:lnTo>
                  <a:lnTo>
                    <a:pt x="3072" y="1802"/>
                  </a:lnTo>
                  <a:lnTo>
                    <a:pt x="3056" y="1802"/>
                  </a:lnTo>
                  <a:lnTo>
                    <a:pt x="3042" y="1802"/>
                  </a:lnTo>
                  <a:lnTo>
                    <a:pt x="3020" y="1810"/>
                  </a:lnTo>
                  <a:lnTo>
                    <a:pt x="3006" y="1810"/>
                  </a:lnTo>
                  <a:lnTo>
                    <a:pt x="2992" y="1816"/>
                  </a:lnTo>
                  <a:lnTo>
                    <a:pt x="2970" y="1824"/>
                  </a:lnTo>
                  <a:lnTo>
                    <a:pt x="2954" y="1832"/>
                  </a:lnTo>
                  <a:lnTo>
                    <a:pt x="2940" y="1846"/>
                  </a:lnTo>
                  <a:lnTo>
                    <a:pt x="2926" y="1854"/>
                  </a:lnTo>
                  <a:lnTo>
                    <a:pt x="2910" y="1868"/>
                  </a:lnTo>
                  <a:lnTo>
                    <a:pt x="2896" y="1882"/>
                  </a:lnTo>
                  <a:lnTo>
                    <a:pt x="2888" y="1904"/>
                  </a:lnTo>
                  <a:lnTo>
                    <a:pt x="2874" y="1918"/>
                  </a:lnTo>
                  <a:lnTo>
                    <a:pt x="2866" y="1934"/>
                  </a:lnTo>
                  <a:lnTo>
                    <a:pt x="2860" y="1956"/>
                  </a:lnTo>
                  <a:lnTo>
                    <a:pt x="2852" y="1978"/>
                  </a:lnTo>
                  <a:lnTo>
                    <a:pt x="2852" y="1984"/>
                  </a:lnTo>
                  <a:lnTo>
                    <a:pt x="2852" y="1998"/>
                  </a:lnTo>
                  <a:lnTo>
                    <a:pt x="2852" y="2014"/>
                  </a:lnTo>
                  <a:lnTo>
                    <a:pt x="2852" y="2020"/>
                  </a:lnTo>
                  <a:lnTo>
                    <a:pt x="2852" y="2036"/>
                  </a:lnTo>
                  <a:lnTo>
                    <a:pt x="2852" y="2042"/>
                  </a:lnTo>
                  <a:lnTo>
                    <a:pt x="2860" y="2058"/>
                  </a:lnTo>
                  <a:lnTo>
                    <a:pt x="2860" y="2064"/>
                  </a:lnTo>
                  <a:lnTo>
                    <a:pt x="2866" y="2080"/>
                  </a:lnTo>
                  <a:lnTo>
                    <a:pt x="2866" y="2086"/>
                  </a:lnTo>
                  <a:lnTo>
                    <a:pt x="2874" y="2102"/>
                  </a:lnTo>
                  <a:lnTo>
                    <a:pt x="2882" y="2108"/>
                  </a:lnTo>
                  <a:lnTo>
                    <a:pt x="2888" y="2116"/>
                  </a:lnTo>
                  <a:lnTo>
                    <a:pt x="2896" y="2130"/>
                  </a:lnTo>
                  <a:lnTo>
                    <a:pt x="2904" y="2138"/>
                  </a:lnTo>
                  <a:lnTo>
                    <a:pt x="2910" y="2144"/>
                  </a:lnTo>
                  <a:lnTo>
                    <a:pt x="2918" y="2152"/>
                  </a:lnTo>
                  <a:lnTo>
                    <a:pt x="2926" y="2160"/>
                  </a:lnTo>
                  <a:lnTo>
                    <a:pt x="2932" y="2160"/>
                  </a:lnTo>
                  <a:lnTo>
                    <a:pt x="2940" y="2166"/>
                  </a:lnTo>
                  <a:lnTo>
                    <a:pt x="2948" y="2174"/>
                  </a:lnTo>
                  <a:lnTo>
                    <a:pt x="2954" y="2182"/>
                  </a:lnTo>
                  <a:lnTo>
                    <a:pt x="2962" y="2182"/>
                  </a:lnTo>
                  <a:lnTo>
                    <a:pt x="2970" y="2182"/>
                  </a:lnTo>
                  <a:lnTo>
                    <a:pt x="2976" y="2188"/>
                  </a:lnTo>
                  <a:lnTo>
                    <a:pt x="2984" y="2188"/>
                  </a:lnTo>
                  <a:lnTo>
                    <a:pt x="2992" y="2188"/>
                  </a:lnTo>
                  <a:lnTo>
                    <a:pt x="2998" y="2188"/>
                  </a:lnTo>
                  <a:lnTo>
                    <a:pt x="3006" y="2188"/>
                  </a:lnTo>
                  <a:lnTo>
                    <a:pt x="3012" y="2188"/>
                  </a:lnTo>
                  <a:lnTo>
                    <a:pt x="3020" y="2188"/>
                  </a:lnTo>
                  <a:lnTo>
                    <a:pt x="3028" y="2188"/>
                  </a:lnTo>
                  <a:lnTo>
                    <a:pt x="3034" y="2182"/>
                  </a:lnTo>
                  <a:lnTo>
                    <a:pt x="3042" y="2182"/>
                  </a:lnTo>
                  <a:lnTo>
                    <a:pt x="3050" y="2174"/>
                  </a:lnTo>
                  <a:lnTo>
                    <a:pt x="3064" y="2174"/>
                  </a:lnTo>
                  <a:lnTo>
                    <a:pt x="3072" y="2174"/>
                  </a:lnTo>
                  <a:lnTo>
                    <a:pt x="3078" y="2166"/>
                  </a:lnTo>
                  <a:lnTo>
                    <a:pt x="3086" y="2160"/>
                  </a:lnTo>
                  <a:lnTo>
                    <a:pt x="3094" y="2160"/>
                  </a:lnTo>
                  <a:lnTo>
                    <a:pt x="3094" y="2152"/>
                  </a:lnTo>
                  <a:lnTo>
                    <a:pt x="3100" y="2144"/>
                  </a:lnTo>
                  <a:lnTo>
                    <a:pt x="3108" y="2144"/>
                  </a:lnTo>
                  <a:lnTo>
                    <a:pt x="3116" y="2138"/>
                  </a:lnTo>
                  <a:lnTo>
                    <a:pt x="3122" y="2130"/>
                  </a:lnTo>
                  <a:lnTo>
                    <a:pt x="3122" y="2122"/>
                  </a:lnTo>
                  <a:lnTo>
                    <a:pt x="3130" y="2116"/>
                  </a:lnTo>
                  <a:lnTo>
                    <a:pt x="3136" y="2108"/>
                  </a:lnTo>
                  <a:lnTo>
                    <a:pt x="3136" y="2102"/>
                  </a:lnTo>
                  <a:lnTo>
                    <a:pt x="3144" y="2094"/>
                  </a:lnTo>
                  <a:lnTo>
                    <a:pt x="3144" y="2086"/>
                  </a:lnTo>
                  <a:lnTo>
                    <a:pt x="3144" y="2080"/>
                  </a:lnTo>
                  <a:lnTo>
                    <a:pt x="3144" y="2072"/>
                  </a:lnTo>
                  <a:lnTo>
                    <a:pt x="3144" y="2064"/>
                  </a:lnTo>
                  <a:lnTo>
                    <a:pt x="3144" y="2058"/>
                  </a:lnTo>
                  <a:lnTo>
                    <a:pt x="3144" y="2050"/>
                  </a:lnTo>
                  <a:lnTo>
                    <a:pt x="3144" y="2042"/>
                  </a:lnTo>
                  <a:lnTo>
                    <a:pt x="3144" y="2036"/>
                  </a:lnTo>
                  <a:lnTo>
                    <a:pt x="3144" y="2020"/>
                  </a:lnTo>
                  <a:lnTo>
                    <a:pt x="3136" y="2014"/>
                  </a:lnTo>
                  <a:lnTo>
                    <a:pt x="3130" y="2006"/>
                  </a:lnTo>
                  <a:lnTo>
                    <a:pt x="3122" y="1998"/>
                  </a:lnTo>
                  <a:lnTo>
                    <a:pt x="3122" y="1992"/>
                  </a:lnTo>
                  <a:lnTo>
                    <a:pt x="3116" y="1992"/>
                  </a:lnTo>
                  <a:lnTo>
                    <a:pt x="3108" y="1984"/>
                  </a:lnTo>
                  <a:lnTo>
                    <a:pt x="3100" y="1984"/>
                  </a:lnTo>
                  <a:lnTo>
                    <a:pt x="3094" y="1978"/>
                  </a:lnTo>
                  <a:lnTo>
                    <a:pt x="3086" y="1978"/>
                  </a:lnTo>
                  <a:lnTo>
                    <a:pt x="3078" y="1978"/>
                  </a:lnTo>
                  <a:lnTo>
                    <a:pt x="3072" y="1978"/>
                  </a:lnTo>
                  <a:lnTo>
                    <a:pt x="3064" y="1978"/>
                  </a:lnTo>
                  <a:lnTo>
                    <a:pt x="3056" y="1978"/>
                  </a:lnTo>
                  <a:lnTo>
                    <a:pt x="3064" y="2014"/>
                  </a:lnTo>
                  <a:lnTo>
                    <a:pt x="3064" y="2006"/>
                  </a:lnTo>
                  <a:lnTo>
                    <a:pt x="3072" y="2006"/>
                  </a:lnTo>
                  <a:lnTo>
                    <a:pt x="3078" y="2006"/>
                  </a:lnTo>
                  <a:lnTo>
                    <a:pt x="3078" y="2014"/>
                  </a:lnTo>
                  <a:lnTo>
                    <a:pt x="3086" y="2014"/>
                  </a:lnTo>
                  <a:lnTo>
                    <a:pt x="3094" y="2014"/>
                  </a:lnTo>
                  <a:lnTo>
                    <a:pt x="3100" y="2020"/>
                  </a:lnTo>
                  <a:lnTo>
                    <a:pt x="3100" y="2028"/>
                  </a:lnTo>
                  <a:lnTo>
                    <a:pt x="3108" y="2028"/>
                  </a:lnTo>
                  <a:lnTo>
                    <a:pt x="3108" y="2036"/>
                  </a:lnTo>
                  <a:lnTo>
                    <a:pt x="3108" y="2042"/>
                  </a:lnTo>
                  <a:lnTo>
                    <a:pt x="3108" y="2050"/>
                  </a:lnTo>
                  <a:lnTo>
                    <a:pt x="3116" y="2050"/>
                  </a:lnTo>
                  <a:lnTo>
                    <a:pt x="3116" y="2058"/>
                  </a:lnTo>
                  <a:lnTo>
                    <a:pt x="3116" y="2064"/>
                  </a:lnTo>
                  <a:lnTo>
                    <a:pt x="3116" y="2072"/>
                  </a:lnTo>
                  <a:lnTo>
                    <a:pt x="3108" y="2080"/>
                  </a:lnTo>
                  <a:lnTo>
                    <a:pt x="3108" y="2086"/>
                  </a:lnTo>
                  <a:lnTo>
                    <a:pt x="3100" y="2094"/>
                  </a:lnTo>
                  <a:lnTo>
                    <a:pt x="3100" y="2102"/>
                  </a:lnTo>
                  <a:lnTo>
                    <a:pt x="3094" y="2102"/>
                  </a:lnTo>
                  <a:lnTo>
                    <a:pt x="3094" y="2108"/>
                  </a:lnTo>
                  <a:lnTo>
                    <a:pt x="3086" y="2116"/>
                  </a:lnTo>
                  <a:lnTo>
                    <a:pt x="3078" y="2122"/>
                  </a:lnTo>
                  <a:lnTo>
                    <a:pt x="3072" y="2130"/>
                  </a:lnTo>
                  <a:lnTo>
                    <a:pt x="3064" y="2138"/>
                  </a:lnTo>
                  <a:lnTo>
                    <a:pt x="3056" y="2138"/>
                  </a:lnTo>
                  <a:lnTo>
                    <a:pt x="3050" y="2144"/>
                  </a:lnTo>
                  <a:lnTo>
                    <a:pt x="3042" y="2144"/>
                  </a:lnTo>
                  <a:lnTo>
                    <a:pt x="3034" y="2152"/>
                  </a:lnTo>
                  <a:lnTo>
                    <a:pt x="3028" y="2152"/>
                  </a:lnTo>
                  <a:lnTo>
                    <a:pt x="3020" y="2152"/>
                  </a:lnTo>
                  <a:lnTo>
                    <a:pt x="3012" y="2152"/>
                  </a:lnTo>
                  <a:lnTo>
                    <a:pt x="3006" y="2152"/>
                  </a:lnTo>
                  <a:lnTo>
                    <a:pt x="2998" y="2152"/>
                  </a:lnTo>
                  <a:lnTo>
                    <a:pt x="2992" y="2152"/>
                  </a:lnTo>
                  <a:lnTo>
                    <a:pt x="2984" y="2152"/>
                  </a:lnTo>
                  <a:lnTo>
                    <a:pt x="2976" y="2152"/>
                  </a:lnTo>
                  <a:lnTo>
                    <a:pt x="2970" y="2144"/>
                  </a:lnTo>
                  <a:lnTo>
                    <a:pt x="2962" y="2144"/>
                  </a:lnTo>
                  <a:lnTo>
                    <a:pt x="2962" y="2138"/>
                  </a:lnTo>
                  <a:lnTo>
                    <a:pt x="2954" y="2138"/>
                  </a:lnTo>
                  <a:lnTo>
                    <a:pt x="2948" y="2138"/>
                  </a:lnTo>
                  <a:lnTo>
                    <a:pt x="2948" y="2130"/>
                  </a:lnTo>
                  <a:lnTo>
                    <a:pt x="2940" y="2122"/>
                  </a:lnTo>
                  <a:lnTo>
                    <a:pt x="2932" y="2122"/>
                  </a:lnTo>
                  <a:lnTo>
                    <a:pt x="2926" y="2116"/>
                  </a:lnTo>
                  <a:lnTo>
                    <a:pt x="2918" y="2108"/>
                  </a:lnTo>
                  <a:lnTo>
                    <a:pt x="2918" y="2102"/>
                  </a:lnTo>
                  <a:lnTo>
                    <a:pt x="2910" y="2094"/>
                  </a:lnTo>
                  <a:lnTo>
                    <a:pt x="2904" y="2080"/>
                  </a:lnTo>
                  <a:lnTo>
                    <a:pt x="2904" y="2072"/>
                  </a:lnTo>
                  <a:lnTo>
                    <a:pt x="2896" y="2064"/>
                  </a:lnTo>
                  <a:lnTo>
                    <a:pt x="2896" y="2058"/>
                  </a:lnTo>
                  <a:lnTo>
                    <a:pt x="2888" y="2050"/>
                  </a:lnTo>
                  <a:lnTo>
                    <a:pt x="2888" y="2036"/>
                  </a:lnTo>
                  <a:lnTo>
                    <a:pt x="2888" y="2028"/>
                  </a:lnTo>
                  <a:lnTo>
                    <a:pt x="2888" y="2020"/>
                  </a:lnTo>
                  <a:lnTo>
                    <a:pt x="2888" y="2014"/>
                  </a:lnTo>
                  <a:lnTo>
                    <a:pt x="2888" y="1998"/>
                  </a:lnTo>
                  <a:lnTo>
                    <a:pt x="2888" y="1992"/>
                  </a:lnTo>
                  <a:lnTo>
                    <a:pt x="2888" y="1984"/>
                  </a:lnTo>
                  <a:lnTo>
                    <a:pt x="2896" y="1962"/>
                  </a:lnTo>
                  <a:lnTo>
                    <a:pt x="2904" y="1948"/>
                  </a:lnTo>
                  <a:lnTo>
                    <a:pt x="2910" y="1934"/>
                  </a:lnTo>
                  <a:lnTo>
                    <a:pt x="2918" y="1918"/>
                  </a:lnTo>
                  <a:lnTo>
                    <a:pt x="2926" y="1904"/>
                  </a:lnTo>
                  <a:lnTo>
                    <a:pt x="2940" y="1890"/>
                  </a:lnTo>
                  <a:lnTo>
                    <a:pt x="2954" y="1882"/>
                  </a:lnTo>
                  <a:lnTo>
                    <a:pt x="2962" y="1868"/>
                  </a:lnTo>
                  <a:lnTo>
                    <a:pt x="2976" y="1860"/>
                  </a:lnTo>
                  <a:lnTo>
                    <a:pt x="2992" y="1854"/>
                  </a:lnTo>
                  <a:lnTo>
                    <a:pt x="3006" y="1846"/>
                  </a:lnTo>
                  <a:lnTo>
                    <a:pt x="3020" y="1838"/>
                  </a:lnTo>
                  <a:lnTo>
                    <a:pt x="3034" y="1838"/>
                  </a:lnTo>
                  <a:lnTo>
                    <a:pt x="3042" y="1838"/>
                  </a:lnTo>
                  <a:lnTo>
                    <a:pt x="3056" y="1832"/>
                  </a:lnTo>
                  <a:lnTo>
                    <a:pt x="3072" y="1838"/>
                  </a:lnTo>
                  <a:lnTo>
                    <a:pt x="3086" y="1838"/>
                  </a:lnTo>
                  <a:lnTo>
                    <a:pt x="3100" y="1838"/>
                  </a:lnTo>
                  <a:lnTo>
                    <a:pt x="3116" y="1846"/>
                  </a:lnTo>
                  <a:lnTo>
                    <a:pt x="3130" y="1854"/>
                  </a:lnTo>
                  <a:lnTo>
                    <a:pt x="3152" y="1868"/>
                  </a:lnTo>
                  <a:lnTo>
                    <a:pt x="3166" y="1874"/>
                  </a:lnTo>
                  <a:lnTo>
                    <a:pt x="3180" y="1890"/>
                  </a:lnTo>
                  <a:lnTo>
                    <a:pt x="3202" y="1904"/>
                  </a:lnTo>
                  <a:lnTo>
                    <a:pt x="3218" y="1918"/>
                  </a:lnTo>
                  <a:lnTo>
                    <a:pt x="3232" y="1934"/>
                  </a:lnTo>
                  <a:lnTo>
                    <a:pt x="3240" y="1956"/>
                  </a:lnTo>
                  <a:lnTo>
                    <a:pt x="3254" y="1978"/>
                  </a:lnTo>
                  <a:lnTo>
                    <a:pt x="3262" y="1998"/>
                  </a:lnTo>
                  <a:lnTo>
                    <a:pt x="3268" y="2020"/>
                  </a:lnTo>
                  <a:lnTo>
                    <a:pt x="3268" y="2050"/>
                  </a:lnTo>
                  <a:lnTo>
                    <a:pt x="3268" y="2072"/>
                  </a:lnTo>
                  <a:lnTo>
                    <a:pt x="3268" y="2086"/>
                  </a:lnTo>
                  <a:lnTo>
                    <a:pt x="3268" y="2102"/>
                  </a:lnTo>
                  <a:lnTo>
                    <a:pt x="3268" y="2108"/>
                  </a:lnTo>
                  <a:lnTo>
                    <a:pt x="3262" y="2122"/>
                  </a:lnTo>
                  <a:lnTo>
                    <a:pt x="3262" y="2138"/>
                  </a:lnTo>
                  <a:lnTo>
                    <a:pt x="3254" y="2152"/>
                  </a:lnTo>
                  <a:lnTo>
                    <a:pt x="3246" y="2160"/>
                  </a:lnTo>
                  <a:lnTo>
                    <a:pt x="3240" y="2174"/>
                  </a:lnTo>
                  <a:lnTo>
                    <a:pt x="3240" y="2182"/>
                  </a:lnTo>
                  <a:lnTo>
                    <a:pt x="3232" y="2196"/>
                  </a:lnTo>
                  <a:lnTo>
                    <a:pt x="3218" y="2210"/>
                  </a:lnTo>
                  <a:lnTo>
                    <a:pt x="3210" y="2218"/>
                  </a:lnTo>
                  <a:lnTo>
                    <a:pt x="3202" y="2232"/>
                  </a:lnTo>
                  <a:lnTo>
                    <a:pt x="3196" y="2240"/>
                  </a:lnTo>
                  <a:lnTo>
                    <a:pt x="3180" y="2248"/>
                  </a:lnTo>
                  <a:lnTo>
                    <a:pt x="3174" y="2262"/>
                  </a:lnTo>
                  <a:lnTo>
                    <a:pt x="3158" y="2268"/>
                  </a:lnTo>
                  <a:lnTo>
                    <a:pt x="3144" y="2276"/>
                  </a:lnTo>
                  <a:lnTo>
                    <a:pt x="3136" y="2284"/>
                  </a:lnTo>
                  <a:lnTo>
                    <a:pt x="3122" y="2290"/>
                  </a:lnTo>
                  <a:lnTo>
                    <a:pt x="3108" y="2298"/>
                  </a:lnTo>
                  <a:lnTo>
                    <a:pt x="3094" y="2306"/>
                  </a:lnTo>
                  <a:lnTo>
                    <a:pt x="3078" y="2312"/>
                  </a:lnTo>
                  <a:lnTo>
                    <a:pt x="3064" y="2312"/>
                  </a:lnTo>
                  <a:lnTo>
                    <a:pt x="3050" y="2320"/>
                  </a:lnTo>
                  <a:lnTo>
                    <a:pt x="3034" y="2320"/>
                  </a:lnTo>
                  <a:lnTo>
                    <a:pt x="3020" y="2328"/>
                  </a:lnTo>
                  <a:lnTo>
                    <a:pt x="3006" y="2328"/>
                  </a:lnTo>
                  <a:lnTo>
                    <a:pt x="2992" y="2328"/>
                  </a:lnTo>
                  <a:lnTo>
                    <a:pt x="2976" y="2328"/>
                  </a:lnTo>
                  <a:lnTo>
                    <a:pt x="2962" y="2328"/>
                  </a:lnTo>
                  <a:lnTo>
                    <a:pt x="2954" y="2328"/>
                  </a:lnTo>
                  <a:lnTo>
                    <a:pt x="2940" y="2320"/>
                  </a:lnTo>
                  <a:lnTo>
                    <a:pt x="2926" y="2320"/>
                  </a:lnTo>
                  <a:lnTo>
                    <a:pt x="2910" y="2312"/>
                  </a:lnTo>
                  <a:lnTo>
                    <a:pt x="2896" y="2312"/>
                  </a:lnTo>
                  <a:lnTo>
                    <a:pt x="2882" y="2306"/>
                  </a:lnTo>
                  <a:lnTo>
                    <a:pt x="2866" y="2298"/>
                  </a:lnTo>
                  <a:lnTo>
                    <a:pt x="2852" y="2284"/>
                  </a:lnTo>
                  <a:lnTo>
                    <a:pt x="2838" y="2276"/>
                  </a:lnTo>
                  <a:lnTo>
                    <a:pt x="2824" y="2268"/>
                  </a:lnTo>
                  <a:lnTo>
                    <a:pt x="2808" y="2254"/>
                  </a:lnTo>
                  <a:lnTo>
                    <a:pt x="2794" y="2248"/>
                  </a:lnTo>
                  <a:lnTo>
                    <a:pt x="2780" y="2232"/>
                  </a:lnTo>
                  <a:lnTo>
                    <a:pt x="2772" y="2218"/>
                  </a:lnTo>
                  <a:lnTo>
                    <a:pt x="2758" y="2204"/>
                  </a:lnTo>
                  <a:lnTo>
                    <a:pt x="2742" y="2188"/>
                  </a:lnTo>
                  <a:lnTo>
                    <a:pt x="2736" y="2174"/>
                  </a:lnTo>
                  <a:lnTo>
                    <a:pt x="2722" y="2160"/>
                  </a:lnTo>
                  <a:lnTo>
                    <a:pt x="2714" y="2138"/>
                  </a:lnTo>
                  <a:lnTo>
                    <a:pt x="2706" y="2122"/>
                  </a:lnTo>
                  <a:lnTo>
                    <a:pt x="2692" y="2102"/>
                  </a:lnTo>
                  <a:lnTo>
                    <a:pt x="2684" y="2086"/>
                  </a:lnTo>
                  <a:lnTo>
                    <a:pt x="2678" y="2064"/>
                  </a:lnTo>
                  <a:lnTo>
                    <a:pt x="2678" y="2050"/>
                  </a:lnTo>
                  <a:lnTo>
                    <a:pt x="2670" y="2028"/>
                  </a:lnTo>
                  <a:lnTo>
                    <a:pt x="2662" y="2014"/>
                  </a:lnTo>
                  <a:lnTo>
                    <a:pt x="2662" y="1992"/>
                  </a:lnTo>
                  <a:lnTo>
                    <a:pt x="2662" y="1978"/>
                  </a:lnTo>
                  <a:lnTo>
                    <a:pt x="2662" y="1956"/>
                  </a:lnTo>
                  <a:lnTo>
                    <a:pt x="2662" y="1934"/>
                  </a:lnTo>
                  <a:lnTo>
                    <a:pt x="2662" y="1918"/>
                  </a:lnTo>
                  <a:lnTo>
                    <a:pt x="2662" y="1896"/>
                  </a:lnTo>
                  <a:lnTo>
                    <a:pt x="2670" y="1882"/>
                  </a:lnTo>
                  <a:lnTo>
                    <a:pt x="2670" y="1860"/>
                  </a:lnTo>
                  <a:lnTo>
                    <a:pt x="2678" y="1846"/>
                  </a:lnTo>
                  <a:lnTo>
                    <a:pt x="2684" y="1824"/>
                  </a:lnTo>
                  <a:lnTo>
                    <a:pt x="2692" y="1810"/>
                  </a:lnTo>
                  <a:lnTo>
                    <a:pt x="2700" y="1788"/>
                  </a:lnTo>
                  <a:lnTo>
                    <a:pt x="2706" y="1772"/>
                  </a:lnTo>
                  <a:lnTo>
                    <a:pt x="2714" y="1758"/>
                  </a:lnTo>
                  <a:lnTo>
                    <a:pt x="2728" y="1736"/>
                  </a:lnTo>
                  <a:lnTo>
                    <a:pt x="2736" y="1722"/>
                  </a:lnTo>
                  <a:lnTo>
                    <a:pt x="2750" y="1708"/>
                  </a:lnTo>
                  <a:lnTo>
                    <a:pt x="2764" y="1692"/>
                  </a:lnTo>
                  <a:lnTo>
                    <a:pt x="2780" y="1678"/>
                  </a:lnTo>
                  <a:lnTo>
                    <a:pt x="2786" y="1664"/>
                  </a:lnTo>
                  <a:lnTo>
                    <a:pt x="2808" y="1656"/>
                  </a:lnTo>
                  <a:lnTo>
                    <a:pt x="2824" y="1642"/>
                  </a:lnTo>
                  <a:lnTo>
                    <a:pt x="2838" y="1634"/>
                  </a:lnTo>
                  <a:lnTo>
                    <a:pt x="2846" y="1626"/>
                  </a:lnTo>
                  <a:lnTo>
                    <a:pt x="2860" y="1620"/>
                  </a:lnTo>
                  <a:lnTo>
                    <a:pt x="2874" y="1612"/>
                  </a:lnTo>
                  <a:lnTo>
                    <a:pt x="2882" y="1604"/>
                  </a:lnTo>
                  <a:lnTo>
                    <a:pt x="2896" y="1598"/>
                  </a:lnTo>
                  <a:lnTo>
                    <a:pt x="2910" y="1598"/>
                  </a:lnTo>
                  <a:lnTo>
                    <a:pt x="2918" y="1590"/>
                  </a:lnTo>
                  <a:lnTo>
                    <a:pt x="2932" y="1584"/>
                  </a:lnTo>
                  <a:lnTo>
                    <a:pt x="2948" y="1584"/>
                  </a:lnTo>
                  <a:lnTo>
                    <a:pt x="2954" y="1576"/>
                  </a:lnTo>
                  <a:lnTo>
                    <a:pt x="2970" y="1576"/>
                  </a:lnTo>
                  <a:lnTo>
                    <a:pt x="2984" y="1568"/>
                  </a:lnTo>
                  <a:lnTo>
                    <a:pt x="2998" y="1568"/>
                  </a:lnTo>
                  <a:lnTo>
                    <a:pt x="3006" y="1568"/>
                  </a:lnTo>
                  <a:lnTo>
                    <a:pt x="3020" y="1562"/>
                  </a:lnTo>
                  <a:lnTo>
                    <a:pt x="3034" y="1562"/>
                  </a:lnTo>
                  <a:lnTo>
                    <a:pt x="3006" y="1626"/>
                  </a:lnTo>
                  <a:lnTo>
                    <a:pt x="3034" y="1708"/>
                  </a:lnTo>
                  <a:lnTo>
                    <a:pt x="3064" y="1626"/>
                  </a:lnTo>
                  <a:lnTo>
                    <a:pt x="3042" y="1562"/>
                  </a:lnTo>
                  <a:lnTo>
                    <a:pt x="3050" y="1562"/>
                  </a:lnTo>
                  <a:lnTo>
                    <a:pt x="3056" y="1562"/>
                  </a:lnTo>
                  <a:lnTo>
                    <a:pt x="3064" y="1562"/>
                  </a:lnTo>
                  <a:lnTo>
                    <a:pt x="3072" y="1562"/>
                  </a:lnTo>
                  <a:lnTo>
                    <a:pt x="3078" y="1562"/>
                  </a:lnTo>
                  <a:lnTo>
                    <a:pt x="3086" y="1562"/>
                  </a:lnTo>
                  <a:lnTo>
                    <a:pt x="3094" y="1562"/>
                  </a:lnTo>
                  <a:lnTo>
                    <a:pt x="3108" y="1562"/>
                  </a:lnTo>
                  <a:lnTo>
                    <a:pt x="3116" y="1562"/>
                  </a:lnTo>
                  <a:lnTo>
                    <a:pt x="3122" y="1562"/>
                  </a:lnTo>
                  <a:lnTo>
                    <a:pt x="3130" y="1568"/>
                  </a:lnTo>
                  <a:lnTo>
                    <a:pt x="3136" y="1568"/>
                  </a:lnTo>
                  <a:lnTo>
                    <a:pt x="3144" y="1568"/>
                  </a:lnTo>
                  <a:lnTo>
                    <a:pt x="3152" y="1568"/>
                  </a:lnTo>
                  <a:lnTo>
                    <a:pt x="3158" y="1568"/>
                  </a:lnTo>
                  <a:lnTo>
                    <a:pt x="3174" y="1568"/>
                  </a:lnTo>
                  <a:lnTo>
                    <a:pt x="3202" y="1584"/>
                  </a:lnTo>
                  <a:lnTo>
                    <a:pt x="3240" y="1598"/>
                  </a:lnTo>
                  <a:lnTo>
                    <a:pt x="3276" y="1612"/>
                  </a:lnTo>
                  <a:lnTo>
                    <a:pt x="3304" y="1634"/>
                  </a:lnTo>
                  <a:lnTo>
                    <a:pt x="3334" y="1656"/>
                  </a:lnTo>
                  <a:lnTo>
                    <a:pt x="3364" y="1686"/>
                  </a:lnTo>
                  <a:lnTo>
                    <a:pt x="3386" y="1708"/>
                  </a:lnTo>
                  <a:lnTo>
                    <a:pt x="3414" y="1744"/>
                  </a:lnTo>
                  <a:lnTo>
                    <a:pt x="3436" y="1772"/>
                  </a:lnTo>
                  <a:lnTo>
                    <a:pt x="3450" y="1810"/>
                  </a:lnTo>
                  <a:lnTo>
                    <a:pt x="3472" y="1846"/>
                  </a:lnTo>
                  <a:lnTo>
                    <a:pt x="3488" y="1882"/>
                  </a:lnTo>
                  <a:lnTo>
                    <a:pt x="3494" y="1918"/>
                  </a:lnTo>
                  <a:lnTo>
                    <a:pt x="3502" y="1962"/>
                  </a:lnTo>
                  <a:lnTo>
                    <a:pt x="3510" y="1998"/>
                  </a:lnTo>
                  <a:lnTo>
                    <a:pt x="3510" y="2042"/>
                  </a:lnTo>
                  <a:lnTo>
                    <a:pt x="3510" y="2050"/>
                  </a:lnTo>
                  <a:lnTo>
                    <a:pt x="3510" y="2058"/>
                  </a:lnTo>
                  <a:lnTo>
                    <a:pt x="3510" y="2064"/>
                  </a:lnTo>
                  <a:lnTo>
                    <a:pt x="3510" y="2072"/>
                  </a:lnTo>
                  <a:lnTo>
                    <a:pt x="3510" y="2080"/>
                  </a:lnTo>
                  <a:lnTo>
                    <a:pt x="3510" y="2086"/>
                  </a:lnTo>
                  <a:lnTo>
                    <a:pt x="3510" y="2094"/>
                  </a:lnTo>
                  <a:lnTo>
                    <a:pt x="3510" y="2102"/>
                  </a:lnTo>
                  <a:lnTo>
                    <a:pt x="3510" y="2108"/>
                  </a:lnTo>
                  <a:lnTo>
                    <a:pt x="3510" y="2116"/>
                  </a:lnTo>
                  <a:lnTo>
                    <a:pt x="3510" y="2122"/>
                  </a:lnTo>
                  <a:lnTo>
                    <a:pt x="3502" y="2130"/>
                  </a:lnTo>
                  <a:lnTo>
                    <a:pt x="3494" y="2166"/>
                  </a:lnTo>
                  <a:lnTo>
                    <a:pt x="3488" y="2204"/>
                  </a:lnTo>
                  <a:lnTo>
                    <a:pt x="3472" y="2240"/>
                  </a:lnTo>
                  <a:lnTo>
                    <a:pt x="3458" y="2276"/>
                  </a:lnTo>
                  <a:lnTo>
                    <a:pt x="3444" y="2312"/>
                  </a:lnTo>
                  <a:lnTo>
                    <a:pt x="3422" y="2342"/>
                  </a:lnTo>
                  <a:lnTo>
                    <a:pt x="3406" y="2372"/>
                  </a:lnTo>
                  <a:lnTo>
                    <a:pt x="3386" y="2400"/>
                  </a:lnTo>
                  <a:lnTo>
                    <a:pt x="3364" y="2430"/>
                  </a:lnTo>
                  <a:lnTo>
                    <a:pt x="3334" y="2452"/>
                  </a:lnTo>
                  <a:lnTo>
                    <a:pt x="3312" y="2474"/>
                  </a:lnTo>
                  <a:lnTo>
                    <a:pt x="3290" y="2496"/>
                  </a:lnTo>
                  <a:lnTo>
                    <a:pt x="3262" y="2518"/>
                  </a:lnTo>
                  <a:lnTo>
                    <a:pt x="3232" y="2538"/>
                  </a:lnTo>
                  <a:lnTo>
                    <a:pt x="3210" y="2554"/>
                  </a:lnTo>
                  <a:lnTo>
                    <a:pt x="3180" y="2568"/>
                  </a:lnTo>
                  <a:lnTo>
                    <a:pt x="3180" y="2560"/>
                  </a:lnTo>
                  <a:lnTo>
                    <a:pt x="3180" y="2568"/>
                  </a:lnTo>
                  <a:lnTo>
                    <a:pt x="3174" y="2568"/>
                  </a:lnTo>
                  <a:lnTo>
                    <a:pt x="3166" y="2568"/>
                  </a:lnTo>
                  <a:lnTo>
                    <a:pt x="3166" y="2576"/>
                  </a:lnTo>
                  <a:lnTo>
                    <a:pt x="3158" y="2576"/>
                  </a:lnTo>
                  <a:lnTo>
                    <a:pt x="3152" y="2582"/>
                  </a:lnTo>
                  <a:lnTo>
                    <a:pt x="3144" y="2582"/>
                  </a:lnTo>
                  <a:lnTo>
                    <a:pt x="3136" y="2590"/>
                  </a:lnTo>
                  <a:lnTo>
                    <a:pt x="3130" y="2590"/>
                  </a:lnTo>
                  <a:lnTo>
                    <a:pt x="3122" y="2590"/>
                  </a:lnTo>
                  <a:lnTo>
                    <a:pt x="3116" y="2598"/>
                  </a:lnTo>
                  <a:lnTo>
                    <a:pt x="3108" y="2598"/>
                  </a:lnTo>
                  <a:lnTo>
                    <a:pt x="3100" y="2598"/>
                  </a:lnTo>
                  <a:lnTo>
                    <a:pt x="3094" y="2598"/>
                  </a:lnTo>
                  <a:lnTo>
                    <a:pt x="3086" y="2604"/>
                  </a:lnTo>
                  <a:lnTo>
                    <a:pt x="3078" y="2604"/>
                  </a:lnTo>
                  <a:lnTo>
                    <a:pt x="3072" y="2604"/>
                  </a:lnTo>
                  <a:lnTo>
                    <a:pt x="3064" y="2612"/>
                  </a:lnTo>
                  <a:lnTo>
                    <a:pt x="3056" y="2612"/>
                  </a:lnTo>
                  <a:lnTo>
                    <a:pt x="3034" y="2612"/>
                  </a:lnTo>
                  <a:lnTo>
                    <a:pt x="3012" y="2620"/>
                  </a:lnTo>
                  <a:lnTo>
                    <a:pt x="2984" y="2620"/>
                  </a:lnTo>
                  <a:lnTo>
                    <a:pt x="2954" y="2620"/>
                  </a:lnTo>
                  <a:lnTo>
                    <a:pt x="2926" y="2620"/>
                  </a:lnTo>
                  <a:lnTo>
                    <a:pt x="2896" y="2620"/>
                  </a:lnTo>
                  <a:lnTo>
                    <a:pt x="2860" y="2620"/>
                  </a:lnTo>
                  <a:lnTo>
                    <a:pt x="2824" y="2612"/>
                  </a:lnTo>
                  <a:lnTo>
                    <a:pt x="2786" y="2604"/>
                  </a:lnTo>
                  <a:lnTo>
                    <a:pt x="2750" y="2598"/>
                  </a:lnTo>
                  <a:lnTo>
                    <a:pt x="2714" y="2582"/>
                  </a:lnTo>
                  <a:lnTo>
                    <a:pt x="2670" y="2568"/>
                  </a:lnTo>
                  <a:lnTo>
                    <a:pt x="2634" y="2554"/>
                  </a:lnTo>
                  <a:lnTo>
                    <a:pt x="2596" y="2532"/>
                  </a:lnTo>
                  <a:lnTo>
                    <a:pt x="2554" y="2502"/>
                  </a:lnTo>
                  <a:lnTo>
                    <a:pt x="2516" y="2474"/>
                  </a:lnTo>
                  <a:lnTo>
                    <a:pt x="2612" y="2436"/>
                  </a:lnTo>
                  <a:lnTo>
                    <a:pt x="2670" y="2306"/>
                  </a:lnTo>
                  <a:lnTo>
                    <a:pt x="2538" y="2364"/>
                  </a:lnTo>
                  <a:lnTo>
                    <a:pt x="2502" y="2458"/>
                  </a:lnTo>
                  <a:lnTo>
                    <a:pt x="2494" y="2458"/>
                  </a:lnTo>
                  <a:lnTo>
                    <a:pt x="2436" y="2392"/>
                  </a:lnTo>
                  <a:lnTo>
                    <a:pt x="2430" y="2386"/>
                  </a:lnTo>
                  <a:lnTo>
                    <a:pt x="2422" y="2378"/>
                  </a:lnTo>
                  <a:lnTo>
                    <a:pt x="2414" y="2372"/>
                  </a:lnTo>
                  <a:lnTo>
                    <a:pt x="2408" y="2364"/>
                  </a:lnTo>
                  <a:lnTo>
                    <a:pt x="2408" y="2356"/>
                  </a:lnTo>
                  <a:lnTo>
                    <a:pt x="2400" y="2350"/>
                  </a:lnTo>
                  <a:lnTo>
                    <a:pt x="2392" y="2342"/>
                  </a:lnTo>
                  <a:lnTo>
                    <a:pt x="2392" y="2334"/>
                  </a:lnTo>
                  <a:lnTo>
                    <a:pt x="2386" y="2328"/>
                  </a:lnTo>
                  <a:lnTo>
                    <a:pt x="2378" y="2320"/>
                  </a:lnTo>
                  <a:lnTo>
                    <a:pt x="2370" y="2312"/>
                  </a:lnTo>
                  <a:lnTo>
                    <a:pt x="2370" y="2306"/>
                  </a:lnTo>
                  <a:lnTo>
                    <a:pt x="2364" y="2298"/>
                  </a:lnTo>
                  <a:lnTo>
                    <a:pt x="2356" y="2290"/>
                  </a:lnTo>
                  <a:lnTo>
                    <a:pt x="2356" y="2284"/>
                  </a:lnTo>
                  <a:lnTo>
                    <a:pt x="2356" y="2284"/>
                  </a:lnTo>
                  <a:close/>
                  <a:moveTo>
                    <a:pt x="2284" y="2328"/>
                  </a:moveTo>
                  <a:lnTo>
                    <a:pt x="2298" y="2334"/>
                  </a:lnTo>
                  <a:lnTo>
                    <a:pt x="2312" y="2342"/>
                  </a:lnTo>
                  <a:lnTo>
                    <a:pt x="2328" y="2356"/>
                  </a:lnTo>
                  <a:lnTo>
                    <a:pt x="2342" y="2364"/>
                  </a:lnTo>
                  <a:lnTo>
                    <a:pt x="2356" y="2372"/>
                  </a:lnTo>
                  <a:lnTo>
                    <a:pt x="2370" y="2386"/>
                  </a:lnTo>
                  <a:lnTo>
                    <a:pt x="2386" y="2392"/>
                  </a:lnTo>
                  <a:lnTo>
                    <a:pt x="2392" y="2408"/>
                  </a:lnTo>
                  <a:lnTo>
                    <a:pt x="2408" y="2414"/>
                  </a:lnTo>
                  <a:lnTo>
                    <a:pt x="2414" y="2430"/>
                  </a:lnTo>
                  <a:lnTo>
                    <a:pt x="2430" y="2436"/>
                  </a:lnTo>
                  <a:lnTo>
                    <a:pt x="2436" y="2444"/>
                  </a:lnTo>
                  <a:lnTo>
                    <a:pt x="2452" y="2458"/>
                  </a:lnTo>
                  <a:lnTo>
                    <a:pt x="2458" y="2466"/>
                  </a:lnTo>
                  <a:lnTo>
                    <a:pt x="2466" y="2480"/>
                  </a:lnTo>
                  <a:lnTo>
                    <a:pt x="2480" y="2488"/>
                  </a:lnTo>
                  <a:lnTo>
                    <a:pt x="2378" y="2532"/>
                  </a:lnTo>
                  <a:lnTo>
                    <a:pt x="2312" y="2662"/>
                  </a:lnTo>
                  <a:lnTo>
                    <a:pt x="2444" y="2604"/>
                  </a:lnTo>
                  <a:lnTo>
                    <a:pt x="2488" y="2502"/>
                  </a:lnTo>
                  <a:lnTo>
                    <a:pt x="2516" y="2538"/>
                  </a:lnTo>
                  <a:lnTo>
                    <a:pt x="2538" y="2576"/>
                  </a:lnTo>
                  <a:lnTo>
                    <a:pt x="2560" y="2612"/>
                  </a:lnTo>
                  <a:lnTo>
                    <a:pt x="2576" y="2656"/>
                  </a:lnTo>
                  <a:lnTo>
                    <a:pt x="2590" y="2692"/>
                  </a:lnTo>
                  <a:lnTo>
                    <a:pt x="2604" y="2728"/>
                  </a:lnTo>
                  <a:lnTo>
                    <a:pt x="2612" y="2766"/>
                  </a:lnTo>
                  <a:lnTo>
                    <a:pt x="2618" y="2802"/>
                  </a:lnTo>
                  <a:lnTo>
                    <a:pt x="2618" y="2838"/>
                  </a:lnTo>
                  <a:lnTo>
                    <a:pt x="2626" y="2868"/>
                  </a:lnTo>
                  <a:lnTo>
                    <a:pt x="2626" y="2896"/>
                  </a:lnTo>
                  <a:lnTo>
                    <a:pt x="2626" y="2926"/>
                  </a:lnTo>
                  <a:lnTo>
                    <a:pt x="2618" y="2954"/>
                  </a:lnTo>
                  <a:lnTo>
                    <a:pt x="2618" y="2984"/>
                  </a:lnTo>
                  <a:lnTo>
                    <a:pt x="2618" y="3006"/>
                  </a:lnTo>
                  <a:lnTo>
                    <a:pt x="2612" y="3028"/>
                  </a:lnTo>
                  <a:lnTo>
                    <a:pt x="2612" y="3036"/>
                  </a:lnTo>
                  <a:lnTo>
                    <a:pt x="2612" y="3042"/>
                  </a:lnTo>
                  <a:lnTo>
                    <a:pt x="2604" y="3050"/>
                  </a:lnTo>
                  <a:lnTo>
                    <a:pt x="2604" y="3056"/>
                  </a:lnTo>
                  <a:lnTo>
                    <a:pt x="2604" y="3064"/>
                  </a:lnTo>
                  <a:lnTo>
                    <a:pt x="2604" y="3072"/>
                  </a:lnTo>
                  <a:lnTo>
                    <a:pt x="2596" y="3078"/>
                  </a:lnTo>
                  <a:lnTo>
                    <a:pt x="2596" y="3086"/>
                  </a:lnTo>
                  <a:lnTo>
                    <a:pt x="2596" y="3094"/>
                  </a:lnTo>
                  <a:lnTo>
                    <a:pt x="2590" y="3100"/>
                  </a:lnTo>
                  <a:lnTo>
                    <a:pt x="2590" y="3108"/>
                  </a:lnTo>
                  <a:lnTo>
                    <a:pt x="2590" y="3116"/>
                  </a:lnTo>
                  <a:lnTo>
                    <a:pt x="2582" y="3122"/>
                  </a:lnTo>
                  <a:lnTo>
                    <a:pt x="2582" y="3130"/>
                  </a:lnTo>
                  <a:lnTo>
                    <a:pt x="2576" y="3138"/>
                  </a:lnTo>
                  <a:lnTo>
                    <a:pt x="2576" y="3144"/>
                  </a:lnTo>
                  <a:lnTo>
                    <a:pt x="2568" y="3144"/>
                  </a:lnTo>
                  <a:lnTo>
                    <a:pt x="2568" y="3152"/>
                  </a:lnTo>
                  <a:lnTo>
                    <a:pt x="2554" y="3182"/>
                  </a:lnTo>
                  <a:lnTo>
                    <a:pt x="2538" y="3202"/>
                  </a:lnTo>
                  <a:lnTo>
                    <a:pt x="2516" y="3232"/>
                  </a:lnTo>
                  <a:lnTo>
                    <a:pt x="2502" y="3262"/>
                  </a:lnTo>
                  <a:lnTo>
                    <a:pt x="2480" y="3284"/>
                  </a:lnTo>
                  <a:lnTo>
                    <a:pt x="2452" y="3306"/>
                  </a:lnTo>
                  <a:lnTo>
                    <a:pt x="2430" y="3334"/>
                  </a:lnTo>
                  <a:lnTo>
                    <a:pt x="2400" y="3356"/>
                  </a:lnTo>
                  <a:lnTo>
                    <a:pt x="2370" y="3370"/>
                  </a:lnTo>
                  <a:lnTo>
                    <a:pt x="2342" y="3392"/>
                  </a:lnTo>
                  <a:lnTo>
                    <a:pt x="2312" y="3414"/>
                  </a:lnTo>
                  <a:lnTo>
                    <a:pt x="2276" y="3430"/>
                  </a:lnTo>
                  <a:lnTo>
                    <a:pt x="2246" y="3444"/>
                  </a:lnTo>
                  <a:lnTo>
                    <a:pt x="2210" y="3458"/>
                  </a:lnTo>
                  <a:lnTo>
                    <a:pt x="2166" y="3466"/>
                  </a:lnTo>
                  <a:lnTo>
                    <a:pt x="2130" y="3472"/>
                  </a:lnTo>
                  <a:lnTo>
                    <a:pt x="2122" y="3472"/>
                  </a:lnTo>
                  <a:lnTo>
                    <a:pt x="2122" y="3480"/>
                  </a:lnTo>
                  <a:lnTo>
                    <a:pt x="2116" y="3480"/>
                  </a:lnTo>
                  <a:lnTo>
                    <a:pt x="2108" y="3480"/>
                  </a:lnTo>
                  <a:lnTo>
                    <a:pt x="2100" y="3480"/>
                  </a:lnTo>
                  <a:lnTo>
                    <a:pt x="2094" y="3480"/>
                  </a:lnTo>
                  <a:lnTo>
                    <a:pt x="2086" y="3480"/>
                  </a:lnTo>
                  <a:lnTo>
                    <a:pt x="2078" y="3480"/>
                  </a:lnTo>
                  <a:lnTo>
                    <a:pt x="2072" y="3480"/>
                  </a:lnTo>
                  <a:lnTo>
                    <a:pt x="2064" y="3480"/>
                  </a:lnTo>
                  <a:lnTo>
                    <a:pt x="2058" y="3480"/>
                  </a:lnTo>
                  <a:lnTo>
                    <a:pt x="2050" y="3480"/>
                  </a:lnTo>
                  <a:lnTo>
                    <a:pt x="2042" y="3480"/>
                  </a:lnTo>
                  <a:lnTo>
                    <a:pt x="2006" y="3480"/>
                  </a:lnTo>
                  <a:lnTo>
                    <a:pt x="1962" y="3472"/>
                  </a:lnTo>
                  <a:lnTo>
                    <a:pt x="1926" y="3466"/>
                  </a:lnTo>
                  <a:lnTo>
                    <a:pt x="1890" y="3452"/>
                  </a:lnTo>
                  <a:lnTo>
                    <a:pt x="1846" y="3436"/>
                  </a:lnTo>
                  <a:lnTo>
                    <a:pt x="1808" y="3422"/>
                  </a:lnTo>
                  <a:lnTo>
                    <a:pt x="1780" y="3400"/>
                  </a:lnTo>
                  <a:lnTo>
                    <a:pt x="1744" y="3378"/>
                  </a:lnTo>
                  <a:lnTo>
                    <a:pt x="1714" y="3356"/>
                  </a:lnTo>
                  <a:lnTo>
                    <a:pt x="1684" y="3334"/>
                  </a:lnTo>
                  <a:lnTo>
                    <a:pt x="1656" y="3306"/>
                  </a:lnTo>
                  <a:lnTo>
                    <a:pt x="1634" y="3276"/>
                  </a:lnTo>
                  <a:lnTo>
                    <a:pt x="1612" y="3240"/>
                  </a:lnTo>
                  <a:lnTo>
                    <a:pt x="1598" y="3210"/>
                  </a:lnTo>
                  <a:lnTo>
                    <a:pt x="1582" y="3174"/>
                  </a:lnTo>
                  <a:lnTo>
                    <a:pt x="1576" y="3138"/>
                  </a:lnTo>
                  <a:lnTo>
                    <a:pt x="1576" y="3130"/>
                  </a:lnTo>
                  <a:lnTo>
                    <a:pt x="1568" y="3122"/>
                  </a:lnTo>
                  <a:lnTo>
                    <a:pt x="1568" y="3116"/>
                  </a:lnTo>
                  <a:lnTo>
                    <a:pt x="1568" y="3108"/>
                  </a:lnTo>
                  <a:lnTo>
                    <a:pt x="1568" y="3100"/>
                  </a:lnTo>
                  <a:lnTo>
                    <a:pt x="1568" y="3094"/>
                  </a:lnTo>
                  <a:lnTo>
                    <a:pt x="1568" y="3086"/>
                  </a:lnTo>
                  <a:lnTo>
                    <a:pt x="1568" y="3072"/>
                  </a:lnTo>
                  <a:lnTo>
                    <a:pt x="1568" y="3064"/>
                  </a:lnTo>
                  <a:lnTo>
                    <a:pt x="1568" y="3056"/>
                  </a:lnTo>
                  <a:lnTo>
                    <a:pt x="1568" y="3050"/>
                  </a:lnTo>
                  <a:lnTo>
                    <a:pt x="1568" y="3042"/>
                  </a:lnTo>
                  <a:lnTo>
                    <a:pt x="1568" y="3036"/>
                  </a:lnTo>
                  <a:lnTo>
                    <a:pt x="1568" y="3028"/>
                  </a:lnTo>
                  <a:lnTo>
                    <a:pt x="1568" y="3014"/>
                  </a:lnTo>
                  <a:lnTo>
                    <a:pt x="1568" y="3006"/>
                  </a:lnTo>
                  <a:lnTo>
                    <a:pt x="1634" y="3036"/>
                  </a:lnTo>
                  <a:lnTo>
                    <a:pt x="1714" y="3006"/>
                  </a:lnTo>
                  <a:lnTo>
                    <a:pt x="1634" y="2976"/>
                  </a:lnTo>
                  <a:lnTo>
                    <a:pt x="1568" y="3006"/>
                  </a:lnTo>
                  <a:lnTo>
                    <a:pt x="1568" y="2992"/>
                  </a:lnTo>
                  <a:lnTo>
                    <a:pt x="1568" y="2976"/>
                  </a:lnTo>
                  <a:lnTo>
                    <a:pt x="1576" y="2962"/>
                  </a:lnTo>
                  <a:lnTo>
                    <a:pt x="1576" y="2954"/>
                  </a:lnTo>
                  <a:lnTo>
                    <a:pt x="1576" y="2940"/>
                  </a:lnTo>
                  <a:lnTo>
                    <a:pt x="1582" y="2926"/>
                  </a:lnTo>
                  <a:lnTo>
                    <a:pt x="1582" y="2912"/>
                  </a:lnTo>
                  <a:lnTo>
                    <a:pt x="1590" y="2904"/>
                  </a:lnTo>
                  <a:lnTo>
                    <a:pt x="1590" y="2890"/>
                  </a:lnTo>
                  <a:lnTo>
                    <a:pt x="1598" y="2874"/>
                  </a:lnTo>
                  <a:lnTo>
                    <a:pt x="1604" y="2868"/>
                  </a:lnTo>
                  <a:lnTo>
                    <a:pt x="1604" y="2852"/>
                  </a:lnTo>
                  <a:lnTo>
                    <a:pt x="1612" y="2846"/>
                  </a:lnTo>
                  <a:lnTo>
                    <a:pt x="1620" y="2830"/>
                  </a:lnTo>
                  <a:lnTo>
                    <a:pt x="1626" y="2824"/>
                  </a:lnTo>
                  <a:lnTo>
                    <a:pt x="1634" y="2808"/>
                  </a:lnTo>
                  <a:lnTo>
                    <a:pt x="1642" y="2794"/>
                  </a:lnTo>
                  <a:lnTo>
                    <a:pt x="1656" y="2780"/>
                  </a:lnTo>
                  <a:lnTo>
                    <a:pt x="1670" y="2766"/>
                  </a:lnTo>
                  <a:lnTo>
                    <a:pt x="1684" y="2750"/>
                  </a:lnTo>
                  <a:lnTo>
                    <a:pt x="1700" y="2736"/>
                  </a:lnTo>
                  <a:lnTo>
                    <a:pt x="1714" y="2722"/>
                  </a:lnTo>
                  <a:lnTo>
                    <a:pt x="1728" y="2706"/>
                  </a:lnTo>
                  <a:lnTo>
                    <a:pt x="1744" y="2700"/>
                  </a:lnTo>
                  <a:lnTo>
                    <a:pt x="1758" y="2684"/>
                  </a:lnTo>
                  <a:lnTo>
                    <a:pt x="1772" y="2678"/>
                  </a:lnTo>
                  <a:lnTo>
                    <a:pt x="1794" y="2670"/>
                  </a:lnTo>
                  <a:lnTo>
                    <a:pt x="1808" y="2662"/>
                  </a:lnTo>
                  <a:lnTo>
                    <a:pt x="1824" y="2656"/>
                  </a:lnTo>
                  <a:lnTo>
                    <a:pt x="1846" y="2648"/>
                  </a:lnTo>
                  <a:lnTo>
                    <a:pt x="1868" y="2642"/>
                  </a:lnTo>
                  <a:lnTo>
                    <a:pt x="1882" y="2634"/>
                  </a:lnTo>
                  <a:lnTo>
                    <a:pt x="1904" y="2634"/>
                  </a:lnTo>
                  <a:lnTo>
                    <a:pt x="1918" y="2634"/>
                  </a:lnTo>
                  <a:lnTo>
                    <a:pt x="1940" y="2626"/>
                  </a:lnTo>
                  <a:lnTo>
                    <a:pt x="1954" y="2626"/>
                  </a:lnTo>
                  <a:lnTo>
                    <a:pt x="1976" y="2634"/>
                  </a:lnTo>
                  <a:lnTo>
                    <a:pt x="1992" y="2634"/>
                  </a:lnTo>
                  <a:lnTo>
                    <a:pt x="2014" y="2634"/>
                  </a:lnTo>
                  <a:lnTo>
                    <a:pt x="2036" y="2642"/>
                  </a:lnTo>
                  <a:lnTo>
                    <a:pt x="2050" y="2648"/>
                  </a:lnTo>
                  <a:lnTo>
                    <a:pt x="2072" y="2648"/>
                  </a:lnTo>
                  <a:lnTo>
                    <a:pt x="2086" y="2656"/>
                  </a:lnTo>
                  <a:lnTo>
                    <a:pt x="2108" y="2662"/>
                  </a:lnTo>
                  <a:lnTo>
                    <a:pt x="2122" y="2678"/>
                  </a:lnTo>
                  <a:lnTo>
                    <a:pt x="2144" y="2684"/>
                  </a:lnTo>
                  <a:lnTo>
                    <a:pt x="2160" y="2692"/>
                  </a:lnTo>
                  <a:lnTo>
                    <a:pt x="2182" y="2706"/>
                  </a:lnTo>
                  <a:lnTo>
                    <a:pt x="2196" y="2722"/>
                  </a:lnTo>
                  <a:lnTo>
                    <a:pt x="2210" y="2728"/>
                  </a:lnTo>
                  <a:lnTo>
                    <a:pt x="2224" y="2744"/>
                  </a:lnTo>
                  <a:lnTo>
                    <a:pt x="2232" y="2758"/>
                  </a:lnTo>
                  <a:lnTo>
                    <a:pt x="2246" y="2766"/>
                  </a:lnTo>
                  <a:lnTo>
                    <a:pt x="2262" y="2780"/>
                  </a:lnTo>
                  <a:lnTo>
                    <a:pt x="2268" y="2794"/>
                  </a:lnTo>
                  <a:lnTo>
                    <a:pt x="2284" y="2808"/>
                  </a:lnTo>
                  <a:lnTo>
                    <a:pt x="2290" y="2824"/>
                  </a:lnTo>
                  <a:lnTo>
                    <a:pt x="2298" y="2838"/>
                  </a:lnTo>
                  <a:lnTo>
                    <a:pt x="2306" y="2852"/>
                  </a:lnTo>
                  <a:lnTo>
                    <a:pt x="2312" y="2868"/>
                  </a:lnTo>
                  <a:lnTo>
                    <a:pt x="2320" y="2882"/>
                  </a:lnTo>
                  <a:lnTo>
                    <a:pt x="2320" y="2896"/>
                  </a:lnTo>
                  <a:lnTo>
                    <a:pt x="2328" y="2912"/>
                  </a:lnTo>
                  <a:lnTo>
                    <a:pt x="2328" y="2926"/>
                  </a:lnTo>
                  <a:lnTo>
                    <a:pt x="2334" y="2940"/>
                  </a:lnTo>
                  <a:lnTo>
                    <a:pt x="2334" y="2954"/>
                  </a:lnTo>
                  <a:lnTo>
                    <a:pt x="2334" y="2970"/>
                  </a:lnTo>
                  <a:lnTo>
                    <a:pt x="2328" y="2976"/>
                  </a:lnTo>
                  <a:lnTo>
                    <a:pt x="2328" y="2992"/>
                  </a:lnTo>
                  <a:lnTo>
                    <a:pt x="2328" y="3006"/>
                  </a:lnTo>
                  <a:lnTo>
                    <a:pt x="2320" y="3020"/>
                  </a:lnTo>
                  <a:lnTo>
                    <a:pt x="2320" y="3036"/>
                  </a:lnTo>
                  <a:lnTo>
                    <a:pt x="2312" y="3050"/>
                  </a:lnTo>
                  <a:lnTo>
                    <a:pt x="2306" y="3064"/>
                  </a:lnTo>
                  <a:lnTo>
                    <a:pt x="2306" y="3078"/>
                  </a:lnTo>
                  <a:lnTo>
                    <a:pt x="2298" y="3094"/>
                  </a:lnTo>
                  <a:lnTo>
                    <a:pt x="2290" y="3108"/>
                  </a:lnTo>
                  <a:lnTo>
                    <a:pt x="2284" y="3116"/>
                  </a:lnTo>
                  <a:lnTo>
                    <a:pt x="2268" y="3130"/>
                  </a:lnTo>
                  <a:lnTo>
                    <a:pt x="2262" y="3144"/>
                  </a:lnTo>
                  <a:lnTo>
                    <a:pt x="2254" y="3152"/>
                  </a:lnTo>
                  <a:lnTo>
                    <a:pt x="2240" y="3166"/>
                  </a:lnTo>
                  <a:lnTo>
                    <a:pt x="2232" y="3174"/>
                  </a:lnTo>
                  <a:lnTo>
                    <a:pt x="2224" y="3182"/>
                  </a:lnTo>
                  <a:lnTo>
                    <a:pt x="2210" y="3188"/>
                  </a:lnTo>
                  <a:lnTo>
                    <a:pt x="2202" y="3196"/>
                  </a:lnTo>
                  <a:lnTo>
                    <a:pt x="2188" y="3202"/>
                  </a:lnTo>
                  <a:lnTo>
                    <a:pt x="2174" y="3210"/>
                  </a:lnTo>
                  <a:lnTo>
                    <a:pt x="2166" y="3218"/>
                  </a:lnTo>
                  <a:lnTo>
                    <a:pt x="2152" y="3224"/>
                  </a:lnTo>
                  <a:lnTo>
                    <a:pt x="2138" y="3232"/>
                  </a:lnTo>
                  <a:lnTo>
                    <a:pt x="2130" y="3232"/>
                  </a:lnTo>
                  <a:lnTo>
                    <a:pt x="2116" y="3240"/>
                  </a:lnTo>
                  <a:lnTo>
                    <a:pt x="2100" y="3240"/>
                  </a:lnTo>
                  <a:lnTo>
                    <a:pt x="2086" y="3240"/>
                  </a:lnTo>
                  <a:lnTo>
                    <a:pt x="2078" y="3240"/>
                  </a:lnTo>
                  <a:lnTo>
                    <a:pt x="2050" y="3240"/>
                  </a:lnTo>
                  <a:lnTo>
                    <a:pt x="2028" y="3240"/>
                  </a:lnTo>
                  <a:lnTo>
                    <a:pt x="1998" y="3232"/>
                  </a:lnTo>
                  <a:lnTo>
                    <a:pt x="1976" y="3224"/>
                  </a:lnTo>
                  <a:lnTo>
                    <a:pt x="1954" y="3210"/>
                  </a:lnTo>
                  <a:lnTo>
                    <a:pt x="1940" y="3202"/>
                  </a:lnTo>
                  <a:lnTo>
                    <a:pt x="1918" y="3188"/>
                  </a:lnTo>
                  <a:lnTo>
                    <a:pt x="1904" y="3174"/>
                  </a:lnTo>
                  <a:lnTo>
                    <a:pt x="1890" y="3152"/>
                  </a:lnTo>
                  <a:lnTo>
                    <a:pt x="1882" y="3138"/>
                  </a:lnTo>
                  <a:lnTo>
                    <a:pt x="1868" y="3122"/>
                  </a:lnTo>
                  <a:lnTo>
                    <a:pt x="1860" y="3100"/>
                  </a:lnTo>
                  <a:lnTo>
                    <a:pt x="1852" y="3086"/>
                  </a:lnTo>
                  <a:lnTo>
                    <a:pt x="1846" y="3072"/>
                  </a:lnTo>
                  <a:lnTo>
                    <a:pt x="1838" y="3056"/>
                  </a:lnTo>
                  <a:lnTo>
                    <a:pt x="1838" y="3042"/>
                  </a:lnTo>
                  <a:lnTo>
                    <a:pt x="1838" y="3028"/>
                  </a:lnTo>
                  <a:lnTo>
                    <a:pt x="1838" y="3020"/>
                  </a:lnTo>
                  <a:lnTo>
                    <a:pt x="1846" y="3006"/>
                  </a:lnTo>
                  <a:lnTo>
                    <a:pt x="1846" y="2992"/>
                  </a:lnTo>
                  <a:lnTo>
                    <a:pt x="1852" y="2976"/>
                  </a:lnTo>
                  <a:lnTo>
                    <a:pt x="1860" y="2962"/>
                  </a:lnTo>
                  <a:lnTo>
                    <a:pt x="1868" y="2948"/>
                  </a:lnTo>
                  <a:lnTo>
                    <a:pt x="1874" y="2932"/>
                  </a:lnTo>
                  <a:lnTo>
                    <a:pt x="1882" y="2926"/>
                  </a:lnTo>
                  <a:lnTo>
                    <a:pt x="1896" y="2912"/>
                  </a:lnTo>
                  <a:lnTo>
                    <a:pt x="1904" y="2896"/>
                  </a:lnTo>
                  <a:lnTo>
                    <a:pt x="1918" y="2890"/>
                  </a:lnTo>
                  <a:lnTo>
                    <a:pt x="1932" y="2882"/>
                  </a:lnTo>
                  <a:lnTo>
                    <a:pt x="1948" y="2874"/>
                  </a:lnTo>
                  <a:lnTo>
                    <a:pt x="1970" y="2868"/>
                  </a:lnTo>
                  <a:lnTo>
                    <a:pt x="1984" y="2860"/>
                  </a:lnTo>
                  <a:lnTo>
                    <a:pt x="1992" y="2860"/>
                  </a:lnTo>
                  <a:lnTo>
                    <a:pt x="2006" y="2860"/>
                  </a:lnTo>
                  <a:lnTo>
                    <a:pt x="2014" y="2860"/>
                  </a:lnTo>
                  <a:lnTo>
                    <a:pt x="2020" y="2860"/>
                  </a:lnTo>
                  <a:lnTo>
                    <a:pt x="2028" y="2860"/>
                  </a:lnTo>
                  <a:lnTo>
                    <a:pt x="2042" y="2860"/>
                  </a:lnTo>
                  <a:lnTo>
                    <a:pt x="2050" y="2860"/>
                  </a:lnTo>
                  <a:lnTo>
                    <a:pt x="2058" y="2868"/>
                  </a:lnTo>
                  <a:lnTo>
                    <a:pt x="2064" y="2868"/>
                  </a:lnTo>
                  <a:lnTo>
                    <a:pt x="2078" y="2874"/>
                  </a:lnTo>
                  <a:lnTo>
                    <a:pt x="2086" y="2874"/>
                  </a:lnTo>
                  <a:lnTo>
                    <a:pt x="2094" y="2882"/>
                  </a:lnTo>
                  <a:lnTo>
                    <a:pt x="2100" y="2890"/>
                  </a:lnTo>
                  <a:lnTo>
                    <a:pt x="2108" y="2890"/>
                  </a:lnTo>
                  <a:lnTo>
                    <a:pt x="2116" y="2896"/>
                  </a:lnTo>
                  <a:lnTo>
                    <a:pt x="2122" y="2904"/>
                  </a:lnTo>
                  <a:lnTo>
                    <a:pt x="2130" y="2912"/>
                  </a:lnTo>
                  <a:lnTo>
                    <a:pt x="2130" y="2918"/>
                  </a:lnTo>
                  <a:lnTo>
                    <a:pt x="2138" y="2918"/>
                  </a:lnTo>
                  <a:lnTo>
                    <a:pt x="2138" y="2926"/>
                  </a:lnTo>
                  <a:lnTo>
                    <a:pt x="2144" y="2932"/>
                  </a:lnTo>
                  <a:lnTo>
                    <a:pt x="2152" y="2940"/>
                  </a:lnTo>
                  <a:lnTo>
                    <a:pt x="2152" y="2948"/>
                  </a:lnTo>
                  <a:lnTo>
                    <a:pt x="2152" y="2954"/>
                  </a:lnTo>
                  <a:lnTo>
                    <a:pt x="2160" y="2962"/>
                  </a:lnTo>
                  <a:lnTo>
                    <a:pt x="2160" y="2970"/>
                  </a:lnTo>
                  <a:lnTo>
                    <a:pt x="2160" y="2976"/>
                  </a:lnTo>
                  <a:lnTo>
                    <a:pt x="2160" y="2984"/>
                  </a:lnTo>
                  <a:lnTo>
                    <a:pt x="2152" y="2992"/>
                  </a:lnTo>
                  <a:lnTo>
                    <a:pt x="2152" y="2998"/>
                  </a:lnTo>
                  <a:lnTo>
                    <a:pt x="2152" y="3006"/>
                  </a:lnTo>
                  <a:lnTo>
                    <a:pt x="2152" y="3014"/>
                  </a:lnTo>
                  <a:lnTo>
                    <a:pt x="2144" y="3014"/>
                  </a:lnTo>
                  <a:lnTo>
                    <a:pt x="2144" y="3020"/>
                  </a:lnTo>
                  <a:lnTo>
                    <a:pt x="2138" y="3028"/>
                  </a:lnTo>
                  <a:lnTo>
                    <a:pt x="2138" y="3036"/>
                  </a:lnTo>
                  <a:lnTo>
                    <a:pt x="2138" y="3042"/>
                  </a:lnTo>
                  <a:lnTo>
                    <a:pt x="2130" y="3042"/>
                  </a:lnTo>
                  <a:lnTo>
                    <a:pt x="2122" y="3050"/>
                  </a:lnTo>
                  <a:lnTo>
                    <a:pt x="2122" y="3056"/>
                  </a:lnTo>
                  <a:lnTo>
                    <a:pt x="2116" y="3056"/>
                  </a:lnTo>
                  <a:lnTo>
                    <a:pt x="2116" y="3064"/>
                  </a:lnTo>
                  <a:lnTo>
                    <a:pt x="2108" y="3072"/>
                  </a:lnTo>
                  <a:lnTo>
                    <a:pt x="2100" y="3072"/>
                  </a:lnTo>
                  <a:lnTo>
                    <a:pt x="2094" y="3078"/>
                  </a:lnTo>
                  <a:lnTo>
                    <a:pt x="2086" y="3078"/>
                  </a:lnTo>
                  <a:lnTo>
                    <a:pt x="2078" y="3078"/>
                  </a:lnTo>
                  <a:lnTo>
                    <a:pt x="2078" y="3086"/>
                  </a:lnTo>
                  <a:lnTo>
                    <a:pt x="2072" y="3086"/>
                  </a:lnTo>
                  <a:lnTo>
                    <a:pt x="2064" y="3086"/>
                  </a:lnTo>
                  <a:lnTo>
                    <a:pt x="2058" y="3086"/>
                  </a:lnTo>
                  <a:lnTo>
                    <a:pt x="2050" y="3086"/>
                  </a:lnTo>
                  <a:lnTo>
                    <a:pt x="2042" y="3078"/>
                  </a:lnTo>
                  <a:lnTo>
                    <a:pt x="2036" y="3078"/>
                  </a:lnTo>
                  <a:lnTo>
                    <a:pt x="2028" y="3072"/>
                  </a:lnTo>
                  <a:lnTo>
                    <a:pt x="2020" y="3072"/>
                  </a:lnTo>
                  <a:lnTo>
                    <a:pt x="2020" y="3064"/>
                  </a:lnTo>
                  <a:lnTo>
                    <a:pt x="2014" y="3056"/>
                  </a:lnTo>
                  <a:lnTo>
                    <a:pt x="2014" y="3050"/>
                  </a:lnTo>
                  <a:lnTo>
                    <a:pt x="2014" y="3042"/>
                  </a:lnTo>
                  <a:lnTo>
                    <a:pt x="2014" y="3036"/>
                  </a:lnTo>
                  <a:lnTo>
                    <a:pt x="2014" y="3028"/>
                  </a:lnTo>
                  <a:lnTo>
                    <a:pt x="1976" y="3028"/>
                  </a:lnTo>
                  <a:lnTo>
                    <a:pt x="1976" y="3036"/>
                  </a:lnTo>
                  <a:lnTo>
                    <a:pt x="1976" y="3042"/>
                  </a:lnTo>
                  <a:lnTo>
                    <a:pt x="1976" y="3050"/>
                  </a:lnTo>
                  <a:lnTo>
                    <a:pt x="1984" y="3056"/>
                  </a:lnTo>
                  <a:lnTo>
                    <a:pt x="1984" y="3064"/>
                  </a:lnTo>
                  <a:lnTo>
                    <a:pt x="1984" y="3072"/>
                  </a:lnTo>
                  <a:lnTo>
                    <a:pt x="1992" y="3078"/>
                  </a:lnTo>
                  <a:lnTo>
                    <a:pt x="1992" y="3086"/>
                  </a:lnTo>
                  <a:lnTo>
                    <a:pt x="1998" y="3094"/>
                  </a:lnTo>
                  <a:lnTo>
                    <a:pt x="2006" y="3100"/>
                  </a:lnTo>
                  <a:lnTo>
                    <a:pt x="2014" y="3100"/>
                  </a:lnTo>
                  <a:lnTo>
                    <a:pt x="2020" y="3108"/>
                  </a:lnTo>
                  <a:lnTo>
                    <a:pt x="2028" y="3108"/>
                  </a:lnTo>
                  <a:lnTo>
                    <a:pt x="2036" y="3116"/>
                  </a:lnTo>
                  <a:lnTo>
                    <a:pt x="2042" y="3116"/>
                  </a:lnTo>
                  <a:lnTo>
                    <a:pt x="2050" y="3116"/>
                  </a:lnTo>
                  <a:lnTo>
                    <a:pt x="2058" y="3116"/>
                  </a:lnTo>
                  <a:lnTo>
                    <a:pt x="2064" y="3116"/>
                  </a:lnTo>
                  <a:lnTo>
                    <a:pt x="2072" y="3116"/>
                  </a:lnTo>
                  <a:lnTo>
                    <a:pt x="2078" y="3116"/>
                  </a:lnTo>
                  <a:lnTo>
                    <a:pt x="2086" y="3116"/>
                  </a:lnTo>
                  <a:lnTo>
                    <a:pt x="2094" y="3116"/>
                  </a:lnTo>
                  <a:lnTo>
                    <a:pt x="2100" y="3108"/>
                  </a:lnTo>
                  <a:lnTo>
                    <a:pt x="2108" y="3108"/>
                  </a:lnTo>
                  <a:lnTo>
                    <a:pt x="2116" y="3100"/>
                  </a:lnTo>
                  <a:lnTo>
                    <a:pt x="2122" y="3100"/>
                  </a:lnTo>
                  <a:lnTo>
                    <a:pt x="2122" y="3094"/>
                  </a:lnTo>
                  <a:lnTo>
                    <a:pt x="2130" y="3094"/>
                  </a:lnTo>
                  <a:lnTo>
                    <a:pt x="2138" y="3086"/>
                  </a:lnTo>
                  <a:lnTo>
                    <a:pt x="2144" y="3078"/>
                  </a:lnTo>
                  <a:lnTo>
                    <a:pt x="2152" y="3072"/>
                  </a:lnTo>
                  <a:lnTo>
                    <a:pt x="2160" y="3064"/>
                  </a:lnTo>
                  <a:lnTo>
                    <a:pt x="2160" y="3056"/>
                  </a:lnTo>
                  <a:lnTo>
                    <a:pt x="2166" y="3050"/>
                  </a:lnTo>
                  <a:lnTo>
                    <a:pt x="2174" y="3050"/>
                  </a:lnTo>
                  <a:lnTo>
                    <a:pt x="2174" y="3036"/>
                  </a:lnTo>
                  <a:lnTo>
                    <a:pt x="2182" y="3028"/>
                  </a:lnTo>
                  <a:lnTo>
                    <a:pt x="2182" y="3020"/>
                  </a:lnTo>
                  <a:lnTo>
                    <a:pt x="2188" y="3014"/>
                  </a:lnTo>
                  <a:lnTo>
                    <a:pt x="2188" y="3006"/>
                  </a:lnTo>
                  <a:lnTo>
                    <a:pt x="2188" y="2998"/>
                  </a:lnTo>
                  <a:lnTo>
                    <a:pt x="2188" y="2992"/>
                  </a:lnTo>
                  <a:lnTo>
                    <a:pt x="2196" y="2984"/>
                  </a:lnTo>
                  <a:lnTo>
                    <a:pt x="2196" y="2976"/>
                  </a:lnTo>
                  <a:lnTo>
                    <a:pt x="2196" y="2970"/>
                  </a:lnTo>
                  <a:lnTo>
                    <a:pt x="2196" y="2962"/>
                  </a:lnTo>
                  <a:lnTo>
                    <a:pt x="2188" y="2954"/>
                  </a:lnTo>
                  <a:lnTo>
                    <a:pt x="2188" y="2948"/>
                  </a:lnTo>
                  <a:lnTo>
                    <a:pt x="2188" y="2940"/>
                  </a:lnTo>
                  <a:lnTo>
                    <a:pt x="2182" y="2932"/>
                  </a:lnTo>
                  <a:lnTo>
                    <a:pt x="2182" y="2926"/>
                  </a:lnTo>
                  <a:lnTo>
                    <a:pt x="2182" y="2918"/>
                  </a:lnTo>
                  <a:lnTo>
                    <a:pt x="2174" y="2912"/>
                  </a:lnTo>
                  <a:lnTo>
                    <a:pt x="2166" y="2904"/>
                  </a:lnTo>
                  <a:lnTo>
                    <a:pt x="2160" y="2896"/>
                  </a:lnTo>
                  <a:lnTo>
                    <a:pt x="2152" y="2890"/>
                  </a:lnTo>
                  <a:lnTo>
                    <a:pt x="2144" y="2882"/>
                  </a:lnTo>
                  <a:lnTo>
                    <a:pt x="2138" y="2874"/>
                  </a:lnTo>
                  <a:lnTo>
                    <a:pt x="2130" y="2868"/>
                  </a:lnTo>
                  <a:lnTo>
                    <a:pt x="2122" y="2860"/>
                  </a:lnTo>
                  <a:lnTo>
                    <a:pt x="2108" y="2852"/>
                  </a:lnTo>
                  <a:lnTo>
                    <a:pt x="2100" y="2846"/>
                  </a:lnTo>
                  <a:lnTo>
                    <a:pt x="2086" y="2838"/>
                  </a:lnTo>
                  <a:lnTo>
                    <a:pt x="2078" y="2838"/>
                  </a:lnTo>
                  <a:lnTo>
                    <a:pt x="2064" y="2830"/>
                  </a:lnTo>
                  <a:lnTo>
                    <a:pt x="2058" y="2830"/>
                  </a:lnTo>
                  <a:lnTo>
                    <a:pt x="2042" y="2830"/>
                  </a:lnTo>
                  <a:lnTo>
                    <a:pt x="2036" y="2824"/>
                  </a:lnTo>
                  <a:lnTo>
                    <a:pt x="2020" y="2824"/>
                  </a:lnTo>
                  <a:lnTo>
                    <a:pt x="2014" y="2824"/>
                  </a:lnTo>
                  <a:lnTo>
                    <a:pt x="1998" y="2824"/>
                  </a:lnTo>
                  <a:lnTo>
                    <a:pt x="1992" y="2824"/>
                  </a:lnTo>
                  <a:lnTo>
                    <a:pt x="1976" y="2824"/>
                  </a:lnTo>
                  <a:lnTo>
                    <a:pt x="1962" y="2830"/>
                  </a:lnTo>
                  <a:lnTo>
                    <a:pt x="1940" y="2838"/>
                  </a:lnTo>
                  <a:lnTo>
                    <a:pt x="1918" y="2846"/>
                  </a:lnTo>
                  <a:lnTo>
                    <a:pt x="1904" y="2860"/>
                  </a:lnTo>
                  <a:lnTo>
                    <a:pt x="1890" y="2868"/>
                  </a:lnTo>
                  <a:lnTo>
                    <a:pt x="1874" y="2882"/>
                  </a:lnTo>
                  <a:lnTo>
                    <a:pt x="1860" y="2896"/>
                  </a:lnTo>
                  <a:lnTo>
                    <a:pt x="1846" y="2912"/>
                  </a:lnTo>
                  <a:lnTo>
                    <a:pt x="1838" y="2926"/>
                  </a:lnTo>
                  <a:lnTo>
                    <a:pt x="1824" y="2940"/>
                  </a:lnTo>
                  <a:lnTo>
                    <a:pt x="1816" y="2962"/>
                  </a:lnTo>
                  <a:lnTo>
                    <a:pt x="1816" y="2976"/>
                  </a:lnTo>
                  <a:lnTo>
                    <a:pt x="1808" y="2992"/>
                  </a:lnTo>
                  <a:lnTo>
                    <a:pt x="1802" y="3014"/>
                  </a:lnTo>
                  <a:lnTo>
                    <a:pt x="1802" y="3028"/>
                  </a:lnTo>
                  <a:lnTo>
                    <a:pt x="1802" y="3042"/>
                  </a:lnTo>
                  <a:lnTo>
                    <a:pt x="1808" y="3056"/>
                  </a:lnTo>
                  <a:lnTo>
                    <a:pt x="1808" y="3078"/>
                  </a:lnTo>
                  <a:lnTo>
                    <a:pt x="1816" y="3100"/>
                  </a:lnTo>
                  <a:lnTo>
                    <a:pt x="1824" y="3116"/>
                  </a:lnTo>
                  <a:lnTo>
                    <a:pt x="1838" y="3138"/>
                  </a:lnTo>
                  <a:lnTo>
                    <a:pt x="1846" y="3160"/>
                  </a:lnTo>
                  <a:lnTo>
                    <a:pt x="1860" y="3174"/>
                  </a:lnTo>
                  <a:lnTo>
                    <a:pt x="1882" y="3196"/>
                  </a:lnTo>
                  <a:lnTo>
                    <a:pt x="1896" y="3210"/>
                  </a:lnTo>
                  <a:lnTo>
                    <a:pt x="1918" y="3224"/>
                  </a:lnTo>
                  <a:lnTo>
                    <a:pt x="1940" y="3240"/>
                  </a:lnTo>
                  <a:lnTo>
                    <a:pt x="1962" y="3254"/>
                  </a:lnTo>
                  <a:lnTo>
                    <a:pt x="1992" y="3262"/>
                  </a:lnTo>
                  <a:lnTo>
                    <a:pt x="2020" y="3268"/>
                  </a:lnTo>
                  <a:lnTo>
                    <a:pt x="2050" y="3276"/>
                  </a:lnTo>
                  <a:lnTo>
                    <a:pt x="2078" y="3276"/>
                  </a:lnTo>
                  <a:lnTo>
                    <a:pt x="2094" y="3276"/>
                  </a:lnTo>
                  <a:lnTo>
                    <a:pt x="2108" y="3276"/>
                  </a:lnTo>
                  <a:lnTo>
                    <a:pt x="2122" y="3268"/>
                  </a:lnTo>
                  <a:lnTo>
                    <a:pt x="2138" y="3268"/>
                  </a:lnTo>
                  <a:lnTo>
                    <a:pt x="2152" y="3262"/>
                  </a:lnTo>
                  <a:lnTo>
                    <a:pt x="2166" y="3254"/>
                  </a:lnTo>
                  <a:lnTo>
                    <a:pt x="2182" y="3246"/>
                  </a:lnTo>
                  <a:lnTo>
                    <a:pt x="2188" y="3240"/>
                  </a:lnTo>
                  <a:lnTo>
                    <a:pt x="2202" y="3232"/>
                  </a:lnTo>
                  <a:lnTo>
                    <a:pt x="2218" y="3224"/>
                  </a:lnTo>
                  <a:lnTo>
                    <a:pt x="2232" y="3218"/>
                  </a:lnTo>
                  <a:lnTo>
                    <a:pt x="2240" y="3210"/>
                  </a:lnTo>
                  <a:lnTo>
                    <a:pt x="2254" y="3196"/>
                  </a:lnTo>
                  <a:lnTo>
                    <a:pt x="2268" y="3188"/>
                  </a:lnTo>
                  <a:lnTo>
                    <a:pt x="2276" y="3174"/>
                  </a:lnTo>
                  <a:lnTo>
                    <a:pt x="2290" y="3166"/>
                  </a:lnTo>
                  <a:lnTo>
                    <a:pt x="2298" y="3152"/>
                  </a:lnTo>
                  <a:lnTo>
                    <a:pt x="2306" y="3138"/>
                  </a:lnTo>
                  <a:lnTo>
                    <a:pt x="2320" y="3122"/>
                  </a:lnTo>
                  <a:lnTo>
                    <a:pt x="2328" y="3108"/>
                  </a:lnTo>
                  <a:lnTo>
                    <a:pt x="2334" y="3094"/>
                  </a:lnTo>
                  <a:lnTo>
                    <a:pt x="2342" y="3078"/>
                  </a:lnTo>
                  <a:lnTo>
                    <a:pt x="2348" y="3064"/>
                  </a:lnTo>
                  <a:lnTo>
                    <a:pt x="2348" y="3050"/>
                  </a:lnTo>
                  <a:lnTo>
                    <a:pt x="2356" y="3028"/>
                  </a:lnTo>
                  <a:lnTo>
                    <a:pt x="2356" y="3014"/>
                  </a:lnTo>
                  <a:lnTo>
                    <a:pt x="2364" y="2998"/>
                  </a:lnTo>
                  <a:lnTo>
                    <a:pt x="2364" y="2984"/>
                  </a:lnTo>
                  <a:lnTo>
                    <a:pt x="2364" y="2970"/>
                  </a:lnTo>
                  <a:lnTo>
                    <a:pt x="2364" y="2948"/>
                  </a:lnTo>
                  <a:lnTo>
                    <a:pt x="2364" y="2932"/>
                  </a:lnTo>
                  <a:lnTo>
                    <a:pt x="2364" y="2918"/>
                  </a:lnTo>
                  <a:lnTo>
                    <a:pt x="2356" y="2904"/>
                  </a:lnTo>
                  <a:lnTo>
                    <a:pt x="2356" y="2890"/>
                  </a:lnTo>
                  <a:lnTo>
                    <a:pt x="2348" y="2868"/>
                  </a:lnTo>
                  <a:lnTo>
                    <a:pt x="2342" y="2852"/>
                  </a:lnTo>
                  <a:lnTo>
                    <a:pt x="2334" y="2838"/>
                  </a:lnTo>
                  <a:lnTo>
                    <a:pt x="2328" y="2824"/>
                  </a:lnTo>
                  <a:lnTo>
                    <a:pt x="2320" y="2808"/>
                  </a:lnTo>
                  <a:lnTo>
                    <a:pt x="2312" y="2786"/>
                  </a:lnTo>
                  <a:lnTo>
                    <a:pt x="2298" y="2772"/>
                  </a:lnTo>
                  <a:lnTo>
                    <a:pt x="2284" y="2758"/>
                  </a:lnTo>
                  <a:lnTo>
                    <a:pt x="2276" y="2744"/>
                  </a:lnTo>
                  <a:lnTo>
                    <a:pt x="2262" y="2728"/>
                  </a:lnTo>
                  <a:lnTo>
                    <a:pt x="2246" y="2714"/>
                  </a:lnTo>
                  <a:lnTo>
                    <a:pt x="2232" y="2700"/>
                  </a:lnTo>
                  <a:lnTo>
                    <a:pt x="2218" y="2692"/>
                  </a:lnTo>
                  <a:lnTo>
                    <a:pt x="2196" y="2678"/>
                  </a:lnTo>
                  <a:lnTo>
                    <a:pt x="2182" y="2662"/>
                  </a:lnTo>
                  <a:lnTo>
                    <a:pt x="2160" y="2656"/>
                  </a:lnTo>
                  <a:lnTo>
                    <a:pt x="2138" y="2642"/>
                  </a:lnTo>
                  <a:lnTo>
                    <a:pt x="2122" y="2634"/>
                  </a:lnTo>
                  <a:lnTo>
                    <a:pt x="2100" y="2626"/>
                  </a:lnTo>
                  <a:lnTo>
                    <a:pt x="2078" y="2620"/>
                  </a:lnTo>
                  <a:lnTo>
                    <a:pt x="2058" y="2612"/>
                  </a:lnTo>
                  <a:lnTo>
                    <a:pt x="2042" y="2604"/>
                  </a:lnTo>
                  <a:lnTo>
                    <a:pt x="2020" y="2604"/>
                  </a:lnTo>
                  <a:lnTo>
                    <a:pt x="1998" y="2598"/>
                  </a:lnTo>
                  <a:lnTo>
                    <a:pt x="1976" y="2598"/>
                  </a:lnTo>
                  <a:lnTo>
                    <a:pt x="1954" y="2598"/>
                  </a:lnTo>
                  <a:lnTo>
                    <a:pt x="1932" y="2598"/>
                  </a:lnTo>
                  <a:lnTo>
                    <a:pt x="1918" y="2598"/>
                  </a:lnTo>
                  <a:lnTo>
                    <a:pt x="1896" y="2598"/>
                  </a:lnTo>
                  <a:lnTo>
                    <a:pt x="1874" y="2604"/>
                  </a:lnTo>
                  <a:lnTo>
                    <a:pt x="1852" y="2612"/>
                  </a:lnTo>
                  <a:lnTo>
                    <a:pt x="1838" y="2612"/>
                  </a:lnTo>
                  <a:lnTo>
                    <a:pt x="1816" y="2620"/>
                  </a:lnTo>
                  <a:lnTo>
                    <a:pt x="1794" y="2626"/>
                  </a:lnTo>
                  <a:lnTo>
                    <a:pt x="1780" y="2642"/>
                  </a:lnTo>
                  <a:lnTo>
                    <a:pt x="1758" y="2648"/>
                  </a:lnTo>
                  <a:lnTo>
                    <a:pt x="1744" y="2656"/>
                  </a:lnTo>
                  <a:lnTo>
                    <a:pt x="1722" y="2670"/>
                  </a:lnTo>
                  <a:lnTo>
                    <a:pt x="1706" y="2684"/>
                  </a:lnTo>
                  <a:lnTo>
                    <a:pt x="1692" y="2692"/>
                  </a:lnTo>
                  <a:lnTo>
                    <a:pt x="1670" y="2706"/>
                  </a:lnTo>
                  <a:lnTo>
                    <a:pt x="1656" y="2722"/>
                  </a:lnTo>
                  <a:lnTo>
                    <a:pt x="1642" y="2736"/>
                  </a:lnTo>
                  <a:lnTo>
                    <a:pt x="1626" y="2758"/>
                  </a:lnTo>
                  <a:lnTo>
                    <a:pt x="1620" y="2772"/>
                  </a:lnTo>
                  <a:lnTo>
                    <a:pt x="1604" y="2786"/>
                  </a:lnTo>
                  <a:lnTo>
                    <a:pt x="1598" y="2794"/>
                  </a:lnTo>
                  <a:lnTo>
                    <a:pt x="1598" y="2802"/>
                  </a:lnTo>
                  <a:lnTo>
                    <a:pt x="1590" y="2808"/>
                  </a:lnTo>
                  <a:lnTo>
                    <a:pt x="1590" y="2816"/>
                  </a:lnTo>
                  <a:lnTo>
                    <a:pt x="1582" y="2824"/>
                  </a:lnTo>
                  <a:lnTo>
                    <a:pt x="1582" y="2830"/>
                  </a:lnTo>
                  <a:lnTo>
                    <a:pt x="1576" y="2838"/>
                  </a:lnTo>
                  <a:lnTo>
                    <a:pt x="1576" y="2846"/>
                  </a:lnTo>
                  <a:lnTo>
                    <a:pt x="1568" y="2852"/>
                  </a:lnTo>
                  <a:lnTo>
                    <a:pt x="1568" y="2860"/>
                  </a:lnTo>
                  <a:lnTo>
                    <a:pt x="1560" y="2868"/>
                  </a:lnTo>
                  <a:lnTo>
                    <a:pt x="1560" y="2874"/>
                  </a:lnTo>
                  <a:lnTo>
                    <a:pt x="1560" y="2882"/>
                  </a:lnTo>
                  <a:lnTo>
                    <a:pt x="1554" y="2890"/>
                  </a:lnTo>
                  <a:lnTo>
                    <a:pt x="1554" y="2904"/>
                  </a:lnTo>
                  <a:lnTo>
                    <a:pt x="1554" y="2912"/>
                  </a:lnTo>
                  <a:lnTo>
                    <a:pt x="1546" y="2890"/>
                  </a:lnTo>
                  <a:lnTo>
                    <a:pt x="1546" y="2874"/>
                  </a:lnTo>
                  <a:lnTo>
                    <a:pt x="1538" y="2860"/>
                  </a:lnTo>
                  <a:lnTo>
                    <a:pt x="1538" y="2846"/>
                  </a:lnTo>
                  <a:lnTo>
                    <a:pt x="1532" y="2830"/>
                  </a:lnTo>
                  <a:lnTo>
                    <a:pt x="1524" y="2824"/>
                  </a:lnTo>
                  <a:lnTo>
                    <a:pt x="1524" y="2808"/>
                  </a:lnTo>
                  <a:lnTo>
                    <a:pt x="1518" y="2794"/>
                  </a:lnTo>
                  <a:lnTo>
                    <a:pt x="1510" y="2780"/>
                  </a:lnTo>
                  <a:lnTo>
                    <a:pt x="1502" y="2772"/>
                  </a:lnTo>
                  <a:lnTo>
                    <a:pt x="1502" y="2758"/>
                  </a:lnTo>
                  <a:lnTo>
                    <a:pt x="1496" y="2744"/>
                  </a:lnTo>
                  <a:lnTo>
                    <a:pt x="1488" y="2736"/>
                  </a:lnTo>
                  <a:lnTo>
                    <a:pt x="1480" y="2722"/>
                  </a:lnTo>
                  <a:lnTo>
                    <a:pt x="1474" y="2714"/>
                  </a:lnTo>
                  <a:lnTo>
                    <a:pt x="1466" y="2700"/>
                  </a:lnTo>
                  <a:lnTo>
                    <a:pt x="1474" y="2706"/>
                  </a:lnTo>
                  <a:lnTo>
                    <a:pt x="1488" y="2706"/>
                  </a:lnTo>
                  <a:lnTo>
                    <a:pt x="1502" y="2706"/>
                  </a:lnTo>
                  <a:lnTo>
                    <a:pt x="1518" y="2706"/>
                  </a:lnTo>
                  <a:lnTo>
                    <a:pt x="1524" y="2714"/>
                  </a:lnTo>
                  <a:lnTo>
                    <a:pt x="1538" y="2714"/>
                  </a:lnTo>
                  <a:lnTo>
                    <a:pt x="1554" y="2706"/>
                  </a:lnTo>
                  <a:lnTo>
                    <a:pt x="1568" y="2706"/>
                  </a:lnTo>
                  <a:lnTo>
                    <a:pt x="1582" y="2706"/>
                  </a:lnTo>
                  <a:lnTo>
                    <a:pt x="1590" y="2706"/>
                  </a:lnTo>
                  <a:lnTo>
                    <a:pt x="1604" y="2700"/>
                  </a:lnTo>
                  <a:lnTo>
                    <a:pt x="1620" y="2700"/>
                  </a:lnTo>
                  <a:lnTo>
                    <a:pt x="1626" y="2692"/>
                  </a:lnTo>
                  <a:lnTo>
                    <a:pt x="1642" y="2692"/>
                  </a:lnTo>
                  <a:lnTo>
                    <a:pt x="1648" y="2684"/>
                  </a:lnTo>
                  <a:lnTo>
                    <a:pt x="1662" y="2678"/>
                  </a:lnTo>
                  <a:lnTo>
                    <a:pt x="1670" y="2670"/>
                  </a:lnTo>
                  <a:lnTo>
                    <a:pt x="1684" y="2662"/>
                  </a:lnTo>
                  <a:lnTo>
                    <a:pt x="1700" y="2656"/>
                  </a:lnTo>
                  <a:lnTo>
                    <a:pt x="1706" y="2648"/>
                  </a:lnTo>
                  <a:lnTo>
                    <a:pt x="1722" y="2634"/>
                  </a:lnTo>
                  <a:lnTo>
                    <a:pt x="1736" y="2626"/>
                  </a:lnTo>
                  <a:lnTo>
                    <a:pt x="1744" y="2612"/>
                  </a:lnTo>
                  <a:lnTo>
                    <a:pt x="1758" y="2598"/>
                  </a:lnTo>
                  <a:lnTo>
                    <a:pt x="1766" y="2582"/>
                  </a:lnTo>
                  <a:lnTo>
                    <a:pt x="1772" y="2568"/>
                  </a:lnTo>
                  <a:lnTo>
                    <a:pt x="1780" y="2546"/>
                  </a:lnTo>
                  <a:lnTo>
                    <a:pt x="1788" y="2524"/>
                  </a:lnTo>
                  <a:lnTo>
                    <a:pt x="1794" y="2502"/>
                  </a:lnTo>
                  <a:lnTo>
                    <a:pt x="1794" y="2480"/>
                  </a:lnTo>
                  <a:lnTo>
                    <a:pt x="1794" y="2458"/>
                  </a:lnTo>
                  <a:lnTo>
                    <a:pt x="1794" y="2430"/>
                  </a:lnTo>
                  <a:lnTo>
                    <a:pt x="1794" y="2414"/>
                  </a:lnTo>
                  <a:lnTo>
                    <a:pt x="1794" y="2400"/>
                  </a:lnTo>
                  <a:lnTo>
                    <a:pt x="1788" y="2386"/>
                  </a:lnTo>
                  <a:lnTo>
                    <a:pt x="1780" y="2378"/>
                  </a:lnTo>
                  <a:lnTo>
                    <a:pt x="1780" y="2364"/>
                  </a:lnTo>
                  <a:lnTo>
                    <a:pt x="1772" y="2350"/>
                  </a:lnTo>
                  <a:lnTo>
                    <a:pt x="1766" y="2334"/>
                  </a:lnTo>
                  <a:lnTo>
                    <a:pt x="1758" y="2320"/>
                  </a:lnTo>
                  <a:lnTo>
                    <a:pt x="1750" y="2306"/>
                  </a:lnTo>
                  <a:lnTo>
                    <a:pt x="1736" y="2290"/>
                  </a:lnTo>
                  <a:lnTo>
                    <a:pt x="1728" y="2284"/>
                  </a:lnTo>
                  <a:lnTo>
                    <a:pt x="1714" y="2268"/>
                  </a:lnTo>
                  <a:lnTo>
                    <a:pt x="1700" y="2254"/>
                  </a:lnTo>
                  <a:lnTo>
                    <a:pt x="1692" y="2248"/>
                  </a:lnTo>
                  <a:lnTo>
                    <a:pt x="1678" y="2232"/>
                  </a:lnTo>
                  <a:lnTo>
                    <a:pt x="1662" y="2218"/>
                  </a:lnTo>
                  <a:lnTo>
                    <a:pt x="1648" y="2210"/>
                  </a:lnTo>
                  <a:lnTo>
                    <a:pt x="1634" y="2204"/>
                  </a:lnTo>
                  <a:lnTo>
                    <a:pt x="1620" y="2188"/>
                  </a:lnTo>
                  <a:lnTo>
                    <a:pt x="1604" y="2182"/>
                  </a:lnTo>
                  <a:lnTo>
                    <a:pt x="1590" y="2174"/>
                  </a:lnTo>
                  <a:lnTo>
                    <a:pt x="1568" y="2166"/>
                  </a:lnTo>
                  <a:lnTo>
                    <a:pt x="1554" y="2160"/>
                  </a:lnTo>
                  <a:lnTo>
                    <a:pt x="1538" y="2152"/>
                  </a:lnTo>
                  <a:lnTo>
                    <a:pt x="1524" y="2144"/>
                  </a:lnTo>
                  <a:lnTo>
                    <a:pt x="1510" y="2138"/>
                  </a:lnTo>
                  <a:lnTo>
                    <a:pt x="1488" y="2138"/>
                  </a:lnTo>
                  <a:lnTo>
                    <a:pt x="1474" y="2130"/>
                  </a:lnTo>
                  <a:lnTo>
                    <a:pt x="1458" y="2122"/>
                  </a:lnTo>
                  <a:lnTo>
                    <a:pt x="1444" y="2122"/>
                  </a:lnTo>
                  <a:lnTo>
                    <a:pt x="1422" y="2116"/>
                  </a:lnTo>
                  <a:lnTo>
                    <a:pt x="1408" y="2116"/>
                  </a:lnTo>
                  <a:lnTo>
                    <a:pt x="1458" y="2108"/>
                  </a:lnTo>
                  <a:lnTo>
                    <a:pt x="1518" y="2108"/>
                  </a:lnTo>
                  <a:lnTo>
                    <a:pt x="1576" y="2108"/>
                  </a:lnTo>
                  <a:lnTo>
                    <a:pt x="1626" y="2116"/>
                  </a:lnTo>
                  <a:lnTo>
                    <a:pt x="1684" y="2116"/>
                  </a:lnTo>
                  <a:lnTo>
                    <a:pt x="1744" y="2122"/>
                  </a:lnTo>
                  <a:lnTo>
                    <a:pt x="1794" y="2138"/>
                  </a:lnTo>
                  <a:lnTo>
                    <a:pt x="1852" y="2144"/>
                  </a:lnTo>
                  <a:lnTo>
                    <a:pt x="1912" y="2160"/>
                  </a:lnTo>
                  <a:lnTo>
                    <a:pt x="1962" y="2182"/>
                  </a:lnTo>
                  <a:lnTo>
                    <a:pt x="2020" y="2196"/>
                  </a:lnTo>
                  <a:lnTo>
                    <a:pt x="2072" y="2218"/>
                  </a:lnTo>
                  <a:lnTo>
                    <a:pt x="2130" y="2240"/>
                  </a:lnTo>
                  <a:lnTo>
                    <a:pt x="2182" y="2268"/>
                  </a:lnTo>
                  <a:lnTo>
                    <a:pt x="2232" y="2298"/>
                  </a:lnTo>
                  <a:lnTo>
                    <a:pt x="2284" y="2328"/>
                  </a:lnTo>
                  <a:lnTo>
                    <a:pt x="2284" y="2328"/>
                  </a:lnTo>
                  <a:close/>
                  <a:moveTo>
                    <a:pt x="620" y="2560"/>
                  </a:moveTo>
                  <a:lnTo>
                    <a:pt x="634" y="2532"/>
                  </a:lnTo>
                  <a:lnTo>
                    <a:pt x="656" y="2502"/>
                  </a:lnTo>
                  <a:lnTo>
                    <a:pt x="670" y="2480"/>
                  </a:lnTo>
                  <a:lnTo>
                    <a:pt x="692" y="2452"/>
                  </a:lnTo>
                  <a:lnTo>
                    <a:pt x="714" y="2430"/>
                  </a:lnTo>
                  <a:lnTo>
                    <a:pt x="736" y="2408"/>
                  </a:lnTo>
                  <a:lnTo>
                    <a:pt x="758" y="2386"/>
                  </a:lnTo>
                  <a:lnTo>
                    <a:pt x="780" y="2364"/>
                  </a:lnTo>
                  <a:lnTo>
                    <a:pt x="810" y="2342"/>
                  </a:lnTo>
                  <a:lnTo>
                    <a:pt x="832" y="2320"/>
                  </a:lnTo>
                  <a:lnTo>
                    <a:pt x="860" y="2306"/>
                  </a:lnTo>
                  <a:lnTo>
                    <a:pt x="882" y="2284"/>
                  </a:lnTo>
                  <a:lnTo>
                    <a:pt x="912" y="2268"/>
                  </a:lnTo>
                  <a:lnTo>
                    <a:pt x="940" y="2254"/>
                  </a:lnTo>
                  <a:lnTo>
                    <a:pt x="970" y="2240"/>
                  </a:lnTo>
                  <a:lnTo>
                    <a:pt x="998" y="2226"/>
                  </a:lnTo>
                  <a:lnTo>
                    <a:pt x="1014" y="2218"/>
                  </a:lnTo>
                  <a:lnTo>
                    <a:pt x="1020" y="2210"/>
                  </a:lnTo>
                  <a:lnTo>
                    <a:pt x="1036" y="2204"/>
                  </a:lnTo>
                  <a:lnTo>
                    <a:pt x="1050" y="2204"/>
                  </a:lnTo>
                  <a:lnTo>
                    <a:pt x="1058" y="2196"/>
                  </a:lnTo>
                  <a:lnTo>
                    <a:pt x="1072" y="2188"/>
                  </a:lnTo>
                  <a:lnTo>
                    <a:pt x="1086" y="2188"/>
                  </a:lnTo>
                  <a:lnTo>
                    <a:pt x="1102" y="2182"/>
                  </a:lnTo>
                  <a:lnTo>
                    <a:pt x="1108" y="2174"/>
                  </a:lnTo>
                  <a:lnTo>
                    <a:pt x="1124" y="2174"/>
                  </a:lnTo>
                  <a:lnTo>
                    <a:pt x="1138" y="2166"/>
                  </a:lnTo>
                  <a:lnTo>
                    <a:pt x="1152" y="2166"/>
                  </a:lnTo>
                  <a:lnTo>
                    <a:pt x="1166" y="2160"/>
                  </a:lnTo>
                  <a:lnTo>
                    <a:pt x="1174" y="2160"/>
                  </a:lnTo>
                  <a:lnTo>
                    <a:pt x="1188" y="2152"/>
                  </a:lnTo>
                  <a:lnTo>
                    <a:pt x="1204" y="2152"/>
                  </a:lnTo>
                  <a:lnTo>
                    <a:pt x="1232" y="2144"/>
                  </a:lnTo>
                  <a:lnTo>
                    <a:pt x="1262" y="2138"/>
                  </a:lnTo>
                  <a:lnTo>
                    <a:pt x="1284" y="2138"/>
                  </a:lnTo>
                  <a:lnTo>
                    <a:pt x="1312" y="2138"/>
                  </a:lnTo>
                  <a:lnTo>
                    <a:pt x="1342" y="2138"/>
                  </a:lnTo>
                  <a:lnTo>
                    <a:pt x="1372" y="2144"/>
                  </a:lnTo>
                  <a:lnTo>
                    <a:pt x="1400" y="2144"/>
                  </a:lnTo>
                  <a:lnTo>
                    <a:pt x="1430" y="2152"/>
                  </a:lnTo>
                  <a:lnTo>
                    <a:pt x="1458" y="2160"/>
                  </a:lnTo>
                  <a:lnTo>
                    <a:pt x="1488" y="2166"/>
                  </a:lnTo>
                  <a:lnTo>
                    <a:pt x="1518" y="2182"/>
                  </a:lnTo>
                  <a:lnTo>
                    <a:pt x="1538" y="2188"/>
                  </a:lnTo>
                  <a:lnTo>
                    <a:pt x="1568" y="2204"/>
                  </a:lnTo>
                  <a:lnTo>
                    <a:pt x="1590" y="2218"/>
                  </a:lnTo>
                  <a:lnTo>
                    <a:pt x="1620" y="2232"/>
                  </a:lnTo>
                  <a:lnTo>
                    <a:pt x="1642" y="2248"/>
                  </a:lnTo>
                  <a:lnTo>
                    <a:pt x="1656" y="2262"/>
                  </a:lnTo>
                  <a:lnTo>
                    <a:pt x="1662" y="2268"/>
                  </a:lnTo>
                  <a:lnTo>
                    <a:pt x="1678" y="2284"/>
                  </a:lnTo>
                  <a:lnTo>
                    <a:pt x="1692" y="2290"/>
                  </a:lnTo>
                  <a:lnTo>
                    <a:pt x="1700" y="2306"/>
                  </a:lnTo>
                  <a:lnTo>
                    <a:pt x="1706" y="2312"/>
                  </a:lnTo>
                  <a:lnTo>
                    <a:pt x="1722" y="2328"/>
                  </a:lnTo>
                  <a:lnTo>
                    <a:pt x="1728" y="2334"/>
                  </a:lnTo>
                  <a:lnTo>
                    <a:pt x="1736" y="2350"/>
                  </a:lnTo>
                  <a:lnTo>
                    <a:pt x="1744" y="2364"/>
                  </a:lnTo>
                  <a:lnTo>
                    <a:pt x="1744" y="2372"/>
                  </a:lnTo>
                  <a:lnTo>
                    <a:pt x="1750" y="2386"/>
                  </a:lnTo>
                  <a:lnTo>
                    <a:pt x="1750" y="2400"/>
                  </a:lnTo>
                  <a:lnTo>
                    <a:pt x="1758" y="2408"/>
                  </a:lnTo>
                  <a:lnTo>
                    <a:pt x="1758" y="2422"/>
                  </a:lnTo>
                  <a:lnTo>
                    <a:pt x="1758" y="2430"/>
                  </a:lnTo>
                  <a:lnTo>
                    <a:pt x="1758" y="2458"/>
                  </a:lnTo>
                  <a:lnTo>
                    <a:pt x="1758" y="2480"/>
                  </a:lnTo>
                  <a:lnTo>
                    <a:pt x="1758" y="2496"/>
                  </a:lnTo>
                  <a:lnTo>
                    <a:pt x="1750" y="2518"/>
                  </a:lnTo>
                  <a:lnTo>
                    <a:pt x="1750" y="2532"/>
                  </a:lnTo>
                  <a:lnTo>
                    <a:pt x="1744" y="2546"/>
                  </a:lnTo>
                  <a:lnTo>
                    <a:pt x="1736" y="2560"/>
                  </a:lnTo>
                  <a:lnTo>
                    <a:pt x="1728" y="2576"/>
                  </a:lnTo>
                  <a:lnTo>
                    <a:pt x="1722" y="2590"/>
                  </a:lnTo>
                  <a:lnTo>
                    <a:pt x="1706" y="2598"/>
                  </a:lnTo>
                  <a:lnTo>
                    <a:pt x="1700" y="2612"/>
                  </a:lnTo>
                  <a:lnTo>
                    <a:pt x="1684" y="2620"/>
                  </a:lnTo>
                  <a:lnTo>
                    <a:pt x="1678" y="2626"/>
                  </a:lnTo>
                  <a:lnTo>
                    <a:pt x="1662" y="2634"/>
                  </a:lnTo>
                  <a:lnTo>
                    <a:pt x="1656" y="2648"/>
                  </a:lnTo>
                  <a:lnTo>
                    <a:pt x="1642" y="2648"/>
                  </a:lnTo>
                  <a:lnTo>
                    <a:pt x="1634" y="2656"/>
                  </a:lnTo>
                  <a:lnTo>
                    <a:pt x="1626" y="2662"/>
                  </a:lnTo>
                  <a:lnTo>
                    <a:pt x="1612" y="2662"/>
                  </a:lnTo>
                  <a:lnTo>
                    <a:pt x="1598" y="2670"/>
                  </a:lnTo>
                  <a:lnTo>
                    <a:pt x="1590" y="2670"/>
                  </a:lnTo>
                  <a:lnTo>
                    <a:pt x="1576" y="2678"/>
                  </a:lnTo>
                  <a:lnTo>
                    <a:pt x="1560" y="2678"/>
                  </a:lnTo>
                  <a:lnTo>
                    <a:pt x="1554" y="2678"/>
                  </a:lnTo>
                  <a:lnTo>
                    <a:pt x="1538" y="2678"/>
                  </a:lnTo>
                  <a:lnTo>
                    <a:pt x="1524" y="2678"/>
                  </a:lnTo>
                  <a:lnTo>
                    <a:pt x="1510" y="2678"/>
                  </a:lnTo>
                  <a:lnTo>
                    <a:pt x="1496" y="2678"/>
                  </a:lnTo>
                  <a:lnTo>
                    <a:pt x="1488" y="2670"/>
                  </a:lnTo>
                  <a:lnTo>
                    <a:pt x="1474" y="2670"/>
                  </a:lnTo>
                  <a:lnTo>
                    <a:pt x="1458" y="2662"/>
                  </a:lnTo>
                  <a:lnTo>
                    <a:pt x="1452" y="2662"/>
                  </a:lnTo>
                  <a:lnTo>
                    <a:pt x="1436" y="2656"/>
                  </a:lnTo>
                  <a:lnTo>
                    <a:pt x="1422" y="2648"/>
                  </a:lnTo>
                  <a:lnTo>
                    <a:pt x="1408" y="2634"/>
                  </a:lnTo>
                  <a:lnTo>
                    <a:pt x="1400" y="2626"/>
                  </a:lnTo>
                  <a:lnTo>
                    <a:pt x="1394" y="2612"/>
                  </a:lnTo>
                  <a:lnTo>
                    <a:pt x="1378" y="2598"/>
                  </a:lnTo>
                  <a:lnTo>
                    <a:pt x="1372" y="2590"/>
                  </a:lnTo>
                  <a:lnTo>
                    <a:pt x="1364" y="2576"/>
                  </a:lnTo>
                  <a:lnTo>
                    <a:pt x="1364" y="2560"/>
                  </a:lnTo>
                  <a:lnTo>
                    <a:pt x="1356" y="2546"/>
                  </a:lnTo>
                  <a:lnTo>
                    <a:pt x="1356" y="2532"/>
                  </a:lnTo>
                  <a:lnTo>
                    <a:pt x="1356" y="2518"/>
                  </a:lnTo>
                  <a:lnTo>
                    <a:pt x="1356" y="2502"/>
                  </a:lnTo>
                  <a:lnTo>
                    <a:pt x="1356" y="2488"/>
                  </a:lnTo>
                  <a:lnTo>
                    <a:pt x="1356" y="2474"/>
                  </a:lnTo>
                  <a:lnTo>
                    <a:pt x="1356" y="2458"/>
                  </a:lnTo>
                  <a:lnTo>
                    <a:pt x="1364" y="2444"/>
                  </a:lnTo>
                  <a:lnTo>
                    <a:pt x="1372" y="2436"/>
                  </a:lnTo>
                  <a:lnTo>
                    <a:pt x="1378" y="2422"/>
                  </a:lnTo>
                  <a:lnTo>
                    <a:pt x="1386" y="2414"/>
                  </a:lnTo>
                  <a:lnTo>
                    <a:pt x="1394" y="2400"/>
                  </a:lnTo>
                  <a:lnTo>
                    <a:pt x="1400" y="2392"/>
                  </a:lnTo>
                  <a:lnTo>
                    <a:pt x="1408" y="2386"/>
                  </a:lnTo>
                  <a:lnTo>
                    <a:pt x="1422" y="2378"/>
                  </a:lnTo>
                  <a:lnTo>
                    <a:pt x="1430" y="2372"/>
                  </a:lnTo>
                  <a:lnTo>
                    <a:pt x="1444" y="2364"/>
                  </a:lnTo>
                  <a:lnTo>
                    <a:pt x="1452" y="2356"/>
                  </a:lnTo>
                  <a:lnTo>
                    <a:pt x="1466" y="2350"/>
                  </a:lnTo>
                  <a:lnTo>
                    <a:pt x="1480" y="2350"/>
                  </a:lnTo>
                  <a:lnTo>
                    <a:pt x="1496" y="2350"/>
                  </a:lnTo>
                  <a:lnTo>
                    <a:pt x="1510" y="2350"/>
                  </a:lnTo>
                  <a:lnTo>
                    <a:pt x="1524" y="2350"/>
                  </a:lnTo>
                  <a:lnTo>
                    <a:pt x="1538" y="2350"/>
                  </a:lnTo>
                  <a:lnTo>
                    <a:pt x="1554" y="2356"/>
                  </a:lnTo>
                  <a:lnTo>
                    <a:pt x="1568" y="2356"/>
                  </a:lnTo>
                  <a:lnTo>
                    <a:pt x="1576" y="2364"/>
                  </a:lnTo>
                  <a:lnTo>
                    <a:pt x="1590" y="2372"/>
                  </a:lnTo>
                  <a:lnTo>
                    <a:pt x="1598" y="2378"/>
                  </a:lnTo>
                  <a:lnTo>
                    <a:pt x="1612" y="2386"/>
                  </a:lnTo>
                  <a:lnTo>
                    <a:pt x="1620" y="2392"/>
                  </a:lnTo>
                  <a:lnTo>
                    <a:pt x="1626" y="2400"/>
                  </a:lnTo>
                  <a:lnTo>
                    <a:pt x="1626" y="2414"/>
                  </a:lnTo>
                  <a:lnTo>
                    <a:pt x="1634" y="2422"/>
                  </a:lnTo>
                  <a:lnTo>
                    <a:pt x="1642" y="2436"/>
                  </a:lnTo>
                  <a:lnTo>
                    <a:pt x="1642" y="2452"/>
                  </a:lnTo>
                  <a:lnTo>
                    <a:pt x="1642" y="2458"/>
                  </a:lnTo>
                  <a:lnTo>
                    <a:pt x="1642" y="2474"/>
                  </a:lnTo>
                  <a:lnTo>
                    <a:pt x="1642" y="2496"/>
                  </a:lnTo>
                  <a:lnTo>
                    <a:pt x="1642" y="2502"/>
                  </a:lnTo>
                  <a:lnTo>
                    <a:pt x="1642" y="2510"/>
                  </a:lnTo>
                  <a:lnTo>
                    <a:pt x="1642" y="2518"/>
                  </a:lnTo>
                  <a:lnTo>
                    <a:pt x="1634" y="2524"/>
                  </a:lnTo>
                  <a:lnTo>
                    <a:pt x="1634" y="2532"/>
                  </a:lnTo>
                  <a:lnTo>
                    <a:pt x="1626" y="2532"/>
                  </a:lnTo>
                  <a:lnTo>
                    <a:pt x="1626" y="2538"/>
                  </a:lnTo>
                  <a:lnTo>
                    <a:pt x="1620" y="2538"/>
                  </a:lnTo>
                  <a:lnTo>
                    <a:pt x="1620" y="2546"/>
                  </a:lnTo>
                  <a:lnTo>
                    <a:pt x="1612" y="2546"/>
                  </a:lnTo>
                  <a:lnTo>
                    <a:pt x="1612" y="2554"/>
                  </a:lnTo>
                  <a:lnTo>
                    <a:pt x="1604" y="2554"/>
                  </a:lnTo>
                  <a:lnTo>
                    <a:pt x="1598" y="2560"/>
                  </a:lnTo>
                  <a:lnTo>
                    <a:pt x="1590" y="2560"/>
                  </a:lnTo>
                  <a:lnTo>
                    <a:pt x="1582" y="2560"/>
                  </a:lnTo>
                  <a:lnTo>
                    <a:pt x="1576" y="2560"/>
                  </a:lnTo>
                  <a:lnTo>
                    <a:pt x="1568" y="2568"/>
                  </a:lnTo>
                  <a:lnTo>
                    <a:pt x="1560" y="2568"/>
                  </a:lnTo>
                  <a:lnTo>
                    <a:pt x="1554" y="2568"/>
                  </a:lnTo>
                  <a:lnTo>
                    <a:pt x="1546" y="2568"/>
                  </a:lnTo>
                  <a:lnTo>
                    <a:pt x="1538" y="2568"/>
                  </a:lnTo>
                  <a:lnTo>
                    <a:pt x="1538" y="2560"/>
                  </a:lnTo>
                  <a:lnTo>
                    <a:pt x="1532" y="2560"/>
                  </a:lnTo>
                  <a:lnTo>
                    <a:pt x="1524" y="2560"/>
                  </a:lnTo>
                  <a:lnTo>
                    <a:pt x="1518" y="2554"/>
                  </a:lnTo>
                  <a:lnTo>
                    <a:pt x="1510" y="2554"/>
                  </a:lnTo>
                  <a:lnTo>
                    <a:pt x="1510" y="2546"/>
                  </a:lnTo>
                  <a:lnTo>
                    <a:pt x="1510" y="2538"/>
                  </a:lnTo>
                  <a:lnTo>
                    <a:pt x="1502" y="2538"/>
                  </a:lnTo>
                  <a:lnTo>
                    <a:pt x="1502" y="2532"/>
                  </a:lnTo>
                  <a:lnTo>
                    <a:pt x="1496" y="2532"/>
                  </a:lnTo>
                  <a:lnTo>
                    <a:pt x="1496" y="2524"/>
                  </a:lnTo>
                  <a:lnTo>
                    <a:pt x="1496" y="2518"/>
                  </a:lnTo>
                  <a:lnTo>
                    <a:pt x="1496" y="2510"/>
                  </a:lnTo>
                  <a:lnTo>
                    <a:pt x="1496" y="2502"/>
                  </a:lnTo>
                  <a:lnTo>
                    <a:pt x="1502" y="2496"/>
                  </a:lnTo>
                  <a:lnTo>
                    <a:pt x="1502" y="2488"/>
                  </a:lnTo>
                  <a:lnTo>
                    <a:pt x="1510" y="2480"/>
                  </a:lnTo>
                  <a:lnTo>
                    <a:pt x="1518" y="2480"/>
                  </a:lnTo>
                  <a:lnTo>
                    <a:pt x="1524" y="2474"/>
                  </a:lnTo>
                  <a:lnTo>
                    <a:pt x="1532" y="2474"/>
                  </a:lnTo>
                  <a:lnTo>
                    <a:pt x="1538" y="2474"/>
                  </a:lnTo>
                  <a:lnTo>
                    <a:pt x="1546" y="2466"/>
                  </a:lnTo>
                  <a:lnTo>
                    <a:pt x="1554" y="2466"/>
                  </a:lnTo>
                  <a:lnTo>
                    <a:pt x="1554" y="2436"/>
                  </a:lnTo>
                  <a:lnTo>
                    <a:pt x="1546" y="2436"/>
                  </a:lnTo>
                  <a:lnTo>
                    <a:pt x="1538" y="2436"/>
                  </a:lnTo>
                  <a:lnTo>
                    <a:pt x="1532" y="2436"/>
                  </a:lnTo>
                  <a:lnTo>
                    <a:pt x="1524" y="2436"/>
                  </a:lnTo>
                  <a:lnTo>
                    <a:pt x="1518" y="2444"/>
                  </a:lnTo>
                  <a:lnTo>
                    <a:pt x="1510" y="2444"/>
                  </a:lnTo>
                  <a:lnTo>
                    <a:pt x="1502" y="2444"/>
                  </a:lnTo>
                  <a:lnTo>
                    <a:pt x="1496" y="2452"/>
                  </a:lnTo>
                  <a:lnTo>
                    <a:pt x="1488" y="2458"/>
                  </a:lnTo>
                  <a:lnTo>
                    <a:pt x="1480" y="2458"/>
                  </a:lnTo>
                  <a:lnTo>
                    <a:pt x="1474" y="2466"/>
                  </a:lnTo>
                  <a:lnTo>
                    <a:pt x="1474" y="2474"/>
                  </a:lnTo>
                  <a:lnTo>
                    <a:pt x="1466" y="2488"/>
                  </a:lnTo>
                  <a:lnTo>
                    <a:pt x="1466" y="2496"/>
                  </a:lnTo>
                  <a:lnTo>
                    <a:pt x="1466" y="2502"/>
                  </a:lnTo>
                  <a:lnTo>
                    <a:pt x="1466" y="2510"/>
                  </a:lnTo>
                  <a:lnTo>
                    <a:pt x="1466" y="2518"/>
                  </a:lnTo>
                  <a:lnTo>
                    <a:pt x="1466" y="2524"/>
                  </a:lnTo>
                  <a:lnTo>
                    <a:pt x="1466" y="2532"/>
                  </a:lnTo>
                  <a:lnTo>
                    <a:pt x="1466" y="2538"/>
                  </a:lnTo>
                  <a:lnTo>
                    <a:pt x="1466" y="2546"/>
                  </a:lnTo>
                  <a:lnTo>
                    <a:pt x="1474" y="2546"/>
                  </a:lnTo>
                  <a:lnTo>
                    <a:pt x="1474" y="2554"/>
                  </a:lnTo>
                  <a:lnTo>
                    <a:pt x="1474" y="2560"/>
                  </a:lnTo>
                  <a:lnTo>
                    <a:pt x="1480" y="2560"/>
                  </a:lnTo>
                  <a:lnTo>
                    <a:pt x="1480" y="2568"/>
                  </a:lnTo>
                  <a:lnTo>
                    <a:pt x="1488" y="2576"/>
                  </a:lnTo>
                  <a:lnTo>
                    <a:pt x="1496" y="2582"/>
                  </a:lnTo>
                  <a:lnTo>
                    <a:pt x="1502" y="2582"/>
                  </a:lnTo>
                  <a:lnTo>
                    <a:pt x="1510" y="2590"/>
                  </a:lnTo>
                  <a:lnTo>
                    <a:pt x="1518" y="2590"/>
                  </a:lnTo>
                  <a:lnTo>
                    <a:pt x="1524" y="2598"/>
                  </a:lnTo>
                  <a:lnTo>
                    <a:pt x="1532" y="2598"/>
                  </a:lnTo>
                  <a:lnTo>
                    <a:pt x="1538" y="2598"/>
                  </a:lnTo>
                  <a:lnTo>
                    <a:pt x="1546" y="2598"/>
                  </a:lnTo>
                  <a:lnTo>
                    <a:pt x="1554" y="2598"/>
                  </a:lnTo>
                  <a:lnTo>
                    <a:pt x="1560" y="2598"/>
                  </a:lnTo>
                  <a:lnTo>
                    <a:pt x="1568" y="2598"/>
                  </a:lnTo>
                  <a:lnTo>
                    <a:pt x="1576" y="2598"/>
                  </a:lnTo>
                  <a:lnTo>
                    <a:pt x="1582" y="2598"/>
                  </a:lnTo>
                  <a:lnTo>
                    <a:pt x="1590" y="2598"/>
                  </a:lnTo>
                  <a:lnTo>
                    <a:pt x="1598" y="2598"/>
                  </a:lnTo>
                  <a:lnTo>
                    <a:pt x="1598" y="2590"/>
                  </a:lnTo>
                  <a:lnTo>
                    <a:pt x="1604" y="2590"/>
                  </a:lnTo>
                  <a:lnTo>
                    <a:pt x="1612" y="2590"/>
                  </a:lnTo>
                  <a:lnTo>
                    <a:pt x="1620" y="2582"/>
                  </a:lnTo>
                  <a:lnTo>
                    <a:pt x="1626" y="2582"/>
                  </a:lnTo>
                  <a:lnTo>
                    <a:pt x="1634" y="2576"/>
                  </a:lnTo>
                  <a:lnTo>
                    <a:pt x="1642" y="2576"/>
                  </a:lnTo>
                  <a:lnTo>
                    <a:pt x="1642" y="2568"/>
                  </a:lnTo>
                  <a:lnTo>
                    <a:pt x="1648" y="2568"/>
                  </a:lnTo>
                  <a:lnTo>
                    <a:pt x="1648" y="2560"/>
                  </a:lnTo>
                  <a:lnTo>
                    <a:pt x="1656" y="2554"/>
                  </a:lnTo>
                  <a:lnTo>
                    <a:pt x="1662" y="2546"/>
                  </a:lnTo>
                  <a:lnTo>
                    <a:pt x="1670" y="2538"/>
                  </a:lnTo>
                  <a:lnTo>
                    <a:pt x="1670" y="2532"/>
                  </a:lnTo>
                  <a:lnTo>
                    <a:pt x="1670" y="2524"/>
                  </a:lnTo>
                  <a:lnTo>
                    <a:pt x="1678" y="2518"/>
                  </a:lnTo>
                  <a:lnTo>
                    <a:pt x="1678" y="2510"/>
                  </a:lnTo>
                  <a:lnTo>
                    <a:pt x="1678" y="2502"/>
                  </a:lnTo>
                  <a:lnTo>
                    <a:pt x="1678" y="2496"/>
                  </a:lnTo>
                  <a:lnTo>
                    <a:pt x="1678" y="2474"/>
                  </a:lnTo>
                  <a:lnTo>
                    <a:pt x="1678" y="2458"/>
                  </a:lnTo>
                  <a:lnTo>
                    <a:pt x="1678" y="2436"/>
                  </a:lnTo>
                  <a:lnTo>
                    <a:pt x="1670" y="2422"/>
                  </a:lnTo>
                  <a:lnTo>
                    <a:pt x="1662" y="2408"/>
                  </a:lnTo>
                  <a:lnTo>
                    <a:pt x="1656" y="2392"/>
                  </a:lnTo>
                  <a:lnTo>
                    <a:pt x="1648" y="2386"/>
                  </a:lnTo>
                  <a:lnTo>
                    <a:pt x="1642" y="2372"/>
                  </a:lnTo>
                  <a:lnTo>
                    <a:pt x="1634" y="2364"/>
                  </a:lnTo>
                  <a:lnTo>
                    <a:pt x="1620" y="2350"/>
                  </a:lnTo>
                  <a:lnTo>
                    <a:pt x="1612" y="2342"/>
                  </a:lnTo>
                  <a:lnTo>
                    <a:pt x="1598" y="2334"/>
                  </a:lnTo>
                  <a:lnTo>
                    <a:pt x="1582" y="2328"/>
                  </a:lnTo>
                  <a:lnTo>
                    <a:pt x="1568" y="2328"/>
                  </a:lnTo>
                  <a:lnTo>
                    <a:pt x="1546" y="2320"/>
                  </a:lnTo>
                  <a:lnTo>
                    <a:pt x="1532" y="2320"/>
                  </a:lnTo>
                  <a:lnTo>
                    <a:pt x="1510" y="2312"/>
                  </a:lnTo>
                  <a:lnTo>
                    <a:pt x="1496" y="2312"/>
                  </a:lnTo>
                  <a:lnTo>
                    <a:pt x="1474" y="2320"/>
                  </a:lnTo>
                  <a:lnTo>
                    <a:pt x="1458" y="2320"/>
                  </a:lnTo>
                  <a:lnTo>
                    <a:pt x="1444" y="2328"/>
                  </a:lnTo>
                  <a:lnTo>
                    <a:pt x="1430" y="2334"/>
                  </a:lnTo>
                  <a:lnTo>
                    <a:pt x="1414" y="2342"/>
                  </a:lnTo>
                  <a:lnTo>
                    <a:pt x="1400" y="2350"/>
                  </a:lnTo>
                  <a:lnTo>
                    <a:pt x="1386" y="2356"/>
                  </a:lnTo>
                  <a:lnTo>
                    <a:pt x="1378" y="2372"/>
                  </a:lnTo>
                  <a:lnTo>
                    <a:pt x="1364" y="2378"/>
                  </a:lnTo>
                  <a:lnTo>
                    <a:pt x="1356" y="2392"/>
                  </a:lnTo>
                  <a:lnTo>
                    <a:pt x="1350" y="2408"/>
                  </a:lnTo>
                  <a:lnTo>
                    <a:pt x="1342" y="2422"/>
                  </a:lnTo>
                  <a:lnTo>
                    <a:pt x="1334" y="2436"/>
                  </a:lnTo>
                  <a:lnTo>
                    <a:pt x="1328" y="2452"/>
                  </a:lnTo>
                  <a:lnTo>
                    <a:pt x="1328" y="2458"/>
                  </a:lnTo>
                  <a:lnTo>
                    <a:pt x="1328" y="2466"/>
                  </a:lnTo>
                  <a:lnTo>
                    <a:pt x="1320" y="2474"/>
                  </a:lnTo>
                  <a:lnTo>
                    <a:pt x="1320" y="2480"/>
                  </a:lnTo>
                  <a:lnTo>
                    <a:pt x="1320" y="2488"/>
                  </a:lnTo>
                  <a:lnTo>
                    <a:pt x="1320" y="2496"/>
                  </a:lnTo>
                  <a:lnTo>
                    <a:pt x="1320" y="2510"/>
                  </a:lnTo>
                  <a:lnTo>
                    <a:pt x="1320" y="2518"/>
                  </a:lnTo>
                  <a:lnTo>
                    <a:pt x="1320" y="2524"/>
                  </a:lnTo>
                  <a:lnTo>
                    <a:pt x="1320" y="2532"/>
                  </a:lnTo>
                  <a:lnTo>
                    <a:pt x="1328" y="2546"/>
                  </a:lnTo>
                  <a:lnTo>
                    <a:pt x="1328" y="2554"/>
                  </a:lnTo>
                  <a:lnTo>
                    <a:pt x="1328" y="2560"/>
                  </a:lnTo>
                  <a:lnTo>
                    <a:pt x="1328" y="2568"/>
                  </a:lnTo>
                  <a:lnTo>
                    <a:pt x="1334" y="2582"/>
                  </a:lnTo>
                  <a:lnTo>
                    <a:pt x="1334" y="2590"/>
                  </a:lnTo>
                  <a:lnTo>
                    <a:pt x="1320" y="2582"/>
                  </a:lnTo>
                  <a:lnTo>
                    <a:pt x="1306" y="2576"/>
                  </a:lnTo>
                  <a:lnTo>
                    <a:pt x="1290" y="2568"/>
                  </a:lnTo>
                  <a:lnTo>
                    <a:pt x="1276" y="2560"/>
                  </a:lnTo>
                  <a:lnTo>
                    <a:pt x="1262" y="2554"/>
                  </a:lnTo>
                  <a:lnTo>
                    <a:pt x="1248" y="2554"/>
                  </a:lnTo>
                  <a:lnTo>
                    <a:pt x="1232" y="2546"/>
                  </a:lnTo>
                  <a:lnTo>
                    <a:pt x="1218" y="2546"/>
                  </a:lnTo>
                  <a:lnTo>
                    <a:pt x="1204" y="2538"/>
                  </a:lnTo>
                  <a:lnTo>
                    <a:pt x="1182" y="2538"/>
                  </a:lnTo>
                  <a:lnTo>
                    <a:pt x="1166" y="2538"/>
                  </a:lnTo>
                  <a:lnTo>
                    <a:pt x="1152" y="2532"/>
                  </a:lnTo>
                  <a:lnTo>
                    <a:pt x="1138" y="2532"/>
                  </a:lnTo>
                  <a:lnTo>
                    <a:pt x="1124" y="2532"/>
                  </a:lnTo>
                  <a:lnTo>
                    <a:pt x="1108" y="2532"/>
                  </a:lnTo>
                  <a:lnTo>
                    <a:pt x="1094" y="2538"/>
                  </a:lnTo>
                  <a:lnTo>
                    <a:pt x="1058" y="2538"/>
                  </a:lnTo>
                  <a:lnTo>
                    <a:pt x="1028" y="2546"/>
                  </a:lnTo>
                  <a:lnTo>
                    <a:pt x="998" y="2554"/>
                  </a:lnTo>
                  <a:lnTo>
                    <a:pt x="970" y="2560"/>
                  </a:lnTo>
                  <a:lnTo>
                    <a:pt x="948" y="2576"/>
                  </a:lnTo>
                  <a:lnTo>
                    <a:pt x="926" y="2582"/>
                  </a:lnTo>
                  <a:lnTo>
                    <a:pt x="904" y="2598"/>
                  </a:lnTo>
                  <a:lnTo>
                    <a:pt x="890" y="2612"/>
                  </a:lnTo>
                  <a:lnTo>
                    <a:pt x="874" y="2626"/>
                  </a:lnTo>
                  <a:lnTo>
                    <a:pt x="860" y="2634"/>
                  </a:lnTo>
                  <a:lnTo>
                    <a:pt x="846" y="2648"/>
                  </a:lnTo>
                  <a:lnTo>
                    <a:pt x="832" y="2662"/>
                  </a:lnTo>
                  <a:lnTo>
                    <a:pt x="824" y="2678"/>
                  </a:lnTo>
                  <a:lnTo>
                    <a:pt x="810" y="2692"/>
                  </a:lnTo>
                  <a:lnTo>
                    <a:pt x="802" y="2706"/>
                  </a:lnTo>
                  <a:lnTo>
                    <a:pt x="794" y="2714"/>
                  </a:lnTo>
                  <a:lnTo>
                    <a:pt x="788" y="2728"/>
                  </a:lnTo>
                  <a:lnTo>
                    <a:pt x="780" y="2750"/>
                  </a:lnTo>
                  <a:lnTo>
                    <a:pt x="772" y="2766"/>
                  </a:lnTo>
                  <a:lnTo>
                    <a:pt x="772" y="2780"/>
                  </a:lnTo>
                  <a:lnTo>
                    <a:pt x="766" y="2794"/>
                  </a:lnTo>
                  <a:lnTo>
                    <a:pt x="766" y="2816"/>
                  </a:lnTo>
                  <a:lnTo>
                    <a:pt x="766" y="2830"/>
                  </a:lnTo>
                  <a:lnTo>
                    <a:pt x="758" y="2846"/>
                  </a:lnTo>
                  <a:lnTo>
                    <a:pt x="758" y="2868"/>
                  </a:lnTo>
                  <a:lnTo>
                    <a:pt x="766" y="2882"/>
                  </a:lnTo>
                  <a:lnTo>
                    <a:pt x="766" y="2896"/>
                  </a:lnTo>
                  <a:lnTo>
                    <a:pt x="766" y="2912"/>
                  </a:lnTo>
                  <a:lnTo>
                    <a:pt x="772" y="2932"/>
                  </a:lnTo>
                  <a:lnTo>
                    <a:pt x="780" y="2948"/>
                  </a:lnTo>
                  <a:lnTo>
                    <a:pt x="780" y="2962"/>
                  </a:lnTo>
                  <a:lnTo>
                    <a:pt x="788" y="2976"/>
                  </a:lnTo>
                  <a:lnTo>
                    <a:pt x="802" y="2998"/>
                  </a:lnTo>
                  <a:lnTo>
                    <a:pt x="816" y="3020"/>
                  </a:lnTo>
                  <a:lnTo>
                    <a:pt x="832" y="3036"/>
                  </a:lnTo>
                  <a:lnTo>
                    <a:pt x="846" y="3056"/>
                  </a:lnTo>
                  <a:lnTo>
                    <a:pt x="868" y="3072"/>
                  </a:lnTo>
                  <a:lnTo>
                    <a:pt x="882" y="3078"/>
                  </a:lnTo>
                  <a:lnTo>
                    <a:pt x="896" y="3094"/>
                  </a:lnTo>
                  <a:lnTo>
                    <a:pt x="918" y="3100"/>
                  </a:lnTo>
                  <a:lnTo>
                    <a:pt x="940" y="3108"/>
                  </a:lnTo>
                  <a:lnTo>
                    <a:pt x="956" y="3116"/>
                  </a:lnTo>
                  <a:lnTo>
                    <a:pt x="978" y="3116"/>
                  </a:lnTo>
                  <a:lnTo>
                    <a:pt x="998" y="3116"/>
                  </a:lnTo>
                  <a:lnTo>
                    <a:pt x="1014" y="3116"/>
                  </a:lnTo>
                  <a:lnTo>
                    <a:pt x="1036" y="3108"/>
                  </a:lnTo>
                  <a:lnTo>
                    <a:pt x="1058" y="3100"/>
                  </a:lnTo>
                  <a:lnTo>
                    <a:pt x="1072" y="3094"/>
                  </a:lnTo>
                  <a:lnTo>
                    <a:pt x="1080" y="3086"/>
                  </a:lnTo>
                  <a:lnTo>
                    <a:pt x="1094" y="3086"/>
                  </a:lnTo>
                  <a:lnTo>
                    <a:pt x="1102" y="3078"/>
                  </a:lnTo>
                  <a:lnTo>
                    <a:pt x="1108" y="3072"/>
                  </a:lnTo>
                  <a:lnTo>
                    <a:pt x="1108" y="3064"/>
                  </a:lnTo>
                  <a:lnTo>
                    <a:pt x="1116" y="3056"/>
                  </a:lnTo>
                  <a:lnTo>
                    <a:pt x="1124" y="3050"/>
                  </a:lnTo>
                  <a:lnTo>
                    <a:pt x="1130" y="3042"/>
                  </a:lnTo>
                  <a:lnTo>
                    <a:pt x="1138" y="3036"/>
                  </a:lnTo>
                  <a:lnTo>
                    <a:pt x="1144" y="3028"/>
                  </a:lnTo>
                  <a:lnTo>
                    <a:pt x="1144" y="3020"/>
                  </a:lnTo>
                  <a:lnTo>
                    <a:pt x="1152" y="3014"/>
                  </a:lnTo>
                  <a:lnTo>
                    <a:pt x="1160" y="3006"/>
                  </a:lnTo>
                  <a:lnTo>
                    <a:pt x="1160" y="2998"/>
                  </a:lnTo>
                  <a:lnTo>
                    <a:pt x="1160" y="2984"/>
                  </a:lnTo>
                  <a:lnTo>
                    <a:pt x="1166" y="2976"/>
                  </a:lnTo>
                  <a:lnTo>
                    <a:pt x="1166" y="2970"/>
                  </a:lnTo>
                  <a:lnTo>
                    <a:pt x="1166" y="2962"/>
                  </a:lnTo>
                  <a:lnTo>
                    <a:pt x="1166" y="2954"/>
                  </a:lnTo>
                  <a:lnTo>
                    <a:pt x="1166" y="2948"/>
                  </a:lnTo>
                  <a:lnTo>
                    <a:pt x="1166" y="2940"/>
                  </a:lnTo>
                  <a:lnTo>
                    <a:pt x="1166" y="2932"/>
                  </a:lnTo>
                  <a:lnTo>
                    <a:pt x="1166" y="2926"/>
                  </a:lnTo>
                  <a:lnTo>
                    <a:pt x="1166" y="2918"/>
                  </a:lnTo>
                  <a:lnTo>
                    <a:pt x="1160" y="2912"/>
                  </a:lnTo>
                  <a:lnTo>
                    <a:pt x="1160" y="2904"/>
                  </a:lnTo>
                  <a:lnTo>
                    <a:pt x="1160" y="2896"/>
                  </a:lnTo>
                  <a:lnTo>
                    <a:pt x="1152" y="2890"/>
                  </a:lnTo>
                  <a:lnTo>
                    <a:pt x="1124" y="2846"/>
                  </a:lnTo>
                  <a:lnTo>
                    <a:pt x="1124" y="2896"/>
                  </a:lnTo>
                  <a:lnTo>
                    <a:pt x="1124" y="2912"/>
                  </a:lnTo>
                  <a:lnTo>
                    <a:pt x="1124" y="2918"/>
                  </a:lnTo>
                  <a:lnTo>
                    <a:pt x="1124" y="2926"/>
                  </a:lnTo>
                  <a:lnTo>
                    <a:pt x="1124" y="2932"/>
                  </a:lnTo>
                  <a:lnTo>
                    <a:pt x="1116" y="2940"/>
                  </a:lnTo>
                  <a:lnTo>
                    <a:pt x="1116" y="2948"/>
                  </a:lnTo>
                  <a:lnTo>
                    <a:pt x="1116" y="2954"/>
                  </a:lnTo>
                  <a:lnTo>
                    <a:pt x="1108" y="2962"/>
                  </a:lnTo>
                  <a:lnTo>
                    <a:pt x="1108" y="2970"/>
                  </a:lnTo>
                  <a:lnTo>
                    <a:pt x="1102" y="2976"/>
                  </a:lnTo>
                  <a:lnTo>
                    <a:pt x="1094" y="2984"/>
                  </a:lnTo>
                  <a:lnTo>
                    <a:pt x="1086" y="2992"/>
                  </a:lnTo>
                  <a:lnTo>
                    <a:pt x="1080" y="2992"/>
                  </a:lnTo>
                  <a:lnTo>
                    <a:pt x="1072" y="2998"/>
                  </a:lnTo>
                  <a:lnTo>
                    <a:pt x="1064" y="2998"/>
                  </a:lnTo>
                  <a:lnTo>
                    <a:pt x="1050" y="3006"/>
                  </a:lnTo>
                  <a:lnTo>
                    <a:pt x="1042" y="3006"/>
                  </a:lnTo>
                  <a:lnTo>
                    <a:pt x="1036" y="3006"/>
                  </a:lnTo>
                  <a:lnTo>
                    <a:pt x="1028" y="3006"/>
                  </a:lnTo>
                  <a:lnTo>
                    <a:pt x="1020" y="3006"/>
                  </a:lnTo>
                  <a:lnTo>
                    <a:pt x="1014" y="3006"/>
                  </a:lnTo>
                  <a:lnTo>
                    <a:pt x="1006" y="2998"/>
                  </a:lnTo>
                  <a:lnTo>
                    <a:pt x="998" y="2998"/>
                  </a:lnTo>
                  <a:lnTo>
                    <a:pt x="992" y="2998"/>
                  </a:lnTo>
                  <a:lnTo>
                    <a:pt x="984" y="2992"/>
                  </a:lnTo>
                  <a:lnTo>
                    <a:pt x="978" y="2992"/>
                  </a:lnTo>
                  <a:lnTo>
                    <a:pt x="978" y="2984"/>
                  </a:lnTo>
                  <a:lnTo>
                    <a:pt x="970" y="2984"/>
                  </a:lnTo>
                  <a:lnTo>
                    <a:pt x="962" y="2976"/>
                  </a:lnTo>
                  <a:lnTo>
                    <a:pt x="956" y="2976"/>
                  </a:lnTo>
                  <a:lnTo>
                    <a:pt x="948" y="2970"/>
                  </a:lnTo>
                  <a:lnTo>
                    <a:pt x="948" y="2962"/>
                  </a:lnTo>
                  <a:lnTo>
                    <a:pt x="940" y="2954"/>
                  </a:lnTo>
                  <a:lnTo>
                    <a:pt x="934" y="2954"/>
                  </a:lnTo>
                  <a:lnTo>
                    <a:pt x="934" y="2948"/>
                  </a:lnTo>
                  <a:lnTo>
                    <a:pt x="926" y="2940"/>
                  </a:lnTo>
                  <a:lnTo>
                    <a:pt x="926" y="2932"/>
                  </a:lnTo>
                  <a:lnTo>
                    <a:pt x="918" y="2926"/>
                  </a:lnTo>
                  <a:lnTo>
                    <a:pt x="918" y="2918"/>
                  </a:lnTo>
                  <a:lnTo>
                    <a:pt x="918" y="2912"/>
                  </a:lnTo>
                  <a:lnTo>
                    <a:pt x="912" y="2912"/>
                  </a:lnTo>
                  <a:lnTo>
                    <a:pt x="912" y="2904"/>
                  </a:lnTo>
                  <a:lnTo>
                    <a:pt x="912" y="2896"/>
                  </a:lnTo>
                  <a:lnTo>
                    <a:pt x="912" y="2890"/>
                  </a:lnTo>
                  <a:lnTo>
                    <a:pt x="912" y="2882"/>
                  </a:lnTo>
                  <a:lnTo>
                    <a:pt x="912" y="2874"/>
                  </a:lnTo>
                  <a:lnTo>
                    <a:pt x="912" y="2860"/>
                  </a:lnTo>
                  <a:lnTo>
                    <a:pt x="918" y="2852"/>
                  </a:lnTo>
                  <a:lnTo>
                    <a:pt x="918" y="2846"/>
                  </a:lnTo>
                  <a:lnTo>
                    <a:pt x="926" y="2838"/>
                  </a:lnTo>
                  <a:lnTo>
                    <a:pt x="926" y="2830"/>
                  </a:lnTo>
                  <a:lnTo>
                    <a:pt x="934" y="2816"/>
                  </a:lnTo>
                  <a:lnTo>
                    <a:pt x="940" y="2808"/>
                  </a:lnTo>
                  <a:lnTo>
                    <a:pt x="940" y="2802"/>
                  </a:lnTo>
                  <a:lnTo>
                    <a:pt x="948" y="2794"/>
                  </a:lnTo>
                  <a:lnTo>
                    <a:pt x="956" y="2786"/>
                  </a:lnTo>
                  <a:lnTo>
                    <a:pt x="962" y="2780"/>
                  </a:lnTo>
                  <a:lnTo>
                    <a:pt x="978" y="2772"/>
                  </a:lnTo>
                  <a:lnTo>
                    <a:pt x="984" y="2766"/>
                  </a:lnTo>
                  <a:lnTo>
                    <a:pt x="992" y="2766"/>
                  </a:lnTo>
                  <a:lnTo>
                    <a:pt x="998" y="2758"/>
                  </a:lnTo>
                  <a:lnTo>
                    <a:pt x="1014" y="2750"/>
                  </a:lnTo>
                  <a:lnTo>
                    <a:pt x="1020" y="2750"/>
                  </a:lnTo>
                  <a:lnTo>
                    <a:pt x="1036" y="2744"/>
                  </a:lnTo>
                  <a:lnTo>
                    <a:pt x="1050" y="2744"/>
                  </a:lnTo>
                  <a:lnTo>
                    <a:pt x="1058" y="2736"/>
                  </a:lnTo>
                  <a:lnTo>
                    <a:pt x="1072" y="2736"/>
                  </a:lnTo>
                  <a:lnTo>
                    <a:pt x="1080" y="2736"/>
                  </a:lnTo>
                  <a:lnTo>
                    <a:pt x="1094" y="2736"/>
                  </a:lnTo>
                  <a:lnTo>
                    <a:pt x="1108" y="2736"/>
                  </a:lnTo>
                  <a:lnTo>
                    <a:pt x="1116" y="2736"/>
                  </a:lnTo>
                  <a:lnTo>
                    <a:pt x="1130" y="2736"/>
                  </a:lnTo>
                  <a:lnTo>
                    <a:pt x="1138" y="2744"/>
                  </a:lnTo>
                  <a:lnTo>
                    <a:pt x="1152" y="2744"/>
                  </a:lnTo>
                  <a:lnTo>
                    <a:pt x="1160" y="2750"/>
                  </a:lnTo>
                  <a:lnTo>
                    <a:pt x="1174" y="2758"/>
                  </a:lnTo>
                  <a:lnTo>
                    <a:pt x="1182" y="2766"/>
                  </a:lnTo>
                  <a:lnTo>
                    <a:pt x="1196" y="2772"/>
                  </a:lnTo>
                  <a:lnTo>
                    <a:pt x="1204" y="2780"/>
                  </a:lnTo>
                  <a:lnTo>
                    <a:pt x="1210" y="2786"/>
                  </a:lnTo>
                  <a:lnTo>
                    <a:pt x="1226" y="2794"/>
                  </a:lnTo>
                  <a:lnTo>
                    <a:pt x="1232" y="2808"/>
                  </a:lnTo>
                  <a:lnTo>
                    <a:pt x="1240" y="2816"/>
                  </a:lnTo>
                  <a:lnTo>
                    <a:pt x="1248" y="2824"/>
                  </a:lnTo>
                  <a:lnTo>
                    <a:pt x="1254" y="2838"/>
                  </a:lnTo>
                  <a:lnTo>
                    <a:pt x="1262" y="2846"/>
                  </a:lnTo>
                  <a:lnTo>
                    <a:pt x="1268" y="2860"/>
                  </a:lnTo>
                  <a:lnTo>
                    <a:pt x="1276" y="2874"/>
                  </a:lnTo>
                  <a:lnTo>
                    <a:pt x="1284" y="2882"/>
                  </a:lnTo>
                  <a:lnTo>
                    <a:pt x="1284" y="2896"/>
                  </a:lnTo>
                  <a:lnTo>
                    <a:pt x="1290" y="2912"/>
                  </a:lnTo>
                  <a:lnTo>
                    <a:pt x="1298" y="2926"/>
                  </a:lnTo>
                  <a:lnTo>
                    <a:pt x="1298" y="2940"/>
                  </a:lnTo>
                  <a:lnTo>
                    <a:pt x="1298" y="2954"/>
                  </a:lnTo>
                  <a:lnTo>
                    <a:pt x="1306" y="2970"/>
                  </a:lnTo>
                  <a:lnTo>
                    <a:pt x="1306" y="2984"/>
                  </a:lnTo>
                  <a:lnTo>
                    <a:pt x="1306" y="2998"/>
                  </a:lnTo>
                  <a:lnTo>
                    <a:pt x="1306" y="3014"/>
                  </a:lnTo>
                  <a:lnTo>
                    <a:pt x="1298" y="3028"/>
                  </a:lnTo>
                  <a:lnTo>
                    <a:pt x="1298" y="3042"/>
                  </a:lnTo>
                  <a:lnTo>
                    <a:pt x="1298" y="3064"/>
                  </a:lnTo>
                  <a:lnTo>
                    <a:pt x="1290" y="3078"/>
                  </a:lnTo>
                  <a:lnTo>
                    <a:pt x="1284" y="3094"/>
                  </a:lnTo>
                  <a:lnTo>
                    <a:pt x="1284" y="3108"/>
                  </a:lnTo>
                  <a:lnTo>
                    <a:pt x="1276" y="3122"/>
                  </a:lnTo>
                  <a:lnTo>
                    <a:pt x="1268" y="3138"/>
                  </a:lnTo>
                  <a:lnTo>
                    <a:pt x="1262" y="3152"/>
                  </a:lnTo>
                  <a:lnTo>
                    <a:pt x="1254" y="3166"/>
                  </a:lnTo>
                  <a:lnTo>
                    <a:pt x="1240" y="3174"/>
                  </a:lnTo>
                  <a:lnTo>
                    <a:pt x="1232" y="3188"/>
                  </a:lnTo>
                  <a:lnTo>
                    <a:pt x="1218" y="3210"/>
                  </a:lnTo>
                  <a:lnTo>
                    <a:pt x="1204" y="3224"/>
                  </a:lnTo>
                  <a:lnTo>
                    <a:pt x="1188" y="3240"/>
                  </a:lnTo>
                  <a:lnTo>
                    <a:pt x="1166" y="3254"/>
                  </a:lnTo>
                  <a:lnTo>
                    <a:pt x="1144" y="3268"/>
                  </a:lnTo>
                  <a:lnTo>
                    <a:pt x="1124" y="3284"/>
                  </a:lnTo>
                  <a:lnTo>
                    <a:pt x="1102" y="3290"/>
                  </a:lnTo>
                  <a:lnTo>
                    <a:pt x="1080" y="3306"/>
                  </a:lnTo>
                  <a:lnTo>
                    <a:pt x="1050" y="3312"/>
                  </a:lnTo>
                  <a:lnTo>
                    <a:pt x="1028" y="3320"/>
                  </a:lnTo>
                  <a:lnTo>
                    <a:pt x="998" y="3326"/>
                  </a:lnTo>
                  <a:lnTo>
                    <a:pt x="970" y="3326"/>
                  </a:lnTo>
                  <a:lnTo>
                    <a:pt x="940" y="3326"/>
                  </a:lnTo>
                  <a:lnTo>
                    <a:pt x="912" y="3326"/>
                  </a:lnTo>
                  <a:lnTo>
                    <a:pt x="882" y="3326"/>
                  </a:lnTo>
                  <a:lnTo>
                    <a:pt x="854" y="3320"/>
                  </a:lnTo>
                  <a:lnTo>
                    <a:pt x="832" y="3312"/>
                  </a:lnTo>
                  <a:lnTo>
                    <a:pt x="816" y="3306"/>
                  </a:lnTo>
                  <a:lnTo>
                    <a:pt x="794" y="3298"/>
                  </a:lnTo>
                  <a:lnTo>
                    <a:pt x="772" y="3290"/>
                  </a:lnTo>
                  <a:lnTo>
                    <a:pt x="750" y="3276"/>
                  </a:lnTo>
                  <a:lnTo>
                    <a:pt x="736" y="3268"/>
                  </a:lnTo>
                  <a:lnTo>
                    <a:pt x="714" y="3254"/>
                  </a:lnTo>
                  <a:lnTo>
                    <a:pt x="692" y="3240"/>
                  </a:lnTo>
                  <a:lnTo>
                    <a:pt x="678" y="3224"/>
                  </a:lnTo>
                  <a:lnTo>
                    <a:pt x="656" y="3202"/>
                  </a:lnTo>
                  <a:lnTo>
                    <a:pt x="642" y="3188"/>
                  </a:lnTo>
                  <a:lnTo>
                    <a:pt x="626" y="3174"/>
                  </a:lnTo>
                  <a:lnTo>
                    <a:pt x="612" y="3152"/>
                  </a:lnTo>
                  <a:lnTo>
                    <a:pt x="598" y="3130"/>
                  </a:lnTo>
                  <a:lnTo>
                    <a:pt x="584" y="3108"/>
                  </a:lnTo>
                  <a:lnTo>
                    <a:pt x="568" y="3086"/>
                  </a:lnTo>
                  <a:lnTo>
                    <a:pt x="568" y="3078"/>
                  </a:lnTo>
                  <a:lnTo>
                    <a:pt x="568" y="3072"/>
                  </a:lnTo>
                  <a:lnTo>
                    <a:pt x="562" y="3072"/>
                  </a:lnTo>
                  <a:lnTo>
                    <a:pt x="562" y="3064"/>
                  </a:lnTo>
                  <a:lnTo>
                    <a:pt x="562" y="3056"/>
                  </a:lnTo>
                  <a:lnTo>
                    <a:pt x="554" y="3056"/>
                  </a:lnTo>
                  <a:lnTo>
                    <a:pt x="554" y="3050"/>
                  </a:lnTo>
                  <a:lnTo>
                    <a:pt x="554" y="3042"/>
                  </a:lnTo>
                  <a:lnTo>
                    <a:pt x="554" y="3036"/>
                  </a:lnTo>
                  <a:lnTo>
                    <a:pt x="546" y="3036"/>
                  </a:lnTo>
                  <a:lnTo>
                    <a:pt x="546" y="3028"/>
                  </a:lnTo>
                  <a:lnTo>
                    <a:pt x="540" y="2998"/>
                  </a:lnTo>
                  <a:lnTo>
                    <a:pt x="532" y="2970"/>
                  </a:lnTo>
                  <a:lnTo>
                    <a:pt x="524" y="2948"/>
                  </a:lnTo>
                  <a:lnTo>
                    <a:pt x="524" y="2918"/>
                  </a:lnTo>
                  <a:lnTo>
                    <a:pt x="524" y="2890"/>
                  </a:lnTo>
                  <a:lnTo>
                    <a:pt x="518" y="2860"/>
                  </a:lnTo>
                  <a:lnTo>
                    <a:pt x="518" y="2838"/>
                  </a:lnTo>
                  <a:lnTo>
                    <a:pt x="524" y="2808"/>
                  </a:lnTo>
                  <a:lnTo>
                    <a:pt x="524" y="2780"/>
                  </a:lnTo>
                  <a:lnTo>
                    <a:pt x="532" y="2750"/>
                  </a:lnTo>
                  <a:lnTo>
                    <a:pt x="540" y="2722"/>
                  </a:lnTo>
                  <a:lnTo>
                    <a:pt x="554" y="2692"/>
                  </a:lnTo>
                  <a:lnTo>
                    <a:pt x="562" y="2656"/>
                  </a:lnTo>
                  <a:lnTo>
                    <a:pt x="576" y="2626"/>
                  </a:lnTo>
                  <a:lnTo>
                    <a:pt x="598" y="2590"/>
                  </a:lnTo>
                  <a:lnTo>
                    <a:pt x="620" y="2560"/>
                  </a:lnTo>
                  <a:lnTo>
                    <a:pt x="620" y="25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282840" y="41891400"/>
              <a:ext cx="1517400" cy="682560"/>
            </a:xfrm>
            <a:custGeom>
              <a:avLst/>
              <a:gdLst>
                <a:gd name="textAreaLeft" fmla="*/ 0 w 1517400"/>
                <a:gd name="textAreaRight" fmla="*/ 1517760 w 151740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956" h="430">
                  <a:moveTo>
                    <a:pt x="424" y="234"/>
                  </a:moveTo>
                  <a:lnTo>
                    <a:pt x="432" y="240"/>
                  </a:lnTo>
                  <a:lnTo>
                    <a:pt x="438" y="256"/>
                  </a:lnTo>
                  <a:lnTo>
                    <a:pt x="446" y="262"/>
                  </a:lnTo>
                  <a:lnTo>
                    <a:pt x="454" y="270"/>
                  </a:lnTo>
                  <a:lnTo>
                    <a:pt x="460" y="284"/>
                  </a:lnTo>
                  <a:lnTo>
                    <a:pt x="468" y="292"/>
                  </a:lnTo>
                  <a:lnTo>
                    <a:pt x="476" y="298"/>
                  </a:lnTo>
                  <a:lnTo>
                    <a:pt x="482" y="314"/>
                  </a:lnTo>
                  <a:lnTo>
                    <a:pt x="490" y="320"/>
                  </a:lnTo>
                  <a:lnTo>
                    <a:pt x="496" y="328"/>
                  </a:lnTo>
                  <a:lnTo>
                    <a:pt x="504" y="336"/>
                  </a:lnTo>
                  <a:lnTo>
                    <a:pt x="518" y="350"/>
                  </a:lnTo>
                  <a:lnTo>
                    <a:pt x="526" y="358"/>
                  </a:lnTo>
                  <a:lnTo>
                    <a:pt x="540" y="364"/>
                  </a:lnTo>
                  <a:lnTo>
                    <a:pt x="548" y="372"/>
                  </a:lnTo>
                  <a:lnTo>
                    <a:pt x="556" y="380"/>
                  </a:lnTo>
                  <a:lnTo>
                    <a:pt x="570" y="386"/>
                  </a:lnTo>
                  <a:lnTo>
                    <a:pt x="578" y="394"/>
                  </a:lnTo>
                  <a:lnTo>
                    <a:pt x="592" y="394"/>
                  </a:lnTo>
                  <a:lnTo>
                    <a:pt x="606" y="402"/>
                  </a:lnTo>
                  <a:lnTo>
                    <a:pt x="614" y="408"/>
                  </a:lnTo>
                  <a:lnTo>
                    <a:pt x="628" y="416"/>
                  </a:lnTo>
                  <a:lnTo>
                    <a:pt x="636" y="416"/>
                  </a:lnTo>
                  <a:lnTo>
                    <a:pt x="650" y="422"/>
                  </a:lnTo>
                  <a:lnTo>
                    <a:pt x="664" y="422"/>
                  </a:lnTo>
                  <a:lnTo>
                    <a:pt x="672" y="422"/>
                  </a:lnTo>
                  <a:lnTo>
                    <a:pt x="686" y="430"/>
                  </a:lnTo>
                  <a:lnTo>
                    <a:pt x="702" y="430"/>
                  </a:lnTo>
                  <a:lnTo>
                    <a:pt x="708" y="430"/>
                  </a:lnTo>
                  <a:lnTo>
                    <a:pt x="724" y="430"/>
                  </a:lnTo>
                  <a:lnTo>
                    <a:pt x="738" y="430"/>
                  </a:lnTo>
                  <a:lnTo>
                    <a:pt x="746" y="422"/>
                  </a:lnTo>
                  <a:lnTo>
                    <a:pt x="760" y="422"/>
                  </a:lnTo>
                  <a:lnTo>
                    <a:pt x="766" y="422"/>
                  </a:lnTo>
                  <a:lnTo>
                    <a:pt x="774" y="422"/>
                  </a:lnTo>
                  <a:lnTo>
                    <a:pt x="788" y="416"/>
                  </a:lnTo>
                  <a:lnTo>
                    <a:pt x="796" y="416"/>
                  </a:lnTo>
                  <a:lnTo>
                    <a:pt x="804" y="408"/>
                  </a:lnTo>
                  <a:lnTo>
                    <a:pt x="810" y="408"/>
                  </a:lnTo>
                  <a:lnTo>
                    <a:pt x="818" y="402"/>
                  </a:lnTo>
                  <a:lnTo>
                    <a:pt x="826" y="402"/>
                  </a:lnTo>
                  <a:lnTo>
                    <a:pt x="832" y="394"/>
                  </a:lnTo>
                  <a:lnTo>
                    <a:pt x="840" y="394"/>
                  </a:lnTo>
                  <a:lnTo>
                    <a:pt x="848" y="386"/>
                  </a:lnTo>
                  <a:lnTo>
                    <a:pt x="854" y="380"/>
                  </a:lnTo>
                  <a:lnTo>
                    <a:pt x="862" y="372"/>
                  </a:lnTo>
                  <a:lnTo>
                    <a:pt x="870" y="364"/>
                  </a:lnTo>
                  <a:lnTo>
                    <a:pt x="876" y="364"/>
                  </a:lnTo>
                  <a:lnTo>
                    <a:pt x="876" y="358"/>
                  </a:lnTo>
                  <a:lnTo>
                    <a:pt x="884" y="350"/>
                  </a:lnTo>
                  <a:lnTo>
                    <a:pt x="892" y="350"/>
                  </a:lnTo>
                  <a:lnTo>
                    <a:pt x="892" y="342"/>
                  </a:lnTo>
                  <a:lnTo>
                    <a:pt x="898" y="336"/>
                  </a:lnTo>
                  <a:lnTo>
                    <a:pt x="898" y="328"/>
                  </a:lnTo>
                  <a:lnTo>
                    <a:pt x="906" y="328"/>
                  </a:lnTo>
                  <a:lnTo>
                    <a:pt x="906" y="320"/>
                  </a:lnTo>
                  <a:lnTo>
                    <a:pt x="912" y="314"/>
                  </a:lnTo>
                  <a:lnTo>
                    <a:pt x="912" y="306"/>
                  </a:lnTo>
                  <a:lnTo>
                    <a:pt x="920" y="306"/>
                  </a:lnTo>
                  <a:lnTo>
                    <a:pt x="920" y="298"/>
                  </a:lnTo>
                  <a:lnTo>
                    <a:pt x="928" y="292"/>
                  </a:lnTo>
                  <a:lnTo>
                    <a:pt x="928" y="284"/>
                  </a:lnTo>
                  <a:lnTo>
                    <a:pt x="934" y="284"/>
                  </a:lnTo>
                  <a:lnTo>
                    <a:pt x="934" y="278"/>
                  </a:lnTo>
                  <a:lnTo>
                    <a:pt x="934" y="270"/>
                  </a:lnTo>
                  <a:lnTo>
                    <a:pt x="942" y="270"/>
                  </a:lnTo>
                  <a:lnTo>
                    <a:pt x="942" y="262"/>
                  </a:lnTo>
                  <a:lnTo>
                    <a:pt x="942" y="256"/>
                  </a:lnTo>
                  <a:lnTo>
                    <a:pt x="950" y="256"/>
                  </a:lnTo>
                  <a:lnTo>
                    <a:pt x="950" y="248"/>
                  </a:lnTo>
                  <a:lnTo>
                    <a:pt x="950" y="240"/>
                  </a:lnTo>
                  <a:lnTo>
                    <a:pt x="950" y="234"/>
                  </a:lnTo>
                  <a:lnTo>
                    <a:pt x="956" y="226"/>
                  </a:lnTo>
                  <a:lnTo>
                    <a:pt x="956" y="218"/>
                  </a:lnTo>
                  <a:lnTo>
                    <a:pt x="956" y="212"/>
                  </a:lnTo>
                  <a:lnTo>
                    <a:pt x="956" y="204"/>
                  </a:lnTo>
                  <a:lnTo>
                    <a:pt x="956" y="196"/>
                  </a:lnTo>
                  <a:lnTo>
                    <a:pt x="956" y="190"/>
                  </a:lnTo>
                  <a:lnTo>
                    <a:pt x="956" y="182"/>
                  </a:lnTo>
                  <a:lnTo>
                    <a:pt x="956" y="174"/>
                  </a:lnTo>
                  <a:lnTo>
                    <a:pt x="956" y="168"/>
                  </a:lnTo>
                  <a:lnTo>
                    <a:pt x="956" y="160"/>
                  </a:lnTo>
                  <a:lnTo>
                    <a:pt x="956" y="152"/>
                  </a:lnTo>
                  <a:lnTo>
                    <a:pt x="956" y="146"/>
                  </a:lnTo>
                  <a:lnTo>
                    <a:pt x="950" y="138"/>
                  </a:lnTo>
                  <a:lnTo>
                    <a:pt x="950" y="132"/>
                  </a:lnTo>
                  <a:lnTo>
                    <a:pt x="950" y="124"/>
                  </a:lnTo>
                  <a:lnTo>
                    <a:pt x="950" y="116"/>
                  </a:lnTo>
                  <a:lnTo>
                    <a:pt x="942" y="110"/>
                  </a:lnTo>
                  <a:lnTo>
                    <a:pt x="942" y="102"/>
                  </a:lnTo>
                  <a:lnTo>
                    <a:pt x="942" y="94"/>
                  </a:lnTo>
                  <a:lnTo>
                    <a:pt x="934" y="94"/>
                  </a:lnTo>
                  <a:lnTo>
                    <a:pt x="934" y="88"/>
                  </a:lnTo>
                  <a:lnTo>
                    <a:pt x="928" y="80"/>
                  </a:lnTo>
                  <a:lnTo>
                    <a:pt x="920" y="72"/>
                  </a:lnTo>
                  <a:lnTo>
                    <a:pt x="920" y="66"/>
                  </a:lnTo>
                  <a:lnTo>
                    <a:pt x="912" y="66"/>
                  </a:lnTo>
                  <a:lnTo>
                    <a:pt x="906" y="58"/>
                  </a:lnTo>
                  <a:lnTo>
                    <a:pt x="906" y="50"/>
                  </a:lnTo>
                  <a:lnTo>
                    <a:pt x="898" y="50"/>
                  </a:lnTo>
                  <a:lnTo>
                    <a:pt x="892" y="44"/>
                  </a:lnTo>
                  <a:lnTo>
                    <a:pt x="884" y="36"/>
                  </a:lnTo>
                  <a:lnTo>
                    <a:pt x="876" y="36"/>
                  </a:lnTo>
                  <a:lnTo>
                    <a:pt x="870" y="28"/>
                  </a:lnTo>
                  <a:lnTo>
                    <a:pt x="862" y="28"/>
                  </a:lnTo>
                  <a:lnTo>
                    <a:pt x="854" y="28"/>
                  </a:lnTo>
                  <a:lnTo>
                    <a:pt x="848" y="22"/>
                  </a:lnTo>
                  <a:lnTo>
                    <a:pt x="840" y="22"/>
                  </a:lnTo>
                  <a:lnTo>
                    <a:pt x="832" y="14"/>
                  </a:lnTo>
                  <a:lnTo>
                    <a:pt x="826" y="14"/>
                  </a:lnTo>
                  <a:lnTo>
                    <a:pt x="818" y="14"/>
                  </a:lnTo>
                  <a:lnTo>
                    <a:pt x="810" y="14"/>
                  </a:lnTo>
                  <a:lnTo>
                    <a:pt x="804" y="14"/>
                  </a:lnTo>
                  <a:lnTo>
                    <a:pt x="796" y="14"/>
                  </a:lnTo>
                  <a:lnTo>
                    <a:pt x="788" y="14"/>
                  </a:lnTo>
                  <a:lnTo>
                    <a:pt x="782" y="14"/>
                  </a:lnTo>
                  <a:lnTo>
                    <a:pt x="774" y="14"/>
                  </a:lnTo>
                  <a:lnTo>
                    <a:pt x="766" y="14"/>
                  </a:lnTo>
                  <a:lnTo>
                    <a:pt x="760" y="14"/>
                  </a:lnTo>
                  <a:lnTo>
                    <a:pt x="752" y="14"/>
                  </a:lnTo>
                  <a:lnTo>
                    <a:pt x="746" y="14"/>
                  </a:lnTo>
                  <a:lnTo>
                    <a:pt x="746" y="22"/>
                  </a:lnTo>
                  <a:lnTo>
                    <a:pt x="738" y="22"/>
                  </a:lnTo>
                  <a:lnTo>
                    <a:pt x="730" y="22"/>
                  </a:lnTo>
                  <a:lnTo>
                    <a:pt x="724" y="28"/>
                  </a:lnTo>
                  <a:lnTo>
                    <a:pt x="716" y="28"/>
                  </a:lnTo>
                  <a:lnTo>
                    <a:pt x="708" y="36"/>
                  </a:lnTo>
                  <a:lnTo>
                    <a:pt x="702" y="44"/>
                  </a:lnTo>
                  <a:lnTo>
                    <a:pt x="694" y="44"/>
                  </a:lnTo>
                  <a:lnTo>
                    <a:pt x="694" y="50"/>
                  </a:lnTo>
                  <a:lnTo>
                    <a:pt x="686" y="58"/>
                  </a:lnTo>
                  <a:lnTo>
                    <a:pt x="680" y="58"/>
                  </a:lnTo>
                  <a:lnTo>
                    <a:pt x="680" y="66"/>
                  </a:lnTo>
                  <a:lnTo>
                    <a:pt x="672" y="72"/>
                  </a:lnTo>
                  <a:lnTo>
                    <a:pt x="664" y="80"/>
                  </a:lnTo>
                  <a:lnTo>
                    <a:pt x="664" y="88"/>
                  </a:lnTo>
                  <a:lnTo>
                    <a:pt x="658" y="88"/>
                  </a:lnTo>
                  <a:lnTo>
                    <a:pt x="658" y="94"/>
                  </a:lnTo>
                  <a:lnTo>
                    <a:pt x="650" y="102"/>
                  </a:lnTo>
                  <a:lnTo>
                    <a:pt x="650" y="110"/>
                  </a:lnTo>
                  <a:lnTo>
                    <a:pt x="650" y="116"/>
                  </a:lnTo>
                  <a:lnTo>
                    <a:pt x="642" y="124"/>
                  </a:lnTo>
                  <a:lnTo>
                    <a:pt x="642" y="132"/>
                  </a:lnTo>
                  <a:lnTo>
                    <a:pt x="642" y="138"/>
                  </a:lnTo>
                  <a:lnTo>
                    <a:pt x="642" y="146"/>
                  </a:lnTo>
                  <a:lnTo>
                    <a:pt x="642" y="152"/>
                  </a:lnTo>
                  <a:lnTo>
                    <a:pt x="642" y="160"/>
                  </a:lnTo>
                  <a:lnTo>
                    <a:pt x="642" y="174"/>
                  </a:lnTo>
                  <a:lnTo>
                    <a:pt x="642" y="182"/>
                  </a:lnTo>
                  <a:lnTo>
                    <a:pt x="642" y="190"/>
                  </a:lnTo>
                  <a:lnTo>
                    <a:pt x="642" y="196"/>
                  </a:lnTo>
                  <a:lnTo>
                    <a:pt x="650" y="196"/>
                  </a:lnTo>
                  <a:lnTo>
                    <a:pt x="650" y="204"/>
                  </a:lnTo>
                  <a:lnTo>
                    <a:pt x="650" y="212"/>
                  </a:lnTo>
                  <a:lnTo>
                    <a:pt x="650" y="218"/>
                  </a:lnTo>
                  <a:lnTo>
                    <a:pt x="658" y="226"/>
                  </a:lnTo>
                  <a:lnTo>
                    <a:pt x="658" y="234"/>
                  </a:lnTo>
                  <a:lnTo>
                    <a:pt x="664" y="234"/>
                  </a:lnTo>
                  <a:lnTo>
                    <a:pt x="664" y="240"/>
                  </a:lnTo>
                  <a:lnTo>
                    <a:pt x="664" y="248"/>
                  </a:lnTo>
                  <a:lnTo>
                    <a:pt x="672" y="256"/>
                  </a:lnTo>
                  <a:lnTo>
                    <a:pt x="680" y="262"/>
                  </a:lnTo>
                  <a:lnTo>
                    <a:pt x="686" y="270"/>
                  </a:lnTo>
                  <a:lnTo>
                    <a:pt x="694" y="270"/>
                  </a:lnTo>
                  <a:lnTo>
                    <a:pt x="694" y="278"/>
                  </a:lnTo>
                  <a:lnTo>
                    <a:pt x="702" y="278"/>
                  </a:lnTo>
                  <a:lnTo>
                    <a:pt x="708" y="284"/>
                  </a:lnTo>
                  <a:lnTo>
                    <a:pt x="716" y="284"/>
                  </a:lnTo>
                  <a:lnTo>
                    <a:pt x="724" y="292"/>
                  </a:lnTo>
                  <a:lnTo>
                    <a:pt x="730" y="292"/>
                  </a:lnTo>
                  <a:lnTo>
                    <a:pt x="738" y="292"/>
                  </a:lnTo>
                  <a:lnTo>
                    <a:pt x="746" y="292"/>
                  </a:lnTo>
                  <a:lnTo>
                    <a:pt x="752" y="298"/>
                  </a:lnTo>
                  <a:lnTo>
                    <a:pt x="760" y="298"/>
                  </a:lnTo>
                  <a:lnTo>
                    <a:pt x="766" y="298"/>
                  </a:lnTo>
                  <a:lnTo>
                    <a:pt x="774" y="298"/>
                  </a:lnTo>
                  <a:lnTo>
                    <a:pt x="782" y="298"/>
                  </a:lnTo>
                  <a:lnTo>
                    <a:pt x="788" y="298"/>
                  </a:lnTo>
                  <a:lnTo>
                    <a:pt x="796" y="298"/>
                  </a:lnTo>
                  <a:lnTo>
                    <a:pt x="804" y="298"/>
                  </a:lnTo>
                  <a:lnTo>
                    <a:pt x="804" y="292"/>
                  </a:lnTo>
                  <a:lnTo>
                    <a:pt x="810" y="292"/>
                  </a:lnTo>
                  <a:lnTo>
                    <a:pt x="818" y="292"/>
                  </a:lnTo>
                  <a:lnTo>
                    <a:pt x="826" y="292"/>
                  </a:lnTo>
                  <a:lnTo>
                    <a:pt x="826" y="284"/>
                  </a:lnTo>
                  <a:lnTo>
                    <a:pt x="832" y="284"/>
                  </a:lnTo>
                  <a:lnTo>
                    <a:pt x="832" y="278"/>
                  </a:lnTo>
                  <a:lnTo>
                    <a:pt x="840" y="278"/>
                  </a:lnTo>
                  <a:lnTo>
                    <a:pt x="840" y="270"/>
                  </a:lnTo>
                  <a:lnTo>
                    <a:pt x="848" y="270"/>
                  </a:lnTo>
                  <a:lnTo>
                    <a:pt x="848" y="262"/>
                  </a:lnTo>
                  <a:lnTo>
                    <a:pt x="854" y="262"/>
                  </a:lnTo>
                  <a:lnTo>
                    <a:pt x="854" y="256"/>
                  </a:lnTo>
                  <a:lnTo>
                    <a:pt x="862" y="248"/>
                  </a:lnTo>
                  <a:lnTo>
                    <a:pt x="862" y="240"/>
                  </a:lnTo>
                  <a:lnTo>
                    <a:pt x="862" y="234"/>
                  </a:lnTo>
                  <a:lnTo>
                    <a:pt x="870" y="234"/>
                  </a:lnTo>
                  <a:lnTo>
                    <a:pt x="870" y="226"/>
                  </a:lnTo>
                  <a:lnTo>
                    <a:pt x="870" y="218"/>
                  </a:lnTo>
                  <a:lnTo>
                    <a:pt x="870" y="212"/>
                  </a:lnTo>
                  <a:lnTo>
                    <a:pt x="870" y="204"/>
                  </a:lnTo>
                  <a:lnTo>
                    <a:pt x="870" y="196"/>
                  </a:lnTo>
                  <a:lnTo>
                    <a:pt x="870" y="190"/>
                  </a:lnTo>
                  <a:lnTo>
                    <a:pt x="870" y="182"/>
                  </a:lnTo>
                  <a:lnTo>
                    <a:pt x="870" y="174"/>
                  </a:lnTo>
                  <a:lnTo>
                    <a:pt x="870" y="168"/>
                  </a:lnTo>
                  <a:lnTo>
                    <a:pt x="862" y="168"/>
                  </a:lnTo>
                  <a:lnTo>
                    <a:pt x="862" y="160"/>
                  </a:lnTo>
                  <a:lnTo>
                    <a:pt x="862" y="152"/>
                  </a:lnTo>
                  <a:lnTo>
                    <a:pt x="854" y="152"/>
                  </a:lnTo>
                  <a:lnTo>
                    <a:pt x="854" y="146"/>
                  </a:lnTo>
                  <a:lnTo>
                    <a:pt x="848" y="146"/>
                  </a:lnTo>
                  <a:lnTo>
                    <a:pt x="848" y="138"/>
                  </a:lnTo>
                  <a:lnTo>
                    <a:pt x="840" y="138"/>
                  </a:lnTo>
                  <a:lnTo>
                    <a:pt x="840" y="132"/>
                  </a:lnTo>
                  <a:lnTo>
                    <a:pt x="832" y="132"/>
                  </a:lnTo>
                  <a:lnTo>
                    <a:pt x="826" y="132"/>
                  </a:lnTo>
                  <a:lnTo>
                    <a:pt x="826" y="124"/>
                  </a:lnTo>
                  <a:lnTo>
                    <a:pt x="818" y="124"/>
                  </a:lnTo>
                  <a:lnTo>
                    <a:pt x="810" y="124"/>
                  </a:lnTo>
                  <a:lnTo>
                    <a:pt x="804" y="124"/>
                  </a:lnTo>
                  <a:lnTo>
                    <a:pt x="796" y="124"/>
                  </a:lnTo>
                  <a:lnTo>
                    <a:pt x="788" y="124"/>
                  </a:lnTo>
                  <a:lnTo>
                    <a:pt x="782" y="124"/>
                  </a:lnTo>
                  <a:lnTo>
                    <a:pt x="774" y="124"/>
                  </a:lnTo>
                  <a:lnTo>
                    <a:pt x="774" y="132"/>
                  </a:lnTo>
                  <a:lnTo>
                    <a:pt x="766" y="132"/>
                  </a:lnTo>
                  <a:lnTo>
                    <a:pt x="760" y="132"/>
                  </a:lnTo>
                  <a:lnTo>
                    <a:pt x="760" y="138"/>
                  </a:lnTo>
                  <a:lnTo>
                    <a:pt x="752" y="138"/>
                  </a:lnTo>
                  <a:lnTo>
                    <a:pt x="752" y="146"/>
                  </a:lnTo>
                  <a:lnTo>
                    <a:pt x="746" y="152"/>
                  </a:lnTo>
                  <a:lnTo>
                    <a:pt x="746" y="160"/>
                  </a:lnTo>
                  <a:lnTo>
                    <a:pt x="738" y="168"/>
                  </a:lnTo>
                  <a:lnTo>
                    <a:pt x="738" y="174"/>
                  </a:lnTo>
                  <a:lnTo>
                    <a:pt x="738" y="182"/>
                  </a:lnTo>
                  <a:lnTo>
                    <a:pt x="738" y="190"/>
                  </a:lnTo>
                  <a:lnTo>
                    <a:pt x="738" y="196"/>
                  </a:lnTo>
                  <a:lnTo>
                    <a:pt x="766" y="196"/>
                  </a:lnTo>
                  <a:lnTo>
                    <a:pt x="766" y="190"/>
                  </a:lnTo>
                  <a:lnTo>
                    <a:pt x="766" y="182"/>
                  </a:lnTo>
                  <a:lnTo>
                    <a:pt x="774" y="182"/>
                  </a:lnTo>
                  <a:lnTo>
                    <a:pt x="774" y="174"/>
                  </a:lnTo>
                  <a:lnTo>
                    <a:pt x="774" y="168"/>
                  </a:lnTo>
                  <a:lnTo>
                    <a:pt x="782" y="168"/>
                  </a:lnTo>
                  <a:lnTo>
                    <a:pt x="782" y="160"/>
                  </a:lnTo>
                  <a:lnTo>
                    <a:pt x="788" y="160"/>
                  </a:lnTo>
                  <a:lnTo>
                    <a:pt x="796" y="160"/>
                  </a:lnTo>
                  <a:lnTo>
                    <a:pt x="804" y="160"/>
                  </a:lnTo>
                  <a:lnTo>
                    <a:pt x="810" y="160"/>
                  </a:lnTo>
                  <a:lnTo>
                    <a:pt x="818" y="160"/>
                  </a:lnTo>
                  <a:lnTo>
                    <a:pt x="826" y="160"/>
                  </a:lnTo>
                  <a:lnTo>
                    <a:pt x="826" y="168"/>
                  </a:lnTo>
                  <a:lnTo>
                    <a:pt x="832" y="168"/>
                  </a:lnTo>
                  <a:lnTo>
                    <a:pt x="832" y="174"/>
                  </a:lnTo>
                  <a:lnTo>
                    <a:pt x="832" y="182"/>
                  </a:lnTo>
                  <a:lnTo>
                    <a:pt x="832" y="190"/>
                  </a:lnTo>
                  <a:lnTo>
                    <a:pt x="832" y="196"/>
                  </a:lnTo>
                  <a:lnTo>
                    <a:pt x="840" y="196"/>
                  </a:lnTo>
                  <a:lnTo>
                    <a:pt x="840" y="204"/>
                  </a:lnTo>
                  <a:lnTo>
                    <a:pt x="832" y="204"/>
                  </a:lnTo>
                  <a:lnTo>
                    <a:pt x="832" y="212"/>
                  </a:lnTo>
                  <a:lnTo>
                    <a:pt x="832" y="218"/>
                  </a:lnTo>
                  <a:lnTo>
                    <a:pt x="832" y="226"/>
                  </a:lnTo>
                  <a:lnTo>
                    <a:pt x="832" y="234"/>
                  </a:lnTo>
                  <a:lnTo>
                    <a:pt x="826" y="234"/>
                  </a:lnTo>
                  <a:lnTo>
                    <a:pt x="826" y="240"/>
                  </a:lnTo>
                  <a:lnTo>
                    <a:pt x="826" y="248"/>
                  </a:lnTo>
                  <a:lnTo>
                    <a:pt x="818" y="248"/>
                  </a:lnTo>
                  <a:lnTo>
                    <a:pt x="818" y="256"/>
                  </a:lnTo>
                  <a:lnTo>
                    <a:pt x="810" y="256"/>
                  </a:lnTo>
                  <a:lnTo>
                    <a:pt x="804" y="256"/>
                  </a:lnTo>
                  <a:lnTo>
                    <a:pt x="804" y="262"/>
                  </a:lnTo>
                  <a:lnTo>
                    <a:pt x="796" y="262"/>
                  </a:lnTo>
                  <a:lnTo>
                    <a:pt x="788" y="262"/>
                  </a:lnTo>
                  <a:lnTo>
                    <a:pt x="782" y="262"/>
                  </a:lnTo>
                  <a:lnTo>
                    <a:pt x="774" y="262"/>
                  </a:lnTo>
                  <a:lnTo>
                    <a:pt x="766" y="262"/>
                  </a:lnTo>
                  <a:lnTo>
                    <a:pt x="760" y="262"/>
                  </a:lnTo>
                  <a:lnTo>
                    <a:pt x="752" y="262"/>
                  </a:lnTo>
                  <a:lnTo>
                    <a:pt x="746" y="262"/>
                  </a:lnTo>
                  <a:lnTo>
                    <a:pt x="738" y="262"/>
                  </a:lnTo>
                  <a:lnTo>
                    <a:pt x="738" y="256"/>
                  </a:lnTo>
                  <a:lnTo>
                    <a:pt x="730" y="256"/>
                  </a:lnTo>
                  <a:lnTo>
                    <a:pt x="724" y="256"/>
                  </a:lnTo>
                  <a:lnTo>
                    <a:pt x="724" y="248"/>
                  </a:lnTo>
                  <a:lnTo>
                    <a:pt x="716" y="248"/>
                  </a:lnTo>
                  <a:lnTo>
                    <a:pt x="708" y="240"/>
                  </a:lnTo>
                  <a:lnTo>
                    <a:pt x="702" y="234"/>
                  </a:lnTo>
                  <a:lnTo>
                    <a:pt x="694" y="234"/>
                  </a:lnTo>
                  <a:lnTo>
                    <a:pt x="694" y="226"/>
                  </a:lnTo>
                  <a:lnTo>
                    <a:pt x="686" y="218"/>
                  </a:lnTo>
                  <a:lnTo>
                    <a:pt x="686" y="212"/>
                  </a:lnTo>
                  <a:lnTo>
                    <a:pt x="686" y="204"/>
                  </a:lnTo>
                  <a:lnTo>
                    <a:pt x="680" y="204"/>
                  </a:lnTo>
                  <a:lnTo>
                    <a:pt x="680" y="196"/>
                  </a:lnTo>
                  <a:lnTo>
                    <a:pt x="680" y="190"/>
                  </a:lnTo>
                  <a:lnTo>
                    <a:pt x="680" y="182"/>
                  </a:lnTo>
                  <a:lnTo>
                    <a:pt x="680" y="174"/>
                  </a:lnTo>
                  <a:lnTo>
                    <a:pt x="672" y="168"/>
                  </a:lnTo>
                  <a:lnTo>
                    <a:pt x="672" y="160"/>
                  </a:lnTo>
                  <a:lnTo>
                    <a:pt x="672" y="152"/>
                  </a:lnTo>
                  <a:lnTo>
                    <a:pt x="672" y="146"/>
                  </a:lnTo>
                  <a:lnTo>
                    <a:pt x="680" y="138"/>
                  </a:lnTo>
                  <a:lnTo>
                    <a:pt x="680" y="132"/>
                  </a:lnTo>
                  <a:lnTo>
                    <a:pt x="680" y="124"/>
                  </a:lnTo>
                  <a:lnTo>
                    <a:pt x="686" y="116"/>
                  </a:lnTo>
                  <a:lnTo>
                    <a:pt x="686" y="110"/>
                  </a:lnTo>
                  <a:lnTo>
                    <a:pt x="694" y="102"/>
                  </a:lnTo>
                  <a:lnTo>
                    <a:pt x="694" y="94"/>
                  </a:lnTo>
                  <a:lnTo>
                    <a:pt x="702" y="88"/>
                  </a:lnTo>
                  <a:lnTo>
                    <a:pt x="708" y="80"/>
                  </a:lnTo>
                  <a:lnTo>
                    <a:pt x="716" y="72"/>
                  </a:lnTo>
                  <a:lnTo>
                    <a:pt x="724" y="72"/>
                  </a:lnTo>
                  <a:lnTo>
                    <a:pt x="724" y="66"/>
                  </a:lnTo>
                  <a:lnTo>
                    <a:pt x="730" y="66"/>
                  </a:lnTo>
                  <a:lnTo>
                    <a:pt x="730" y="58"/>
                  </a:lnTo>
                  <a:lnTo>
                    <a:pt x="738" y="58"/>
                  </a:lnTo>
                  <a:lnTo>
                    <a:pt x="746" y="58"/>
                  </a:lnTo>
                  <a:lnTo>
                    <a:pt x="752" y="50"/>
                  </a:lnTo>
                  <a:lnTo>
                    <a:pt x="760" y="50"/>
                  </a:lnTo>
                  <a:lnTo>
                    <a:pt x="766" y="50"/>
                  </a:lnTo>
                  <a:lnTo>
                    <a:pt x="774" y="44"/>
                  </a:lnTo>
                  <a:lnTo>
                    <a:pt x="782" y="44"/>
                  </a:lnTo>
                  <a:lnTo>
                    <a:pt x="788" y="44"/>
                  </a:lnTo>
                  <a:lnTo>
                    <a:pt x="796" y="44"/>
                  </a:lnTo>
                  <a:lnTo>
                    <a:pt x="804" y="44"/>
                  </a:lnTo>
                  <a:lnTo>
                    <a:pt x="810" y="50"/>
                  </a:lnTo>
                  <a:lnTo>
                    <a:pt x="818" y="50"/>
                  </a:lnTo>
                  <a:lnTo>
                    <a:pt x="826" y="50"/>
                  </a:lnTo>
                  <a:lnTo>
                    <a:pt x="832" y="50"/>
                  </a:lnTo>
                  <a:lnTo>
                    <a:pt x="840" y="58"/>
                  </a:lnTo>
                  <a:lnTo>
                    <a:pt x="848" y="58"/>
                  </a:lnTo>
                  <a:lnTo>
                    <a:pt x="854" y="58"/>
                  </a:lnTo>
                  <a:lnTo>
                    <a:pt x="862" y="66"/>
                  </a:lnTo>
                  <a:lnTo>
                    <a:pt x="870" y="66"/>
                  </a:lnTo>
                  <a:lnTo>
                    <a:pt x="870" y="72"/>
                  </a:lnTo>
                  <a:lnTo>
                    <a:pt x="876" y="72"/>
                  </a:lnTo>
                  <a:lnTo>
                    <a:pt x="876" y="80"/>
                  </a:lnTo>
                  <a:lnTo>
                    <a:pt x="884" y="80"/>
                  </a:lnTo>
                  <a:lnTo>
                    <a:pt x="892" y="88"/>
                  </a:lnTo>
                  <a:lnTo>
                    <a:pt x="898" y="94"/>
                  </a:lnTo>
                  <a:lnTo>
                    <a:pt x="906" y="102"/>
                  </a:lnTo>
                  <a:lnTo>
                    <a:pt x="906" y="110"/>
                  </a:lnTo>
                  <a:lnTo>
                    <a:pt x="912" y="116"/>
                  </a:lnTo>
                  <a:lnTo>
                    <a:pt x="912" y="124"/>
                  </a:lnTo>
                  <a:lnTo>
                    <a:pt x="912" y="132"/>
                  </a:lnTo>
                  <a:lnTo>
                    <a:pt x="920" y="138"/>
                  </a:lnTo>
                  <a:lnTo>
                    <a:pt x="920" y="146"/>
                  </a:lnTo>
                  <a:lnTo>
                    <a:pt x="920" y="152"/>
                  </a:lnTo>
                  <a:lnTo>
                    <a:pt x="920" y="160"/>
                  </a:lnTo>
                  <a:lnTo>
                    <a:pt x="920" y="168"/>
                  </a:lnTo>
                  <a:lnTo>
                    <a:pt x="920" y="174"/>
                  </a:lnTo>
                  <a:lnTo>
                    <a:pt x="920" y="182"/>
                  </a:lnTo>
                  <a:lnTo>
                    <a:pt x="920" y="190"/>
                  </a:lnTo>
                  <a:lnTo>
                    <a:pt x="920" y="196"/>
                  </a:lnTo>
                  <a:lnTo>
                    <a:pt x="920" y="204"/>
                  </a:lnTo>
                  <a:lnTo>
                    <a:pt x="920" y="212"/>
                  </a:lnTo>
                  <a:lnTo>
                    <a:pt x="920" y="218"/>
                  </a:lnTo>
                  <a:lnTo>
                    <a:pt x="920" y="226"/>
                  </a:lnTo>
                  <a:lnTo>
                    <a:pt x="920" y="234"/>
                  </a:lnTo>
                  <a:lnTo>
                    <a:pt x="912" y="234"/>
                  </a:lnTo>
                  <a:lnTo>
                    <a:pt x="912" y="240"/>
                  </a:lnTo>
                  <a:lnTo>
                    <a:pt x="912" y="248"/>
                  </a:lnTo>
                  <a:lnTo>
                    <a:pt x="912" y="256"/>
                  </a:lnTo>
                  <a:lnTo>
                    <a:pt x="906" y="256"/>
                  </a:lnTo>
                  <a:lnTo>
                    <a:pt x="906" y="262"/>
                  </a:lnTo>
                  <a:lnTo>
                    <a:pt x="898" y="270"/>
                  </a:lnTo>
                  <a:lnTo>
                    <a:pt x="898" y="278"/>
                  </a:lnTo>
                  <a:lnTo>
                    <a:pt x="892" y="284"/>
                  </a:lnTo>
                  <a:lnTo>
                    <a:pt x="892" y="292"/>
                  </a:lnTo>
                  <a:lnTo>
                    <a:pt x="884" y="298"/>
                  </a:lnTo>
                  <a:lnTo>
                    <a:pt x="876" y="306"/>
                  </a:lnTo>
                  <a:lnTo>
                    <a:pt x="876" y="314"/>
                  </a:lnTo>
                  <a:lnTo>
                    <a:pt x="870" y="314"/>
                  </a:lnTo>
                  <a:lnTo>
                    <a:pt x="870" y="320"/>
                  </a:lnTo>
                  <a:lnTo>
                    <a:pt x="862" y="328"/>
                  </a:lnTo>
                  <a:lnTo>
                    <a:pt x="854" y="336"/>
                  </a:lnTo>
                  <a:lnTo>
                    <a:pt x="848" y="342"/>
                  </a:lnTo>
                  <a:lnTo>
                    <a:pt x="840" y="350"/>
                  </a:lnTo>
                  <a:lnTo>
                    <a:pt x="832" y="350"/>
                  </a:lnTo>
                  <a:lnTo>
                    <a:pt x="832" y="358"/>
                  </a:lnTo>
                  <a:lnTo>
                    <a:pt x="826" y="358"/>
                  </a:lnTo>
                  <a:lnTo>
                    <a:pt x="818" y="364"/>
                  </a:lnTo>
                  <a:lnTo>
                    <a:pt x="810" y="364"/>
                  </a:lnTo>
                  <a:lnTo>
                    <a:pt x="804" y="372"/>
                  </a:lnTo>
                  <a:lnTo>
                    <a:pt x="796" y="372"/>
                  </a:lnTo>
                  <a:lnTo>
                    <a:pt x="788" y="380"/>
                  </a:lnTo>
                  <a:lnTo>
                    <a:pt x="782" y="380"/>
                  </a:lnTo>
                  <a:lnTo>
                    <a:pt x="774" y="386"/>
                  </a:lnTo>
                  <a:lnTo>
                    <a:pt x="766" y="386"/>
                  </a:lnTo>
                  <a:lnTo>
                    <a:pt x="760" y="386"/>
                  </a:lnTo>
                  <a:lnTo>
                    <a:pt x="752" y="386"/>
                  </a:lnTo>
                  <a:lnTo>
                    <a:pt x="746" y="394"/>
                  </a:lnTo>
                  <a:lnTo>
                    <a:pt x="730" y="394"/>
                  </a:lnTo>
                  <a:lnTo>
                    <a:pt x="724" y="394"/>
                  </a:lnTo>
                  <a:lnTo>
                    <a:pt x="708" y="394"/>
                  </a:lnTo>
                  <a:lnTo>
                    <a:pt x="702" y="394"/>
                  </a:lnTo>
                  <a:lnTo>
                    <a:pt x="694" y="394"/>
                  </a:lnTo>
                  <a:lnTo>
                    <a:pt x="680" y="386"/>
                  </a:lnTo>
                  <a:lnTo>
                    <a:pt x="672" y="386"/>
                  </a:lnTo>
                  <a:lnTo>
                    <a:pt x="658" y="386"/>
                  </a:lnTo>
                  <a:lnTo>
                    <a:pt x="650" y="380"/>
                  </a:lnTo>
                  <a:lnTo>
                    <a:pt x="642" y="380"/>
                  </a:lnTo>
                  <a:lnTo>
                    <a:pt x="628" y="372"/>
                  </a:lnTo>
                  <a:lnTo>
                    <a:pt x="622" y="372"/>
                  </a:lnTo>
                  <a:lnTo>
                    <a:pt x="606" y="364"/>
                  </a:lnTo>
                  <a:lnTo>
                    <a:pt x="600" y="358"/>
                  </a:lnTo>
                  <a:lnTo>
                    <a:pt x="592" y="350"/>
                  </a:lnTo>
                  <a:lnTo>
                    <a:pt x="578" y="350"/>
                  </a:lnTo>
                  <a:lnTo>
                    <a:pt x="570" y="342"/>
                  </a:lnTo>
                  <a:lnTo>
                    <a:pt x="562" y="336"/>
                  </a:lnTo>
                  <a:lnTo>
                    <a:pt x="556" y="328"/>
                  </a:lnTo>
                  <a:lnTo>
                    <a:pt x="540" y="320"/>
                  </a:lnTo>
                  <a:lnTo>
                    <a:pt x="534" y="314"/>
                  </a:lnTo>
                  <a:lnTo>
                    <a:pt x="526" y="306"/>
                  </a:lnTo>
                  <a:lnTo>
                    <a:pt x="518" y="298"/>
                  </a:lnTo>
                  <a:lnTo>
                    <a:pt x="512" y="284"/>
                  </a:lnTo>
                  <a:lnTo>
                    <a:pt x="504" y="278"/>
                  </a:lnTo>
                  <a:lnTo>
                    <a:pt x="496" y="270"/>
                  </a:lnTo>
                  <a:lnTo>
                    <a:pt x="490" y="262"/>
                  </a:lnTo>
                  <a:lnTo>
                    <a:pt x="482" y="256"/>
                  </a:lnTo>
                  <a:lnTo>
                    <a:pt x="476" y="248"/>
                  </a:lnTo>
                  <a:lnTo>
                    <a:pt x="468" y="234"/>
                  </a:lnTo>
                  <a:lnTo>
                    <a:pt x="460" y="226"/>
                  </a:lnTo>
                  <a:lnTo>
                    <a:pt x="460" y="218"/>
                  </a:lnTo>
                  <a:lnTo>
                    <a:pt x="454" y="212"/>
                  </a:lnTo>
                  <a:lnTo>
                    <a:pt x="454" y="204"/>
                  </a:lnTo>
                  <a:lnTo>
                    <a:pt x="446" y="196"/>
                  </a:lnTo>
                  <a:lnTo>
                    <a:pt x="438" y="190"/>
                  </a:lnTo>
                  <a:lnTo>
                    <a:pt x="432" y="182"/>
                  </a:lnTo>
                  <a:lnTo>
                    <a:pt x="432" y="174"/>
                  </a:lnTo>
                  <a:lnTo>
                    <a:pt x="424" y="160"/>
                  </a:lnTo>
                  <a:lnTo>
                    <a:pt x="416" y="152"/>
                  </a:lnTo>
                  <a:lnTo>
                    <a:pt x="416" y="146"/>
                  </a:lnTo>
                  <a:lnTo>
                    <a:pt x="410" y="138"/>
                  </a:lnTo>
                  <a:lnTo>
                    <a:pt x="402" y="132"/>
                  </a:lnTo>
                  <a:lnTo>
                    <a:pt x="394" y="124"/>
                  </a:lnTo>
                  <a:lnTo>
                    <a:pt x="388" y="116"/>
                  </a:lnTo>
                  <a:lnTo>
                    <a:pt x="388" y="110"/>
                  </a:lnTo>
                  <a:lnTo>
                    <a:pt x="380" y="102"/>
                  </a:lnTo>
                  <a:lnTo>
                    <a:pt x="372" y="94"/>
                  </a:lnTo>
                  <a:lnTo>
                    <a:pt x="366" y="80"/>
                  </a:lnTo>
                  <a:lnTo>
                    <a:pt x="358" y="72"/>
                  </a:lnTo>
                  <a:lnTo>
                    <a:pt x="352" y="66"/>
                  </a:lnTo>
                  <a:lnTo>
                    <a:pt x="344" y="58"/>
                  </a:lnTo>
                  <a:lnTo>
                    <a:pt x="336" y="50"/>
                  </a:lnTo>
                  <a:lnTo>
                    <a:pt x="330" y="50"/>
                  </a:lnTo>
                  <a:lnTo>
                    <a:pt x="314" y="44"/>
                  </a:lnTo>
                  <a:lnTo>
                    <a:pt x="308" y="36"/>
                  </a:lnTo>
                  <a:lnTo>
                    <a:pt x="300" y="28"/>
                  </a:lnTo>
                  <a:lnTo>
                    <a:pt x="292" y="22"/>
                  </a:lnTo>
                  <a:lnTo>
                    <a:pt x="286" y="22"/>
                  </a:lnTo>
                  <a:lnTo>
                    <a:pt x="278" y="14"/>
                  </a:lnTo>
                  <a:lnTo>
                    <a:pt x="264" y="14"/>
                  </a:lnTo>
                  <a:lnTo>
                    <a:pt x="256" y="8"/>
                  </a:lnTo>
                  <a:lnTo>
                    <a:pt x="248" y="8"/>
                  </a:lnTo>
                  <a:lnTo>
                    <a:pt x="242" y="8"/>
                  </a:lnTo>
                  <a:lnTo>
                    <a:pt x="234" y="8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12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4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0" y="0"/>
                  </a:lnTo>
                  <a:lnTo>
                    <a:pt x="132" y="0"/>
                  </a:lnTo>
                  <a:lnTo>
                    <a:pt x="124" y="8"/>
                  </a:lnTo>
                  <a:lnTo>
                    <a:pt x="118" y="8"/>
                  </a:lnTo>
                  <a:lnTo>
                    <a:pt x="110" y="8"/>
                  </a:lnTo>
                  <a:lnTo>
                    <a:pt x="102" y="14"/>
                  </a:lnTo>
                  <a:lnTo>
                    <a:pt x="96" y="14"/>
                  </a:lnTo>
                  <a:lnTo>
                    <a:pt x="88" y="22"/>
                  </a:lnTo>
                  <a:lnTo>
                    <a:pt x="82" y="22"/>
                  </a:lnTo>
                  <a:lnTo>
                    <a:pt x="74" y="28"/>
                  </a:lnTo>
                  <a:lnTo>
                    <a:pt x="66" y="36"/>
                  </a:lnTo>
                  <a:lnTo>
                    <a:pt x="60" y="44"/>
                  </a:lnTo>
                  <a:lnTo>
                    <a:pt x="52" y="44"/>
                  </a:lnTo>
                  <a:lnTo>
                    <a:pt x="52" y="50"/>
                  </a:lnTo>
                  <a:lnTo>
                    <a:pt x="44" y="58"/>
                  </a:lnTo>
                  <a:lnTo>
                    <a:pt x="38" y="66"/>
                  </a:lnTo>
                  <a:lnTo>
                    <a:pt x="30" y="66"/>
                  </a:lnTo>
                  <a:lnTo>
                    <a:pt x="30" y="72"/>
                  </a:lnTo>
                  <a:lnTo>
                    <a:pt x="22" y="80"/>
                  </a:lnTo>
                  <a:lnTo>
                    <a:pt x="22" y="88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0" y="190"/>
                  </a:lnTo>
                  <a:lnTo>
                    <a:pt x="0" y="196"/>
                  </a:lnTo>
                  <a:lnTo>
                    <a:pt x="0" y="204"/>
                  </a:lnTo>
                  <a:lnTo>
                    <a:pt x="0" y="212"/>
                  </a:lnTo>
                  <a:lnTo>
                    <a:pt x="8" y="218"/>
                  </a:lnTo>
                  <a:lnTo>
                    <a:pt x="8" y="226"/>
                  </a:lnTo>
                  <a:lnTo>
                    <a:pt x="8" y="234"/>
                  </a:lnTo>
                  <a:lnTo>
                    <a:pt x="8" y="240"/>
                  </a:lnTo>
                  <a:lnTo>
                    <a:pt x="16" y="240"/>
                  </a:lnTo>
                  <a:lnTo>
                    <a:pt x="16" y="248"/>
                  </a:lnTo>
                  <a:lnTo>
                    <a:pt x="16" y="256"/>
                  </a:lnTo>
                  <a:lnTo>
                    <a:pt x="22" y="256"/>
                  </a:lnTo>
                  <a:lnTo>
                    <a:pt x="22" y="262"/>
                  </a:lnTo>
                  <a:lnTo>
                    <a:pt x="30" y="270"/>
                  </a:lnTo>
                  <a:lnTo>
                    <a:pt x="30" y="278"/>
                  </a:lnTo>
                  <a:lnTo>
                    <a:pt x="38" y="278"/>
                  </a:lnTo>
                  <a:lnTo>
                    <a:pt x="38" y="284"/>
                  </a:lnTo>
                  <a:lnTo>
                    <a:pt x="44" y="292"/>
                  </a:lnTo>
                  <a:lnTo>
                    <a:pt x="52" y="298"/>
                  </a:lnTo>
                  <a:lnTo>
                    <a:pt x="60" y="306"/>
                  </a:lnTo>
                  <a:lnTo>
                    <a:pt x="66" y="314"/>
                  </a:lnTo>
                  <a:lnTo>
                    <a:pt x="74" y="320"/>
                  </a:lnTo>
                  <a:lnTo>
                    <a:pt x="82" y="328"/>
                  </a:lnTo>
                  <a:lnTo>
                    <a:pt x="88" y="328"/>
                  </a:lnTo>
                  <a:lnTo>
                    <a:pt x="96" y="336"/>
                  </a:lnTo>
                  <a:lnTo>
                    <a:pt x="102" y="336"/>
                  </a:lnTo>
                  <a:lnTo>
                    <a:pt x="110" y="336"/>
                  </a:lnTo>
                  <a:lnTo>
                    <a:pt x="110" y="342"/>
                  </a:lnTo>
                  <a:lnTo>
                    <a:pt x="118" y="342"/>
                  </a:lnTo>
                  <a:lnTo>
                    <a:pt x="124" y="342"/>
                  </a:lnTo>
                  <a:lnTo>
                    <a:pt x="132" y="342"/>
                  </a:lnTo>
                  <a:lnTo>
                    <a:pt x="140" y="342"/>
                  </a:lnTo>
                  <a:lnTo>
                    <a:pt x="146" y="342"/>
                  </a:lnTo>
                  <a:lnTo>
                    <a:pt x="154" y="342"/>
                  </a:lnTo>
                  <a:lnTo>
                    <a:pt x="162" y="342"/>
                  </a:lnTo>
                  <a:lnTo>
                    <a:pt x="168" y="342"/>
                  </a:lnTo>
                  <a:lnTo>
                    <a:pt x="176" y="342"/>
                  </a:lnTo>
                  <a:lnTo>
                    <a:pt x="184" y="342"/>
                  </a:lnTo>
                  <a:lnTo>
                    <a:pt x="190" y="342"/>
                  </a:lnTo>
                  <a:lnTo>
                    <a:pt x="198" y="336"/>
                  </a:lnTo>
                  <a:lnTo>
                    <a:pt x="206" y="336"/>
                  </a:lnTo>
                  <a:lnTo>
                    <a:pt x="212" y="336"/>
                  </a:lnTo>
                  <a:lnTo>
                    <a:pt x="212" y="328"/>
                  </a:lnTo>
                  <a:lnTo>
                    <a:pt x="220" y="328"/>
                  </a:lnTo>
                  <a:lnTo>
                    <a:pt x="226" y="328"/>
                  </a:lnTo>
                  <a:lnTo>
                    <a:pt x="234" y="320"/>
                  </a:lnTo>
                  <a:lnTo>
                    <a:pt x="242" y="314"/>
                  </a:lnTo>
                  <a:lnTo>
                    <a:pt x="248" y="314"/>
                  </a:lnTo>
                  <a:lnTo>
                    <a:pt x="248" y="306"/>
                  </a:lnTo>
                  <a:lnTo>
                    <a:pt x="256" y="306"/>
                  </a:lnTo>
                  <a:lnTo>
                    <a:pt x="264" y="298"/>
                  </a:lnTo>
                  <a:lnTo>
                    <a:pt x="264" y="292"/>
                  </a:lnTo>
                  <a:lnTo>
                    <a:pt x="270" y="292"/>
                  </a:lnTo>
                  <a:lnTo>
                    <a:pt x="270" y="284"/>
                  </a:lnTo>
                  <a:lnTo>
                    <a:pt x="278" y="278"/>
                  </a:lnTo>
                  <a:lnTo>
                    <a:pt x="278" y="270"/>
                  </a:lnTo>
                  <a:lnTo>
                    <a:pt x="286" y="262"/>
                  </a:lnTo>
                  <a:lnTo>
                    <a:pt x="286" y="256"/>
                  </a:lnTo>
                  <a:lnTo>
                    <a:pt x="292" y="248"/>
                  </a:lnTo>
                  <a:lnTo>
                    <a:pt x="292" y="240"/>
                  </a:lnTo>
                  <a:lnTo>
                    <a:pt x="292" y="234"/>
                  </a:lnTo>
                  <a:lnTo>
                    <a:pt x="292" y="226"/>
                  </a:lnTo>
                  <a:lnTo>
                    <a:pt x="292" y="218"/>
                  </a:lnTo>
                  <a:lnTo>
                    <a:pt x="292" y="212"/>
                  </a:lnTo>
                  <a:lnTo>
                    <a:pt x="292" y="204"/>
                  </a:lnTo>
                  <a:lnTo>
                    <a:pt x="292" y="196"/>
                  </a:lnTo>
                  <a:lnTo>
                    <a:pt x="292" y="190"/>
                  </a:lnTo>
                  <a:lnTo>
                    <a:pt x="292" y="182"/>
                  </a:lnTo>
                  <a:lnTo>
                    <a:pt x="292" y="174"/>
                  </a:lnTo>
                  <a:lnTo>
                    <a:pt x="292" y="168"/>
                  </a:lnTo>
                  <a:lnTo>
                    <a:pt x="286" y="160"/>
                  </a:lnTo>
                  <a:lnTo>
                    <a:pt x="286" y="152"/>
                  </a:lnTo>
                  <a:lnTo>
                    <a:pt x="278" y="146"/>
                  </a:lnTo>
                  <a:lnTo>
                    <a:pt x="278" y="138"/>
                  </a:lnTo>
                  <a:lnTo>
                    <a:pt x="270" y="132"/>
                  </a:lnTo>
                  <a:lnTo>
                    <a:pt x="264" y="124"/>
                  </a:lnTo>
                  <a:lnTo>
                    <a:pt x="256" y="116"/>
                  </a:lnTo>
                  <a:lnTo>
                    <a:pt x="256" y="110"/>
                  </a:lnTo>
                  <a:lnTo>
                    <a:pt x="248" y="110"/>
                  </a:lnTo>
                  <a:lnTo>
                    <a:pt x="242" y="102"/>
                  </a:lnTo>
                  <a:lnTo>
                    <a:pt x="234" y="94"/>
                  </a:lnTo>
                  <a:lnTo>
                    <a:pt x="226" y="94"/>
                  </a:lnTo>
                  <a:lnTo>
                    <a:pt x="226" y="88"/>
                  </a:lnTo>
                  <a:lnTo>
                    <a:pt x="220" y="88"/>
                  </a:lnTo>
                  <a:lnTo>
                    <a:pt x="212" y="88"/>
                  </a:lnTo>
                  <a:lnTo>
                    <a:pt x="206" y="80"/>
                  </a:lnTo>
                  <a:lnTo>
                    <a:pt x="198" y="80"/>
                  </a:lnTo>
                  <a:lnTo>
                    <a:pt x="190" y="80"/>
                  </a:lnTo>
                  <a:lnTo>
                    <a:pt x="184" y="80"/>
                  </a:lnTo>
                  <a:lnTo>
                    <a:pt x="176" y="80"/>
                  </a:lnTo>
                  <a:lnTo>
                    <a:pt x="168" y="80"/>
                  </a:lnTo>
                  <a:lnTo>
                    <a:pt x="162" y="80"/>
                  </a:lnTo>
                  <a:lnTo>
                    <a:pt x="154" y="80"/>
                  </a:lnTo>
                  <a:lnTo>
                    <a:pt x="146" y="80"/>
                  </a:lnTo>
                  <a:lnTo>
                    <a:pt x="140" y="80"/>
                  </a:lnTo>
                  <a:lnTo>
                    <a:pt x="140" y="88"/>
                  </a:lnTo>
                  <a:lnTo>
                    <a:pt x="132" y="88"/>
                  </a:lnTo>
                  <a:lnTo>
                    <a:pt x="124" y="88"/>
                  </a:lnTo>
                  <a:lnTo>
                    <a:pt x="124" y="94"/>
                  </a:lnTo>
                  <a:lnTo>
                    <a:pt x="118" y="94"/>
                  </a:lnTo>
                  <a:lnTo>
                    <a:pt x="110" y="94"/>
                  </a:lnTo>
                  <a:lnTo>
                    <a:pt x="102" y="102"/>
                  </a:lnTo>
                  <a:lnTo>
                    <a:pt x="96" y="110"/>
                  </a:lnTo>
                  <a:lnTo>
                    <a:pt x="88" y="116"/>
                  </a:lnTo>
                  <a:lnTo>
                    <a:pt x="82" y="124"/>
                  </a:lnTo>
                  <a:lnTo>
                    <a:pt x="82" y="132"/>
                  </a:lnTo>
                  <a:lnTo>
                    <a:pt x="74" y="132"/>
                  </a:lnTo>
                  <a:lnTo>
                    <a:pt x="74" y="138"/>
                  </a:lnTo>
                  <a:lnTo>
                    <a:pt x="74" y="146"/>
                  </a:lnTo>
                  <a:lnTo>
                    <a:pt x="66" y="146"/>
                  </a:lnTo>
                  <a:lnTo>
                    <a:pt x="66" y="152"/>
                  </a:lnTo>
                  <a:lnTo>
                    <a:pt x="66" y="160"/>
                  </a:lnTo>
                  <a:lnTo>
                    <a:pt x="66" y="168"/>
                  </a:lnTo>
                  <a:lnTo>
                    <a:pt x="66" y="174"/>
                  </a:lnTo>
                  <a:lnTo>
                    <a:pt x="66" y="182"/>
                  </a:lnTo>
                  <a:lnTo>
                    <a:pt x="66" y="190"/>
                  </a:lnTo>
                  <a:lnTo>
                    <a:pt x="74" y="196"/>
                  </a:lnTo>
                  <a:lnTo>
                    <a:pt x="74" y="204"/>
                  </a:lnTo>
                  <a:lnTo>
                    <a:pt x="74" y="212"/>
                  </a:lnTo>
                  <a:lnTo>
                    <a:pt x="82" y="212"/>
                  </a:lnTo>
                  <a:lnTo>
                    <a:pt x="82" y="218"/>
                  </a:lnTo>
                  <a:lnTo>
                    <a:pt x="88" y="226"/>
                  </a:lnTo>
                  <a:lnTo>
                    <a:pt x="88" y="234"/>
                  </a:lnTo>
                  <a:lnTo>
                    <a:pt x="96" y="234"/>
                  </a:lnTo>
                  <a:lnTo>
                    <a:pt x="96" y="240"/>
                  </a:lnTo>
                  <a:lnTo>
                    <a:pt x="102" y="240"/>
                  </a:lnTo>
                  <a:lnTo>
                    <a:pt x="110" y="240"/>
                  </a:lnTo>
                  <a:lnTo>
                    <a:pt x="110" y="248"/>
                  </a:lnTo>
                  <a:lnTo>
                    <a:pt x="118" y="248"/>
                  </a:lnTo>
                  <a:lnTo>
                    <a:pt x="124" y="256"/>
                  </a:lnTo>
                  <a:lnTo>
                    <a:pt x="132" y="256"/>
                  </a:lnTo>
                  <a:lnTo>
                    <a:pt x="140" y="256"/>
                  </a:lnTo>
                  <a:lnTo>
                    <a:pt x="146" y="256"/>
                  </a:lnTo>
                  <a:lnTo>
                    <a:pt x="154" y="256"/>
                  </a:lnTo>
                  <a:lnTo>
                    <a:pt x="162" y="256"/>
                  </a:lnTo>
                  <a:lnTo>
                    <a:pt x="162" y="248"/>
                  </a:lnTo>
                  <a:lnTo>
                    <a:pt x="168" y="248"/>
                  </a:lnTo>
                  <a:lnTo>
                    <a:pt x="176" y="248"/>
                  </a:lnTo>
                  <a:lnTo>
                    <a:pt x="176" y="240"/>
                  </a:lnTo>
                  <a:lnTo>
                    <a:pt x="184" y="240"/>
                  </a:lnTo>
                  <a:lnTo>
                    <a:pt x="184" y="234"/>
                  </a:lnTo>
                  <a:lnTo>
                    <a:pt x="190" y="234"/>
                  </a:lnTo>
                  <a:lnTo>
                    <a:pt x="190" y="226"/>
                  </a:lnTo>
                  <a:lnTo>
                    <a:pt x="198" y="226"/>
                  </a:lnTo>
                  <a:lnTo>
                    <a:pt x="198" y="218"/>
                  </a:lnTo>
                  <a:lnTo>
                    <a:pt x="198" y="212"/>
                  </a:lnTo>
                  <a:lnTo>
                    <a:pt x="206" y="212"/>
                  </a:lnTo>
                  <a:lnTo>
                    <a:pt x="206" y="204"/>
                  </a:lnTo>
                  <a:lnTo>
                    <a:pt x="206" y="196"/>
                  </a:lnTo>
                  <a:lnTo>
                    <a:pt x="206" y="190"/>
                  </a:lnTo>
                  <a:lnTo>
                    <a:pt x="198" y="190"/>
                  </a:lnTo>
                  <a:lnTo>
                    <a:pt x="198" y="182"/>
                  </a:lnTo>
                  <a:lnTo>
                    <a:pt x="198" y="174"/>
                  </a:lnTo>
                  <a:lnTo>
                    <a:pt x="198" y="168"/>
                  </a:lnTo>
                  <a:lnTo>
                    <a:pt x="190" y="168"/>
                  </a:lnTo>
                  <a:lnTo>
                    <a:pt x="190" y="160"/>
                  </a:lnTo>
                  <a:lnTo>
                    <a:pt x="190" y="152"/>
                  </a:lnTo>
                  <a:lnTo>
                    <a:pt x="184" y="152"/>
                  </a:lnTo>
                  <a:lnTo>
                    <a:pt x="162" y="174"/>
                  </a:lnTo>
                  <a:lnTo>
                    <a:pt x="162" y="182"/>
                  </a:lnTo>
                  <a:lnTo>
                    <a:pt x="168" y="182"/>
                  </a:lnTo>
                  <a:lnTo>
                    <a:pt x="168" y="190"/>
                  </a:lnTo>
                  <a:lnTo>
                    <a:pt x="168" y="196"/>
                  </a:lnTo>
                  <a:lnTo>
                    <a:pt x="168" y="204"/>
                  </a:lnTo>
                  <a:lnTo>
                    <a:pt x="168" y="212"/>
                  </a:lnTo>
                  <a:lnTo>
                    <a:pt x="162" y="212"/>
                  </a:lnTo>
                  <a:lnTo>
                    <a:pt x="162" y="218"/>
                  </a:lnTo>
                  <a:lnTo>
                    <a:pt x="154" y="218"/>
                  </a:lnTo>
                  <a:lnTo>
                    <a:pt x="146" y="218"/>
                  </a:lnTo>
                  <a:lnTo>
                    <a:pt x="140" y="218"/>
                  </a:lnTo>
                  <a:lnTo>
                    <a:pt x="132" y="218"/>
                  </a:lnTo>
                  <a:lnTo>
                    <a:pt x="124" y="218"/>
                  </a:lnTo>
                  <a:lnTo>
                    <a:pt x="124" y="212"/>
                  </a:lnTo>
                  <a:lnTo>
                    <a:pt x="118" y="212"/>
                  </a:lnTo>
                  <a:lnTo>
                    <a:pt x="118" y="204"/>
                  </a:lnTo>
                  <a:lnTo>
                    <a:pt x="110" y="204"/>
                  </a:lnTo>
                  <a:lnTo>
                    <a:pt x="110" y="196"/>
                  </a:lnTo>
                  <a:lnTo>
                    <a:pt x="110" y="190"/>
                  </a:lnTo>
                  <a:lnTo>
                    <a:pt x="102" y="190"/>
                  </a:lnTo>
                  <a:lnTo>
                    <a:pt x="102" y="182"/>
                  </a:lnTo>
                  <a:lnTo>
                    <a:pt x="102" y="174"/>
                  </a:lnTo>
                  <a:lnTo>
                    <a:pt x="102" y="168"/>
                  </a:lnTo>
                  <a:lnTo>
                    <a:pt x="102" y="160"/>
                  </a:lnTo>
                  <a:lnTo>
                    <a:pt x="102" y="152"/>
                  </a:lnTo>
                  <a:lnTo>
                    <a:pt x="110" y="146"/>
                  </a:lnTo>
                  <a:lnTo>
                    <a:pt x="110" y="138"/>
                  </a:lnTo>
                  <a:lnTo>
                    <a:pt x="118" y="138"/>
                  </a:lnTo>
                  <a:lnTo>
                    <a:pt x="124" y="132"/>
                  </a:lnTo>
                  <a:lnTo>
                    <a:pt x="132" y="124"/>
                  </a:lnTo>
                  <a:lnTo>
                    <a:pt x="140" y="124"/>
                  </a:lnTo>
                  <a:lnTo>
                    <a:pt x="146" y="116"/>
                  </a:lnTo>
                  <a:lnTo>
                    <a:pt x="154" y="116"/>
                  </a:lnTo>
                  <a:lnTo>
                    <a:pt x="162" y="116"/>
                  </a:lnTo>
                  <a:lnTo>
                    <a:pt x="168" y="110"/>
                  </a:lnTo>
                  <a:lnTo>
                    <a:pt x="176" y="110"/>
                  </a:lnTo>
                  <a:lnTo>
                    <a:pt x="184" y="110"/>
                  </a:lnTo>
                  <a:lnTo>
                    <a:pt x="184" y="116"/>
                  </a:lnTo>
                  <a:lnTo>
                    <a:pt x="190" y="116"/>
                  </a:lnTo>
                  <a:lnTo>
                    <a:pt x="198" y="116"/>
                  </a:lnTo>
                  <a:lnTo>
                    <a:pt x="206" y="116"/>
                  </a:lnTo>
                  <a:lnTo>
                    <a:pt x="206" y="124"/>
                  </a:lnTo>
                  <a:lnTo>
                    <a:pt x="212" y="124"/>
                  </a:lnTo>
                  <a:lnTo>
                    <a:pt x="220" y="124"/>
                  </a:lnTo>
                  <a:lnTo>
                    <a:pt x="220" y="132"/>
                  </a:lnTo>
                  <a:lnTo>
                    <a:pt x="226" y="132"/>
                  </a:lnTo>
                  <a:lnTo>
                    <a:pt x="226" y="138"/>
                  </a:lnTo>
                  <a:lnTo>
                    <a:pt x="234" y="138"/>
                  </a:lnTo>
                  <a:lnTo>
                    <a:pt x="234" y="146"/>
                  </a:lnTo>
                  <a:lnTo>
                    <a:pt x="242" y="146"/>
                  </a:lnTo>
                  <a:lnTo>
                    <a:pt x="242" y="152"/>
                  </a:lnTo>
                  <a:lnTo>
                    <a:pt x="248" y="152"/>
                  </a:lnTo>
                  <a:lnTo>
                    <a:pt x="248" y="160"/>
                  </a:lnTo>
                  <a:lnTo>
                    <a:pt x="248" y="168"/>
                  </a:lnTo>
                  <a:lnTo>
                    <a:pt x="256" y="168"/>
                  </a:lnTo>
                  <a:lnTo>
                    <a:pt x="256" y="174"/>
                  </a:lnTo>
                  <a:lnTo>
                    <a:pt x="256" y="182"/>
                  </a:lnTo>
                  <a:lnTo>
                    <a:pt x="264" y="190"/>
                  </a:lnTo>
                  <a:lnTo>
                    <a:pt x="264" y="196"/>
                  </a:lnTo>
                  <a:lnTo>
                    <a:pt x="264" y="204"/>
                  </a:lnTo>
                  <a:lnTo>
                    <a:pt x="264" y="212"/>
                  </a:lnTo>
                  <a:lnTo>
                    <a:pt x="264" y="218"/>
                  </a:lnTo>
                  <a:lnTo>
                    <a:pt x="264" y="226"/>
                  </a:lnTo>
                  <a:lnTo>
                    <a:pt x="256" y="234"/>
                  </a:lnTo>
                  <a:lnTo>
                    <a:pt x="256" y="240"/>
                  </a:lnTo>
                  <a:lnTo>
                    <a:pt x="256" y="248"/>
                  </a:lnTo>
                  <a:lnTo>
                    <a:pt x="248" y="248"/>
                  </a:lnTo>
                  <a:lnTo>
                    <a:pt x="248" y="256"/>
                  </a:lnTo>
                  <a:lnTo>
                    <a:pt x="248" y="262"/>
                  </a:lnTo>
                  <a:lnTo>
                    <a:pt x="242" y="262"/>
                  </a:lnTo>
                  <a:lnTo>
                    <a:pt x="242" y="270"/>
                  </a:lnTo>
                  <a:lnTo>
                    <a:pt x="234" y="278"/>
                  </a:lnTo>
                  <a:lnTo>
                    <a:pt x="226" y="284"/>
                  </a:lnTo>
                  <a:lnTo>
                    <a:pt x="220" y="292"/>
                  </a:lnTo>
                  <a:lnTo>
                    <a:pt x="212" y="292"/>
                  </a:lnTo>
                  <a:lnTo>
                    <a:pt x="212" y="298"/>
                  </a:lnTo>
                  <a:lnTo>
                    <a:pt x="206" y="298"/>
                  </a:lnTo>
                  <a:lnTo>
                    <a:pt x="198" y="298"/>
                  </a:lnTo>
                  <a:lnTo>
                    <a:pt x="190" y="306"/>
                  </a:lnTo>
                  <a:lnTo>
                    <a:pt x="184" y="306"/>
                  </a:lnTo>
                  <a:lnTo>
                    <a:pt x="176" y="306"/>
                  </a:lnTo>
                  <a:lnTo>
                    <a:pt x="168" y="314"/>
                  </a:lnTo>
                  <a:lnTo>
                    <a:pt x="162" y="314"/>
                  </a:lnTo>
                  <a:lnTo>
                    <a:pt x="154" y="314"/>
                  </a:lnTo>
                  <a:lnTo>
                    <a:pt x="146" y="314"/>
                  </a:lnTo>
                  <a:lnTo>
                    <a:pt x="140" y="314"/>
                  </a:lnTo>
                  <a:lnTo>
                    <a:pt x="132" y="306"/>
                  </a:lnTo>
                  <a:lnTo>
                    <a:pt x="124" y="306"/>
                  </a:lnTo>
                  <a:lnTo>
                    <a:pt x="118" y="306"/>
                  </a:lnTo>
                  <a:lnTo>
                    <a:pt x="110" y="298"/>
                  </a:lnTo>
                  <a:lnTo>
                    <a:pt x="102" y="298"/>
                  </a:lnTo>
                  <a:lnTo>
                    <a:pt x="96" y="292"/>
                  </a:lnTo>
                  <a:lnTo>
                    <a:pt x="88" y="292"/>
                  </a:lnTo>
                  <a:lnTo>
                    <a:pt x="88" y="284"/>
                  </a:lnTo>
                  <a:lnTo>
                    <a:pt x="82" y="284"/>
                  </a:lnTo>
                  <a:lnTo>
                    <a:pt x="82" y="278"/>
                  </a:lnTo>
                  <a:lnTo>
                    <a:pt x="74" y="278"/>
                  </a:lnTo>
                  <a:lnTo>
                    <a:pt x="74" y="270"/>
                  </a:lnTo>
                  <a:lnTo>
                    <a:pt x="66" y="270"/>
                  </a:lnTo>
                  <a:lnTo>
                    <a:pt x="66" y="262"/>
                  </a:lnTo>
                  <a:lnTo>
                    <a:pt x="60" y="256"/>
                  </a:lnTo>
                  <a:lnTo>
                    <a:pt x="60" y="248"/>
                  </a:lnTo>
                  <a:lnTo>
                    <a:pt x="52" y="248"/>
                  </a:lnTo>
                  <a:lnTo>
                    <a:pt x="52" y="240"/>
                  </a:lnTo>
                  <a:lnTo>
                    <a:pt x="44" y="234"/>
                  </a:lnTo>
                  <a:lnTo>
                    <a:pt x="44" y="226"/>
                  </a:lnTo>
                  <a:lnTo>
                    <a:pt x="44" y="218"/>
                  </a:lnTo>
                  <a:lnTo>
                    <a:pt x="38" y="218"/>
                  </a:lnTo>
                  <a:lnTo>
                    <a:pt x="38" y="212"/>
                  </a:lnTo>
                  <a:lnTo>
                    <a:pt x="38" y="204"/>
                  </a:lnTo>
                  <a:lnTo>
                    <a:pt x="38" y="196"/>
                  </a:lnTo>
                  <a:lnTo>
                    <a:pt x="38" y="190"/>
                  </a:lnTo>
                  <a:lnTo>
                    <a:pt x="30" y="182"/>
                  </a:lnTo>
                  <a:lnTo>
                    <a:pt x="30" y="174"/>
                  </a:lnTo>
                  <a:lnTo>
                    <a:pt x="30" y="168"/>
                  </a:lnTo>
                  <a:lnTo>
                    <a:pt x="30" y="160"/>
                  </a:lnTo>
                  <a:lnTo>
                    <a:pt x="38" y="152"/>
                  </a:lnTo>
                  <a:lnTo>
                    <a:pt x="38" y="146"/>
                  </a:lnTo>
                  <a:lnTo>
                    <a:pt x="38" y="138"/>
                  </a:lnTo>
                  <a:lnTo>
                    <a:pt x="38" y="132"/>
                  </a:lnTo>
                  <a:lnTo>
                    <a:pt x="38" y="124"/>
                  </a:lnTo>
                  <a:lnTo>
                    <a:pt x="44" y="116"/>
                  </a:lnTo>
                  <a:lnTo>
                    <a:pt x="44" y="110"/>
                  </a:lnTo>
                  <a:lnTo>
                    <a:pt x="52" y="102"/>
                  </a:lnTo>
                  <a:lnTo>
                    <a:pt x="52" y="94"/>
                  </a:lnTo>
                  <a:lnTo>
                    <a:pt x="60" y="94"/>
                  </a:lnTo>
                  <a:lnTo>
                    <a:pt x="60" y="88"/>
                  </a:lnTo>
                  <a:lnTo>
                    <a:pt x="66" y="80"/>
                  </a:lnTo>
                  <a:lnTo>
                    <a:pt x="74" y="72"/>
                  </a:lnTo>
                  <a:lnTo>
                    <a:pt x="82" y="66"/>
                  </a:lnTo>
                  <a:lnTo>
                    <a:pt x="88" y="58"/>
                  </a:lnTo>
                  <a:lnTo>
                    <a:pt x="96" y="58"/>
                  </a:lnTo>
                  <a:lnTo>
                    <a:pt x="102" y="50"/>
                  </a:lnTo>
                  <a:lnTo>
                    <a:pt x="110" y="50"/>
                  </a:lnTo>
                  <a:lnTo>
                    <a:pt x="110" y="44"/>
                  </a:lnTo>
                  <a:lnTo>
                    <a:pt x="118" y="44"/>
                  </a:lnTo>
                  <a:lnTo>
                    <a:pt x="124" y="44"/>
                  </a:lnTo>
                  <a:lnTo>
                    <a:pt x="124" y="36"/>
                  </a:lnTo>
                  <a:lnTo>
                    <a:pt x="132" y="36"/>
                  </a:lnTo>
                  <a:lnTo>
                    <a:pt x="140" y="36"/>
                  </a:lnTo>
                  <a:lnTo>
                    <a:pt x="146" y="36"/>
                  </a:lnTo>
                  <a:lnTo>
                    <a:pt x="154" y="28"/>
                  </a:lnTo>
                  <a:lnTo>
                    <a:pt x="162" y="28"/>
                  </a:lnTo>
                  <a:lnTo>
                    <a:pt x="168" y="28"/>
                  </a:lnTo>
                  <a:lnTo>
                    <a:pt x="176" y="28"/>
                  </a:lnTo>
                  <a:lnTo>
                    <a:pt x="184" y="28"/>
                  </a:lnTo>
                  <a:lnTo>
                    <a:pt x="190" y="28"/>
                  </a:lnTo>
                  <a:lnTo>
                    <a:pt x="198" y="28"/>
                  </a:lnTo>
                  <a:lnTo>
                    <a:pt x="206" y="28"/>
                  </a:lnTo>
                  <a:lnTo>
                    <a:pt x="206" y="36"/>
                  </a:lnTo>
                  <a:lnTo>
                    <a:pt x="212" y="36"/>
                  </a:lnTo>
                  <a:lnTo>
                    <a:pt x="220" y="36"/>
                  </a:lnTo>
                  <a:lnTo>
                    <a:pt x="226" y="36"/>
                  </a:lnTo>
                  <a:lnTo>
                    <a:pt x="234" y="36"/>
                  </a:lnTo>
                  <a:lnTo>
                    <a:pt x="242" y="36"/>
                  </a:lnTo>
                  <a:lnTo>
                    <a:pt x="242" y="44"/>
                  </a:lnTo>
                  <a:lnTo>
                    <a:pt x="248" y="44"/>
                  </a:lnTo>
                  <a:lnTo>
                    <a:pt x="256" y="44"/>
                  </a:lnTo>
                  <a:lnTo>
                    <a:pt x="264" y="50"/>
                  </a:lnTo>
                  <a:lnTo>
                    <a:pt x="270" y="50"/>
                  </a:lnTo>
                  <a:lnTo>
                    <a:pt x="278" y="58"/>
                  </a:lnTo>
                  <a:lnTo>
                    <a:pt x="286" y="58"/>
                  </a:lnTo>
                  <a:lnTo>
                    <a:pt x="292" y="66"/>
                  </a:lnTo>
                  <a:lnTo>
                    <a:pt x="300" y="72"/>
                  </a:lnTo>
                  <a:lnTo>
                    <a:pt x="308" y="80"/>
                  </a:lnTo>
                  <a:lnTo>
                    <a:pt x="314" y="88"/>
                  </a:lnTo>
                  <a:lnTo>
                    <a:pt x="322" y="88"/>
                  </a:lnTo>
                  <a:lnTo>
                    <a:pt x="330" y="94"/>
                  </a:lnTo>
                  <a:lnTo>
                    <a:pt x="336" y="102"/>
                  </a:lnTo>
                  <a:lnTo>
                    <a:pt x="344" y="110"/>
                  </a:lnTo>
                  <a:lnTo>
                    <a:pt x="344" y="116"/>
                  </a:lnTo>
                  <a:lnTo>
                    <a:pt x="352" y="124"/>
                  </a:lnTo>
                  <a:lnTo>
                    <a:pt x="358" y="132"/>
                  </a:lnTo>
                  <a:lnTo>
                    <a:pt x="366" y="138"/>
                  </a:lnTo>
                  <a:lnTo>
                    <a:pt x="372" y="146"/>
                  </a:lnTo>
                  <a:lnTo>
                    <a:pt x="380" y="152"/>
                  </a:lnTo>
                  <a:lnTo>
                    <a:pt x="388" y="160"/>
                  </a:lnTo>
                  <a:lnTo>
                    <a:pt x="388" y="168"/>
                  </a:lnTo>
                  <a:lnTo>
                    <a:pt x="394" y="182"/>
                  </a:lnTo>
                  <a:lnTo>
                    <a:pt x="402" y="190"/>
                  </a:lnTo>
                  <a:lnTo>
                    <a:pt x="410" y="196"/>
                  </a:lnTo>
                  <a:lnTo>
                    <a:pt x="410" y="204"/>
                  </a:lnTo>
                  <a:lnTo>
                    <a:pt x="416" y="212"/>
                  </a:lnTo>
                  <a:lnTo>
                    <a:pt x="424" y="226"/>
                  </a:lnTo>
                  <a:lnTo>
                    <a:pt x="424" y="234"/>
                  </a:lnTo>
                  <a:lnTo>
                    <a:pt x="424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755720" y="41891400"/>
              <a:ext cx="1517400" cy="682560"/>
            </a:xfrm>
            <a:custGeom>
              <a:avLst/>
              <a:gdLst>
                <a:gd name="textAreaLeft" fmla="*/ 0 w 1517400"/>
                <a:gd name="textAreaRight" fmla="*/ 1517760 w 151740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956" h="430">
                  <a:moveTo>
                    <a:pt x="532" y="234"/>
                  </a:moveTo>
                  <a:lnTo>
                    <a:pt x="524" y="240"/>
                  </a:lnTo>
                  <a:lnTo>
                    <a:pt x="518" y="256"/>
                  </a:lnTo>
                  <a:lnTo>
                    <a:pt x="510" y="262"/>
                  </a:lnTo>
                  <a:lnTo>
                    <a:pt x="504" y="270"/>
                  </a:lnTo>
                  <a:lnTo>
                    <a:pt x="496" y="284"/>
                  </a:lnTo>
                  <a:lnTo>
                    <a:pt x="488" y="292"/>
                  </a:lnTo>
                  <a:lnTo>
                    <a:pt x="482" y="298"/>
                  </a:lnTo>
                  <a:lnTo>
                    <a:pt x="474" y="314"/>
                  </a:lnTo>
                  <a:lnTo>
                    <a:pt x="466" y="320"/>
                  </a:lnTo>
                  <a:lnTo>
                    <a:pt x="460" y="328"/>
                  </a:lnTo>
                  <a:lnTo>
                    <a:pt x="444" y="336"/>
                  </a:lnTo>
                  <a:lnTo>
                    <a:pt x="438" y="350"/>
                  </a:lnTo>
                  <a:lnTo>
                    <a:pt x="430" y="358"/>
                  </a:lnTo>
                  <a:lnTo>
                    <a:pt x="416" y="364"/>
                  </a:lnTo>
                  <a:lnTo>
                    <a:pt x="408" y="372"/>
                  </a:lnTo>
                  <a:lnTo>
                    <a:pt x="394" y="380"/>
                  </a:lnTo>
                  <a:lnTo>
                    <a:pt x="386" y="386"/>
                  </a:lnTo>
                  <a:lnTo>
                    <a:pt x="372" y="394"/>
                  </a:lnTo>
                  <a:lnTo>
                    <a:pt x="364" y="394"/>
                  </a:lnTo>
                  <a:lnTo>
                    <a:pt x="350" y="402"/>
                  </a:lnTo>
                  <a:lnTo>
                    <a:pt x="342" y="408"/>
                  </a:lnTo>
                  <a:lnTo>
                    <a:pt x="328" y="416"/>
                  </a:lnTo>
                  <a:lnTo>
                    <a:pt x="314" y="416"/>
                  </a:lnTo>
                  <a:lnTo>
                    <a:pt x="306" y="422"/>
                  </a:lnTo>
                  <a:lnTo>
                    <a:pt x="292" y="422"/>
                  </a:lnTo>
                  <a:lnTo>
                    <a:pt x="276" y="422"/>
                  </a:lnTo>
                  <a:lnTo>
                    <a:pt x="270" y="430"/>
                  </a:lnTo>
                  <a:lnTo>
                    <a:pt x="254" y="430"/>
                  </a:lnTo>
                  <a:lnTo>
                    <a:pt x="248" y="430"/>
                  </a:lnTo>
                  <a:lnTo>
                    <a:pt x="234" y="430"/>
                  </a:lnTo>
                  <a:lnTo>
                    <a:pt x="218" y="430"/>
                  </a:lnTo>
                  <a:lnTo>
                    <a:pt x="212" y="422"/>
                  </a:lnTo>
                  <a:lnTo>
                    <a:pt x="196" y="422"/>
                  </a:lnTo>
                  <a:lnTo>
                    <a:pt x="190" y="422"/>
                  </a:lnTo>
                  <a:lnTo>
                    <a:pt x="182" y="422"/>
                  </a:lnTo>
                  <a:lnTo>
                    <a:pt x="168" y="416"/>
                  </a:lnTo>
                  <a:lnTo>
                    <a:pt x="160" y="416"/>
                  </a:lnTo>
                  <a:lnTo>
                    <a:pt x="152" y="408"/>
                  </a:lnTo>
                  <a:lnTo>
                    <a:pt x="146" y="408"/>
                  </a:lnTo>
                  <a:lnTo>
                    <a:pt x="138" y="402"/>
                  </a:lnTo>
                  <a:lnTo>
                    <a:pt x="130" y="402"/>
                  </a:lnTo>
                  <a:lnTo>
                    <a:pt x="124" y="394"/>
                  </a:lnTo>
                  <a:lnTo>
                    <a:pt x="116" y="394"/>
                  </a:lnTo>
                  <a:lnTo>
                    <a:pt x="110" y="386"/>
                  </a:lnTo>
                  <a:lnTo>
                    <a:pt x="102" y="380"/>
                  </a:lnTo>
                  <a:lnTo>
                    <a:pt x="94" y="372"/>
                  </a:lnTo>
                  <a:lnTo>
                    <a:pt x="88" y="364"/>
                  </a:lnTo>
                  <a:lnTo>
                    <a:pt x="80" y="364"/>
                  </a:lnTo>
                  <a:lnTo>
                    <a:pt x="80" y="358"/>
                  </a:lnTo>
                  <a:lnTo>
                    <a:pt x="72" y="350"/>
                  </a:lnTo>
                  <a:lnTo>
                    <a:pt x="66" y="350"/>
                  </a:lnTo>
                  <a:lnTo>
                    <a:pt x="66" y="342"/>
                  </a:lnTo>
                  <a:lnTo>
                    <a:pt x="58" y="336"/>
                  </a:lnTo>
                  <a:lnTo>
                    <a:pt x="50" y="328"/>
                  </a:lnTo>
                  <a:lnTo>
                    <a:pt x="44" y="320"/>
                  </a:lnTo>
                  <a:lnTo>
                    <a:pt x="44" y="314"/>
                  </a:lnTo>
                  <a:lnTo>
                    <a:pt x="36" y="306"/>
                  </a:lnTo>
                  <a:lnTo>
                    <a:pt x="28" y="298"/>
                  </a:lnTo>
                  <a:lnTo>
                    <a:pt x="28" y="292"/>
                  </a:lnTo>
                  <a:lnTo>
                    <a:pt x="28" y="284"/>
                  </a:lnTo>
                  <a:lnTo>
                    <a:pt x="22" y="284"/>
                  </a:lnTo>
                  <a:lnTo>
                    <a:pt x="22" y="278"/>
                  </a:lnTo>
                  <a:lnTo>
                    <a:pt x="14" y="270"/>
                  </a:lnTo>
                  <a:lnTo>
                    <a:pt x="14" y="262"/>
                  </a:lnTo>
                  <a:lnTo>
                    <a:pt x="14" y="256"/>
                  </a:lnTo>
                  <a:lnTo>
                    <a:pt x="6" y="256"/>
                  </a:lnTo>
                  <a:lnTo>
                    <a:pt x="6" y="248"/>
                  </a:lnTo>
                  <a:lnTo>
                    <a:pt x="6" y="240"/>
                  </a:lnTo>
                  <a:lnTo>
                    <a:pt x="6" y="234"/>
                  </a:lnTo>
                  <a:lnTo>
                    <a:pt x="0" y="234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2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6" y="132"/>
                  </a:lnTo>
                  <a:lnTo>
                    <a:pt x="6" y="124"/>
                  </a:lnTo>
                  <a:lnTo>
                    <a:pt x="6" y="116"/>
                  </a:lnTo>
                  <a:lnTo>
                    <a:pt x="14" y="110"/>
                  </a:lnTo>
                  <a:lnTo>
                    <a:pt x="14" y="102"/>
                  </a:lnTo>
                  <a:lnTo>
                    <a:pt x="14" y="94"/>
                  </a:lnTo>
                  <a:lnTo>
                    <a:pt x="22" y="94"/>
                  </a:lnTo>
                  <a:lnTo>
                    <a:pt x="22" y="88"/>
                  </a:lnTo>
                  <a:lnTo>
                    <a:pt x="28" y="80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44" y="66"/>
                  </a:lnTo>
                  <a:lnTo>
                    <a:pt x="50" y="58"/>
                  </a:lnTo>
                  <a:lnTo>
                    <a:pt x="50" y="50"/>
                  </a:lnTo>
                  <a:lnTo>
                    <a:pt x="58" y="50"/>
                  </a:lnTo>
                  <a:lnTo>
                    <a:pt x="66" y="44"/>
                  </a:lnTo>
                  <a:lnTo>
                    <a:pt x="72" y="36"/>
                  </a:lnTo>
                  <a:lnTo>
                    <a:pt x="80" y="36"/>
                  </a:lnTo>
                  <a:lnTo>
                    <a:pt x="88" y="28"/>
                  </a:lnTo>
                  <a:lnTo>
                    <a:pt x="94" y="28"/>
                  </a:lnTo>
                  <a:lnTo>
                    <a:pt x="102" y="28"/>
                  </a:lnTo>
                  <a:lnTo>
                    <a:pt x="110" y="22"/>
                  </a:lnTo>
                  <a:lnTo>
                    <a:pt x="116" y="22"/>
                  </a:lnTo>
                  <a:lnTo>
                    <a:pt x="124" y="14"/>
                  </a:lnTo>
                  <a:lnTo>
                    <a:pt x="130" y="14"/>
                  </a:lnTo>
                  <a:lnTo>
                    <a:pt x="138" y="14"/>
                  </a:lnTo>
                  <a:lnTo>
                    <a:pt x="146" y="14"/>
                  </a:lnTo>
                  <a:lnTo>
                    <a:pt x="152" y="14"/>
                  </a:lnTo>
                  <a:lnTo>
                    <a:pt x="160" y="14"/>
                  </a:lnTo>
                  <a:lnTo>
                    <a:pt x="168" y="14"/>
                  </a:lnTo>
                  <a:lnTo>
                    <a:pt x="174" y="14"/>
                  </a:lnTo>
                  <a:lnTo>
                    <a:pt x="182" y="14"/>
                  </a:lnTo>
                  <a:lnTo>
                    <a:pt x="190" y="14"/>
                  </a:lnTo>
                  <a:lnTo>
                    <a:pt x="196" y="14"/>
                  </a:lnTo>
                  <a:lnTo>
                    <a:pt x="204" y="14"/>
                  </a:lnTo>
                  <a:lnTo>
                    <a:pt x="212" y="14"/>
                  </a:lnTo>
                  <a:lnTo>
                    <a:pt x="212" y="22"/>
                  </a:lnTo>
                  <a:lnTo>
                    <a:pt x="218" y="22"/>
                  </a:lnTo>
                  <a:lnTo>
                    <a:pt x="226" y="22"/>
                  </a:lnTo>
                  <a:lnTo>
                    <a:pt x="234" y="28"/>
                  </a:lnTo>
                  <a:lnTo>
                    <a:pt x="240" y="28"/>
                  </a:lnTo>
                  <a:lnTo>
                    <a:pt x="248" y="36"/>
                  </a:lnTo>
                  <a:lnTo>
                    <a:pt x="254" y="44"/>
                  </a:lnTo>
                  <a:lnTo>
                    <a:pt x="262" y="44"/>
                  </a:lnTo>
                  <a:lnTo>
                    <a:pt x="262" y="50"/>
                  </a:lnTo>
                  <a:lnTo>
                    <a:pt x="270" y="58"/>
                  </a:lnTo>
                  <a:lnTo>
                    <a:pt x="276" y="58"/>
                  </a:lnTo>
                  <a:lnTo>
                    <a:pt x="276" y="66"/>
                  </a:lnTo>
                  <a:lnTo>
                    <a:pt x="284" y="72"/>
                  </a:lnTo>
                  <a:lnTo>
                    <a:pt x="292" y="80"/>
                  </a:lnTo>
                  <a:lnTo>
                    <a:pt x="292" y="88"/>
                  </a:lnTo>
                  <a:lnTo>
                    <a:pt x="298" y="88"/>
                  </a:lnTo>
                  <a:lnTo>
                    <a:pt x="298" y="94"/>
                  </a:lnTo>
                  <a:lnTo>
                    <a:pt x="306" y="102"/>
                  </a:lnTo>
                  <a:lnTo>
                    <a:pt x="306" y="110"/>
                  </a:lnTo>
                  <a:lnTo>
                    <a:pt x="306" y="116"/>
                  </a:lnTo>
                  <a:lnTo>
                    <a:pt x="314" y="124"/>
                  </a:lnTo>
                  <a:lnTo>
                    <a:pt x="314" y="132"/>
                  </a:lnTo>
                  <a:lnTo>
                    <a:pt x="314" y="138"/>
                  </a:lnTo>
                  <a:lnTo>
                    <a:pt x="314" y="146"/>
                  </a:lnTo>
                  <a:lnTo>
                    <a:pt x="314" y="152"/>
                  </a:lnTo>
                  <a:lnTo>
                    <a:pt x="314" y="160"/>
                  </a:lnTo>
                  <a:lnTo>
                    <a:pt x="314" y="174"/>
                  </a:lnTo>
                  <a:lnTo>
                    <a:pt x="314" y="182"/>
                  </a:lnTo>
                  <a:lnTo>
                    <a:pt x="314" y="190"/>
                  </a:lnTo>
                  <a:lnTo>
                    <a:pt x="314" y="196"/>
                  </a:lnTo>
                  <a:lnTo>
                    <a:pt x="306" y="196"/>
                  </a:lnTo>
                  <a:lnTo>
                    <a:pt x="306" y="204"/>
                  </a:lnTo>
                  <a:lnTo>
                    <a:pt x="306" y="212"/>
                  </a:lnTo>
                  <a:lnTo>
                    <a:pt x="306" y="218"/>
                  </a:lnTo>
                  <a:lnTo>
                    <a:pt x="298" y="226"/>
                  </a:lnTo>
                  <a:lnTo>
                    <a:pt x="298" y="234"/>
                  </a:lnTo>
                  <a:lnTo>
                    <a:pt x="292" y="234"/>
                  </a:lnTo>
                  <a:lnTo>
                    <a:pt x="292" y="240"/>
                  </a:lnTo>
                  <a:lnTo>
                    <a:pt x="292" y="248"/>
                  </a:lnTo>
                  <a:lnTo>
                    <a:pt x="284" y="256"/>
                  </a:lnTo>
                  <a:lnTo>
                    <a:pt x="276" y="262"/>
                  </a:lnTo>
                  <a:lnTo>
                    <a:pt x="270" y="262"/>
                  </a:lnTo>
                  <a:lnTo>
                    <a:pt x="270" y="270"/>
                  </a:lnTo>
                  <a:lnTo>
                    <a:pt x="262" y="270"/>
                  </a:lnTo>
                  <a:lnTo>
                    <a:pt x="262" y="278"/>
                  </a:lnTo>
                  <a:lnTo>
                    <a:pt x="254" y="278"/>
                  </a:lnTo>
                  <a:lnTo>
                    <a:pt x="248" y="284"/>
                  </a:lnTo>
                  <a:lnTo>
                    <a:pt x="240" y="284"/>
                  </a:lnTo>
                  <a:lnTo>
                    <a:pt x="234" y="292"/>
                  </a:lnTo>
                  <a:lnTo>
                    <a:pt x="226" y="292"/>
                  </a:lnTo>
                  <a:lnTo>
                    <a:pt x="218" y="292"/>
                  </a:lnTo>
                  <a:lnTo>
                    <a:pt x="212" y="292"/>
                  </a:lnTo>
                  <a:lnTo>
                    <a:pt x="204" y="298"/>
                  </a:lnTo>
                  <a:lnTo>
                    <a:pt x="196" y="298"/>
                  </a:lnTo>
                  <a:lnTo>
                    <a:pt x="190" y="298"/>
                  </a:lnTo>
                  <a:lnTo>
                    <a:pt x="182" y="298"/>
                  </a:lnTo>
                  <a:lnTo>
                    <a:pt x="174" y="298"/>
                  </a:lnTo>
                  <a:lnTo>
                    <a:pt x="168" y="298"/>
                  </a:lnTo>
                  <a:lnTo>
                    <a:pt x="160" y="298"/>
                  </a:lnTo>
                  <a:lnTo>
                    <a:pt x="152" y="298"/>
                  </a:lnTo>
                  <a:lnTo>
                    <a:pt x="152" y="292"/>
                  </a:lnTo>
                  <a:lnTo>
                    <a:pt x="146" y="292"/>
                  </a:lnTo>
                  <a:lnTo>
                    <a:pt x="138" y="292"/>
                  </a:lnTo>
                  <a:lnTo>
                    <a:pt x="130" y="292"/>
                  </a:lnTo>
                  <a:lnTo>
                    <a:pt x="130" y="284"/>
                  </a:lnTo>
                  <a:lnTo>
                    <a:pt x="124" y="284"/>
                  </a:lnTo>
                  <a:lnTo>
                    <a:pt x="124" y="278"/>
                  </a:lnTo>
                  <a:lnTo>
                    <a:pt x="116" y="278"/>
                  </a:lnTo>
                  <a:lnTo>
                    <a:pt x="116" y="270"/>
                  </a:lnTo>
                  <a:lnTo>
                    <a:pt x="110" y="270"/>
                  </a:lnTo>
                  <a:lnTo>
                    <a:pt x="110" y="262"/>
                  </a:lnTo>
                  <a:lnTo>
                    <a:pt x="102" y="262"/>
                  </a:lnTo>
                  <a:lnTo>
                    <a:pt x="102" y="256"/>
                  </a:lnTo>
                  <a:lnTo>
                    <a:pt x="94" y="256"/>
                  </a:lnTo>
                  <a:lnTo>
                    <a:pt x="94" y="248"/>
                  </a:lnTo>
                  <a:lnTo>
                    <a:pt x="94" y="240"/>
                  </a:lnTo>
                  <a:lnTo>
                    <a:pt x="88" y="234"/>
                  </a:lnTo>
                  <a:lnTo>
                    <a:pt x="88" y="226"/>
                  </a:lnTo>
                  <a:lnTo>
                    <a:pt x="88" y="218"/>
                  </a:lnTo>
                  <a:lnTo>
                    <a:pt x="88" y="212"/>
                  </a:lnTo>
                  <a:lnTo>
                    <a:pt x="88" y="204"/>
                  </a:lnTo>
                  <a:lnTo>
                    <a:pt x="88" y="196"/>
                  </a:lnTo>
                  <a:lnTo>
                    <a:pt x="88" y="190"/>
                  </a:lnTo>
                  <a:lnTo>
                    <a:pt x="88" y="182"/>
                  </a:lnTo>
                  <a:lnTo>
                    <a:pt x="88" y="174"/>
                  </a:lnTo>
                  <a:lnTo>
                    <a:pt x="88" y="168"/>
                  </a:lnTo>
                  <a:lnTo>
                    <a:pt x="94" y="168"/>
                  </a:lnTo>
                  <a:lnTo>
                    <a:pt x="94" y="160"/>
                  </a:lnTo>
                  <a:lnTo>
                    <a:pt x="94" y="152"/>
                  </a:lnTo>
                  <a:lnTo>
                    <a:pt x="102" y="152"/>
                  </a:lnTo>
                  <a:lnTo>
                    <a:pt x="102" y="146"/>
                  </a:lnTo>
                  <a:lnTo>
                    <a:pt x="110" y="146"/>
                  </a:lnTo>
                  <a:lnTo>
                    <a:pt x="110" y="138"/>
                  </a:lnTo>
                  <a:lnTo>
                    <a:pt x="116" y="138"/>
                  </a:lnTo>
                  <a:lnTo>
                    <a:pt x="116" y="132"/>
                  </a:lnTo>
                  <a:lnTo>
                    <a:pt x="124" y="132"/>
                  </a:lnTo>
                  <a:lnTo>
                    <a:pt x="130" y="132"/>
                  </a:lnTo>
                  <a:lnTo>
                    <a:pt x="130" y="124"/>
                  </a:lnTo>
                  <a:lnTo>
                    <a:pt x="138" y="124"/>
                  </a:lnTo>
                  <a:lnTo>
                    <a:pt x="146" y="124"/>
                  </a:lnTo>
                  <a:lnTo>
                    <a:pt x="152" y="124"/>
                  </a:lnTo>
                  <a:lnTo>
                    <a:pt x="160" y="124"/>
                  </a:lnTo>
                  <a:lnTo>
                    <a:pt x="168" y="124"/>
                  </a:lnTo>
                  <a:lnTo>
                    <a:pt x="174" y="124"/>
                  </a:lnTo>
                  <a:lnTo>
                    <a:pt x="182" y="124"/>
                  </a:lnTo>
                  <a:lnTo>
                    <a:pt x="182" y="132"/>
                  </a:lnTo>
                  <a:lnTo>
                    <a:pt x="190" y="132"/>
                  </a:lnTo>
                  <a:lnTo>
                    <a:pt x="196" y="132"/>
                  </a:lnTo>
                  <a:lnTo>
                    <a:pt x="196" y="138"/>
                  </a:lnTo>
                  <a:lnTo>
                    <a:pt x="204" y="138"/>
                  </a:lnTo>
                  <a:lnTo>
                    <a:pt x="204" y="146"/>
                  </a:lnTo>
                  <a:lnTo>
                    <a:pt x="212" y="152"/>
                  </a:lnTo>
                  <a:lnTo>
                    <a:pt x="212" y="160"/>
                  </a:lnTo>
                  <a:lnTo>
                    <a:pt x="218" y="160"/>
                  </a:lnTo>
                  <a:lnTo>
                    <a:pt x="218" y="168"/>
                  </a:lnTo>
                  <a:lnTo>
                    <a:pt x="218" y="174"/>
                  </a:lnTo>
                  <a:lnTo>
                    <a:pt x="218" y="182"/>
                  </a:lnTo>
                  <a:lnTo>
                    <a:pt x="218" y="190"/>
                  </a:lnTo>
                  <a:lnTo>
                    <a:pt x="218" y="196"/>
                  </a:lnTo>
                  <a:lnTo>
                    <a:pt x="190" y="196"/>
                  </a:lnTo>
                  <a:lnTo>
                    <a:pt x="190" y="190"/>
                  </a:lnTo>
                  <a:lnTo>
                    <a:pt x="182" y="190"/>
                  </a:lnTo>
                  <a:lnTo>
                    <a:pt x="182" y="182"/>
                  </a:lnTo>
                  <a:lnTo>
                    <a:pt x="182" y="174"/>
                  </a:lnTo>
                  <a:lnTo>
                    <a:pt x="182" y="168"/>
                  </a:lnTo>
                  <a:lnTo>
                    <a:pt x="174" y="168"/>
                  </a:lnTo>
                  <a:lnTo>
                    <a:pt x="174" y="160"/>
                  </a:lnTo>
                  <a:lnTo>
                    <a:pt x="168" y="160"/>
                  </a:lnTo>
                  <a:lnTo>
                    <a:pt x="160" y="160"/>
                  </a:lnTo>
                  <a:lnTo>
                    <a:pt x="152" y="160"/>
                  </a:lnTo>
                  <a:lnTo>
                    <a:pt x="146" y="160"/>
                  </a:lnTo>
                  <a:lnTo>
                    <a:pt x="138" y="160"/>
                  </a:lnTo>
                  <a:lnTo>
                    <a:pt x="130" y="160"/>
                  </a:lnTo>
                  <a:lnTo>
                    <a:pt x="130" y="168"/>
                  </a:lnTo>
                  <a:lnTo>
                    <a:pt x="124" y="168"/>
                  </a:lnTo>
                  <a:lnTo>
                    <a:pt x="124" y="174"/>
                  </a:lnTo>
                  <a:lnTo>
                    <a:pt x="124" y="182"/>
                  </a:lnTo>
                  <a:lnTo>
                    <a:pt x="124" y="190"/>
                  </a:lnTo>
                  <a:lnTo>
                    <a:pt x="116" y="190"/>
                  </a:lnTo>
                  <a:lnTo>
                    <a:pt x="116" y="196"/>
                  </a:lnTo>
                  <a:lnTo>
                    <a:pt x="116" y="204"/>
                  </a:lnTo>
                  <a:lnTo>
                    <a:pt x="116" y="212"/>
                  </a:lnTo>
                  <a:lnTo>
                    <a:pt x="124" y="212"/>
                  </a:lnTo>
                  <a:lnTo>
                    <a:pt x="124" y="218"/>
                  </a:lnTo>
                  <a:lnTo>
                    <a:pt x="124" y="226"/>
                  </a:lnTo>
                  <a:lnTo>
                    <a:pt x="124" y="234"/>
                  </a:lnTo>
                  <a:lnTo>
                    <a:pt x="130" y="234"/>
                  </a:lnTo>
                  <a:lnTo>
                    <a:pt x="130" y="240"/>
                  </a:lnTo>
                  <a:lnTo>
                    <a:pt x="130" y="248"/>
                  </a:lnTo>
                  <a:lnTo>
                    <a:pt x="138" y="248"/>
                  </a:lnTo>
                  <a:lnTo>
                    <a:pt x="138" y="256"/>
                  </a:lnTo>
                  <a:lnTo>
                    <a:pt x="146" y="256"/>
                  </a:lnTo>
                  <a:lnTo>
                    <a:pt x="152" y="256"/>
                  </a:lnTo>
                  <a:lnTo>
                    <a:pt x="152" y="262"/>
                  </a:lnTo>
                  <a:lnTo>
                    <a:pt x="160" y="262"/>
                  </a:lnTo>
                  <a:lnTo>
                    <a:pt x="168" y="262"/>
                  </a:lnTo>
                  <a:lnTo>
                    <a:pt x="174" y="262"/>
                  </a:lnTo>
                  <a:lnTo>
                    <a:pt x="182" y="262"/>
                  </a:lnTo>
                  <a:lnTo>
                    <a:pt x="190" y="262"/>
                  </a:lnTo>
                  <a:lnTo>
                    <a:pt x="196" y="262"/>
                  </a:lnTo>
                  <a:lnTo>
                    <a:pt x="204" y="262"/>
                  </a:lnTo>
                  <a:lnTo>
                    <a:pt x="212" y="262"/>
                  </a:lnTo>
                  <a:lnTo>
                    <a:pt x="218" y="256"/>
                  </a:lnTo>
                  <a:lnTo>
                    <a:pt x="226" y="256"/>
                  </a:lnTo>
                  <a:lnTo>
                    <a:pt x="234" y="256"/>
                  </a:lnTo>
                  <a:lnTo>
                    <a:pt x="234" y="248"/>
                  </a:lnTo>
                  <a:lnTo>
                    <a:pt x="240" y="248"/>
                  </a:lnTo>
                  <a:lnTo>
                    <a:pt x="248" y="240"/>
                  </a:lnTo>
                  <a:lnTo>
                    <a:pt x="254" y="234"/>
                  </a:lnTo>
                  <a:lnTo>
                    <a:pt x="262" y="234"/>
                  </a:lnTo>
                  <a:lnTo>
                    <a:pt x="262" y="226"/>
                  </a:lnTo>
                  <a:lnTo>
                    <a:pt x="270" y="218"/>
                  </a:lnTo>
                  <a:lnTo>
                    <a:pt x="270" y="212"/>
                  </a:lnTo>
                  <a:lnTo>
                    <a:pt x="270" y="204"/>
                  </a:lnTo>
                  <a:lnTo>
                    <a:pt x="276" y="204"/>
                  </a:lnTo>
                  <a:lnTo>
                    <a:pt x="276" y="196"/>
                  </a:lnTo>
                  <a:lnTo>
                    <a:pt x="276" y="190"/>
                  </a:lnTo>
                  <a:lnTo>
                    <a:pt x="276" y="182"/>
                  </a:lnTo>
                  <a:lnTo>
                    <a:pt x="284" y="174"/>
                  </a:lnTo>
                  <a:lnTo>
                    <a:pt x="284" y="168"/>
                  </a:lnTo>
                  <a:lnTo>
                    <a:pt x="284" y="160"/>
                  </a:lnTo>
                  <a:lnTo>
                    <a:pt x="284" y="152"/>
                  </a:lnTo>
                  <a:lnTo>
                    <a:pt x="284" y="146"/>
                  </a:lnTo>
                  <a:lnTo>
                    <a:pt x="276" y="138"/>
                  </a:lnTo>
                  <a:lnTo>
                    <a:pt x="276" y="132"/>
                  </a:lnTo>
                  <a:lnTo>
                    <a:pt x="276" y="124"/>
                  </a:lnTo>
                  <a:lnTo>
                    <a:pt x="270" y="116"/>
                  </a:lnTo>
                  <a:lnTo>
                    <a:pt x="270" y="110"/>
                  </a:lnTo>
                  <a:lnTo>
                    <a:pt x="270" y="102"/>
                  </a:lnTo>
                  <a:lnTo>
                    <a:pt x="262" y="102"/>
                  </a:lnTo>
                  <a:lnTo>
                    <a:pt x="262" y="94"/>
                  </a:lnTo>
                  <a:lnTo>
                    <a:pt x="254" y="88"/>
                  </a:lnTo>
                  <a:lnTo>
                    <a:pt x="248" y="80"/>
                  </a:lnTo>
                  <a:lnTo>
                    <a:pt x="240" y="72"/>
                  </a:lnTo>
                  <a:lnTo>
                    <a:pt x="234" y="72"/>
                  </a:lnTo>
                  <a:lnTo>
                    <a:pt x="234" y="66"/>
                  </a:lnTo>
                  <a:lnTo>
                    <a:pt x="226" y="66"/>
                  </a:lnTo>
                  <a:lnTo>
                    <a:pt x="226" y="58"/>
                  </a:lnTo>
                  <a:lnTo>
                    <a:pt x="218" y="58"/>
                  </a:lnTo>
                  <a:lnTo>
                    <a:pt x="212" y="58"/>
                  </a:lnTo>
                  <a:lnTo>
                    <a:pt x="204" y="50"/>
                  </a:lnTo>
                  <a:lnTo>
                    <a:pt x="196" y="50"/>
                  </a:lnTo>
                  <a:lnTo>
                    <a:pt x="190" y="50"/>
                  </a:lnTo>
                  <a:lnTo>
                    <a:pt x="182" y="44"/>
                  </a:lnTo>
                  <a:lnTo>
                    <a:pt x="174" y="44"/>
                  </a:lnTo>
                  <a:lnTo>
                    <a:pt x="168" y="44"/>
                  </a:lnTo>
                  <a:lnTo>
                    <a:pt x="160" y="44"/>
                  </a:lnTo>
                  <a:lnTo>
                    <a:pt x="152" y="44"/>
                  </a:lnTo>
                  <a:lnTo>
                    <a:pt x="146" y="50"/>
                  </a:lnTo>
                  <a:lnTo>
                    <a:pt x="138" y="50"/>
                  </a:lnTo>
                  <a:lnTo>
                    <a:pt x="130" y="50"/>
                  </a:lnTo>
                  <a:lnTo>
                    <a:pt x="124" y="50"/>
                  </a:lnTo>
                  <a:lnTo>
                    <a:pt x="116" y="58"/>
                  </a:lnTo>
                  <a:lnTo>
                    <a:pt x="110" y="58"/>
                  </a:lnTo>
                  <a:lnTo>
                    <a:pt x="102" y="58"/>
                  </a:lnTo>
                  <a:lnTo>
                    <a:pt x="94" y="66"/>
                  </a:lnTo>
                  <a:lnTo>
                    <a:pt x="88" y="66"/>
                  </a:lnTo>
                  <a:lnTo>
                    <a:pt x="88" y="72"/>
                  </a:lnTo>
                  <a:lnTo>
                    <a:pt x="80" y="72"/>
                  </a:lnTo>
                  <a:lnTo>
                    <a:pt x="72" y="80"/>
                  </a:lnTo>
                  <a:lnTo>
                    <a:pt x="66" y="88"/>
                  </a:lnTo>
                  <a:lnTo>
                    <a:pt x="58" y="94"/>
                  </a:lnTo>
                  <a:lnTo>
                    <a:pt x="50" y="102"/>
                  </a:lnTo>
                  <a:lnTo>
                    <a:pt x="50" y="110"/>
                  </a:lnTo>
                  <a:lnTo>
                    <a:pt x="44" y="110"/>
                  </a:lnTo>
                  <a:lnTo>
                    <a:pt x="44" y="116"/>
                  </a:lnTo>
                  <a:lnTo>
                    <a:pt x="44" y="124"/>
                  </a:lnTo>
                  <a:lnTo>
                    <a:pt x="36" y="132"/>
                  </a:lnTo>
                  <a:lnTo>
                    <a:pt x="36" y="138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60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2"/>
                  </a:lnTo>
                  <a:lnTo>
                    <a:pt x="36" y="190"/>
                  </a:lnTo>
                  <a:lnTo>
                    <a:pt x="36" y="196"/>
                  </a:lnTo>
                  <a:lnTo>
                    <a:pt x="36" y="204"/>
                  </a:lnTo>
                  <a:lnTo>
                    <a:pt x="36" y="212"/>
                  </a:lnTo>
                  <a:lnTo>
                    <a:pt x="36" y="218"/>
                  </a:lnTo>
                  <a:lnTo>
                    <a:pt x="36" y="226"/>
                  </a:lnTo>
                  <a:lnTo>
                    <a:pt x="36" y="234"/>
                  </a:lnTo>
                  <a:lnTo>
                    <a:pt x="44" y="234"/>
                  </a:lnTo>
                  <a:lnTo>
                    <a:pt x="44" y="240"/>
                  </a:lnTo>
                  <a:lnTo>
                    <a:pt x="44" y="248"/>
                  </a:lnTo>
                  <a:lnTo>
                    <a:pt x="44" y="256"/>
                  </a:lnTo>
                  <a:lnTo>
                    <a:pt x="50" y="256"/>
                  </a:lnTo>
                  <a:lnTo>
                    <a:pt x="50" y="262"/>
                  </a:lnTo>
                  <a:lnTo>
                    <a:pt x="58" y="270"/>
                  </a:lnTo>
                  <a:lnTo>
                    <a:pt x="58" y="278"/>
                  </a:lnTo>
                  <a:lnTo>
                    <a:pt x="66" y="284"/>
                  </a:lnTo>
                  <a:lnTo>
                    <a:pt x="72" y="292"/>
                  </a:lnTo>
                  <a:lnTo>
                    <a:pt x="72" y="298"/>
                  </a:lnTo>
                  <a:lnTo>
                    <a:pt x="80" y="306"/>
                  </a:lnTo>
                  <a:lnTo>
                    <a:pt x="80" y="314"/>
                  </a:lnTo>
                  <a:lnTo>
                    <a:pt x="88" y="314"/>
                  </a:lnTo>
                  <a:lnTo>
                    <a:pt x="88" y="320"/>
                  </a:lnTo>
                  <a:lnTo>
                    <a:pt x="94" y="328"/>
                  </a:lnTo>
                  <a:lnTo>
                    <a:pt x="102" y="336"/>
                  </a:lnTo>
                  <a:lnTo>
                    <a:pt x="110" y="342"/>
                  </a:lnTo>
                  <a:lnTo>
                    <a:pt x="116" y="350"/>
                  </a:lnTo>
                  <a:lnTo>
                    <a:pt x="124" y="350"/>
                  </a:lnTo>
                  <a:lnTo>
                    <a:pt x="124" y="358"/>
                  </a:lnTo>
                  <a:lnTo>
                    <a:pt x="130" y="358"/>
                  </a:lnTo>
                  <a:lnTo>
                    <a:pt x="138" y="364"/>
                  </a:lnTo>
                  <a:lnTo>
                    <a:pt x="146" y="364"/>
                  </a:lnTo>
                  <a:lnTo>
                    <a:pt x="152" y="372"/>
                  </a:lnTo>
                  <a:lnTo>
                    <a:pt x="160" y="372"/>
                  </a:lnTo>
                  <a:lnTo>
                    <a:pt x="160" y="380"/>
                  </a:lnTo>
                  <a:lnTo>
                    <a:pt x="168" y="380"/>
                  </a:lnTo>
                  <a:lnTo>
                    <a:pt x="182" y="386"/>
                  </a:lnTo>
                  <a:lnTo>
                    <a:pt x="190" y="386"/>
                  </a:lnTo>
                  <a:lnTo>
                    <a:pt x="196" y="386"/>
                  </a:lnTo>
                  <a:lnTo>
                    <a:pt x="204" y="386"/>
                  </a:lnTo>
                  <a:lnTo>
                    <a:pt x="212" y="394"/>
                  </a:lnTo>
                  <a:lnTo>
                    <a:pt x="226" y="394"/>
                  </a:lnTo>
                  <a:lnTo>
                    <a:pt x="234" y="394"/>
                  </a:lnTo>
                  <a:lnTo>
                    <a:pt x="240" y="394"/>
                  </a:lnTo>
                  <a:lnTo>
                    <a:pt x="254" y="394"/>
                  </a:lnTo>
                  <a:lnTo>
                    <a:pt x="262" y="394"/>
                  </a:lnTo>
                  <a:lnTo>
                    <a:pt x="276" y="386"/>
                  </a:lnTo>
                  <a:lnTo>
                    <a:pt x="284" y="386"/>
                  </a:lnTo>
                  <a:lnTo>
                    <a:pt x="292" y="386"/>
                  </a:lnTo>
                  <a:lnTo>
                    <a:pt x="306" y="380"/>
                  </a:lnTo>
                  <a:lnTo>
                    <a:pt x="314" y="380"/>
                  </a:lnTo>
                  <a:lnTo>
                    <a:pt x="328" y="372"/>
                  </a:lnTo>
                  <a:lnTo>
                    <a:pt x="336" y="372"/>
                  </a:lnTo>
                  <a:lnTo>
                    <a:pt x="350" y="364"/>
                  </a:lnTo>
                  <a:lnTo>
                    <a:pt x="358" y="358"/>
                  </a:lnTo>
                  <a:lnTo>
                    <a:pt x="364" y="350"/>
                  </a:lnTo>
                  <a:lnTo>
                    <a:pt x="380" y="350"/>
                  </a:lnTo>
                  <a:lnTo>
                    <a:pt x="386" y="342"/>
                  </a:lnTo>
                  <a:lnTo>
                    <a:pt x="394" y="336"/>
                  </a:lnTo>
                  <a:lnTo>
                    <a:pt x="400" y="328"/>
                  </a:lnTo>
                  <a:lnTo>
                    <a:pt x="416" y="320"/>
                  </a:lnTo>
                  <a:lnTo>
                    <a:pt x="422" y="314"/>
                  </a:lnTo>
                  <a:lnTo>
                    <a:pt x="430" y="306"/>
                  </a:lnTo>
                  <a:lnTo>
                    <a:pt x="438" y="298"/>
                  </a:lnTo>
                  <a:lnTo>
                    <a:pt x="444" y="284"/>
                  </a:lnTo>
                  <a:lnTo>
                    <a:pt x="452" y="278"/>
                  </a:lnTo>
                  <a:lnTo>
                    <a:pt x="460" y="270"/>
                  </a:lnTo>
                  <a:lnTo>
                    <a:pt x="466" y="262"/>
                  </a:lnTo>
                  <a:lnTo>
                    <a:pt x="474" y="256"/>
                  </a:lnTo>
                  <a:lnTo>
                    <a:pt x="482" y="248"/>
                  </a:lnTo>
                  <a:lnTo>
                    <a:pt x="488" y="234"/>
                  </a:lnTo>
                  <a:lnTo>
                    <a:pt x="496" y="226"/>
                  </a:lnTo>
                  <a:lnTo>
                    <a:pt x="504" y="218"/>
                  </a:lnTo>
                  <a:lnTo>
                    <a:pt x="504" y="212"/>
                  </a:lnTo>
                  <a:lnTo>
                    <a:pt x="504" y="204"/>
                  </a:lnTo>
                  <a:lnTo>
                    <a:pt x="510" y="196"/>
                  </a:lnTo>
                  <a:lnTo>
                    <a:pt x="518" y="190"/>
                  </a:lnTo>
                  <a:lnTo>
                    <a:pt x="524" y="182"/>
                  </a:lnTo>
                  <a:lnTo>
                    <a:pt x="524" y="174"/>
                  </a:lnTo>
                  <a:lnTo>
                    <a:pt x="532" y="160"/>
                  </a:lnTo>
                  <a:lnTo>
                    <a:pt x="540" y="152"/>
                  </a:lnTo>
                  <a:lnTo>
                    <a:pt x="540" y="146"/>
                  </a:lnTo>
                  <a:lnTo>
                    <a:pt x="546" y="138"/>
                  </a:lnTo>
                  <a:lnTo>
                    <a:pt x="554" y="132"/>
                  </a:lnTo>
                  <a:lnTo>
                    <a:pt x="562" y="124"/>
                  </a:lnTo>
                  <a:lnTo>
                    <a:pt x="568" y="116"/>
                  </a:lnTo>
                  <a:lnTo>
                    <a:pt x="568" y="110"/>
                  </a:lnTo>
                  <a:lnTo>
                    <a:pt x="576" y="102"/>
                  </a:lnTo>
                  <a:lnTo>
                    <a:pt x="584" y="94"/>
                  </a:lnTo>
                  <a:lnTo>
                    <a:pt x="590" y="80"/>
                  </a:lnTo>
                  <a:lnTo>
                    <a:pt x="598" y="72"/>
                  </a:lnTo>
                  <a:lnTo>
                    <a:pt x="606" y="66"/>
                  </a:lnTo>
                  <a:lnTo>
                    <a:pt x="612" y="58"/>
                  </a:lnTo>
                  <a:lnTo>
                    <a:pt x="620" y="50"/>
                  </a:lnTo>
                  <a:lnTo>
                    <a:pt x="628" y="50"/>
                  </a:lnTo>
                  <a:lnTo>
                    <a:pt x="634" y="44"/>
                  </a:lnTo>
                  <a:lnTo>
                    <a:pt x="650" y="36"/>
                  </a:lnTo>
                  <a:lnTo>
                    <a:pt x="656" y="28"/>
                  </a:lnTo>
                  <a:lnTo>
                    <a:pt x="664" y="22"/>
                  </a:lnTo>
                  <a:lnTo>
                    <a:pt x="670" y="22"/>
                  </a:lnTo>
                  <a:lnTo>
                    <a:pt x="678" y="14"/>
                  </a:lnTo>
                  <a:lnTo>
                    <a:pt x="686" y="14"/>
                  </a:lnTo>
                  <a:lnTo>
                    <a:pt x="700" y="8"/>
                  </a:lnTo>
                  <a:lnTo>
                    <a:pt x="708" y="8"/>
                  </a:lnTo>
                  <a:lnTo>
                    <a:pt x="714" y="8"/>
                  </a:lnTo>
                  <a:lnTo>
                    <a:pt x="722" y="8"/>
                  </a:lnTo>
                  <a:lnTo>
                    <a:pt x="730" y="0"/>
                  </a:lnTo>
                  <a:lnTo>
                    <a:pt x="736" y="0"/>
                  </a:lnTo>
                  <a:lnTo>
                    <a:pt x="744" y="0"/>
                  </a:lnTo>
                  <a:lnTo>
                    <a:pt x="752" y="0"/>
                  </a:lnTo>
                  <a:lnTo>
                    <a:pt x="758" y="0"/>
                  </a:lnTo>
                  <a:lnTo>
                    <a:pt x="766" y="0"/>
                  </a:lnTo>
                  <a:lnTo>
                    <a:pt x="774" y="0"/>
                  </a:lnTo>
                  <a:lnTo>
                    <a:pt x="780" y="0"/>
                  </a:lnTo>
                  <a:lnTo>
                    <a:pt x="788" y="0"/>
                  </a:lnTo>
                  <a:lnTo>
                    <a:pt x="794" y="0"/>
                  </a:lnTo>
                  <a:lnTo>
                    <a:pt x="802" y="0"/>
                  </a:lnTo>
                  <a:lnTo>
                    <a:pt x="810" y="0"/>
                  </a:lnTo>
                  <a:lnTo>
                    <a:pt x="816" y="0"/>
                  </a:lnTo>
                  <a:lnTo>
                    <a:pt x="824" y="0"/>
                  </a:lnTo>
                  <a:lnTo>
                    <a:pt x="832" y="8"/>
                  </a:lnTo>
                  <a:lnTo>
                    <a:pt x="838" y="8"/>
                  </a:lnTo>
                  <a:lnTo>
                    <a:pt x="846" y="8"/>
                  </a:lnTo>
                  <a:lnTo>
                    <a:pt x="854" y="14"/>
                  </a:lnTo>
                  <a:lnTo>
                    <a:pt x="860" y="14"/>
                  </a:lnTo>
                  <a:lnTo>
                    <a:pt x="868" y="22"/>
                  </a:lnTo>
                  <a:lnTo>
                    <a:pt x="876" y="22"/>
                  </a:lnTo>
                  <a:lnTo>
                    <a:pt x="882" y="28"/>
                  </a:lnTo>
                  <a:lnTo>
                    <a:pt x="890" y="36"/>
                  </a:lnTo>
                  <a:lnTo>
                    <a:pt x="898" y="44"/>
                  </a:lnTo>
                  <a:lnTo>
                    <a:pt x="904" y="44"/>
                  </a:lnTo>
                  <a:lnTo>
                    <a:pt x="904" y="50"/>
                  </a:lnTo>
                  <a:lnTo>
                    <a:pt x="912" y="58"/>
                  </a:lnTo>
                  <a:lnTo>
                    <a:pt x="918" y="66"/>
                  </a:lnTo>
                  <a:lnTo>
                    <a:pt x="926" y="72"/>
                  </a:lnTo>
                  <a:lnTo>
                    <a:pt x="934" y="80"/>
                  </a:lnTo>
                  <a:lnTo>
                    <a:pt x="934" y="88"/>
                  </a:lnTo>
                  <a:lnTo>
                    <a:pt x="940" y="94"/>
                  </a:lnTo>
                  <a:lnTo>
                    <a:pt x="940" y="102"/>
                  </a:lnTo>
                  <a:lnTo>
                    <a:pt x="948" y="110"/>
                  </a:lnTo>
                  <a:lnTo>
                    <a:pt x="948" y="116"/>
                  </a:lnTo>
                  <a:lnTo>
                    <a:pt x="948" y="124"/>
                  </a:lnTo>
                  <a:lnTo>
                    <a:pt x="956" y="132"/>
                  </a:lnTo>
                  <a:lnTo>
                    <a:pt x="956" y="138"/>
                  </a:lnTo>
                  <a:lnTo>
                    <a:pt x="956" y="146"/>
                  </a:lnTo>
                  <a:lnTo>
                    <a:pt x="956" y="152"/>
                  </a:lnTo>
                  <a:lnTo>
                    <a:pt x="956" y="160"/>
                  </a:lnTo>
                  <a:lnTo>
                    <a:pt x="956" y="168"/>
                  </a:lnTo>
                  <a:lnTo>
                    <a:pt x="956" y="174"/>
                  </a:lnTo>
                  <a:lnTo>
                    <a:pt x="956" y="182"/>
                  </a:lnTo>
                  <a:lnTo>
                    <a:pt x="956" y="190"/>
                  </a:lnTo>
                  <a:lnTo>
                    <a:pt x="956" y="196"/>
                  </a:lnTo>
                  <a:lnTo>
                    <a:pt x="956" y="204"/>
                  </a:lnTo>
                  <a:lnTo>
                    <a:pt x="956" y="212"/>
                  </a:lnTo>
                  <a:lnTo>
                    <a:pt x="948" y="218"/>
                  </a:lnTo>
                  <a:lnTo>
                    <a:pt x="948" y="226"/>
                  </a:lnTo>
                  <a:lnTo>
                    <a:pt x="948" y="234"/>
                  </a:lnTo>
                  <a:lnTo>
                    <a:pt x="948" y="240"/>
                  </a:lnTo>
                  <a:lnTo>
                    <a:pt x="940" y="240"/>
                  </a:lnTo>
                  <a:lnTo>
                    <a:pt x="940" y="248"/>
                  </a:lnTo>
                  <a:lnTo>
                    <a:pt x="940" y="256"/>
                  </a:lnTo>
                  <a:lnTo>
                    <a:pt x="934" y="256"/>
                  </a:lnTo>
                  <a:lnTo>
                    <a:pt x="934" y="262"/>
                  </a:lnTo>
                  <a:lnTo>
                    <a:pt x="926" y="270"/>
                  </a:lnTo>
                  <a:lnTo>
                    <a:pt x="926" y="278"/>
                  </a:lnTo>
                  <a:lnTo>
                    <a:pt x="918" y="278"/>
                  </a:lnTo>
                  <a:lnTo>
                    <a:pt x="918" y="284"/>
                  </a:lnTo>
                  <a:lnTo>
                    <a:pt x="912" y="292"/>
                  </a:lnTo>
                  <a:lnTo>
                    <a:pt x="904" y="298"/>
                  </a:lnTo>
                  <a:lnTo>
                    <a:pt x="898" y="306"/>
                  </a:lnTo>
                  <a:lnTo>
                    <a:pt x="890" y="314"/>
                  </a:lnTo>
                  <a:lnTo>
                    <a:pt x="882" y="320"/>
                  </a:lnTo>
                  <a:lnTo>
                    <a:pt x="876" y="328"/>
                  </a:lnTo>
                  <a:lnTo>
                    <a:pt x="868" y="328"/>
                  </a:lnTo>
                  <a:lnTo>
                    <a:pt x="860" y="336"/>
                  </a:lnTo>
                  <a:lnTo>
                    <a:pt x="854" y="336"/>
                  </a:lnTo>
                  <a:lnTo>
                    <a:pt x="846" y="336"/>
                  </a:lnTo>
                  <a:lnTo>
                    <a:pt x="846" y="342"/>
                  </a:lnTo>
                  <a:lnTo>
                    <a:pt x="838" y="342"/>
                  </a:lnTo>
                  <a:lnTo>
                    <a:pt x="832" y="342"/>
                  </a:lnTo>
                  <a:lnTo>
                    <a:pt x="824" y="342"/>
                  </a:lnTo>
                  <a:lnTo>
                    <a:pt x="816" y="342"/>
                  </a:lnTo>
                  <a:lnTo>
                    <a:pt x="810" y="342"/>
                  </a:lnTo>
                  <a:lnTo>
                    <a:pt x="802" y="342"/>
                  </a:lnTo>
                  <a:lnTo>
                    <a:pt x="794" y="342"/>
                  </a:lnTo>
                  <a:lnTo>
                    <a:pt x="788" y="342"/>
                  </a:lnTo>
                  <a:lnTo>
                    <a:pt x="780" y="342"/>
                  </a:lnTo>
                  <a:lnTo>
                    <a:pt x="774" y="342"/>
                  </a:lnTo>
                  <a:lnTo>
                    <a:pt x="766" y="342"/>
                  </a:lnTo>
                  <a:lnTo>
                    <a:pt x="758" y="336"/>
                  </a:lnTo>
                  <a:lnTo>
                    <a:pt x="752" y="336"/>
                  </a:lnTo>
                  <a:lnTo>
                    <a:pt x="744" y="336"/>
                  </a:lnTo>
                  <a:lnTo>
                    <a:pt x="744" y="328"/>
                  </a:lnTo>
                  <a:lnTo>
                    <a:pt x="736" y="328"/>
                  </a:lnTo>
                  <a:lnTo>
                    <a:pt x="730" y="328"/>
                  </a:lnTo>
                  <a:lnTo>
                    <a:pt x="722" y="320"/>
                  </a:lnTo>
                  <a:lnTo>
                    <a:pt x="714" y="320"/>
                  </a:lnTo>
                  <a:lnTo>
                    <a:pt x="714" y="314"/>
                  </a:lnTo>
                  <a:lnTo>
                    <a:pt x="708" y="314"/>
                  </a:lnTo>
                  <a:lnTo>
                    <a:pt x="700" y="306"/>
                  </a:lnTo>
                  <a:lnTo>
                    <a:pt x="692" y="298"/>
                  </a:lnTo>
                  <a:lnTo>
                    <a:pt x="692" y="292"/>
                  </a:lnTo>
                  <a:lnTo>
                    <a:pt x="686" y="292"/>
                  </a:lnTo>
                  <a:lnTo>
                    <a:pt x="686" y="284"/>
                  </a:lnTo>
                  <a:lnTo>
                    <a:pt x="678" y="284"/>
                  </a:lnTo>
                  <a:lnTo>
                    <a:pt x="678" y="278"/>
                  </a:lnTo>
                  <a:lnTo>
                    <a:pt x="678" y="270"/>
                  </a:lnTo>
                  <a:lnTo>
                    <a:pt x="670" y="270"/>
                  </a:lnTo>
                  <a:lnTo>
                    <a:pt x="670" y="262"/>
                  </a:lnTo>
                  <a:lnTo>
                    <a:pt x="670" y="256"/>
                  </a:lnTo>
                  <a:lnTo>
                    <a:pt x="664" y="256"/>
                  </a:lnTo>
                  <a:lnTo>
                    <a:pt x="664" y="248"/>
                  </a:lnTo>
                  <a:lnTo>
                    <a:pt x="664" y="240"/>
                  </a:lnTo>
                  <a:lnTo>
                    <a:pt x="664" y="234"/>
                  </a:lnTo>
                  <a:lnTo>
                    <a:pt x="664" y="226"/>
                  </a:lnTo>
                  <a:lnTo>
                    <a:pt x="656" y="218"/>
                  </a:lnTo>
                  <a:lnTo>
                    <a:pt x="656" y="212"/>
                  </a:lnTo>
                  <a:lnTo>
                    <a:pt x="656" y="204"/>
                  </a:lnTo>
                  <a:lnTo>
                    <a:pt x="656" y="196"/>
                  </a:lnTo>
                  <a:lnTo>
                    <a:pt x="656" y="190"/>
                  </a:lnTo>
                  <a:lnTo>
                    <a:pt x="664" y="190"/>
                  </a:lnTo>
                  <a:lnTo>
                    <a:pt x="664" y="182"/>
                  </a:lnTo>
                  <a:lnTo>
                    <a:pt x="664" y="174"/>
                  </a:lnTo>
                  <a:lnTo>
                    <a:pt x="664" y="168"/>
                  </a:lnTo>
                  <a:lnTo>
                    <a:pt x="664" y="160"/>
                  </a:lnTo>
                  <a:lnTo>
                    <a:pt x="670" y="160"/>
                  </a:lnTo>
                  <a:lnTo>
                    <a:pt x="670" y="152"/>
                  </a:lnTo>
                  <a:lnTo>
                    <a:pt x="670" y="146"/>
                  </a:lnTo>
                  <a:lnTo>
                    <a:pt x="678" y="138"/>
                  </a:lnTo>
                  <a:lnTo>
                    <a:pt x="686" y="132"/>
                  </a:lnTo>
                  <a:lnTo>
                    <a:pt x="686" y="124"/>
                  </a:lnTo>
                  <a:lnTo>
                    <a:pt x="692" y="124"/>
                  </a:lnTo>
                  <a:lnTo>
                    <a:pt x="700" y="116"/>
                  </a:lnTo>
                  <a:lnTo>
                    <a:pt x="700" y="110"/>
                  </a:lnTo>
                  <a:lnTo>
                    <a:pt x="708" y="110"/>
                  </a:lnTo>
                  <a:lnTo>
                    <a:pt x="708" y="102"/>
                  </a:lnTo>
                  <a:lnTo>
                    <a:pt x="714" y="102"/>
                  </a:lnTo>
                  <a:lnTo>
                    <a:pt x="722" y="94"/>
                  </a:lnTo>
                  <a:lnTo>
                    <a:pt x="730" y="88"/>
                  </a:lnTo>
                  <a:lnTo>
                    <a:pt x="736" y="88"/>
                  </a:lnTo>
                  <a:lnTo>
                    <a:pt x="744" y="88"/>
                  </a:lnTo>
                  <a:lnTo>
                    <a:pt x="752" y="80"/>
                  </a:lnTo>
                  <a:lnTo>
                    <a:pt x="758" y="80"/>
                  </a:lnTo>
                  <a:lnTo>
                    <a:pt x="766" y="80"/>
                  </a:lnTo>
                  <a:lnTo>
                    <a:pt x="774" y="80"/>
                  </a:lnTo>
                  <a:lnTo>
                    <a:pt x="780" y="80"/>
                  </a:lnTo>
                  <a:lnTo>
                    <a:pt x="788" y="80"/>
                  </a:lnTo>
                  <a:lnTo>
                    <a:pt x="794" y="80"/>
                  </a:lnTo>
                  <a:lnTo>
                    <a:pt x="802" y="80"/>
                  </a:lnTo>
                  <a:lnTo>
                    <a:pt x="810" y="80"/>
                  </a:lnTo>
                  <a:lnTo>
                    <a:pt x="816" y="88"/>
                  </a:lnTo>
                  <a:lnTo>
                    <a:pt x="824" y="88"/>
                  </a:lnTo>
                  <a:lnTo>
                    <a:pt x="832" y="94"/>
                  </a:lnTo>
                  <a:lnTo>
                    <a:pt x="838" y="94"/>
                  </a:lnTo>
                  <a:lnTo>
                    <a:pt x="846" y="94"/>
                  </a:lnTo>
                  <a:lnTo>
                    <a:pt x="846" y="102"/>
                  </a:lnTo>
                  <a:lnTo>
                    <a:pt x="854" y="102"/>
                  </a:lnTo>
                  <a:lnTo>
                    <a:pt x="860" y="110"/>
                  </a:lnTo>
                  <a:lnTo>
                    <a:pt x="860" y="116"/>
                  </a:lnTo>
                  <a:lnTo>
                    <a:pt x="868" y="116"/>
                  </a:lnTo>
                  <a:lnTo>
                    <a:pt x="868" y="124"/>
                  </a:lnTo>
                  <a:lnTo>
                    <a:pt x="876" y="124"/>
                  </a:lnTo>
                  <a:lnTo>
                    <a:pt x="876" y="132"/>
                  </a:lnTo>
                  <a:lnTo>
                    <a:pt x="882" y="132"/>
                  </a:lnTo>
                  <a:lnTo>
                    <a:pt x="882" y="138"/>
                  </a:lnTo>
                  <a:lnTo>
                    <a:pt x="882" y="146"/>
                  </a:lnTo>
                  <a:lnTo>
                    <a:pt x="882" y="152"/>
                  </a:lnTo>
                  <a:lnTo>
                    <a:pt x="890" y="152"/>
                  </a:lnTo>
                  <a:lnTo>
                    <a:pt x="890" y="160"/>
                  </a:lnTo>
                  <a:lnTo>
                    <a:pt x="890" y="168"/>
                  </a:lnTo>
                  <a:lnTo>
                    <a:pt x="890" y="174"/>
                  </a:lnTo>
                  <a:lnTo>
                    <a:pt x="890" y="182"/>
                  </a:lnTo>
                  <a:lnTo>
                    <a:pt x="882" y="182"/>
                  </a:lnTo>
                  <a:lnTo>
                    <a:pt x="882" y="190"/>
                  </a:lnTo>
                  <a:lnTo>
                    <a:pt x="882" y="196"/>
                  </a:lnTo>
                  <a:lnTo>
                    <a:pt x="882" y="204"/>
                  </a:lnTo>
                  <a:lnTo>
                    <a:pt x="876" y="212"/>
                  </a:lnTo>
                  <a:lnTo>
                    <a:pt x="876" y="218"/>
                  </a:lnTo>
                  <a:lnTo>
                    <a:pt x="868" y="218"/>
                  </a:lnTo>
                  <a:lnTo>
                    <a:pt x="868" y="226"/>
                  </a:lnTo>
                  <a:lnTo>
                    <a:pt x="868" y="234"/>
                  </a:lnTo>
                  <a:lnTo>
                    <a:pt x="860" y="234"/>
                  </a:lnTo>
                  <a:lnTo>
                    <a:pt x="860" y="240"/>
                  </a:lnTo>
                  <a:lnTo>
                    <a:pt x="854" y="240"/>
                  </a:lnTo>
                  <a:lnTo>
                    <a:pt x="846" y="240"/>
                  </a:lnTo>
                  <a:lnTo>
                    <a:pt x="846" y="248"/>
                  </a:lnTo>
                  <a:lnTo>
                    <a:pt x="838" y="248"/>
                  </a:lnTo>
                  <a:lnTo>
                    <a:pt x="832" y="256"/>
                  </a:lnTo>
                  <a:lnTo>
                    <a:pt x="824" y="256"/>
                  </a:lnTo>
                  <a:lnTo>
                    <a:pt x="816" y="256"/>
                  </a:lnTo>
                  <a:lnTo>
                    <a:pt x="810" y="256"/>
                  </a:lnTo>
                  <a:lnTo>
                    <a:pt x="802" y="256"/>
                  </a:lnTo>
                  <a:lnTo>
                    <a:pt x="794" y="256"/>
                  </a:lnTo>
                  <a:lnTo>
                    <a:pt x="794" y="248"/>
                  </a:lnTo>
                  <a:lnTo>
                    <a:pt x="788" y="248"/>
                  </a:lnTo>
                  <a:lnTo>
                    <a:pt x="780" y="248"/>
                  </a:lnTo>
                  <a:lnTo>
                    <a:pt x="780" y="240"/>
                  </a:lnTo>
                  <a:lnTo>
                    <a:pt x="774" y="240"/>
                  </a:lnTo>
                  <a:lnTo>
                    <a:pt x="766" y="234"/>
                  </a:lnTo>
                  <a:lnTo>
                    <a:pt x="758" y="226"/>
                  </a:lnTo>
                  <a:lnTo>
                    <a:pt x="758" y="218"/>
                  </a:lnTo>
                  <a:lnTo>
                    <a:pt x="752" y="212"/>
                  </a:lnTo>
                  <a:lnTo>
                    <a:pt x="752" y="204"/>
                  </a:lnTo>
                  <a:lnTo>
                    <a:pt x="752" y="196"/>
                  </a:lnTo>
                  <a:lnTo>
                    <a:pt x="752" y="190"/>
                  </a:lnTo>
                  <a:lnTo>
                    <a:pt x="752" y="182"/>
                  </a:lnTo>
                  <a:lnTo>
                    <a:pt x="758" y="182"/>
                  </a:lnTo>
                  <a:lnTo>
                    <a:pt x="758" y="174"/>
                  </a:lnTo>
                  <a:lnTo>
                    <a:pt x="758" y="168"/>
                  </a:lnTo>
                  <a:lnTo>
                    <a:pt x="766" y="160"/>
                  </a:lnTo>
                  <a:lnTo>
                    <a:pt x="766" y="152"/>
                  </a:lnTo>
                  <a:lnTo>
                    <a:pt x="794" y="174"/>
                  </a:lnTo>
                  <a:lnTo>
                    <a:pt x="794" y="182"/>
                  </a:lnTo>
                  <a:lnTo>
                    <a:pt x="788" y="182"/>
                  </a:lnTo>
                  <a:lnTo>
                    <a:pt x="788" y="190"/>
                  </a:lnTo>
                  <a:lnTo>
                    <a:pt x="788" y="196"/>
                  </a:lnTo>
                  <a:lnTo>
                    <a:pt x="788" y="204"/>
                  </a:lnTo>
                  <a:lnTo>
                    <a:pt x="788" y="212"/>
                  </a:lnTo>
                  <a:lnTo>
                    <a:pt x="794" y="212"/>
                  </a:lnTo>
                  <a:lnTo>
                    <a:pt x="794" y="218"/>
                  </a:lnTo>
                  <a:lnTo>
                    <a:pt x="802" y="218"/>
                  </a:lnTo>
                  <a:lnTo>
                    <a:pt x="810" y="218"/>
                  </a:lnTo>
                  <a:lnTo>
                    <a:pt x="816" y="218"/>
                  </a:lnTo>
                  <a:lnTo>
                    <a:pt x="824" y="218"/>
                  </a:lnTo>
                  <a:lnTo>
                    <a:pt x="832" y="218"/>
                  </a:lnTo>
                  <a:lnTo>
                    <a:pt x="832" y="212"/>
                  </a:lnTo>
                  <a:lnTo>
                    <a:pt x="838" y="212"/>
                  </a:lnTo>
                  <a:lnTo>
                    <a:pt x="838" y="204"/>
                  </a:lnTo>
                  <a:lnTo>
                    <a:pt x="846" y="204"/>
                  </a:lnTo>
                  <a:lnTo>
                    <a:pt x="846" y="196"/>
                  </a:lnTo>
                  <a:lnTo>
                    <a:pt x="846" y="190"/>
                  </a:lnTo>
                  <a:lnTo>
                    <a:pt x="854" y="190"/>
                  </a:lnTo>
                  <a:lnTo>
                    <a:pt x="854" y="182"/>
                  </a:lnTo>
                  <a:lnTo>
                    <a:pt x="854" y="174"/>
                  </a:lnTo>
                  <a:lnTo>
                    <a:pt x="854" y="168"/>
                  </a:lnTo>
                  <a:lnTo>
                    <a:pt x="854" y="160"/>
                  </a:lnTo>
                  <a:lnTo>
                    <a:pt x="854" y="152"/>
                  </a:lnTo>
                  <a:lnTo>
                    <a:pt x="846" y="152"/>
                  </a:lnTo>
                  <a:lnTo>
                    <a:pt x="846" y="146"/>
                  </a:lnTo>
                  <a:lnTo>
                    <a:pt x="846" y="138"/>
                  </a:lnTo>
                  <a:lnTo>
                    <a:pt x="838" y="138"/>
                  </a:lnTo>
                  <a:lnTo>
                    <a:pt x="832" y="132"/>
                  </a:lnTo>
                  <a:lnTo>
                    <a:pt x="824" y="124"/>
                  </a:lnTo>
                  <a:lnTo>
                    <a:pt x="816" y="124"/>
                  </a:lnTo>
                  <a:lnTo>
                    <a:pt x="810" y="116"/>
                  </a:lnTo>
                  <a:lnTo>
                    <a:pt x="802" y="116"/>
                  </a:lnTo>
                  <a:lnTo>
                    <a:pt x="794" y="116"/>
                  </a:lnTo>
                  <a:lnTo>
                    <a:pt x="788" y="110"/>
                  </a:lnTo>
                  <a:lnTo>
                    <a:pt x="780" y="110"/>
                  </a:lnTo>
                  <a:lnTo>
                    <a:pt x="774" y="110"/>
                  </a:lnTo>
                  <a:lnTo>
                    <a:pt x="774" y="116"/>
                  </a:lnTo>
                  <a:lnTo>
                    <a:pt x="766" y="116"/>
                  </a:lnTo>
                  <a:lnTo>
                    <a:pt x="758" y="116"/>
                  </a:lnTo>
                  <a:lnTo>
                    <a:pt x="752" y="116"/>
                  </a:lnTo>
                  <a:lnTo>
                    <a:pt x="752" y="124"/>
                  </a:lnTo>
                  <a:lnTo>
                    <a:pt x="744" y="124"/>
                  </a:lnTo>
                  <a:lnTo>
                    <a:pt x="736" y="124"/>
                  </a:lnTo>
                  <a:lnTo>
                    <a:pt x="736" y="132"/>
                  </a:lnTo>
                  <a:lnTo>
                    <a:pt x="730" y="132"/>
                  </a:lnTo>
                  <a:lnTo>
                    <a:pt x="730" y="138"/>
                  </a:lnTo>
                  <a:lnTo>
                    <a:pt x="722" y="138"/>
                  </a:lnTo>
                  <a:lnTo>
                    <a:pt x="714" y="146"/>
                  </a:lnTo>
                  <a:lnTo>
                    <a:pt x="708" y="152"/>
                  </a:lnTo>
                  <a:lnTo>
                    <a:pt x="708" y="160"/>
                  </a:lnTo>
                  <a:lnTo>
                    <a:pt x="700" y="168"/>
                  </a:lnTo>
                  <a:lnTo>
                    <a:pt x="700" y="174"/>
                  </a:lnTo>
                  <a:lnTo>
                    <a:pt x="692" y="182"/>
                  </a:lnTo>
                  <a:lnTo>
                    <a:pt x="692" y="190"/>
                  </a:lnTo>
                  <a:lnTo>
                    <a:pt x="692" y="196"/>
                  </a:lnTo>
                  <a:lnTo>
                    <a:pt x="692" y="204"/>
                  </a:lnTo>
                  <a:lnTo>
                    <a:pt x="692" y="212"/>
                  </a:lnTo>
                  <a:lnTo>
                    <a:pt x="692" y="218"/>
                  </a:lnTo>
                  <a:lnTo>
                    <a:pt x="692" y="226"/>
                  </a:lnTo>
                  <a:lnTo>
                    <a:pt x="692" y="234"/>
                  </a:lnTo>
                  <a:lnTo>
                    <a:pt x="700" y="240"/>
                  </a:lnTo>
                  <a:lnTo>
                    <a:pt x="700" y="248"/>
                  </a:lnTo>
                  <a:lnTo>
                    <a:pt x="708" y="256"/>
                  </a:lnTo>
                  <a:lnTo>
                    <a:pt x="708" y="262"/>
                  </a:lnTo>
                  <a:lnTo>
                    <a:pt x="714" y="270"/>
                  </a:lnTo>
                  <a:lnTo>
                    <a:pt x="714" y="278"/>
                  </a:lnTo>
                  <a:lnTo>
                    <a:pt x="722" y="278"/>
                  </a:lnTo>
                  <a:lnTo>
                    <a:pt x="730" y="284"/>
                  </a:lnTo>
                  <a:lnTo>
                    <a:pt x="736" y="292"/>
                  </a:lnTo>
                  <a:lnTo>
                    <a:pt x="744" y="292"/>
                  </a:lnTo>
                  <a:lnTo>
                    <a:pt x="744" y="298"/>
                  </a:lnTo>
                  <a:lnTo>
                    <a:pt x="752" y="298"/>
                  </a:lnTo>
                  <a:lnTo>
                    <a:pt x="758" y="298"/>
                  </a:lnTo>
                  <a:lnTo>
                    <a:pt x="766" y="306"/>
                  </a:lnTo>
                  <a:lnTo>
                    <a:pt x="774" y="306"/>
                  </a:lnTo>
                  <a:lnTo>
                    <a:pt x="780" y="306"/>
                  </a:lnTo>
                  <a:lnTo>
                    <a:pt x="788" y="314"/>
                  </a:lnTo>
                  <a:lnTo>
                    <a:pt x="794" y="314"/>
                  </a:lnTo>
                  <a:lnTo>
                    <a:pt x="802" y="314"/>
                  </a:lnTo>
                  <a:lnTo>
                    <a:pt x="810" y="314"/>
                  </a:lnTo>
                  <a:lnTo>
                    <a:pt x="816" y="314"/>
                  </a:lnTo>
                  <a:lnTo>
                    <a:pt x="824" y="306"/>
                  </a:lnTo>
                  <a:lnTo>
                    <a:pt x="832" y="306"/>
                  </a:lnTo>
                  <a:lnTo>
                    <a:pt x="838" y="306"/>
                  </a:lnTo>
                  <a:lnTo>
                    <a:pt x="846" y="298"/>
                  </a:lnTo>
                  <a:lnTo>
                    <a:pt x="854" y="298"/>
                  </a:lnTo>
                  <a:lnTo>
                    <a:pt x="860" y="292"/>
                  </a:lnTo>
                  <a:lnTo>
                    <a:pt x="868" y="292"/>
                  </a:lnTo>
                  <a:lnTo>
                    <a:pt x="868" y="284"/>
                  </a:lnTo>
                  <a:lnTo>
                    <a:pt x="876" y="284"/>
                  </a:lnTo>
                  <a:lnTo>
                    <a:pt x="876" y="278"/>
                  </a:lnTo>
                  <a:lnTo>
                    <a:pt x="882" y="278"/>
                  </a:lnTo>
                  <a:lnTo>
                    <a:pt x="882" y="270"/>
                  </a:lnTo>
                  <a:lnTo>
                    <a:pt x="890" y="270"/>
                  </a:lnTo>
                  <a:lnTo>
                    <a:pt x="890" y="262"/>
                  </a:lnTo>
                  <a:lnTo>
                    <a:pt x="898" y="256"/>
                  </a:lnTo>
                  <a:lnTo>
                    <a:pt x="898" y="248"/>
                  </a:lnTo>
                  <a:lnTo>
                    <a:pt x="904" y="248"/>
                  </a:lnTo>
                  <a:lnTo>
                    <a:pt x="904" y="240"/>
                  </a:lnTo>
                  <a:lnTo>
                    <a:pt x="904" y="234"/>
                  </a:lnTo>
                  <a:lnTo>
                    <a:pt x="912" y="234"/>
                  </a:lnTo>
                  <a:lnTo>
                    <a:pt x="912" y="226"/>
                  </a:lnTo>
                  <a:lnTo>
                    <a:pt x="912" y="218"/>
                  </a:lnTo>
                  <a:lnTo>
                    <a:pt x="918" y="212"/>
                  </a:lnTo>
                  <a:lnTo>
                    <a:pt x="918" y="204"/>
                  </a:lnTo>
                  <a:lnTo>
                    <a:pt x="918" y="196"/>
                  </a:lnTo>
                  <a:lnTo>
                    <a:pt x="918" y="190"/>
                  </a:lnTo>
                  <a:lnTo>
                    <a:pt x="918" y="182"/>
                  </a:lnTo>
                  <a:lnTo>
                    <a:pt x="918" y="174"/>
                  </a:lnTo>
                  <a:lnTo>
                    <a:pt x="918" y="168"/>
                  </a:lnTo>
                  <a:lnTo>
                    <a:pt x="918" y="160"/>
                  </a:lnTo>
                  <a:lnTo>
                    <a:pt x="918" y="152"/>
                  </a:lnTo>
                  <a:lnTo>
                    <a:pt x="918" y="146"/>
                  </a:lnTo>
                  <a:lnTo>
                    <a:pt x="918" y="138"/>
                  </a:lnTo>
                  <a:lnTo>
                    <a:pt x="918" y="132"/>
                  </a:lnTo>
                  <a:lnTo>
                    <a:pt x="912" y="124"/>
                  </a:lnTo>
                  <a:lnTo>
                    <a:pt x="912" y="116"/>
                  </a:lnTo>
                  <a:lnTo>
                    <a:pt x="912" y="110"/>
                  </a:lnTo>
                  <a:lnTo>
                    <a:pt x="904" y="102"/>
                  </a:lnTo>
                  <a:lnTo>
                    <a:pt x="904" y="94"/>
                  </a:lnTo>
                  <a:lnTo>
                    <a:pt x="898" y="94"/>
                  </a:lnTo>
                  <a:lnTo>
                    <a:pt x="898" y="88"/>
                  </a:lnTo>
                  <a:lnTo>
                    <a:pt x="890" y="80"/>
                  </a:lnTo>
                  <a:lnTo>
                    <a:pt x="882" y="80"/>
                  </a:lnTo>
                  <a:lnTo>
                    <a:pt x="882" y="72"/>
                  </a:lnTo>
                  <a:lnTo>
                    <a:pt x="876" y="66"/>
                  </a:lnTo>
                  <a:lnTo>
                    <a:pt x="868" y="58"/>
                  </a:lnTo>
                  <a:lnTo>
                    <a:pt x="860" y="58"/>
                  </a:lnTo>
                  <a:lnTo>
                    <a:pt x="854" y="50"/>
                  </a:lnTo>
                  <a:lnTo>
                    <a:pt x="846" y="50"/>
                  </a:lnTo>
                  <a:lnTo>
                    <a:pt x="846" y="44"/>
                  </a:lnTo>
                  <a:lnTo>
                    <a:pt x="838" y="44"/>
                  </a:lnTo>
                  <a:lnTo>
                    <a:pt x="832" y="44"/>
                  </a:lnTo>
                  <a:lnTo>
                    <a:pt x="832" y="36"/>
                  </a:lnTo>
                  <a:lnTo>
                    <a:pt x="824" y="36"/>
                  </a:lnTo>
                  <a:lnTo>
                    <a:pt x="816" y="36"/>
                  </a:lnTo>
                  <a:lnTo>
                    <a:pt x="810" y="36"/>
                  </a:lnTo>
                  <a:lnTo>
                    <a:pt x="802" y="28"/>
                  </a:lnTo>
                  <a:lnTo>
                    <a:pt x="794" y="28"/>
                  </a:lnTo>
                  <a:lnTo>
                    <a:pt x="788" y="28"/>
                  </a:lnTo>
                  <a:lnTo>
                    <a:pt x="780" y="28"/>
                  </a:lnTo>
                  <a:lnTo>
                    <a:pt x="774" y="28"/>
                  </a:lnTo>
                  <a:lnTo>
                    <a:pt x="766" y="28"/>
                  </a:lnTo>
                  <a:lnTo>
                    <a:pt x="758" y="28"/>
                  </a:lnTo>
                  <a:lnTo>
                    <a:pt x="752" y="28"/>
                  </a:lnTo>
                  <a:lnTo>
                    <a:pt x="744" y="36"/>
                  </a:lnTo>
                  <a:lnTo>
                    <a:pt x="736" y="36"/>
                  </a:lnTo>
                  <a:lnTo>
                    <a:pt x="730" y="36"/>
                  </a:lnTo>
                  <a:lnTo>
                    <a:pt x="722" y="36"/>
                  </a:lnTo>
                  <a:lnTo>
                    <a:pt x="714" y="36"/>
                  </a:lnTo>
                  <a:lnTo>
                    <a:pt x="714" y="44"/>
                  </a:lnTo>
                  <a:lnTo>
                    <a:pt x="708" y="44"/>
                  </a:lnTo>
                  <a:lnTo>
                    <a:pt x="700" y="44"/>
                  </a:lnTo>
                  <a:lnTo>
                    <a:pt x="692" y="44"/>
                  </a:lnTo>
                  <a:lnTo>
                    <a:pt x="692" y="50"/>
                  </a:lnTo>
                  <a:lnTo>
                    <a:pt x="686" y="50"/>
                  </a:lnTo>
                  <a:lnTo>
                    <a:pt x="678" y="58"/>
                  </a:lnTo>
                  <a:lnTo>
                    <a:pt x="670" y="58"/>
                  </a:lnTo>
                  <a:lnTo>
                    <a:pt x="664" y="66"/>
                  </a:lnTo>
                  <a:lnTo>
                    <a:pt x="656" y="72"/>
                  </a:lnTo>
                  <a:lnTo>
                    <a:pt x="650" y="80"/>
                  </a:lnTo>
                  <a:lnTo>
                    <a:pt x="642" y="88"/>
                  </a:lnTo>
                  <a:lnTo>
                    <a:pt x="634" y="88"/>
                  </a:lnTo>
                  <a:lnTo>
                    <a:pt x="628" y="94"/>
                  </a:lnTo>
                  <a:lnTo>
                    <a:pt x="620" y="102"/>
                  </a:lnTo>
                  <a:lnTo>
                    <a:pt x="612" y="110"/>
                  </a:lnTo>
                  <a:lnTo>
                    <a:pt x="612" y="116"/>
                  </a:lnTo>
                  <a:lnTo>
                    <a:pt x="606" y="124"/>
                  </a:lnTo>
                  <a:lnTo>
                    <a:pt x="598" y="132"/>
                  </a:lnTo>
                  <a:lnTo>
                    <a:pt x="590" y="138"/>
                  </a:lnTo>
                  <a:lnTo>
                    <a:pt x="584" y="146"/>
                  </a:lnTo>
                  <a:lnTo>
                    <a:pt x="576" y="152"/>
                  </a:lnTo>
                  <a:lnTo>
                    <a:pt x="576" y="160"/>
                  </a:lnTo>
                  <a:lnTo>
                    <a:pt x="568" y="168"/>
                  </a:lnTo>
                  <a:lnTo>
                    <a:pt x="562" y="182"/>
                  </a:lnTo>
                  <a:lnTo>
                    <a:pt x="554" y="190"/>
                  </a:lnTo>
                  <a:lnTo>
                    <a:pt x="546" y="196"/>
                  </a:lnTo>
                  <a:lnTo>
                    <a:pt x="546" y="204"/>
                  </a:lnTo>
                  <a:lnTo>
                    <a:pt x="540" y="212"/>
                  </a:lnTo>
                  <a:lnTo>
                    <a:pt x="532" y="226"/>
                  </a:lnTo>
                  <a:lnTo>
                    <a:pt x="532" y="234"/>
                  </a:lnTo>
                  <a:lnTo>
                    <a:pt x="53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9528120" y="34188480"/>
              <a:ext cx="695160" cy="15271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527120"/>
                <a:gd name="textAreaBottom" fmla="*/ 1527480 h 1527120"/>
              </a:gdLst>
              <a:ahLst/>
              <a:rect l="textAreaLeft" t="textAreaTop" r="textAreaRight" b="textAreaBottom"/>
              <a:pathLst>
                <a:path w="438" h="962">
                  <a:moveTo>
                    <a:pt x="240" y="532"/>
                  </a:moveTo>
                  <a:lnTo>
                    <a:pt x="248" y="532"/>
                  </a:lnTo>
                  <a:lnTo>
                    <a:pt x="262" y="524"/>
                  </a:lnTo>
                  <a:lnTo>
                    <a:pt x="270" y="518"/>
                  </a:lnTo>
                  <a:lnTo>
                    <a:pt x="278" y="510"/>
                  </a:lnTo>
                  <a:lnTo>
                    <a:pt x="292" y="502"/>
                  </a:lnTo>
                  <a:lnTo>
                    <a:pt x="300" y="496"/>
                  </a:lnTo>
                  <a:lnTo>
                    <a:pt x="306" y="488"/>
                  </a:lnTo>
                  <a:lnTo>
                    <a:pt x="314" y="480"/>
                  </a:lnTo>
                  <a:lnTo>
                    <a:pt x="328" y="474"/>
                  </a:lnTo>
                  <a:lnTo>
                    <a:pt x="336" y="460"/>
                  </a:lnTo>
                  <a:lnTo>
                    <a:pt x="342" y="452"/>
                  </a:lnTo>
                  <a:lnTo>
                    <a:pt x="350" y="444"/>
                  </a:lnTo>
                  <a:lnTo>
                    <a:pt x="358" y="430"/>
                  </a:lnTo>
                  <a:lnTo>
                    <a:pt x="364" y="422"/>
                  </a:lnTo>
                  <a:lnTo>
                    <a:pt x="380" y="416"/>
                  </a:lnTo>
                  <a:lnTo>
                    <a:pt x="386" y="400"/>
                  </a:lnTo>
                  <a:lnTo>
                    <a:pt x="386" y="394"/>
                  </a:lnTo>
                  <a:lnTo>
                    <a:pt x="394" y="378"/>
                  </a:lnTo>
                  <a:lnTo>
                    <a:pt x="402" y="372"/>
                  </a:lnTo>
                  <a:lnTo>
                    <a:pt x="408" y="356"/>
                  </a:lnTo>
                  <a:lnTo>
                    <a:pt x="416" y="342"/>
                  </a:lnTo>
                  <a:lnTo>
                    <a:pt x="416" y="334"/>
                  </a:lnTo>
                  <a:lnTo>
                    <a:pt x="424" y="320"/>
                  </a:lnTo>
                  <a:lnTo>
                    <a:pt x="424" y="306"/>
                  </a:lnTo>
                  <a:lnTo>
                    <a:pt x="430" y="298"/>
                  </a:lnTo>
                  <a:lnTo>
                    <a:pt x="430" y="284"/>
                  </a:lnTo>
                  <a:lnTo>
                    <a:pt x="430" y="276"/>
                  </a:lnTo>
                  <a:lnTo>
                    <a:pt x="430" y="262"/>
                  </a:lnTo>
                  <a:lnTo>
                    <a:pt x="438" y="248"/>
                  </a:lnTo>
                  <a:lnTo>
                    <a:pt x="430" y="240"/>
                  </a:lnTo>
                  <a:lnTo>
                    <a:pt x="430" y="226"/>
                  </a:lnTo>
                  <a:lnTo>
                    <a:pt x="430" y="210"/>
                  </a:lnTo>
                  <a:lnTo>
                    <a:pt x="430" y="204"/>
                  </a:lnTo>
                  <a:lnTo>
                    <a:pt x="430" y="196"/>
                  </a:lnTo>
                  <a:lnTo>
                    <a:pt x="424" y="182"/>
                  </a:lnTo>
                  <a:lnTo>
                    <a:pt x="424" y="174"/>
                  </a:lnTo>
                  <a:lnTo>
                    <a:pt x="424" y="168"/>
                  </a:lnTo>
                  <a:lnTo>
                    <a:pt x="416" y="160"/>
                  </a:lnTo>
                  <a:lnTo>
                    <a:pt x="416" y="152"/>
                  </a:lnTo>
                  <a:lnTo>
                    <a:pt x="408" y="146"/>
                  </a:lnTo>
                  <a:lnTo>
                    <a:pt x="408" y="138"/>
                  </a:lnTo>
                  <a:lnTo>
                    <a:pt x="402" y="130"/>
                  </a:lnTo>
                  <a:lnTo>
                    <a:pt x="402" y="124"/>
                  </a:lnTo>
                  <a:lnTo>
                    <a:pt x="394" y="116"/>
                  </a:lnTo>
                  <a:lnTo>
                    <a:pt x="386" y="108"/>
                  </a:lnTo>
                  <a:lnTo>
                    <a:pt x="386" y="102"/>
                  </a:lnTo>
                  <a:lnTo>
                    <a:pt x="380" y="94"/>
                  </a:lnTo>
                  <a:lnTo>
                    <a:pt x="372" y="94"/>
                  </a:lnTo>
                  <a:lnTo>
                    <a:pt x="372" y="86"/>
                  </a:lnTo>
                  <a:lnTo>
                    <a:pt x="364" y="80"/>
                  </a:lnTo>
                  <a:lnTo>
                    <a:pt x="358" y="80"/>
                  </a:lnTo>
                  <a:lnTo>
                    <a:pt x="358" y="72"/>
                  </a:lnTo>
                  <a:lnTo>
                    <a:pt x="350" y="64"/>
                  </a:lnTo>
                  <a:lnTo>
                    <a:pt x="342" y="64"/>
                  </a:lnTo>
                  <a:lnTo>
                    <a:pt x="336" y="58"/>
                  </a:lnTo>
                  <a:lnTo>
                    <a:pt x="328" y="50"/>
                  </a:lnTo>
                  <a:lnTo>
                    <a:pt x="320" y="50"/>
                  </a:lnTo>
                  <a:lnTo>
                    <a:pt x="314" y="44"/>
                  </a:lnTo>
                  <a:lnTo>
                    <a:pt x="306" y="36"/>
                  </a:lnTo>
                  <a:lnTo>
                    <a:pt x="300" y="36"/>
                  </a:lnTo>
                  <a:lnTo>
                    <a:pt x="292" y="28"/>
                  </a:lnTo>
                  <a:lnTo>
                    <a:pt x="284" y="22"/>
                  </a:lnTo>
                  <a:lnTo>
                    <a:pt x="278" y="22"/>
                  </a:lnTo>
                  <a:lnTo>
                    <a:pt x="270" y="14"/>
                  </a:lnTo>
                  <a:lnTo>
                    <a:pt x="262" y="14"/>
                  </a:lnTo>
                  <a:lnTo>
                    <a:pt x="256" y="14"/>
                  </a:lnTo>
                  <a:lnTo>
                    <a:pt x="248" y="14"/>
                  </a:lnTo>
                  <a:lnTo>
                    <a:pt x="240" y="6"/>
                  </a:lnTo>
                  <a:lnTo>
                    <a:pt x="234" y="6"/>
                  </a:lnTo>
                  <a:lnTo>
                    <a:pt x="226" y="6"/>
                  </a:lnTo>
                  <a:lnTo>
                    <a:pt x="218" y="6"/>
                  </a:lnTo>
                  <a:lnTo>
                    <a:pt x="212" y="6"/>
                  </a:lnTo>
                  <a:lnTo>
                    <a:pt x="204" y="6"/>
                  </a:lnTo>
                  <a:lnTo>
                    <a:pt x="196" y="0"/>
                  </a:lnTo>
                  <a:lnTo>
                    <a:pt x="190" y="0"/>
                  </a:lnTo>
                  <a:lnTo>
                    <a:pt x="182" y="0"/>
                  </a:lnTo>
                  <a:lnTo>
                    <a:pt x="174" y="6"/>
                  </a:lnTo>
                  <a:lnTo>
                    <a:pt x="168" y="6"/>
                  </a:lnTo>
                  <a:lnTo>
                    <a:pt x="160" y="6"/>
                  </a:lnTo>
                  <a:lnTo>
                    <a:pt x="154" y="6"/>
                  </a:lnTo>
                  <a:lnTo>
                    <a:pt x="146" y="6"/>
                  </a:lnTo>
                  <a:lnTo>
                    <a:pt x="138" y="6"/>
                  </a:lnTo>
                  <a:lnTo>
                    <a:pt x="132" y="14"/>
                  </a:lnTo>
                  <a:lnTo>
                    <a:pt x="124" y="14"/>
                  </a:lnTo>
                  <a:lnTo>
                    <a:pt x="116" y="14"/>
                  </a:lnTo>
                  <a:lnTo>
                    <a:pt x="110" y="22"/>
                  </a:lnTo>
                  <a:lnTo>
                    <a:pt x="102" y="22"/>
                  </a:lnTo>
                  <a:lnTo>
                    <a:pt x="94" y="22"/>
                  </a:lnTo>
                  <a:lnTo>
                    <a:pt x="88" y="28"/>
                  </a:lnTo>
                  <a:lnTo>
                    <a:pt x="88" y="36"/>
                  </a:lnTo>
                  <a:lnTo>
                    <a:pt x="80" y="36"/>
                  </a:lnTo>
                  <a:lnTo>
                    <a:pt x="72" y="44"/>
                  </a:lnTo>
                  <a:lnTo>
                    <a:pt x="66" y="50"/>
                  </a:lnTo>
                  <a:lnTo>
                    <a:pt x="58" y="58"/>
                  </a:lnTo>
                  <a:lnTo>
                    <a:pt x="50" y="64"/>
                  </a:lnTo>
                  <a:lnTo>
                    <a:pt x="50" y="72"/>
                  </a:lnTo>
                  <a:lnTo>
                    <a:pt x="44" y="80"/>
                  </a:lnTo>
                  <a:lnTo>
                    <a:pt x="36" y="86"/>
                  </a:lnTo>
                  <a:lnTo>
                    <a:pt x="36" y="94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30" y="116"/>
                  </a:lnTo>
                  <a:lnTo>
                    <a:pt x="22" y="124"/>
                  </a:lnTo>
                  <a:lnTo>
                    <a:pt x="22" y="130"/>
                  </a:lnTo>
                  <a:lnTo>
                    <a:pt x="22" y="138"/>
                  </a:lnTo>
                  <a:lnTo>
                    <a:pt x="22" y="146"/>
                  </a:lnTo>
                  <a:lnTo>
                    <a:pt x="22" y="152"/>
                  </a:lnTo>
                  <a:lnTo>
                    <a:pt x="14" y="160"/>
                  </a:lnTo>
                  <a:lnTo>
                    <a:pt x="14" y="168"/>
                  </a:lnTo>
                  <a:lnTo>
                    <a:pt x="14" y="174"/>
                  </a:lnTo>
                  <a:lnTo>
                    <a:pt x="22" y="182"/>
                  </a:lnTo>
                  <a:lnTo>
                    <a:pt x="22" y="190"/>
                  </a:lnTo>
                  <a:lnTo>
                    <a:pt x="22" y="196"/>
                  </a:lnTo>
                  <a:lnTo>
                    <a:pt x="22" y="204"/>
                  </a:lnTo>
                  <a:lnTo>
                    <a:pt x="22" y="210"/>
                  </a:lnTo>
                  <a:lnTo>
                    <a:pt x="30" y="218"/>
                  </a:lnTo>
                  <a:lnTo>
                    <a:pt x="30" y="226"/>
                  </a:lnTo>
                  <a:lnTo>
                    <a:pt x="30" y="232"/>
                  </a:lnTo>
                  <a:lnTo>
                    <a:pt x="36" y="232"/>
                  </a:lnTo>
                  <a:lnTo>
                    <a:pt x="36" y="240"/>
                  </a:lnTo>
                  <a:lnTo>
                    <a:pt x="36" y="248"/>
                  </a:lnTo>
                  <a:lnTo>
                    <a:pt x="44" y="248"/>
                  </a:lnTo>
                  <a:lnTo>
                    <a:pt x="44" y="254"/>
                  </a:lnTo>
                  <a:lnTo>
                    <a:pt x="50" y="262"/>
                  </a:lnTo>
                  <a:lnTo>
                    <a:pt x="50" y="270"/>
                  </a:lnTo>
                  <a:lnTo>
                    <a:pt x="58" y="270"/>
                  </a:lnTo>
                  <a:lnTo>
                    <a:pt x="66" y="276"/>
                  </a:lnTo>
                  <a:lnTo>
                    <a:pt x="72" y="284"/>
                  </a:lnTo>
                  <a:lnTo>
                    <a:pt x="80" y="292"/>
                  </a:lnTo>
                  <a:lnTo>
                    <a:pt x="88" y="298"/>
                  </a:lnTo>
                  <a:lnTo>
                    <a:pt x="94" y="298"/>
                  </a:lnTo>
                  <a:lnTo>
                    <a:pt x="94" y="306"/>
                  </a:lnTo>
                  <a:lnTo>
                    <a:pt x="102" y="306"/>
                  </a:lnTo>
                  <a:lnTo>
                    <a:pt x="110" y="306"/>
                  </a:lnTo>
                  <a:lnTo>
                    <a:pt x="116" y="314"/>
                  </a:lnTo>
                  <a:lnTo>
                    <a:pt x="124" y="314"/>
                  </a:lnTo>
                  <a:lnTo>
                    <a:pt x="132" y="314"/>
                  </a:lnTo>
                  <a:lnTo>
                    <a:pt x="138" y="314"/>
                  </a:lnTo>
                  <a:lnTo>
                    <a:pt x="146" y="320"/>
                  </a:lnTo>
                  <a:lnTo>
                    <a:pt x="154" y="320"/>
                  </a:lnTo>
                  <a:lnTo>
                    <a:pt x="160" y="320"/>
                  </a:lnTo>
                  <a:lnTo>
                    <a:pt x="168" y="320"/>
                  </a:lnTo>
                  <a:lnTo>
                    <a:pt x="182" y="320"/>
                  </a:lnTo>
                  <a:lnTo>
                    <a:pt x="190" y="320"/>
                  </a:lnTo>
                  <a:lnTo>
                    <a:pt x="196" y="320"/>
                  </a:lnTo>
                  <a:lnTo>
                    <a:pt x="196" y="314"/>
                  </a:lnTo>
                  <a:lnTo>
                    <a:pt x="204" y="314"/>
                  </a:lnTo>
                  <a:lnTo>
                    <a:pt x="212" y="314"/>
                  </a:lnTo>
                  <a:lnTo>
                    <a:pt x="218" y="314"/>
                  </a:lnTo>
                  <a:lnTo>
                    <a:pt x="226" y="306"/>
                  </a:lnTo>
                  <a:lnTo>
                    <a:pt x="234" y="306"/>
                  </a:lnTo>
                  <a:lnTo>
                    <a:pt x="240" y="306"/>
                  </a:lnTo>
                  <a:lnTo>
                    <a:pt x="240" y="298"/>
                  </a:lnTo>
                  <a:lnTo>
                    <a:pt x="248" y="298"/>
                  </a:lnTo>
                  <a:lnTo>
                    <a:pt x="256" y="292"/>
                  </a:lnTo>
                  <a:lnTo>
                    <a:pt x="262" y="284"/>
                  </a:lnTo>
                  <a:lnTo>
                    <a:pt x="270" y="284"/>
                  </a:lnTo>
                  <a:lnTo>
                    <a:pt x="270" y="276"/>
                  </a:lnTo>
                  <a:lnTo>
                    <a:pt x="278" y="276"/>
                  </a:lnTo>
                  <a:lnTo>
                    <a:pt x="278" y="270"/>
                  </a:lnTo>
                  <a:lnTo>
                    <a:pt x="284" y="262"/>
                  </a:lnTo>
                  <a:lnTo>
                    <a:pt x="284" y="254"/>
                  </a:lnTo>
                  <a:lnTo>
                    <a:pt x="292" y="248"/>
                  </a:lnTo>
                  <a:lnTo>
                    <a:pt x="292" y="240"/>
                  </a:lnTo>
                  <a:lnTo>
                    <a:pt x="300" y="232"/>
                  </a:lnTo>
                  <a:lnTo>
                    <a:pt x="300" y="226"/>
                  </a:lnTo>
                  <a:lnTo>
                    <a:pt x="300" y="218"/>
                  </a:lnTo>
                  <a:lnTo>
                    <a:pt x="300" y="210"/>
                  </a:lnTo>
                  <a:lnTo>
                    <a:pt x="300" y="204"/>
                  </a:lnTo>
                  <a:lnTo>
                    <a:pt x="300" y="196"/>
                  </a:lnTo>
                  <a:lnTo>
                    <a:pt x="300" y="190"/>
                  </a:lnTo>
                  <a:lnTo>
                    <a:pt x="300" y="182"/>
                  </a:lnTo>
                  <a:lnTo>
                    <a:pt x="300" y="174"/>
                  </a:lnTo>
                  <a:lnTo>
                    <a:pt x="300" y="168"/>
                  </a:lnTo>
                  <a:lnTo>
                    <a:pt x="300" y="160"/>
                  </a:lnTo>
                  <a:lnTo>
                    <a:pt x="300" y="152"/>
                  </a:lnTo>
                  <a:lnTo>
                    <a:pt x="300" y="146"/>
                  </a:lnTo>
                  <a:lnTo>
                    <a:pt x="292" y="138"/>
                  </a:lnTo>
                  <a:lnTo>
                    <a:pt x="292" y="130"/>
                  </a:lnTo>
                  <a:lnTo>
                    <a:pt x="284" y="130"/>
                  </a:lnTo>
                  <a:lnTo>
                    <a:pt x="284" y="124"/>
                  </a:lnTo>
                  <a:lnTo>
                    <a:pt x="284" y="116"/>
                  </a:lnTo>
                  <a:lnTo>
                    <a:pt x="278" y="116"/>
                  </a:lnTo>
                  <a:lnTo>
                    <a:pt x="270" y="108"/>
                  </a:lnTo>
                  <a:lnTo>
                    <a:pt x="262" y="108"/>
                  </a:lnTo>
                  <a:lnTo>
                    <a:pt x="262" y="102"/>
                  </a:lnTo>
                  <a:lnTo>
                    <a:pt x="256" y="102"/>
                  </a:lnTo>
                  <a:lnTo>
                    <a:pt x="248" y="102"/>
                  </a:lnTo>
                  <a:lnTo>
                    <a:pt x="248" y="94"/>
                  </a:lnTo>
                  <a:lnTo>
                    <a:pt x="240" y="94"/>
                  </a:lnTo>
                  <a:lnTo>
                    <a:pt x="234" y="94"/>
                  </a:lnTo>
                  <a:lnTo>
                    <a:pt x="226" y="94"/>
                  </a:lnTo>
                  <a:lnTo>
                    <a:pt x="218" y="94"/>
                  </a:lnTo>
                  <a:lnTo>
                    <a:pt x="212" y="86"/>
                  </a:lnTo>
                  <a:lnTo>
                    <a:pt x="204" y="86"/>
                  </a:lnTo>
                  <a:lnTo>
                    <a:pt x="196" y="86"/>
                  </a:lnTo>
                  <a:lnTo>
                    <a:pt x="196" y="94"/>
                  </a:lnTo>
                  <a:lnTo>
                    <a:pt x="190" y="94"/>
                  </a:lnTo>
                  <a:lnTo>
                    <a:pt x="182" y="94"/>
                  </a:lnTo>
                  <a:lnTo>
                    <a:pt x="174" y="94"/>
                  </a:lnTo>
                  <a:lnTo>
                    <a:pt x="168" y="94"/>
                  </a:lnTo>
                  <a:lnTo>
                    <a:pt x="160" y="102"/>
                  </a:lnTo>
                  <a:lnTo>
                    <a:pt x="154" y="102"/>
                  </a:lnTo>
                  <a:lnTo>
                    <a:pt x="154" y="108"/>
                  </a:lnTo>
                  <a:lnTo>
                    <a:pt x="146" y="108"/>
                  </a:lnTo>
                  <a:lnTo>
                    <a:pt x="146" y="116"/>
                  </a:lnTo>
                  <a:lnTo>
                    <a:pt x="138" y="116"/>
                  </a:lnTo>
                  <a:lnTo>
                    <a:pt x="138" y="124"/>
                  </a:lnTo>
                  <a:lnTo>
                    <a:pt x="138" y="130"/>
                  </a:lnTo>
                  <a:lnTo>
                    <a:pt x="132" y="130"/>
                  </a:lnTo>
                  <a:lnTo>
                    <a:pt x="132" y="138"/>
                  </a:lnTo>
                  <a:lnTo>
                    <a:pt x="132" y="146"/>
                  </a:lnTo>
                  <a:lnTo>
                    <a:pt x="132" y="152"/>
                  </a:lnTo>
                  <a:lnTo>
                    <a:pt x="132" y="160"/>
                  </a:lnTo>
                  <a:lnTo>
                    <a:pt x="132" y="168"/>
                  </a:lnTo>
                  <a:lnTo>
                    <a:pt x="132" y="174"/>
                  </a:lnTo>
                  <a:lnTo>
                    <a:pt x="132" y="182"/>
                  </a:lnTo>
                  <a:lnTo>
                    <a:pt x="132" y="190"/>
                  </a:lnTo>
                  <a:lnTo>
                    <a:pt x="138" y="196"/>
                  </a:lnTo>
                  <a:lnTo>
                    <a:pt x="138" y="204"/>
                  </a:lnTo>
                  <a:lnTo>
                    <a:pt x="146" y="204"/>
                  </a:lnTo>
                  <a:lnTo>
                    <a:pt x="146" y="210"/>
                  </a:lnTo>
                  <a:lnTo>
                    <a:pt x="154" y="210"/>
                  </a:lnTo>
                  <a:lnTo>
                    <a:pt x="160" y="218"/>
                  </a:lnTo>
                  <a:lnTo>
                    <a:pt x="168" y="218"/>
                  </a:lnTo>
                  <a:lnTo>
                    <a:pt x="174" y="218"/>
                  </a:lnTo>
                  <a:lnTo>
                    <a:pt x="174" y="226"/>
                  </a:lnTo>
                  <a:lnTo>
                    <a:pt x="182" y="226"/>
                  </a:lnTo>
                  <a:lnTo>
                    <a:pt x="190" y="226"/>
                  </a:lnTo>
                  <a:lnTo>
                    <a:pt x="196" y="226"/>
                  </a:lnTo>
                  <a:lnTo>
                    <a:pt x="204" y="226"/>
                  </a:lnTo>
                  <a:lnTo>
                    <a:pt x="204" y="190"/>
                  </a:lnTo>
                  <a:lnTo>
                    <a:pt x="196" y="190"/>
                  </a:lnTo>
                  <a:lnTo>
                    <a:pt x="190" y="190"/>
                  </a:lnTo>
                  <a:lnTo>
                    <a:pt x="182" y="190"/>
                  </a:lnTo>
                  <a:lnTo>
                    <a:pt x="174" y="190"/>
                  </a:lnTo>
                  <a:lnTo>
                    <a:pt x="174" y="182"/>
                  </a:lnTo>
                  <a:lnTo>
                    <a:pt x="168" y="182"/>
                  </a:lnTo>
                  <a:lnTo>
                    <a:pt x="168" y="174"/>
                  </a:lnTo>
                  <a:lnTo>
                    <a:pt x="160" y="174"/>
                  </a:lnTo>
                  <a:lnTo>
                    <a:pt x="160" y="168"/>
                  </a:lnTo>
                  <a:lnTo>
                    <a:pt x="160" y="160"/>
                  </a:lnTo>
                  <a:lnTo>
                    <a:pt x="160" y="152"/>
                  </a:lnTo>
                  <a:lnTo>
                    <a:pt x="168" y="152"/>
                  </a:lnTo>
                  <a:lnTo>
                    <a:pt x="168" y="146"/>
                  </a:lnTo>
                  <a:lnTo>
                    <a:pt x="168" y="138"/>
                  </a:lnTo>
                  <a:lnTo>
                    <a:pt x="174" y="138"/>
                  </a:lnTo>
                  <a:lnTo>
                    <a:pt x="174" y="130"/>
                  </a:lnTo>
                  <a:lnTo>
                    <a:pt x="182" y="130"/>
                  </a:lnTo>
                  <a:lnTo>
                    <a:pt x="190" y="124"/>
                  </a:lnTo>
                  <a:lnTo>
                    <a:pt x="196" y="124"/>
                  </a:lnTo>
                  <a:lnTo>
                    <a:pt x="204" y="124"/>
                  </a:lnTo>
                  <a:lnTo>
                    <a:pt x="212" y="124"/>
                  </a:lnTo>
                  <a:lnTo>
                    <a:pt x="218" y="124"/>
                  </a:lnTo>
                  <a:lnTo>
                    <a:pt x="226" y="124"/>
                  </a:lnTo>
                  <a:lnTo>
                    <a:pt x="226" y="130"/>
                  </a:lnTo>
                  <a:lnTo>
                    <a:pt x="234" y="130"/>
                  </a:lnTo>
                  <a:lnTo>
                    <a:pt x="240" y="130"/>
                  </a:lnTo>
                  <a:lnTo>
                    <a:pt x="240" y="138"/>
                  </a:lnTo>
                  <a:lnTo>
                    <a:pt x="248" y="138"/>
                  </a:lnTo>
                  <a:lnTo>
                    <a:pt x="256" y="138"/>
                  </a:lnTo>
                  <a:lnTo>
                    <a:pt x="256" y="146"/>
                  </a:lnTo>
                  <a:lnTo>
                    <a:pt x="262" y="146"/>
                  </a:lnTo>
                  <a:lnTo>
                    <a:pt x="262" y="152"/>
                  </a:lnTo>
                  <a:lnTo>
                    <a:pt x="262" y="160"/>
                  </a:lnTo>
                  <a:lnTo>
                    <a:pt x="270" y="160"/>
                  </a:lnTo>
                  <a:lnTo>
                    <a:pt x="270" y="168"/>
                  </a:lnTo>
                  <a:lnTo>
                    <a:pt x="270" y="174"/>
                  </a:lnTo>
                  <a:lnTo>
                    <a:pt x="270" y="182"/>
                  </a:lnTo>
                  <a:lnTo>
                    <a:pt x="270" y="190"/>
                  </a:lnTo>
                  <a:lnTo>
                    <a:pt x="270" y="196"/>
                  </a:lnTo>
                  <a:lnTo>
                    <a:pt x="270" y="204"/>
                  </a:lnTo>
                  <a:lnTo>
                    <a:pt x="270" y="210"/>
                  </a:lnTo>
                  <a:lnTo>
                    <a:pt x="270" y="218"/>
                  </a:lnTo>
                  <a:lnTo>
                    <a:pt x="262" y="218"/>
                  </a:lnTo>
                  <a:lnTo>
                    <a:pt x="262" y="226"/>
                  </a:lnTo>
                  <a:lnTo>
                    <a:pt x="262" y="232"/>
                  </a:lnTo>
                  <a:lnTo>
                    <a:pt x="256" y="240"/>
                  </a:lnTo>
                  <a:lnTo>
                    <a:pt x="256" y="248"/>
                  </a:lnTo>
                  <a:lnTo>
                    <a:pt x="248" y="248"/>
                  </a:lnTo>
                  <a:lnTo>
                    <a:pt x="248" y="254"/>
                  </a:lnTo>
                  <a:lnTo>
                    <a:pt x="240" y="254"/>
                  </a:lnTo>
                  <a:lnTo>
                    <a:pt x="240" y="262"/>
                  </a:lnTo>
                  <a:lnTo>
                    <a:pt x="234" y="262"/>
                  </a:lnTo>
                  <a:lnTo>
                    <a:pt x="234" y="270"/>
                  </a:lnTo>
                  <a:lnTo>
                    <a:pt x="226" y="270"/>
                  </a:lnTo>
                  <a:lnTo>
                    <a:pt x="218" y="270"/>
                  </a:lnTo>
                  <a:lnTo>
                    <a:pt x="218" y="276"/>
                  </a:lnTo>
                  <a:lnTo>
                    <a:pt x="212" y="276"/>
                  </a:lnTo>
                  <a:lnTo>
                    <a:pt x="204" y="276"/>
                  </a:lnTo>
                  <a:lnTo>
                    <a:pt x="196" y="284"/>
                  </a:lnTo>
                  <a:lnTo>
                    <a:pt x="190" y="284"/>
                  </a:lnTo>
                  <a:lnTo>
                    <a:pt x="182" y="284"/>
                  </a:lnTo>
                  <a:lnTo>
                    <a:pt x="174" y="284"/>
                  </a:lnTo>
                  <a:lnTo>
                    <a:pt x="168" y="284"/>
                  </a:lnTo>
                  <a:lnTo>
                    <a:pt x="160" y="284"/>
                  </a:lnTo>
                  <a:lnTo>
                    <a:pt x="154" y="284"/>
                  </a:lnTo>
                  <a:lnTo>
                    <a:pt x="146" y="284"/>
                  </a:lnTo>
                  <a:lnTo>
                    <a:pt x="138" y="284"/>
                  </a:lnTo>
                  <a:lnTo>
                    <a:pt x="132" y="284"/>
                  </a:lnTo>
                  <a:lnTo>
                    <a:pt x="124" y="276"/>
                  </a:lnTo>
                  <a:lnTo>
                    <a:pt x="116" y="276"/>
                  </a:lnTo>
                  <a:lnTo>
                    <a:pt x="110" y="270"/>
                  </a:lnTo>
                  <a:lnTo>
                    <a:pt x="102" y="270"/>
                  </a:lnTo>
                  <a:lnTo>
                    <a:pt x="102" y="262"/>
                  </a:lnTo>
                  <a:lnTo>
                    <a:pt x="94" y="262"/>
                  </a:lnTo>
                  <a:lnTo>
                    <a:pt x="88" y="254"/>
                  </a:lnTo>
                  <a:lnTo>
                    <a:pt x="80" y="248"/>
                  </a:lnTo>
                  <a:lnTo>
                    <a:pt x="72" y="240"/>
                  </a:lnTo>
                  <a:lnTo>
                    <a:pt x="72" y="232"/>
                  </a:lnTo>
                  <a:lnTo>
                    <a:pt x="66" y="226"/>
                  </a:lnTo>
                  <a:lnTo>
                    <a:pt x="66" y="218"/>
                  </a:lnTo>
                  <a:lnTo>
                    <a:pt x="58" y="218"/>
                  </a:lnTo>
                  <a:lnTo>
                    <a:pt x="58" y="210"/>
                  </a:lnTo>
                  <a:lnTo>
                    <a:pt x="58" y="204"/>
                  </a:lnTo>
                  <a:lnTo>
                    <a:pt x="50" y="196"/>
                  </a:lnTo>
                  <a:lnTo>
                    <a:pt x="50" y="190"/>
                  </a:lnTo>
                  <a:lnTo>
                    <a:pt x="50" y="182"/>
                  </a:lnTo>
                  <a:lnTo>
                    <a:pt x="50" y="174"/>
                  </a:lnTo>
                  <a:lnTo>
                    <a:pt x="50" y="168"/>
                  </a:lnTo>
                  <a:lnTo>
                    <a:pt x="50" y="160"/>
                  </a:lnTo>
                  <a:lnTo>
                    <a:pt x="50" y="152"/>
                  </a:lnTo>
                  <a:lnTo>
                    <a:pt x="50" y="146"/>
                  </a:lnTo>
                  <a:lnTo>
                    <a:pt x="58" y="138"/>
                  </a:lnTo>
                  <a:lnTo>
                    <a:pt x="58" y="130"/>
                  </a:lnTo>
                  <a:lnTo>
                    <a:pt x="58" y="124"/>
                  </a:lnTo>
                  <a:lnTo>
                    <a:pt x="66" y="116"/>
                  </a:lnTo>
                  <a:lnTo>
                    <a:pt x="66" y="108"/>
                  </a:lnTo>
                  <a:lnTo>
                    <a:pt x="66" y="102"/>
                  </a:lnTo>
                  <a:lnTo>
                    <a:pt x="72" y="102"/>
                  </a:lnTo>
                  <a:lnTo>
                    <a:pt x="72" y="94"/>
                  </a:lnTo>
                  <a:lnTo>
                    <a:pt x="80" y="86"/>
                  </a:lnTo>
                  <a:lnTo>
                    <a:pt x="80" y="80"/>
                  </a:lnTo>
                  <a:lnTo>
                    <a:pt x="88" y="80"/>
                  </a:lnTo>
                  <a:lnTo>
                    <a:pt x="88" y="72"/>
                  </a:lnTo>
                  <a:lnTo>
                    <a:pt x="94" y="64"/>
                  </a:lnTo>
                  <a:lnTo>
                    <a:pt x="102" y="64"/>
                  </a:lnTo>
                  <a:lnTo>
                    <a:pt x="102" y="58"/>
                  </a:lnTo>
                  <a:lnTo>
                    <a:pt x="110" y="58"/>
                  </a:lnTo>
                  <a:lnTo>
                    <a:pt x="116" y="58"/>
                  </a:lnTo>
                  <a:lnTo>
                    <a:pt x="116" y="50"/>
                  </a:lnTo>
                  <a:lnTo>
                    <a:pt x="124" y="50"/>
                  </a:lnTo>
                  <a:lnTo>
                    <a:pt x="132" y="44"/>
                  </a:lnTo>
                  <a:lnTo>
                    <a:pt x="138" y="44"/>
                  </a:lnTo>
                  <a:lnTo>
                    <a:pt x="146" y="44"/>
                  </a:lnTo>
                  <a:lnTo>
                    <a:pt x="154" y="44"/>
                  </a:lnTo>
                  <a:lnTo>
                    <a:pt x="154" y="36"/>
                  </a:lnTo>
                  <a:lnTo>
                    <a:pt x="160" y="36"/>
                  </a:lnTo>
                  <a:lnTo>
                    <a:pt x="168" y="36"/>
                  </a:lnTo>
                  <a:lnTo>
                    <a:pt x="174" y="36"/>
                  </a:lnTo>
                  <a:lnTo>
                    <a:pt x="182" y="36"/>
                  </a:lnTo>
                  <a:lnTo>
                    <a:pt x="190" y="36"/>
                  </a:lnTo>
                  <a:lnTo>
                    <a:pt x="196" y="36"/>
                  </a:lnTo>
                  <a:lnTo>
                    <a:pt x="204" y="36"/>
                  </a:lnTo>
                  <a:lnTo>
                    <a:pt x="212" y="36"/>
                  </a:lnTo>
                  <a:lnTo>
                    <a:pt x="218" y="36"/>
                  </a:lnTo>
                  <a:lnTo>
                    <a:pt x="226" y="36"/>
                  </a:lnTo>
                  <a:lnTo>
                    <a:pt x="226" y="44"/>
                  </a:lnTo>
                  <a:lnTo>
                    <a:pt x="234" y="44"/>
                  </a:lnTo>
                  <a:lnTo>
                    <a:pt x="240" y="44"/>
                  </a:lnTo>
                  <a:lnTo>
                    <a:pt x="248" y="44"/>
                  </a:lnTo>
                  <a:lnTo>
                    <a:pt x="256" y="44"/>
                  </a:lnTo>
                  <a:lnTo>
                    <a:pt x="256" y="50"/>
                  </a:lnTo>
                  <a:lnTo>
                    <a:pt x="262" y="50"/>
                  </a:lnTo>
                  <a:lnTo>
                    <a:pt x="270" y="50"/>
                  </a:lnTo>
                  <a:lnTo>
                    <a:pt x="270" y="58"/>
                  </a:lnTo>
                  <a:lnTo>
                    <a:pt x="278" y="58"/>
                  </a:lnTo>
                  <a:lnTo>
                    <a:pt x="284" y="64"/>
                  </a:lnTo>
                  <a:lnTo>
                    <a:pt x="292" y="64"/>
                  </a:lnTo>
                  <a:lnTo>
                    <a:pt x="292" y="72"/>
                  </a:lnTo>
                  <a:lnTo>
                    <a:pt x="300" y="72"/>
                  </a:lnTo>
                  <a:lnTo>
                    <a:pt x="306" y="72"/>
                  </a:lnTo>
                  <a:lnTo>
                    <a:pt x="306" y="80"/>
                  </a:lnTo>
                  <a:lnTo>
                    <a:pt x="314" y="80"/>
                  </a:lnTo>
                  <a:lnTo>
                    <a:pt x="314" y="86"/>
                  </a:lnTo>
                  <a:lnTo>
                    <a:pt x="320" y="86"/>
                  </a:lnTo>
                  <a:lnTo>
                    <a:pt x="328" y="94"/>
                  </a:lnTo>
                  <a:lnTo>
                    <a:pt x="336" y="102"/>
                  </a:lnTo>
                  <a:lnTo>
                    <a:pt x="342" y="108"/>
                  </a:lnTo>
                  <a:lnTo>
                    <a:pt x="350" y="116"/>
                  </a:lnTo>
                  <a:lnTo>
                    <a:pt x="350" y="124"/>
                  </a:lnTo>
                  <a:lnTo>
                    <a:pt x="358" y="124"/>
                  </a:lnTo>
                  <a:lnTo>
                    <a:pt x="364" y="130"/>
                  </a:lnTo>
                  <a:lnTo>
                    <a:pt x="364" y="138"/>
                  </a:lnTo>
                  <a:lnTo>
                    <a:pt x="372" y="146"/>
                  </a:lnTo>
                  <a:lnTo>
                    <a:pt x="380" y="152"/>
                  </a:lnTo>
                  <a:lnTo>
                    <a:pt x="380" y="160"/>
                  </a:lnTo>
                  <a:lnTo>
                    <a:pt x="386" y="168"/>
                  </a:lnTo>
                  <a:lnTo>
                    <a:pt x="386" y="174"/>
                  </a:lnTo>
                  <a:lnTo>
                    <a:pt x="386" y="182"/>
                  </a:lnTo>
                  <a:lnTo>
                    <a:pt x="394" y="190"/>
                  </a:lnTo>
                  <a:lnTo>
                    <a:pt x="394" y="196"/>
                  </a:lnTo>
                  <a:lnTo>
                    <a:pt x="394" y="210"/>
                  </a:lnTo>
                  <a:lnTo>
                    <a:pt x="394" y="218"/>
                  </a:lnTo>
                  <a:lnTo>
                    <a:pt x="402" y="226"/>
                  </a:lnTo>
                  <a:lnTo>
                    <a:pt x="402" y="240"/>
                  </a:lnTo>
                  <a:lnTo>
                    <a:pt x="402" y="248"/>
                  </a:lnTo>
                  <a:lnTo>
                    <a:pt x="402" y="262"/>
                  </a:lnTo>
                  <a:lnTo>
                    <a:pt x="402" y="270"/>
                  </a:lnTo>
                  <a:lnTo>
                    <a:pt x="394" y="276"/>
                  </a:lnTo>
                  <a:lnTo>
                    <a:pt x="394" y="292"/>
                  </a:lnTo>
                  <a:lnTo>
                    <a:pt x="394" y="298"/>
                  </a:lnTo>
                  <a:lnTo>
                    <a:pt x="386" y="314"/>
                  </a:lnTo>
                  <a:lnTo>
                    <a:pt x="386" y="320"/>
                  </a:lnTo>
                  <a:lnTo>
                    <a:pt x="380" y="328"/>
                  </a:lnTo>
                  <a:lnTo>
                    <a:pt x="380" y="342"/>
                  </a:lnTo>
                  <a:lnTo>
                    <a:pt x="372" y="350"/>
                  </a:lnTo>
                  <a:lnTo>
                    <a:pt x="364" y="364"/>
                  </a:lnTo>
                  <a:lnTo>
                    <a:pt x="358" y="372"/>
                  </a:lnTo>
                  <a:lnTo>
                    <a:pt x="350" y="378"/>
                  </a:lnTo>
                  <a:lnTo>
                    <a:pt x="350" y="394"/>
                  </a:lnTo>
                  <a:lnTo>
                    <a:pt x="342" y="400"/>
                  </a:lnTo>
                  <a:lnTo>
                    <a:pt x="336" y="408"/>
                  </a:lnTo>
                  <a:lnTo>
                    <a:pt x="328" y="416"/>
                  </a:lnTo>
                  <a:lnTo>
                    <a:pt x="320" y="430"/>
                  </a:lnTo>
                  <a:lnTo>
                    <a:pt x="314" y="438"/>
                  </a:lnTo>
                  <a:lnTo>
                    <a:pt x="300" y="444"/>
                  </a:lnTo>
                  <a:lnTo>
                    <a:pt x="292" y="452"/>
                  </a:lnTo>
                  <a:lnTo>
                    <a:pt x="284" y="460"/>
                  </a:lnTo>
                  <a:lnTo>
                    <a:pt x="278" y="466"/>
                  </a:lnTo>
                  <a:lnTo>
                    <a:pt x="270" y="474"/>
                  </a:lnTo>
                  <a:lnTo>
                    <a:pt x="262" y="480"/>
                  </a:lnTo>
                  <a:lnTo>
                    <a:pt x="248" y="488"/>
                  </a:lnTo>
                  <a:lnTo>
                    <a:pt x="240" y="496"/>
                  </a:lnTo>
                  <a:lnTo>
                    <a:pt x="234" y="496"/>
                  </a:lnTo>
                  <a:lnTo>
                    <a:pt x="226" y="502"/>
                  </a:lnTo>
                  <a:lnTo>
                    <a:pt x="218" y="510"/>
                  </a:lnTo>
                  <a:lnTo>
                    <a:pt x="212" y="510"/>
                  </a:lnTo>
                  <a:lnTo>
                    <a:pt x="204" y="518"/>
                  </a:lnTo>
                  <a:lnTo>
                    <a:pt x="196" y="518"/>
                  </a:lnTo>
                  <a:lnTo>
                    <a:pt x="190" y="524"/>
                  </a:lnTo>
                  <a:lnTo>
                    <a:pt x="182" y="524"/>
                  </a:lnTo>
                  <a:lnTo>
                    <a:pt x="174" y="532"/>
                  </a:lnTo>
                  <a:lnTo>
                    <a:pt x="168" y="540"/>
                  </a:lnTo>
                  <a:lnTo>
                    <a:pt x="160" y="540"/>
                  </a:lnTo>
                  <a:lnTo>
                    <a:pt x="154" y="546"/>
                  </a:lnTo>
                  <a:lnTo>
                    <a:pt x="146" y="554"/>
                  </a:lnTo>
                  <a:lnTo>
                    <a:pt x="138" y="562"/>
                  </a:lnTo>
                  <a:lnTo>
                    <a:pt x="132" y="562"/>
                  </a:lnTo>
                  <a:lnTo>
                    <a:pt x="124" y="568"/>
                  </a:lnTo>
                  <a:lnTo>
                    <a:pt x="116" y="576"/>
                  </a:lnTo>
                  <a:lnTo>
                    <a:pt x="102" y="584"/>
                  </a:lnTo>
                  <a:lnTo>
                    <a:pt x="94" y="590"/>
                  </a:lnTo>
                  <a:lnTo>
                    <a:pt x="88" y="598"/>
                  </a:lnTo>
                  <a:lnTo>
                    <a:pt x="80" y="604"/>
                  </a:lnTo>
                  <a:lnTo>
                    <a:pt x="72" y="612"/>
                  </a:lnTo>
                  <a:lnTo>
                    <a:pt x="66" y="620"/>
                  </a:lnTo>
                  <a:lnTo>
                    <a:pt x="58" y="626"/>
                  </a:lnTo>
                  <a:lnTo>
                    <a:pt x="50" y="634"/>
                  </a:lnTo>
                  <a:lnTo>
                    <a:pt x="44" y="642"/>
                  </a:lnTo>
                  <a:lnTo>
                    <a:pt x="44" y="648"/>
                  </a:lnTo>
                  <a:lnTo>
                    <a:pt x="36" y="656"/>
                  </a:lnTo>
                  <a:lnTo>
                    <a:pt x="30" y="670"/>
                  </a:lnTo>
                  <a:lnTo>
                    <a:pt x="30" y="678"/>
                  </a:lnTo>
                  <a:lnTo>
                    <a:pt x="22" y="686"/>
                  </a:lnTo>
                  <a:lnTo>
                    <a:pt x="14" y="692"/>
                  </a:lnTo>
                  <a:lnTo>
                    <a:pt x="14" y="700"/>
                  </a:lnTo>
                  <a:lnTo>
                    <a:pt x="14" y="714"/>
                  </a:lnTo>
                  <a:lnTo>
                    <a:pt x="8" y="722"/>
                  </a:lnTo>
                  <a:lnTo>
                    <a:pt x="8" y="730"/>
                  </a:lnTo>
                  <a:lnTo>
                    <a:pt x="8" y="736"/>
                  </a:lnTo>
                  <a:lnTo>
                    <a:pt x="8" y="744"/>
                  </a:lnTo>
                  <a:lnTo>
                    <a:pt x="8" y="750"/>
                  </a:lnTo>
                  <a:lnTo>
                    <a:pt x="8" y="758"/>
                  </a:lnTo>
                  <a:lnTo>
                    <a:pt x="0" y="766"/>
                  </a:lnTo>
                  <a:lnTo>
                    <a:pt x="0" y="772"/>
                  </a:lnTo>
                  <a:lnTo>
                    <a:pt x="0" y="780"/>
                  </a:lnTo>
                  <a:lnTo>
                    <a:pt x="0" y="788"/>
                  </a:lnTo>
                  <a:lnTo>
                    <a:pt x="0" y="794"/>
                  </a:lnTo>
                  <a:lnTo>
                    <a:pt x="0" y="802"/>
                  </a:lnTo>
                  <a:lnTo>
                    <a:pt x="8" y="802"/>
                  </a:lnTo>
                  <a:lnTo>
                    <a:pt x="8" y="810"/>
                  </a:lnTo>
                  <a:lnTo>
                    <a:pt x="8" y="816"/>
                  </a:lnTo>
                  <a:lnTo>
                    <a:pt x="8" y="824"/>
                  </a:lnTo>
                  <a:lnTo>
                    <a:pt x="8" y="832"/>
                  </a:lnTo>
                  <a:lnTo>
                    <a:pt x="8" y="838"/>
                  </a:lnTo>
                  <a:lnTo>
                    <a:pt x="14" y="846"/>
                  </a:lnTo>
                  <a:lnTo>
                    <a:pt x="14" y="854"/>
                  </a:lnTo>
                  <a:lnTo>
                    <a:pt x="14" y="860"/>
                  </a:lnTo>
                  <a:lnTo>
                    <a:pt x="22" y="860"/>
                  </a:lnTo>
                  <a:lnTo>
                    <a:pt x="22" y="868"/>
                  </a:lnTo>
                  <a:lnTo>
                    <a:pt x="30" y="874"/>
                  </a:lnTo>
                  <a:lnTo>
                    <a:pt x="30" y="882"/>
                  </a:lnTo>
                  <a:lnTo>
                    <a:pt x="36" y="890"/>
                  </a:lnTo>
                  <a:lnTo>
                    <a:pt x="36" y="896"/>
                  </a:lnTo>
                  <a:lnTo>
                    <a:pt x="44" y="896"/>
                  </a:lnTo>
                  <a:lnTo>
                    <a:pt x="50" y="904"/>
                  </a:lnTo>
                  <a:lnTo>
                    <a:pt x="58" y="912"/>
                  </a:lnTo>
                  <a:lnTo>
                    <a:pt x="66" y="918"/>
                  </a:lnTo>
                  <a:lnTo>
                    <a:pt x="66" y="926"/>
                  </a:lnTo>
                  <a:lnTo>
                    <a:pt x="72" y="926"/>
                  </a:lnTo>
                  <a:lnTo>
                    <a:pt x="80" y="934"/>
                  </a:lnTo>
                  <a:lnTo>
                    <a:pt x="88" y="934"/>
                  </a:lnTo>
                  <a:lnTo>
                    <a:pt x="94" y="940"/>
                  </a:lnTo>
                  <a:lnTo>
                    <a:pt x="102" y="948"/>
                  </a:lnTo>
                  <a:lnTo>
                    <a:pt x="110" y="948"/>
                  </a:lnTo>
                  <a:lnTo>
                    <a:pt x="116" y="948"/>
                  </a:lnTo>
                  <a:lnTo>
                    <a:pt x="124" y="956"/>
                  </a:lnTo>
                  <a:lnTo>
                    <a:pt x="132" y="956"/>
                  </a:lnTo>
                  <a:lnTo>
                    <a:pt x="138" y="956"/>
                  </a:lnTo>
                  <a:lnTo>
                    <a:pt x="146" y="956"/>
                  </a:lnTo>
                  <a:lnTo>
                    <a:pt x="154" y="962"/>
                  </a:lnTo>
                  <a:lnTo>
                    <a:pt x="160" y="962"/>
                  </a:lnTo>
                  <a:lnTo>
                    <a:pt x="168" y="962"/>
                  </a:lnTo>
                  <a:lnTo>
                    <a:pt x="174" y="962"/>
                  </a:lnTo>
                  <a:lnTo>
                    <a:pt x="182" y="962"/>
                  </a:lnTo>
                  <a:lnTo>
                    <a:pt x="190" y="962"/>
                  </a:lnTo>
                  <a:lnTo>
                    <a:pt x="196" y="962"/>
                  </a:lnTo>
                  <a:lnTo>
                    <a:pt x="204" y="962"/>
                  </a:lnTo>
                  <a:lnTo>
                    <a:pt x="212" y="962"/>
                  </a:lnTo>
                  <a:lnTo>
                    <a:pt x="218" y="956"/>
                  </a:lnTo>
                  <a:lnTo>
                    <a:pt x="226" y="956"/>
                  </a:lnTo>
                  <a:lnTo>
                    <a:pt x="234" y="956"/>
                  </a:lnTo>
                  <a:lnTo>
                    <a:pt x="240" y="948"/>
                  </a:lnTo>
                  <a:lnTo>
                    <a:pt x="248" y="948"/>
                  </a:lnTo>
                  <a:lnTo>
                    <a:pt x="256" y="948"/>
                  </a:lnTo>
                  <a:lnTo>
                    <a:pt x="256" y="940"/>
                  </a:lnTo>
                  <a:lnTo>
                    <a:pt x="262" y="940"/>
                  </a:lnTo>
                  <a:lnTo>
                    <a:pt x="270" y="934"/>
                  </a:lnTo>
                  <a:lnTo>
                    <a:pt x="278" y="934"/>
                  </a:lnTo>
                  <a:lnTo>
                    <a:pt x="284" y="926"/>
                  </a:lnTo>
                  <a:lnTo>
                    <a:pt x="292" y="918"/>
                  </a:lnTo>
                  <a:lnTo>
                    <a:pt x="300" y="918"/>
                  </a:lnTo>
                  <a:lnTo>
                    <a:pt x="300" y="912"/>
                  </a:lnTo>
                  <a:lnTo>
                    <a:pt x="306" y="912"/>
                  </a:lnTo>
                  <a:lnTo>
                    <a:pt x="306" y="904"/>
                  </a:lnTo>
                  <a:lnTo>
                    <a:pt x="314" y="904"/>
                  </a:lnTo>
                  <a:lnTo>
                    <a:pt x="314" y="896"/>
                  </a:lnTo>
                  <a:lnTo>
                    <a:pt x="320" y="896"/>
                  </a:lnTo>
                  <a:lnTo>
                    <a:pt x="320" y="890"/>
                  </a:lnTo>
                  <a:lnTo>
                    <a:pt x="328" y="882"/>
                  </a:lnTo>
                  <a:lnTo>
                    <a:pt x="336" y="874"/>
                  </a:lnTo>
                  <a:lnTo>
                    <a:pt x="336" y="868"/>
                  </a:lnTo>
                  <a:lnTo>
                    <a:pt x="342" y="860"/>
                  </a:lnTo>
                  <a:lnTo>
                    <a:pt x="342" y="854"/>
                  </a:lnTo>
                  <a:lnTo>
                    <a:pt x="342" y="846"/>
                  </a:lnTo>
                  <a:lnTo>
                    <a:pt x="350" y="838"/>
                  </a:lnTo>
                  <a:lnTo>
                    <a:pt x="350" y="832"/>
                  </a:lnTo>
                  <a:lnTo>
                    <a:pt x="350" y="824"/>
                  </a:lnTo>
                  <a:lnTo>
                    <a:pt x="350" y="816"/>
                  </a:lnTo>
                  <a:lnTo>
                    <a:pt x="350" y="810"/>
                  </a:lnTo>
                  <a:lnTo>
                    <a:pt x="350" y="802"/>
                  </a:lnTo>
                  <a:lnTo>
                    <a:pt x="350" y="794"/>
                  </a:lnTo>
                  <a:lnTo>
                    <a:pt x="350" y="788"/>
                  </a:lnTo>
                  <a:lnTo>
                    <a:pt x="350" y="780"/>
                  </a:lnTo>
                  <a:lnTo>
                    <a:pt x="350" y="772"/>
                  </a:lnTo>
                  <a:lnTo>
                    <a:pt x="342" y="772"/>
                  </a:lnTo>
                  <a:lnTo>
                    <a:pt x="342" y="766"/>
                  </a:lnTo>
                  <a:lnTo>
                    <a:pt x="342" y="758"/>
                  </a:lnTo>
                  <a:lnTo>
                    <a:pt x="342" y="750"/>
                  </a:lnTo>
                  <a:lnTo>
                    <a:pt x="336" y="744"/>
                  </a:lnTo>
                  <a:lnTo>
                    <a:pt x="336" y="736"/>
                  </a:lnTo>
                  <a:lnTo>
                    <a:pt x="328" y="736"/>
                  </a:lnTo>
                  <a:lnTo>
                    <a:pt x="328" y="730"/>
                  </a:lnTo>
                  <a:lnTo>
                    <a:pt x="328" y="722"/>
                  </a:lnTo>
                  <a:lnTo>
                    <a:pt x="320" y="714"/>
                  </a:lnTo>
                  <a:lnTo>
                    <a:pt x="314" y="708"/>
                  </a:lnTo>
                  <a:lnTo>
                    <a:pt x="306" y="708"/>
                  </a:lnTo>
                  <a:lnTo>
                    <a:pt x="306" y="700"/>
                  </a:lnTo>
                  <a:lnTo>
                    <a:pt x="300" y="692"/>
                  </a:lnTo>
                  <a:lnTo>
                    <a:pt x="292" y="686"/>
                  </a:lnTo>
                  <a:lnTo>
                    <a:pt x="284" y="686"/>
                  </a:lnTo>
                  <a:lnTo>
                    <a:pt x="278" y="678"/>
                  </a:lnTo>
                  <a:lnTo>
                    <a:pt x="270" y="678"/>
                  </a:lnTo>
                  <a:lnTo>
                    <a:pt x="262" y="670"/>
                  </a:lnTo>
                  <a:lnTo>
                    <a:pt x="256" y="670"/>
                  </a:lnTo>
                  <a:lnTo>
                    <a:pt x="248" y="670"/>
                  </a:lnTo>
                  <a:lnTo>
                    <a:pt x="240" y="670"/>
                  </a:lnTo>
                  <a:lnTo>
                    <a:pt x="234" y="664"/>
                  </a:lnTo>
                  <a:lnTo>
                    <a:pt x="226" y="664"/>
                  </a:lnTo>
                  <a:lnTo>
                    <a:pt x="218" y="664"/>
                  </a:lnTo>
                  <a:lnTo>
                    <a:pt x="212" y="664"/>
                  </a:lnTo>
                  <a:lnTo>
                    <a:pt x="204" y="664"/>
                  </a:lnTo>
                  <a:lnTo>
                    <a:pt x="196" y="664"/>
                  </a:lnTo>
                  <a:lnTo>
                    <a:pt x="190" y="664"/>
                  </a:lnTo>
                  <a:lnTo>
                    <a:pt x="182" y="670"/>
                  </a:lnTo>
                  <a:lnTo>
                    <a:pt x="174" y="670"/>
                  </a:lnTo>
                  <a:lnTo>
                    <a:pt x="168" y="670"/>
                  </a:lnTo>
                  <a:lnTo>
                    <a:pt x="160" y="678"/>
                  </a:lnTo>
                  <a:lnTo>
                    <a:pt x="154" y="678"/>
                  </a:lnTo>
                  <a:lnTo>
                    <a:pt x="146" y="678"/>
                  </a:lnTo>
                  <a:lnTo>
                    <a:pt x="146" y="686"/>
                  </a:lnTo>
                  <a:lnTo>
                    <a:pt x="138" y="686"/>
                  </a:lnTo>
                  <a:lnTo>
                    <a:pt x="132" y="692"/>
                  </a:lnTo>
                  <a:lnTo>
                    <a:pt x="132" y="700"/>
                  </a:lnTo>
                  <a:lnTo>
                    <a:pt x="124" y="700"/>
                  </a:lnTo>
                  <a:lnTo>
                    <a:pt x="116" y="708"/>
                  </a:lnTo>
                  <a:lnTo>
                    <a:pt x="116" y="714"/>
                  </a:lnTo>
                  <a:lnTo>
                    <a:pt x="110" y="714"/>
                  </a:lnTo>
                  <a:lnTo>
                    <a:pt x="110" y="722"/>
                  </a:lnTo>
                  <a:lnTo>
                    <a:pt x="102" y="730"/>
                  </a:lnTo>
                  <a:lnTo>
                    <a:pt x="94" y="736"/>
                  </a:lnTo>
                  <a:lnTo>
                    <a:pt x="94" y="744"/>
                  </a:lnTo>
                  <a:lnTo>
                    <a:pt x="88" y="750"/>
                  </a:lnTo>
                  <a:lnTo>
                    <a:pt x="88" y="758"/>
                  </a:lnTo>
                  <a:lnTo>
                    <a:pt x="88" y="766"/>
                  </a:lnTo>
                  <a:lnTo>
                    <a:pt x="88" y="772"/>
                  </a:lnTo>
                  <a:lnTo>
                    <a:pt x="88" y="780"/>
                  </a:lnTo>
                  <a:lnTo>
                    <a:pt x="88" y="788"/>
                  </a:lnTo>
                  <a:lnTo>
                    <a:pt x="88" y="794"/>
                  </a:lnTo>
                  <a:lnTo>
                    <a:pt x="88" y="802"/>
                  </a:lnTo>
                  <a:lnTo>
                    <a:pt x="88" y="810"/>
                  </a:lnTo>
                  <a:lnTo>
                    <a:pt x="88" y="816"/>
                  </a:lnTo>
                  <a:lnTo>
                    <a:pt x="88" y="824"/>
                  </a:lnTo>
                  <a:lnTo>
                    <a:pt x="94" y="824"/>
                  </a:lnTo>
                  <a:lnTo>
                    <a:pt x="94" y="832"/>
                  </a:lnTo>
                  <a:lnTo>
                    <a:pt x="94" y="838"/>
                  </a:lnTo>
                  <a:lnTo>
                    <a:pt x="102" y="846"/>
                  </a:lnTo>
                  <a:lnTo>
                    <a:pt x="110" y="854"/>
                  </a:lnTo>
                  <a:lnTo>
                    <a:pt x="110" y="860"/>
                  </a:lnTo>
                  <a:lnTo>
                    <a:pt x="116" y="860"/>
                  </a:lnTo>
                  <a:lnTo>
                    <a:pt x="116" y="868"/>
                  </a:lnTo>
                  <a:lnTo>
                    <a:pt x="124" y="868"/>
                  </a:lnTo>
                  <a:lnTo>
                    <a:pt x="124" y="874"/>
                  </a:lnTo>
                  <a:lnTo>
                    <a:pt x="132" y="874"/>
                  </a:lnTo>
                  <a:lnTo>
                    <a:pt x="132" y="882"/>
                  </a:lnTo>
                  <a:lnTo>
                    <a:pt x="138" y="882"/>
                  </a:lnTo>
                  <a:lnTo>
                    <a:pt x="146" y="882"/>
                  </a:lnTo>
                  <a:lnTo>
                    <a:pt x="146" y="890"/>
                  </a:lnTo>
                  <a:lnTo>
                    <a:pt x="154" y="890"/>
                  </a:lnTo>
                  <a:lnTo>
                    <a:pt x="160" y="890"/>
                  </a:lnTo>
                  <a:lnTo>
                    <a:pt x="168" y="890"/>
                  </a:lnTo>
                  <a:lnTo>
                    <a:pt x="174" y="890"/>
                  </a:lnTo>
                  <a:lnTo>
                    <a:pt x="182" y="890"/>
                  </a:lnTo>
                  <a:lnTo>
                    <a:pt x="190" y="890"/>
                  </a:lnTo>
                  <a:lnTo>
                    <a:pt x="196" y="890"/>
                  </a:lnTo>
                  <a:lnTo>
                    <a:pt x="204" y="890"/>
                  </a:lnTo>
                  <a:lnTo>
                    <a:pt x="212" y="882"/>
                  </a:lnTo>
                  <a:lnTo>
                    <a:pt x="218" y="882"/>
                  </a:lnTo>
                  <a:lnTo>
                    <a:pt x="226" y="874"/>
                  </a:lnTo>
                  <a:lnTo>
                    <a:pt x="234" y="874"/>
                  </a:lnTo>
                  <a:lnTo>
                    <a:pt x="234" y="868"/>
                  </a:lnTo>
                  <a:lnTo>
                    <a:pt x="240" y="868"/>
                  </a:lnTo>
                  <a:lnTo>
                    <a:pt x="240" y="860"/>
                  </a:lnTo>
                  <a:lnTo>
                    <a:pt x="248" y="860"/>
                  </a:lnTo>
                  <a:lnTo>
                    <a:pt x="248" y="854"/>
                  </a:lnTo>
                  <a:lnTo>
                    <a:pt x="256" y="854"/>
                  </a:lnTo>
                  <a:lnTo>
                    <a:pt x="256" y="846"/>
                  </a:lnTo>
                  <a:lnTo>
                    <a:pt x="256" y="838"/>
                  </a:lnTo>
                  <a:lnTo>
                    <a:pt x="262" y="838"/>
                  </a:lnTo>
                  <a:lnTo>
                    <a:pt x="262" y="832"/>
                  </a:lnTo>
                  <a:lnTo>
                    <a:pt x="262" y="824"/>
                  </a:lnTo>
                  <a:lnTo>
                    <a:pt x="262" y="816"/>
                  </a:lnTo>
                  <a:lnTo>
                    <a:pt x="262" y="810"/>
                  </a:lnTo>
                  <a:lnTo>
                    <a:pt x="262" y="802"/>
                  </a:lnTo>
                  <a:lnTo>
                    <a:pt x="256" y="802"/>
                  </a:lnTo>
                  <a:lnTo>
                    <a:pt x="256" y="794"/>
                  </a:lnTo>
                  <a:lnTo>
                    <a:pt x="256" y="788"/>
                  </a:lnTo>
                  <a:lnTo>
                    <a:pt x="248" y="788"/>
                  </a:lnTo>
                  <a:lnTo>
                    <a:pt x="248" y="780"/>
                  </a:lnTo>
                  <a:lnTo>
                    <a:pt x="248" y="772"/>
                  </a:lnTo>
                  <a:lnTo>
                    <a:pt x="240" y="772"/>
                  </a:lnTo>
                  <a:lnTo>
                    <a:pt x="240" y="766"/>
                  </a:lnTo>
                  <a:lnTo>
                    <a:pt x="234" y="766"/>
                  </a:lnTo>
                  <a:lnTo>
                    <a:pt x="226" y="766"/>
                  </a:lnTo>
                  <a:lnTo>
                    <a:pt x="226" y="758"/>
                  </a:lnTo>
                  <a:lnTo>
                    <a:pt x="218" y="758"/>
                  </a:lnTo>
                  <a:lnTo>
                    <a:pt x="212" y="758"/>
                  </a:lnTo>
                  <a:lnTo>
                    <a:pt x="204" y="758"/>
                  </a:lnTo>
                  <a:lnTo>
                    <a:pt x="196" y="758"/>
                  </a:lnTo>
                  <a:lnTo>
                    <a:pt x="190" y="758"/>
                  </a:lnTo>
                  <a:lnTo>
                    <a:pt x="182" y="758"/>
                  </a:lnTo>
                  <a:lnTo>
                    <a:pt x="182" y="766"/>
                  </a:lnTo>
                  <a:lnTo>
                    <a:pt x="174" y="766"/>
                  </a:lnTo>
                  <a:lnTo>
                    <a:pt x="168" y="766"/>
                  </a:lnTo>
                  <a:lnTo>
                    <a:pt x="168" y="772"/>
                  </a:lnTo>
                  <a:lnTo>
                    <a:pt x="160" y="772"/>
                  </a:lnTo>
                  <a:lnTo>
                    <a:pt x="182" y="802"/>
                  </a:lnTo>
                  <a:lnTo>
                    <a:pt x="182" y="794"/>
                  </a:lnTo>
                  <a:lnTo>
                    <a:pt x="190" y="794"/>
                  </a:lnTo>
                  <a:lnTo>
                    <a:pt x="196" y="794"/>
                  </a:lnTo>
                  <a:lnTo>
                    <a:pt x="204" y="794"/>
                  </a:lnTo>
                  <a:lnTo>
                    <a:pt x="212" y="794"/>
                  </a:lnTo>
                  <a:lnTo>
                    <a:pt x="218" y="794"/>
                  </a:lnTo>
                  <a:lnTo>
                    <a:pt x="218" y="802"/>
                  </a:lnTo>
                  <a:lnTo>
                    <a:pt x="226" y="802"/>
                  </a:lnTo>
                  <a:lnTo>
                    <a:pt x="226" y="810"/>
                  </a:lnTo>
                  <a:lnTo>
                    <a:pt x="226" y="816"/>
                  </a:lnTo>
                  <a:lnTo>
                    <a:pt x="226" y="824"/>
                  </a:lnTo>
                  <a:lnTo>
                    <a:pt x="226" y="832"/>
                  </a:lnTo>
                  <a:lnTo>
                    <a:pt x="218" y="832"/>
                  </a:lnTo>
                  <a:lnTo>
                    <a:pt x="218" y="838"/>
                  </a:lnTo>
                  <a:lnTo>
                    <a:pt x="212" y="838"/>
                  </a:lnTo>
                  <a:lnTo>
                    <a:pt x="212" y="846"/>
                  </a:lnTo>
                  <a:lnTo>
                    <a:pt x="204" y="846"/>
                  </a:lnTo>
                  <a:lnTo>
                    <a:pt x="204" y="854"/>
                  </a:lnTo>
                  <a:lnTo>
                    <a:pt x="196" y="854"/>
                  </a:lnTo>
                  <a:lnTo>
                    <a:pt x="190" y="854"/>
                  </a:lnTo>
                  <a:lnTo>
                    <a:pt x="190" y="860"/>
                  </a:lnTo>
                  <a:lnTo>
                    <a:pt x="182" y="860"/>
                  </a:lnTo>
                  <a:lnTo>
                    <a:pt x="174" y="860"/>
                  </a:lnTo>
                  <a:lnTo>
                    <a:pt x="168" y="860"/>
                  </a:lnTo>
                  <a:lnTo>
                    <a:pt x="160" y="860"/>
                  </a:lnTo>
                  <a:lnTo>
                    <a:pt x="160" y="854"/>
                  </a:lnTo>
                  <a:lnTo>
                    <a:pt x="154" y="854"/>
                  </a:lnTo>
                  <a:lnTo>
                    <a:pt x="146" y="854"/>
                  </a:lnTo>
                  <a:lnTo>
                    <a:pt x="146" y="846"/>
                  </a:lnTo>
                  <a:lnTo>
                    <a:pt x="146" y="838"/>
                  </a:lnTo>
                  <a:lnTo>
                    <a:pt x="138" y="838"/>
                  </a:lnTo>
                  <a:lnTo>
                    <a:pt x="138" y="832"/>
                  </a:lnTo>
                  <a:lnTo>
                    <a:pt x="132" y="832"/>
                  </a:lnTo>
                  <a:lnTo>
                    <a:pt x="132" y="824"/>
                  </a:lnTo>
                  <a:lnTo>
                    <a:pt x="132" y="816"/>
                  </a:lnTo>
                  <a:lnTo>
                    <a:pt x="124" y="816"/>
                  </a:lnTo>
                  <a:lnTo>
                    <a:pt x="124" y="810"/>
                  </a:lnTo>
                  <a:lnTo>
                    <a:pt x="124" y="802"/>
                  </a:lnTo>
                  <a:lnTo>
                    <a:pt x="116" y="794"/>
                  </a:lnTo>
                  <a:lnTo>
                    <a:pt x="116" y="788"/>
                  </a:lnTo>
                  <a:lnTo>
                    <a:pt x="116" y="780"/>
                  </a:lnTo>
                  <a:lnTo>
                    <a:pt x="116" y="772"/>
                  </a:lnTo>
                  <a:lnTo>
                    <a:pt x="124" y="766"/>
                  </a:lnTo>
                  <a:lnTo>
                    <a:pt x="124" y="758"/>
                  </a:lnTo>
                  <a:lnTo>
                    <a:pt x="124" y="750"/>
                  </a:lnTo>
                  <a:lnTo>
                    <a:pt x="132" y="750"/>
                  </a:lnTo>
                  <a:lnTo>
                    <a:pt x="132" y="744"/>
                  </a:lnTo>
                  <a:lnTo>
                    <a:pt x="132" y="736"/>
                  </a:lnTo>
                  <a:lnTo>
                    <a:pt x="138" y="736"/>
                  </a:lnTo>
                  <a:lnTo>
                    <a:pt x="146" y="730"/>
                  </a:lnTo>
                  <a:lnTo>
                    <a:pt x="154" y="722"/>
                  </a:lnTo>
                  <a:lnTo>
                    <a:pt x="160" y="714"/>
                  </a:lnTo>
                  <a:lnTo>
                    <a:pt x="168" y="708"/>
                  </a:lnTo>
                  <a:lnTo>
                    <a:pt x="174" y="708"/>
                  </a:lnTo>
                  <a:lnTo>
                    <a:pt x="182" y="700"/>
                  </a:lnTo>
                  <a:lnTo>
                    <a:pt x="190" y="700"/>
                  </a:lnTo>
                  <a:lnTo>
                    <a:pt x="196" y="700"/>
                  </a:lnTo>
                  <a:lnTo>
                    <a:pt x="204" y="700"/>
                  </a:lnTo>
                  <a:lnTo>
                    <a:pt x="212" y="700"/>
                  </a:lnTo>
                  <a:lnTo>
                    <a:pt x="218" y="700"/>
                  </a:lnTo>
                  <a:lnTo>
                    <a:pt x="226" y="700"/>
                  </a:lnTo>
                  <a:lnTo>
                    <a:pt x="234" y="700"/>
                  </a:lnTo>
                  <a:lnTo>
                    <a:pt x="240" y="700"/>
                  </a:lnTo>
                  <a:lnTo>
                    <a:pt x="248" y="708"/>
                  </a:lnTo>
                  <a:lnTo>
                    <a:pt x="256" y="708"/>
                  </a:lnTo>
                  <a:lnTo>
                    <a:pt x="262" y="708"/>
                  </a:lnTo>
                  <a:lnTo>
                    <a:pt x="262" y="714"/>
                  </a:lnTo>
                  <a:lnTo>
                    <a:pt x="270" y="714"/>
                  </a:lnTo>
                  <a:lnTo>
                    <a:pt x="278" y="722"/>
                  </a:lnTo>
                  <a:lnTo>
                    <a:pt x="284" y="722"/>
                  </a:lnTo>
                  <a:lnTo>
                    <a:pt x="284" y="730"/>
                  </a:lnTo>
                  <a:lnTo>
                    <a:pt x="292" y="736"/>
                  </a:lnTo>
                  <a:lnTo>
                    <a:pt x="300" y="744"/>
                  </a:lnTo>
                  <a:lnTo>
                    <a:pt x="300" y="750"/>
                  </a:lnTo>
                  <a:lnTo>
                    <a:pt x="306" y="758"/>
                  </a:lnTo>
                  <a:lnTo>
                    <a:pt x="306" y="766"/>
                  </a:lnTo>
                  <a:lnTo>
                    <a:pt x="314" y="772"/>
                  </a:lnTo>
                  <a:lnTo>
                    <a:pt x="314" y="780"/>
                  </a:lnTo>
                  <a:lnTo>
                    <a:pt x="314" y="788"/>
                  </a:lnTo>
                  <a:lnTo>
                    <a:pt x="314" y="794"/>
                  </a:lnTo>
                  <a:lnTo>
                    <a:pt x="314" y="802"/>
                  </a:lnTo>
                  <a:lnTo>
                    <a:pt x="314" y="810"/>
                  </a:lnTo>
                  <a:lnTo>
                    <a:pt x="314" y="816"/>
                  </a:lnTo>
                  <a:lnTo>
                    <a:pt x="314" y="824"/>
                  </a:lnTo>
                  <a:lnTo>
                    <a:pt x="314" y="832"/>
                  </a:lnTo>
                  <a:lnTo>
                    <a:pt x="314" y="838"/>
                  </a:lnTo>
                  <a:lnTo>
                    <a:pt x="314" y="846"/>
                  </a:lnTo>
                  <a:lnTo>
                    <a:pt x="306" y="854"/>
                  </a:lnTo>
                  <a:lnTo>
                    <a:pt x="306" y="860"/>
                  </a:lnTo>
                  <a:lnTo>
                    <a:pt x="300" y="860"/>
                  </a:lnTo>
                  <a:lnTo>
                    <a:pt x="300" y="868"/>
                  </a:lnTo>
                  <a:lnTo>
                    <a:pt x="292" y="868"/>
                  </a:lnTo>
                  <a:lnTo>
                    <a:pt x="292" y="874"/>
                  </a:lnTo>
                  <a:lnTo>
                    <a:pt x="284" y="882"/>
                  </a:lnTo>
                  <a:lnTo>
                    <a:pt x="278" y="882"/>
                  </a:lnTo>
                  <a:lnTo>
                    <a:pt x="278" y="890"/>
                  </a:lnTo>
                  <a:lnTo>
                    <a:pt x="270" y="896"/>
                  </a:lnTo>
                  <a:lnTo>
                    <a:pt x="262" y="896"/>
                  </a:lnTo>
                  <a:lnTo>
                    <a:pt x="262" y="904"/>
                  </a:lnTo>
                  <a:lnTo>
                    <a:pt x="256" y="904"/>
                  </a:lnTo>
                  <a:lnTo>
                    <a:pt x="248" y="912"/>
                  </a:lnTo>
                  <a:lnTo>
                    <a:pt x="240" y="912"/>
                  </a:lnTo>
                  <a:lnTo>
                    <a:pt x="234" y="918"/>
                  </a:lnTo>
                  <a:lnTo>
                    <a:pt x="226" y="918"/>
                  </a:lnTo>
                  <a:lnTo>
                    <a:pt x="218" y="918"/>
                  </a:lnTo>
                  <a:lnTo>
                    <a:pt x="212" y="926"/>
                  </a:lnTo>
                  <a:lnTo>
                    <a:pt x="204" y="926"/>
                  </a:lnTo>
                  <a:lnTo>
                    <a:pt x="196" y="926"/>
                  </a:lnTo>
                  <a:lnTo>
                    <a:pt x="190" y="926"/>
                  </a:lnTo>
                  <a:lnTo>
                    <a:pt x="182" y="926"/>
                  </a:lnTo>
                  <a:lnTo>
                    <a:pt x="174" y="926"/>
                  </a:lnTo>
                  <a:lnTo>
                    <a:pt x="168" y="926"/>
                  </a:lnTo>
                  <a:lnTo>
                    <a:pt x="160" y="926"/>
                  </a:lnTo>
                  <a:lnTo>
                    <a:pt x="154" y="926"/>
                  </a:lnTo>
                  <a:lnTo>
                    <a:pt x="146" y="926"/>
                  </a:lnTo>
                  <a:lnTo>
                    <a:pt x="138" y="926"/>
                  </a:lnTo>
                  <a:lnTo>
                    <a:pt x="132" y="918"/>
                  </a:lnTo>
                  <a:lnTo>
                    <a:pt x="124" y="918"/>
                  </a:lnTo>
                  <a:lnTo>
                    <a:pt x="116" y="912"/>
                  </a:lnTo>
                  <a:lnTo>
                    <a:pt x="110" y="912"/>
                  </a:lnTo>
                  <a:lnTo>
                    <a:pt x="102" y="904"/>
                  </a:lnTo>
                  <a:lnTo>
                    <a:pt x="94" y="904"/>
                  </a:lnTo>
                  <a:lnTo>
                    <a:pt x="94" y="896"/>
                  </a:lnTo>
                  <a:lnTo>
                    <a:pt x="88" y="896"/>
                  </a:lnTo>
                  <a:lnTo>
                    <a:pt x="80" y="890"/>
                  </a:lnTo>
                  <a:lnTo>
                    <a:pt x="72" y="882"/>
                  </a:lnTo>
                  <a:lnTo>
                    <a:pt x="72" y="874"/>
                  </a:lnTo>
                  <a:lnTo>
                    <a:pt x="66" y="868"/>
                  </a:lnTo>
                  <a:lnTo>
                    <a:pt x="58" y="868"/>
                  </a:lnTo>
                  <a:lnTo>
                    <a:pt x="58" y="860"/>
                  </a:lnTo>
                  <a:lnTo>
                    <a:pt x="58" y="854"/>
                  </a:lnTo>
                  <a:lnTo>
                    <a:pt x="50" y="854"/>
                  </a:lnTo>
                  <a:lnTo>
                    <a:pt x="50" y="846"/>
                  </a:lnTo>
                  <a:lnTo>
                    <a:pt x="50" y="838"/>
                  </a:lnTo>
                  <a:lnTo>
                    <a:pt x="44" y="838"/>
                  </a:lnTo>
                  <a:lnTo>
                    <a:pt x="44" y="832"/>
                  </a:lnTo>
                  <a:lnTo>
                    <a:pt x="44" y="824"/>
                  </a:lnTo>
                  <a:lnTo>
                    <a:pt x="44" y="816"/>
                  </a:lnTo>
                  <a:lnTo>
                    <a:pt x="36" y="816"/>
                  </a:lnTo>
                  <a:lnTo>
                    <a:pt x="36" y="810"/>
                  </a:lnTo>
                  <a:lnTo>
                    <a:pt x="36" y="802"/>
                  </a:lnTo>
                  <a:lnTo>
                    <a:pt x="36" y="794"/>
                  </a:lnTo>
                  <a:lnTo>
                    <a:pt x="36" y="788"/>
                  </a:lnTo>
                  <a:lnTo>
                    <a:pt x="36" y="780"/>
                  </a:lnTo>
                  <a:lnTo>
                    <a:pt x="36" y="772"/>
                  </a:lnTo>
                  <a:lnTo>
                    <a:pt x="36" y="766"/>
                  </a:lnTo>
                  <a:lnTo>
                    <a:pt x="36" y="758"/>
                  </a:lnTo>
                  <a:lnTo>
                    <a:pt x="36" y="750"/>
                  </a:lnTo>
                  <a:lnTo>
                    <a:pt x="36" y="744"/>
                  </a:lnTo>
                  <a:lnTo>
                    <a:pt x="44" y="744"/>
                  </a:lnTo>
                  <a:lnTo>
                    <a:pt x="44" y="736"/>
                  </a:lnTo>
                  <a:lnTo>
                    <a:pt x="44" y="730"/>
                  </a:lnTo>
                  <a:lnTo>
                    <a:pt x="44" y="722"/>
                  </a:lnTo>
                  <a:lnTo>
                    <a:pt x="44" y="714"/>
                  </a:lnTo>
                  <a:lnTo>
                    <a:pt x="50" y="714"/>
                  </a:lnTo>
                  <a:lnTo>
                    <a:pt x="50" y="708"/>
                  </a:lnTo>
                  <a:lnTo>
                    <a:pt x="50" y="700"/>
                  </a:lnTo>
                  <a:lnTo>
                    <a:pt x="58" y="692"/>
                  </a:lnTo>
                  <a:lnTo>
                    <a:pt x="66" y="686"/>
                  </a:lnTo>
                  <a:lnTo>
                    <a:pt x="66" y="678"/>
                  </a:lnTo>
                  <a:lnTo>
                    <a:pt x="72" y="670"/>
                  </a:lnTo>
                  <a:lnTo>
                    <a:pt x="72" y="664"/>
                  </a:lnTo>
                  <a:lnTo>
                    <a:pt x="80" y="656"/>
                  </a:lnTo>
                  <a:lnTo>
                    <a:pt x="88" y="656"/>
                  </a:lnTo>
                  <a:lnTo>
                    <a:pt x="94" y="648"/>
                  </a:lnTo>
                  <a:lnTo>
                    <a:pt x="94" y="642"/>
                  </a:lnTo>
                  <a:lnTo>
                    <a:pt x="102" y="634"/>
                  </a:lnTo>
                  <a:lnTo>
                    <a:pt x="110" y="626"/>
                  </a:lnTo>
                  <a:lnTo>
                    <a:pt x="116" y="620"/>
                  </a:lnTo>
                  <a:lnTo>
                    <a:pt x="124" y="612"/>
                  </a:lnTo>
                  <a:lnTo>
                    <a:pt x="132" y="604"/>
                  </a:lnTo>
                  <a:lnTo>
                    <a:pt x="138" y="604"/>
                  </a:lnTo>
                  <a:lnTo>
                    <a:pt x="146" y="598"/>
                  </a:lnTo>
                  <a:lnTo>
                    <a:pt x="154" y="590"/>
                  </a:lnTo>
                  <a:lnTo>
                    <a:pt x="160" y="584"/>
                  </a:lnTo>
                  <a:lnTo>
                    <a:pt x="168" y="576"/>
                  </a:lnTo>
                  <a:lnTo>
                    <a:pt x="174" y="568"/>
                  </a:lnTo>
                  <a:lnTo>
                    <a:pt x="182" y="568"/>
                  </a:lnTo>
                  <a:lnTo>
                    <a:pt x="196" y="562"/>
                  </a:lnTo>
                  <a:lnTo>
                    <a:pt x="204" y="554"/>
                  </a:lnTo>
                  <a:lnTo>
                    <a:pt x="212" y="546"/>
                  </a:lnTo>
                  <a:lnTo>
                    <a:pt x="218" y="546"/>
                  </a:lnTo>
                  <a:lnTo>
                    <a:pt x="234" y="540"/>
                  </a:lnTo>
                  <a:lnTo>
                    <a:pt x="240" y="532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9528120" y="35728200"/>
              <a:ext cx="695160" cy="151740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517400"/>
                <a:gd name="textAreaBottom" fmla="*/ 1517760 h 1517400"/>
              </a:gdLst>
              <a:ahLst/>
              <a:rect l="textAreaLeft" t="textAreaTop" r="textAreaRight" b="textAreaBottom"/>
              <a:pathLst>
                <a:path w="438" h="956">
                  <a:moveTo>
                    <a:pt x="240" y="424"/>
                  </a:moveTo>
                  <a:lnTo>
                    <a:pt x="248" y="430"/>
                  </a:lnTo>
                  <a:lnTo>
                    <a:pt x="262" y="438"/>
                  </a:lnTo>
                  <a:lnTo>
                    <a:pt x="270" y="438"/>
                  </a:lnTo>
                  <a:lnTo>
                    <a:pt x="278" y="444"/>
                  </a:lnTo>
                  <a:lnTo>
                    <a:pt x="292" y="452"/>
                  </a:lnTo>
                  <a:lnTo>
                    <a:pt x="300" y="460"/>
                  </a:lnTo>
                  <a:lnTo>
                    <a:pt x="306" y="466"/>
                  </a:lnTo>
                  <a:lnTo>
                    <a:pt x="314" y="482"/>
                  </a:lnTo>
                  <a:lnTo>
                    <a:pt x="328" y="488"/>
                  </a:lnTo>
                  <a:lnTo>
                    <a:pt x="336" y="496"/>
                  </a:lnTo>
                  <a:lnTo>
                    <a:pt x="342" y="504"/>
                  </a:lnTo>
                  <a:lnTo>
                    <a:pt x="350" y="518"/>
                  </a:lnTo>
                  <a:lnTo>
                    <a:pt x="358" y="526"/>
                  </a:lnTo>
                  <a:lnTo>
                    <a:pt x="364" y="532"/>
                  </a:lnTo>
                  <a:lnTo>
                    <a:pt x="380" y="548"/>
                  </a:lnTo>
                  <a:lnTo>
                    <a:pt x="386" y="554"/>
                  </a:lnTo>
                  <a:lnTo>
                    <a:pt x="386" y="568"/>
                  </a:lnTo>
                  <a:lnTo>
                    <a:pt x="394" y="576"/>
                  </a:lnTo>
                  <a:lnTo>
                    <a:pt x="402" y="590"/>
                  </a:lnTo>
                  <a:lnTo>
                    <a:pt x="408" y="598"/>
                  </a:lnTo>
                  <a:lnTo>
                    <a:pt x="416" y="612"/>
                  </a:lnTo>
                  <a:lnTo>
                    <a:pt x="416" y="628"/>
                  </a:lnTo>
                  <a:lnTo>
                    <a:pt x="424" y="634"/>
                  </a:lnTo>
                  <a:lnTo>
                    <a:pt x="424" y="650"/>
                  </a:lnTo>
                  <a:lnTo>
                    <a:pt x="430" y="664"/>
                  </a:lnTo>
                  <a:lnTo>
                    <a:pt x="430" y="672"/>
                  </a:lnTo>
                  <a:lnTo>
                    <a:pt x="430" y="686"/>
                  </a:lnTo>
                  <a:lnTo>
                    <a:pt x="430" y="700"/>
                  </a:lnTo>
                  <a:lnTo>
                    <a:pt x="438" y="708"/>
                  </a:lnTo>
                  <a:lnTo>
                    <a:pt x="430" y="722"/>
                  </a:lnTo>
                  <a:lnTo>
                    <a:pt x="430" y="736"/>
                  </a:lnTo>
                  <a:lnTo>
                    <a:pt x="430" y="744"/>
                  </a:lnTo>
                  <a:lnTo>
                    <a:pt x="430" y="758"/>
                  </a:lnTo>
                  <a:lnTo>
                    <a:pt x="430" y="766"/>
                  </a:lnTo>
                  <a:lnTo>
                    <a:pt x="424" y="774"/>
                  </a:lnTo>
                  <a:lnTo>
                    <a:pt x="424" y="780"/>
                  </a:lnTo>
                  <a:lnTo>
                    <a:pt x="424" y="788"/>
                  </a:lnTo>
                  <a:lnTo>
                    <a:pt x="416" y="802"/>
                  </a:lnTo>
                  <a:lnTo>
                    <a:pt x="416" y="810"/>
                  </a:lnTo>
                  <a:lnTo>
                    <a:pt x="408" y="818"/>
                  </a:lnTo>
                  <a:lnTo>
                    <a:pt x="408" y="824"/>
                  </a:lnTo>
                  <a:lnTo>
                    <a:pt x="402" y="832"/>
                  </a:lnTo>
                  <a:lnTo>
                    <a:pt x="402" y="838"/>
                  </a:lnTo>
                  <a:lnTo>
                    <a:pt x="394" y="838"/>
                  </a:lnTo>
                  <a:lnTo>
                    <a:pt x="386" y="846"/>
                  </a:lnTo>
                  <a:lnTo>
                    <a:pt x="386" y="854"/>
                  </a:lnTo>
                  <a:lnTo>
                    <a:pt x="380" y="860"/>
                  </a:lnTo>
                  <a:lnTo>
                    <a:pt x="372" y="868"/>
                  </a:lnTo>
                  <a:lnTo>
                    <a:pt x="364" y="876"/>
                  </a:lnTo>
                  <a:lnTo>
                    <a:pt x="358" y="882"/>
                  </a:lnTo>
                  <a:lnTo>
                    <a:pt x="350" y="890"/>
                  </a:lnTo>
                  <a:lnTo>
                    <a:pt x="342" y="898"/>
                  </a:lnTo>
                  <a:lnTo>
                    <a:pt x="336" y="898"/>
                  </a:lnTo>
                  <a:lnTo>
                    <a:pt x="336" y="904"/>
                  </a:lnTo>
                  <a:lnTo>
                    <a:pt x="328" y="904"/>
                  </a:lnTo>
                  <a:lnTo>
                    <a:pt x="320" y="912"/>
                  </a:lnTo>
                  <a:lnTo>
                    <a:pt x="314" y="912"/>
                  </a:lnTo>
                  <a:lnTo>
                    <a:pt x="314" y="920"/>
                  </a:lnTo>
                  <a:lnTo>
                    <a:pt x="306" y="920"/>
                  </a:lnTo>
                  <a:lnTo>
                    <a:pt x="300" y="926"/>
                  </a:lnTo>
                  <a:lnTo>
                    <a:pt x="292" y="926"/>
                  </a:lnTo>
                  <a:lnTo>
                    <a:pt x="284" y="934"/>
                  </a:lnTo>
                  <a:lnTo>
                    <a:pt x="278" y="934"/>
                  </a:lnTo>
                  <a:lnTo>
                    <a:pt x="270" y="942"/>
                  </a:lnTo>
                  <a:lnTo>
                    <a:pt x="262" y="942"/>
                  </a:lnTo>
                  <a:lnTo>
                    <a:pt x="256" y="942"/>
                  </a:lnTo>
                  <a:lnTo>
                    <a:pt x="248" y="948"/>
                  </a:lnTo>
                  <a:lnTo>
                    <a:pt x="240" y="948"/>
                  </a:lnTo>
                  <a:lnTo>
                    <a:pt x="234" y="948"/>
                  </a:lnTo>
                  <a:lnTo>
                    <a:pt x="226" y="948"/>
                  </a:lnTo>
                  <a:lnTo>
                    <a:pt x="218" y="956"/>
                  </a:lnTo>
                  <a:lnTo>
                    <a:pt x="212" y="956"/>
                  </a:lnTo>
                  <a:lnTo>
                    <a:pt x="204" y="956"/>
                  </a:lnTo>
                  <a:lnTo>
                    <a:pt x="196" y="956"/>
                  </a:lnTo>
                  <a:lnTo>
                    <a:pt x="190" y="956"/>
                  </a:lnTo>
                  <a:lnTo>
                    <a:pt x="182" y="956"/>
                  </a:lnTo>
                  <a:lnTo>
                    <a:pt x="174" y="956"/>
                  </a:lnTo>
                  <a:lnTo>
                    <a:pt x="168" y="956"/>
                  </a:lnTo>
                  <a:lnTo>
                    <a:pt x="160" y="956"/>
                  </a:lnTo>
                  <a:lnTo>
                    <a:pt x="154" y="948"/>
                  </a:lnTo>
                  <a:lnTo>
                    <a:pt x="146" y="948"/>
                  </a:lnTo>
                  <a:lnTo>
                    <a:pt x="138" y="948"/>
                  </a:lnTo>
                  <a:lnTo>
                    <a:pt x="132" y="948"/>
                  </a:lnTo>
                  <a:lnTo>
                    <a:pt x="124" y="948"/>
                  </a:lnTo>
                  <a:lnTo>
                    <a:pt x="124" y="942"/>
                  </a:lnTo>
                  <a:lnTo>
                    <a:pt x="116" y="942"/>
                  </a:lnTo>
                  <a:lnTo>
                    <a:pt x="110" y="942"/>
                  </a:lnTo>
                  <a:lnTo>
                    <a:pt x="102" y="934"/>
                  </a:lnTo>
                  <a:lnTo>
                    <a:pt x="94" y="934"/>
                  </a:lnTo>
                  <a:lnTo>
                    <a:pt x="88" y="926"/>
                  </a:lnTo>
                  <a:lnTo>
                    <a:pt x="80" y="920"/>
                  </a:lnTo>
                  <a:lnTo>
                    <a:pt x="72" y="920"/>
                  </a:lnTo>
                  <a:lnTo>
                    <a:pt x="66" y="912"/>
                  </a:lnTo>
                  <a:lnTo>
                    <a:pt x="66" y="904"/>
                  </a:lnTo>
                  <a:lnTo>
                    <a:pt x="58" y="898"/>
                  </a:lnTo>
                  <a:lnTo>
                    <a:pt x="50" y="890"/>
                  </a:lnTo>
                  <a:lnTo>
                    <a:pt x="44" y="882"/>
                  </a:lnTo>
                  <a:lnTo>
                    <a:pt x="44" y="876"/>
                  </a:lnTo>
                  <a:lnTo>
                    <a:pt x="36" y="868"/>
                  </a:lnTo>
                  <a:lnTo>
                    <a:pt x="36" y="860"/>
                  </a:lnTo>
                  <a:lnTo>
                    <a:pt x="30" y="854"/>
                  </a:lnTo>
                  <a:lnTo>
                    <a:pt x="30" y="846"/>
                  </a:lnTo>
                  <a:lnTo>
                    <a:pt x="30" y="838"/>
                  </a:lnTo>
                  <a:lnTo>
                    <a:pt x="22" y="832"/>
                  </a:lnTo>
                  <a:lnTo>
                    <a:pt x="22" y="824"/>
                  </a:lnTo>
                  <a:lnTo>
                    <a:pt x="22" y="818"/>
                  </a:lnTo>
                  <a:lnTo>
                    <a:pt x="22" y="810"/>
                  </a:lnTo>
                  <a:lnTo>
                    <a:pt x="22" y="802"/>
                  </a:lnTo>
                  <a:lnTo>
                    <a:pt x="14" y="796"/>
                  </a:lnTo>
                  <a:lnTo>
                    <a:pt x="14" y="788"/>
                  </a:lnTo>
                  <a:lnTo>
                    <a:pt x="22" y="780"/>
                  </a:lnTo>
                  <a:lnTo>
                    <a:pt x="22" y="774"/>
                  </a:lnTo>
                  <a:lnTo>
                    <a:pt x="22" y="766"/>
                  </a:lnTo>
                  <a:lnTo>
                    <a:pt x="22" y="758"/>
                  </a:lnTo>
                  <a:lnTo>
                    <a:pt x="22" y="752"/>
                  </a:lnTo>
                  <a:lnTo>
                    <a:pt x="22" y="744"/>
                  </a:lnTo>
                  <a:lnTo>
                    <a:pt x="30" y="736"/>
                  </a:lnTo>
                  <a:lnTo>
                    <a:pt x="30" y="730"/>
                  </a:lnTo>
                  <a:lnTo>
                    <a:pt x="36" y="722"/>
                  </a:lnTo>
                  <a:lnTo>
                    <a:pt x="36" y="714"/>
                  </a:lnTo>
                  <a:lnTo>
                    <a:pt x="44" y="708"/>
                  </a:lnTo>
                  <a:lnTo>
                    <a:pt x="44" y="700"/>
                  </a:lnTo>
                  <a:lnTo>
                    <a:pt x="50" y="700"/>
                  </a:lnTo>
                  <a:lnTo>
                    <a:pt x="50" y="692"/>
                  </a:lnTo>
                  <a:lnTo>
                    <a:pt x="58" y="686"/>
                  </a:lnTo>
                  <a:lnTo>
                    <a:pt x="66" y="686"/>
                  </a:lnTo>
                  <a:lnTo>
                    <a:pt x="66" y="678"/>
                  </a:lnTo>
                  <a:lnTo>
                    <a:pt x="72" y="672"/>
                  </a:lnTo>
                  <a:lnTo>
                    <a:pt x="80" y="672"/>
                  </a:lnTo>
                  <a:lnTo>
                    <a:pt x="80" y="664"/>
                  </a:lnTo>
                  <a:lnTo>
                    <a:pt x="88" y="664"/>
                  </a:lnTo>
                  <a:lnTo>
                    <a:pt x="94" y="656"/>
                  </a:lnTo>
                  <a:lnTo>
                    <a:pt x="102" y="650"/>
                  </a:lnTo>
                  <a:lnTo>
                    <a:pt x="110" y="650"/>
                  </a:lnTo>
                  <a:lnTo>
                    <a:pt x="116" y="650"/>
                  </a:lnTo>
                  <a:lnTo>
                    <a:pt x="124" y="642"/>
                  </a:lnTo>
                  <a:lnTo>
                    <a:pt x="132" y="642"/>
                  </a:lnTo>
                  <a:lnTo>
                    <a:pt x="138" y="642"/>
                  </a:lnTo>
                  <a:lnTo>
                    <a:pt x="146" y="642"/>
                  </a:lnTo>
                  <a:lnTo>
                    <a:pt x="154" y="642"/>
                  </a:lnTo>
                  <a:lnTo>
                    <a:pt x="160" y="642"/>
                  </a:lnTo>
                  <a:lnTo>
                    <a:pt x="168" y="642"/>
                  </a:lnTo>
                  <a:lnTo>
                    <a:pt x="182" y="642"/>
                  </a:lnTo>
                  <a:lnTo>
                    <a:pt x="190" y="642"/>
                  </a:lnTo>
                  <a:lnTo>
                    <a:pt x="196" y="642"/>
                  </a:lnTo>
                  <a:lnTo>
                    <a:pt x="204" y="642"/>
                  </a:lnTo>
                  <a:lnTo>
                    <a:pt x="212" y="650"/>
                  </a:lnTo>
                  <a:lnTo>
                    <a:pt x="218" y="650"/>
                  </a:lnTo>
                  <a:lnTo>
                    <a:pt x="226" y="650"/>
                  </a:lnTo>
                  <a:lnTo>
                    <a:pt x="234" y="650"/>
                  </a:lnTo>
                  <a:lnTo>
                    <a:pt x="240" y="656"/>
                  </a:lnTo>
                  <a:lnTo>
                    <a:pt x="248" y="664"/>
                  </a:lnTo>
                  <a:lnTo>
                    <a:pt x="256" y="664"/>
                  </a:lnTo>
                  <a:lnTo>
                    <a:pt x="256" y="672"/>
                  </a:lnTo>
                  <a:lnTo>
                    <a:pt x="262" y="672"/>
                  </a:lnTo>
                  <a:lnTo>
                    <a:pt x="270" y="678"/>
                  </a:lnTo>
                  <a:lnTo>
                    <a:pt x="278" y="686"/>
                  </a:lnTo>
                  <a:lnTo>
                    <a:pt x="284" y="692"/>
                  </a:lnTo>
                  <a:lnTo>
                    <a:pt x="284" y="700"/>
                  </a:lnTo>
                  <a:lnTo>
                    <a:pt x="292" y="708"/>
                  </a:lnTo>
                  <a:lnTo>
                    <a:pt x="292" y="714"/>
                  </a:lnTo>
                  <a:lnTo>
                    <a:pt x="292" y="722"/>
                  </a:lnTo>
                  <a:lnTo>
                    <a:pt x="300" y="730"/>
                  </a:lnTo>
                  <a:lnTo>
                    <a:pt x="300" y="736"/>
                  </a:lnTo>
                  <a:lnTo>
                    <a:pt x="300" y="744"/>
                  </a:lnTo>
                  <a:lnTo>
                    <a:pt x="300" y="752"/>
                  </a:lnTo>
                  <a:lnTo>
                    <a:pt x="300" y="758"/>
                  </a:lnTo>
                  <a:lnTo>
                    <a:pt x="300" y="766"/>
                  </a:lnTo>
                  <a:lnTo>
                    <a:pt x="300" y="774"/>
                  </a:lnTo>
                  <a:lnTo>
                    <a:pt x="300" y="780"/>
                  </a:lnTo>
                  <a:lnTo>
                    <a:pt x="300" y="788"/>
                  </a:lnTo>
                  <a:lnTo>
                    <a:pt x="300" y="796"/>
                  </a:lnTo>
                  <a:lnTo>
                    <a:pt x="300" y="802"/>
                  </a:lnTo>
                  <a:lnTo>
                    <a:pt x="300" y="810"/>
                  </a:lnTo>
                  <a:lnTo>
                    <a:pt x="300" y="818"/>
                  </a:lnTo>
                  <a:lnTo>
                    <a:pt x="292" y="818"/>
                  </a:lnTo>
                  <a:lnTo>
                    <a:pt x="292" y="824"/>
                  </a:lnTo>
                  <a:lnTo>
                    <a:pt x="284" y="832"/>
                  </a:lnTo>
                  <a:lnTo>
                    <a:pt x="284" y="838"/>
                  </a:lnTo>
                  <a:lnTo>
                    <a:pt x="278" y="838"/>
                  </a:lnTo>
                  <a:lnTo>
                    <a:pt x="278" y="846"/>
                  </a:lnTo>
                  <a:lnTo>
                    <a:pt x="270" y="846"/>
                  </a:lnTo>
                  <a:lnTo>
                    <a:pt x="262" y="854"/>
                  </a:lnTo>
                  <a:lnTo>
                    <a:pt x="256" y="854"/>
                  </a:lnTo>
                  <a:lnTo>
                    <a:pt x="256" y="860"/>
                  </a:lnTo>
                  <a:lnTo>
                    <a:pt x="248" y="860"/>
                  </a:lnTo>
                  <a:lnTo>
                    <a:pt x="240" y="860"/>
                  </a:lnTo>
                  <a:lnTo>
                    <a:pt x="234" y="860"/>
                  </a:lnTo>
                  <a:lnTo>
                    <a:pt x="234" y="868"/>
                  </a:lnTo>
                  <a:lnTo>
                    <a:pt x="226" y="868"/>
                  </a:lnTo>
                  <a:lnTo>
                    <a:pt x="218" y="868"/>
                  </a:lnTo>
                  <a:lnTo>
                    <a:pt x="212" y="868"/>
                  </a:lnTo>
                  <a:lnTo>
                    <a:pt x="204" y="868"/>
                  </a:lnTo>
                  <a:lnTo>
                    <a:pt x="196" y="868"/>
                  </a:lnTo>
                  <a:lnTo>
                    <a:pt x="190" y="868"/>
                  </a:lnTo>
                  <a:lnTo>
                    <a:pt x="182" y="868"/>
                  </a:lnTo>
                  <a:lnTo>
                    <a:pt x="174" y="860"/>
                  </a:lnTo>
                  <a:lnTo>
                    <a:pt x="168" y="860"/>
                  </a:lnTo>
                  <a:lnTo>
                    <a:pt x="160" y="860"/>
                  </a:lnTo>
                  <a:lnTo>
                    <a:pt x="160" y="854"/>
                  </a:lnTo>
                  <a:lnTo>
                    <a:pt x="154" y="854"/>
                  </a:lnTo>
                  <a:lnTo>
                    <a:pt x="154" y="846"/>
                  </a:lnTo>
                  <a:lnTo>
                    <a:pt x="146" y="846"/>
                  </a:lnTo>
                  <a:lnTo>
                    <a:pt x="146" y="838"/>
                  </a:lnTo>
                  <a:lnTo>
                    <a:pt x="138" y="838"/>
                  </a:lnTo>
                  <a:lnTo>
                    <a:pt x="138" y="832"/>
                  </a:lnTo>
                  <a:lnTo>
                    <a:pt x="138" y="824"/>
                  </a:lnTo>
                  <a:lnTo>
                    <a:pt x="132" y="824"/>
                  </a:lnTo>
                  <a:lnTo>
                    <a:pt x="132" y="818"/>
                  </a:lnTo>
                  <a:lnTo>
                    <a:pt x="132" y="810"/>
                  </a:lnTo>
                  <a:lnTo>
                    <a:pt x="132" y="802"/>
                  </a:lnTo>
                  <a:lnTo>
                    <a:pt x="132" y="796"/>
                  </a:lnTo>
                  <a:lnTo>
                    <a:pt x="132" y="788"/>
                  </a:lnTo>
                  <a:lnTo>
                    <a:pt x="132" y="780"/>
                  </a:lnTo>
                  <a:lnTo>
                    <a:pt x="132" y="774"/>
                  </a:lnTo>
                  <a:lnTo>
                    <a:pt x="132" y="766"/>
                  </a:lnTo>
                  <a:lnTo>
                    <a:pt x="138" y="766"/>
                  </a:lnTo>
                  <a:lnTo>
                    <a:pt x="138" y="758"/>
                  </a:lnTo>
                  <a:lnTo>
                    <a:pt x="146" y="758"/>
                  </a:lnTo>
                  <a:lnTo>
                    <a:pt x="146" y="752"/>
                  </a:lnTo>
                  <a:lnTo>
                    <a:pt x="154" y="752"/>
                  </a:lnTo>
                  <a:lnTo>
                    <a:pt x="154" y="744"/>
                  </a:lnTo>
                  <a:lnTo>
                    <a:pt x="160" y="744"/>
                  </a:lnTo>
                  <a:lnTo>
                    <a:pt x="168" y="736"/>
                  </a:lnTo>
                  <a:lnTo>
                    <a:pt x="174" y="736"/>
                  </a:lnTo>
                  <a:lnTo>
                    <a:pt x="182" y="736"/>
                  </a:lnTo>
                  <a:lnTo>
                    <a:pt x="190" y="736"/>
                  </a:lnTo>
                  <a:lnTo>
                    <a:pt x="190" y="730"/>
                  </a:lnTo>
                  <a:lnTo>
                    <a:pt x="196" y="730"/>
                  </a:lnTo>
                  <a:lnTo>
                    <a:pt x="204" y="730"/>
                  </a:lnTo>
                  <a:lnTo>
                    <a:pt x="204" y="766"/>
                  </a:lnTo>
                  <a:lnTo>
                    <a:pt x="196" y="766"/>
                  </a:lnTo>
                  <a:lnTo>
                    <a:pt x="190" y="766"/>
                  </a:lnTo>
                  <a:lnTo>
                    <a:pt x="182" y="766"/>
                  </a:lnTo>
                  <a:lnTo>
                    <a:pt x="182" y="774"/>
                  </a:lnTo>
                  <a:lnTo>
                    <a:pt x="174" y="774"/>
                  </a:lnTo>
                  <a:lnTo>
                    <a:pt x="168" y="774"/>
                  </a:lnTo>
                  <a:lnTo>
                    <a:pt x="168" y="780"/>
                  </a:lnTo>
                  <a:lnTo>
                    <a:pt x="168" y="788"/>
                  </a:lnTo>
                  <a:lnTo>
                    <a:pt x="160" y="788"/>
                  </a:lnTo>
                  <a:lnTo>
                    <a:pt x="160" y="796"/>
                  </a:lnTo>
                  <a:lnTo>
                    <a:pt x="160" y="802"/>
                  </a:lnTo>
                  <a:lnTo>
                    <a:pt x="160" y="810"/>
                  </a:lnTo>
                  <a:lnTo>
                    <a:pt x="168" y="810"/>
                  </a:lnTo>
                  <a:lnTo>
                    <a:pt x="168" y="818"/>
                  </a:lnTo>
                  <a:lnTo>
                    <a:pt x="174" y="824"/>
                  </a:lnTo>
                  <a:lnTo>
                    <a:pt x="182" y="824"/>
                  </a:lnTo>
                  <a:lnTo>
                    <a:pt x="182" y="832"/>
                  </a:lnTo>
                  <a:lnTo>
                    <a:pt x="190" y="832"/>
                  </a:lnTo>
                  <a:lnTo>
                    <a:pt x="196" y="832"/>
                  </a:lnTo>
                  <a:lnTo>
                    <a:pt x="204" y="832"/>
                  </a:lnTo>
                  <a:lnTo>
                    <a:pt x="212" y="832"/>
                  </a:lnTo>
                  <a:lnTo>
                    <a:pt x="218" y="832"/>
                  </a:lnTo>
                  <a:lnTo>
                    <a:pt x="226" y="832"/>
                  </a:lnTo>
                  <a:lnTo>
                    <a:pt x="234" y="832"/>
                  </a:lnTo>
                  <a:lnTo>
                    <a:pt x="234" y="824"/>
                  </a:lnTo>
                  <a:lnTo>
                    <a:pt x="240" y="824"/>
                  </a:lnTo>
                  <a:lnTo>
                    <a:pt x="248" y="824"/>
                  </a:lnTo>
                  <a:lnTo>
                    <a:pt x="248" y="818"/>
                  </a:lnTo>
                  <a:lnTo>
                    <a:pt x="256" y="818"/>
                  </a:lnTo>
                  <a:lnTo>
                    <a:pt x="256" y="810"/>
                  </a:lnTo>
                  <a:lnTo>
                    <a:pt x="262" y="810"/>
                  </a:lnTo>
                  <a:lnTo>
                    <a:pt x="262" y="802"/>
                  </a:lnTo>
                  <a:lnTo>
                    <a:pt x="262" y="796"/>
                  </a:lnTo>
                  <a:lnTo>
                    <a:pt x="270" y="796"/>
                  </a:lnTo>
                  <a:lnTo>
                    <a:pt x="270" y="788"/>
                  </a:lnTo>
                  <a:lnTo>
                    <a:pt x="270" y="780"/>
                  </a:lnTo>
                  <a:lnTo>
                    <a:pt x="270" y="774"/>
                  </a:lnTo>
                  <a:lnTo>
                    <a:pt x="270" y="766"/>
                  </a:lnTo>
                  <a:lnTo>
                    <a:pt x="270" y="758"/>
                  </a:lnTo>
                  <a:lnTo>
                    <a:pt x="270" y="752"/>
                  </a:lnTo>
                  <a:lnTo>
                    <a:pt x="270" y="744"/>
                  </a:lnTo>
                  <a:lnTo>
                    <a:pt x="262" y="736"/>
                  </a:lnTo>
                  <a:lnTo>
                    <a:pt x="262" y="730"/>
                  </a:lnTo>
                  <a:lnTo>
                    <a:pt x="262" y="722"/>
                  </a:lnTo>
                  <a:lnTo>
                    <a:pt x="256" y="722"/>
                  </a:lnTo>
                  <a:lnTo>
                    <a:pt x="256" y="714"/>
                  </a:lnTo>
                  <a:lnTo>
                    <a:pt x="248" y="708"/>
                  </a:lnTo>
                  <a:lnTo>
                    <a:pt x="248" y="700"/>
                  </a:lnTo>
                  <a:lnTo>
                    <a:pt x="240" y="700"/>
                  </a:lnTo>
                  <a:lnTo>
                    <a:pt x="234" y="692"/>
                  </a:lnTo>
                  <a:lnTo>
                    <a:pt x="226" y="686"/>
                  </a:lnTo>
                  <a:lnTo>
                    <a:pt x="218" y="686"/>
                  </a:lnTo>
                  <a:lnTo>
                    <a:pt x="212" y="678"/>
                  </a:lnTo>
                  <a:lnTo>
                    <a:pt x="204" y="678"/>
                  </a:lnTo>
                  <a:lnTo>
                    <a:pt x="196" y="678"/>
                  </a:lnTo>
                  <a:lnTo>
                    <a:pt x="190" y="678"/>
                  </a:lnTo>
                  <a:lnTo>
                    <a:pt x="182" y="672"/>
                  </a:lnTo>
                  <a:lnTo>
                    <a:pt x="174" y="672"/>
                  </a:lnTo>
                  <a:lnTo>
                    <a:pt x="168" y="672"/>
                  </a:lnTo>
                  <a:lnTo>
                    <a:pt x="160" y="672"/>
                  </a:lnTo>
                  <a:lnTo>
                    <a:pt x="154" y="672"/>
                  </a:lnTo>
                  <a:lnTo>
                    <a:pt x="146" y="672"/>
                  </a:lnTo>
                  <a:lnTo>
                    <a:pt x="138" y="672"/>
                  </a:lnTo>
                  <a:lnTo>
                    <a:pt x="138" y="678"/>
                  </a:lnTo>
                  <a:lnTo>
                    <a:pt x="132" y="678"/>
                  </a:lnTo>
                  <a:lnTo>
                    <a:pt x="124" y="678"/>
                  </a:lnTo>
                  <a:lnTo>
                    <a:pt x="116" y="686"/>
                  </a:lnTo>
                  <a:lnTo>
                    <a:pt x="110" y="686"/>
                  </a:lnTo>
                  <a:lnTo>
                    <a:pt x="102" y="692"/>
                  </a:lnTo>
                  <a:lnTo>
                    <a:pt x="94" y="692"/>
                  </a:lnTo>
                  <a:lnTo>
                    <a:pt x="94" y="700"/>
                  </a:lnTo>
                  <a:lnTo>
                    <a:pt x="88" y="700"/>
                  </a:lnTo>
                  <a:lnTo>
                    <a:pt x="88" y="708"/>
                  </a:lnTo>
                  <a:lnTo>
                    <a:pt x="80" y="708"/>
                  </a:lnTo>
                  <a:lnTo>
                    <a:pt x="80" y="714"/>
                  </a:lnTo>
                  <a:lnTo>
                    <a:pt x="72" y="714"/>
                  </a:lnTo>
                  <a:lnTo>
                    <a:pt x="72" y="722"/>
                  </a:lnTo>
                  <a:lnTo>
                    <a:pt x="72" y="730"/>
                  </a:lnTo>
                  <a:lnTo>
                    <a:pt x="66" y="730"/>
                  </a:lnTo>
                  <a:lnTo>
                    <a:pt x="66" y="736"/>
                  </a:lnTo>
                  <a:lnTo>
                    <a:pt x="58" y="744"/>
                  </a:lnTo>
                  <a:lnTo>
                    <a:pt x="58" y="752"/>
                  </a:lnTo>
                  <a:lnTo>
                    <a:pt x="58" y="758"/>
                  </a:lnTo>
                  <a:lnTo>
                    <a:pt x="50" y="758"/>
                  </a:lnTo>
                  <a:lnTo>
                    <a:pt x="50" y="766"/>
                  </a:lnTo>
                  <a:lnTo>
                    <a:pt x="50" y="774"/>
                  </a:lnTo>
                  <a:lnTo>
                    <a:pt x="50" y="780"/>
                  </a:lnTo>
                  <a:lnTo>
                    <a:pt x="50" y="788"/>
                  </a:lnTo>
                  <a:lnTo>
                    <a:pt x="50" y="796"/>
                  </a:lnTo>
                  <a:lnTo>
                    <a:pt x="50" y="802"/>
                  </a:lnTo>
                  <a:lnTo>
                    <a:pt x="50" y="810"/>
                  </a:lnTo>
                  <a:lnTo>
                    <a:pt x="50" y="818"/>
                  </a:lnTo>
                  <a:lnTo>
                    <a:pt x="58" y="818"/>
                  </a:lnTo>
                  <a:lnTo>
                    <a:pt x="58" y="824"/>
                  </a:lnTo>
                  <a:lnTo>
                    <a:pt x="58" y="832"/>
                  </a:lnTo>
                  <a:lnTo>
                    <a:pt x="58" y="838"/>
                  </a:lnTo>
                  <a:lnTo>
                    <a:pt x="66" y="838"/>
                  </a:lnTo>
                  <a:lnTo>
                    <a:pt x="66" y="846"/>
                  </a:lnTo>
                  <a:lnTo>
                    <a:pt x="66" y="854"/>
                  </a:lnTo>
                  <a:lnTo>
                    <a:pt x="72" y="860"/>
                  </a:lnTo>
                  <a:lnTo>
                    <a:pt x="80" y="868"/>
                  </a:lnTo>
                  <a:lnTo>
                    <a:pt x="80" y="876"/>
                  </a:lnTo>
                  <a:lnTo>
                    <a:pt x="88" y="882"/>
                  </a:lnTo>
                  <a:lnTo>
                    <a:pt x="94" y="890"/>
                  </a:lnTo>
                  <a:lnTo>
                    <a:pt x="102" y="890"/>
                  </a:lnTo>
                  <a:lnTo>
                    <a:pt x="102" y="898"/>
                  </a:lnTo>
                  <a:lnTo>
                    <a:pt x="110" y="898"/>
                  </a:lnTo>
                  <a:lnTo>
                    <a:pt x="116" y="904"/>
                  </a:lnTo>
                  <a:lnTo>
                    <a:pt x="124" y="904"/>
                  </a:lnTo>
                  <a:lnTo>
                    <a:pt x="124" y="912"/>
                  </a:lnTo>
                  <a:lnTo>
                    <a:pt x="132" y="912"/>
                  </a:lnTo>
                  <a:lnTo>
                    <a:pt x="138" y="912"/>
                  </a:lnTo>
                  <a:lnTo>
                    <a:pt x="146" y="912"/>
                  </a:lnTo>
                  <a:lnTo>
                    <a:pt x="154" y="920"/>
                  </a:lnTo>
                  <a:lnTo>
                    <a:pt x="160" y="920"/>
                  </a:lnTo>
                  <a:lnTo>
                    <a:pt x="168" y="920"/>
                  </a:lnTo>
                  <a:lnTo>
                    <a:pt x="174" y="920"/>
                  </a:lnTo>
                  <a:lnTo>
                    <a:pt x="182" y="920"/>
                  </a:lnTo>
                  <a:lnTo>
                    <a:pt x="190" y="920"/>
                  </a:lnTo>
                  <a:lnTo>
                    <a:pt x="196" y="920"/>
                  </a:lnTo>
                  <a:lnTo>
                    <a:pt x="204" y="920"/>
                  </a:lnTo>
                  <a:lnTo>
                    <a:pt x="212" y="920"/>
                  </a:lnTo>
                  <a:lnTo>
                    <a:pt x="218" y="920"/>
                  </a:lnTo>
                  <a:lnTo>
                    <a:pt x="226" y="920"/>
                  </a:lnTo>
                  <a:lnTo>
                    <a:pt x="234" y="912"/>
                  </a:lnTo>
                  <a:lnTo>
                    <a:pt x="240" y="912"/>
                  </a:lnTo>
                  <a:lnTo>
                    <a:pt x="248" y="912"/>
                  </a:lnTo>
                  <a:lnTo>
                    <a:pt x="256" y="912"/>
                  </a:lnTo>
                  <a:lnTo>
                    <a:pt x="262" y="904"/>
                  </a:lnTo>
                  <a:lnTo>
                    <a:pt x="270" y="904"/>
                  </a:lnTo>
                  <a:lnTo>
                    <a:pt x="278" y="898"/>
                  </a:lnTo>
                  <a:lnTo>
                    <a:pt x="284" y="890"/>
                  </a:lnTo>
                  <a:lnTo>
                    <a:pt x="292" y="890"/>
                  </a:lnTo>
                  <a:lnTo>
                    <a:pt x="300" y="882"/>
                  </a:lnTo>
                  <a:lnTo>
                    <a:pt x="306" y="882"/>
                  </a:lnTo>
                  <a:lnTo>
                    <a:pt x="306" y="876"/>
                  </a:lnTo>
                  <a:lnTo>
                    <a:pt x="314" y="876"/>
                  </a:lnTo>
                  <a:lnTo>
                    <a:pt x="314" y="868"/>
                  </a:lnTo>
                  <a:lnTo>
                    <a:pt x="320" y="868"/>
                  </a:lnTo>
                  <a:lnTo>
                    <a:pt x="328" y="860"/>
                  </a:lnTo>
                  <a:lnTo>
                    <a:pt x="336" y="854"/>
                  </a:lnTo>
                  <a:lnTo>
                    <a:pt x="342" y="854"/>
                  </a:lnTo>
                  <a:lnTo>
                    <a:pt x="342" y="846"/>
                  </a:lnTo>
                  <a:lnTo>
                    <a:pt x="350" y="838"/>
                  </a:lnTo>
                  <a:lnTo>
                    <a:pt x="358" y="832"/>
                  </a:lnTo>
                  <a:lnTo>
                    <a:pt x="364" y="824"/>
                  </a:lnTo>
                  <a:lnTo>
                    <a:pt x="372" y="818"/>
                  </a:lnTo>
                  <a:lnTo>
                    <a:pt x="372" y="810"/>
                  </a:lnTo>
                  <a:lnTo>
                    <a:pt x="380" y="802"/>
                  </a:lnTo>
                  <a:lnTo>
                    <a:pt x="380" y="796"/>
                  </a:lnTo>
                  <a:lnTo>
                    <a:pt x="386" y="788"/>
                  </a:lnTo>
                  <a:lnTo>
                    <a:pt x="386" y="780"/>
                  </a:lnTo>
                  <a:lnTo>
                    <a:pt x="386" y="774"/>
                  </a:lnTo>
                  <a:lnTo>
                    <a:pt x="394" y="766"/>
                  </a:lnTo>
                  <a:lnTo>
                    <a:pt x="394" y="758"/>
                  </a:lnTo>
                  <a:lnTo>
                    <a:pt x="394" y="752"/>
                  </a:lnTo>
                  <a:lnTo>
                    <a:pt x="394" y="736"/>
                  </a:lnTo>
                  <a:lnTo>
                    <a:pt x="402" y="730"/>
                  </a:lnTo>
                  <a:lnTo>
                    <a:pt x="402" y="722"/>
                  </a:lnTo>
                  <a:lnTo>
                    <a:pt x="402" y="708"/>
                  </a:lnTo>
                  <a:lnTo>
                    <a:pt x="402" y="700"/>
                  </a:lnTo>
                  <a:lnTo>
                    <a:pt x="402" y="686"/>
                  </a:lnTo>
                  <a:lnTo>
                    <a:pt x="394" y="678"/>
                  </a:lnTo>
                  <a:lnTo>
                    <a:pt x="394" y="664"/>
                  </a:lnTo>
                  <a:lnTo>
                    <a:pt x="394" y="656"/>
                  </a:lnTo>
                  <a:lnTo>
                    <a:pt x="386" y="650"/>
                  </a:lnTo>
                  <a:lnTo>
                    <a:pt x="386" y="634"/>
                  </a:lnTo>
                  <a:lnTo>
                    <a:pt x="380" y="628"/>
                  </a:lnTo>
                  <a:lnTo>
                    <a:pt x="380" y="612"/>
                  </a:lnTo>
                  <a:lnTo>
                    <a:pt x="372" y="606"/>
                  </a:lnTo>
                  <a:lnTo>
                    <a:pt x="364" y="598"/>
                  </a:lnTo>
                  <a:lnTo>
                    <a:pt x="358" y="584"/>
                  </a:lnTo>
                  <a:lnTo>
                    <a:pt x="350" y="576"/>
                  </a:lnTo>
                  <a:lnTo>
                    <a:pt x="350" y="568"/>
                  </a:lnTo>
                  <a:lnTo>
                    <a:pt x="342" y="562"/>
                  </a:lnTo>
                  <a:lnTo>
                    <a:pt x="336" y="548"/>
                  </a:lnTo>
                  <a:lnTo>
                    <a:pt x="328" y="540"/>
                  </a:lnTo>
                  <a:lnTo>
                    <a:pt x="320" y="532"/>
                  </a:lnTo>
                  <a:lnTo>
                    <a:pt x="314" y="526"/>
                  </a:lnTo>
                  <a:lnTo>
                    <a:pt x="300" y="518"/>
                  </a:lnTo>
                  <a:lnTo>
                    <a:pt x="292" y="504"/>
                  </a:lnTo>
                  <a:lnTo>
                    <a:pt x="284" y="496"/>
                  </a:lnTo>
                  <a:lnTo>
                    <a:pt x="278" y="488"/>
                  </a:lnTo>
                  <a:lnTo>
                    <a:pt x="270" y="482"/>
                  </a:lnTo>
                  <a:lnTo>
                    <a:pt x="262" y="482"/>
                  </a:lnTo>
                  <a:lnTo>
                    <a:pt x="248" y="474"/>
                  </a:lnTo>
                  <a:lnTo>
                    <a:pt x="240" y="466"/>
                  </a:lnTo>
                  <a:lnTo>
                    <a:pt x="234" y="460"/>
                  </a:lnTo>
                  <a:lnTo>
                    <a:pt x="226" y="452"/>
                  </a:lnTo>
                  <a:lnTo>
                    <a:pt x="218" y="452"/>
                  </a:lnTo>
                  <a:lnTo>
                    <a:pt x="212" y="444"/>
                  </a:lnTo>
                  <a:lnTo>
                    <a:pt x="204" y="444"/>
                  </a:lnTo>
                  <a:lnTo>
                    <a:pt x="196" y="438"/>
                  </a:lnTo>
                  <a:lnTo>
                    <a:pt x="190" y="438"/>
                  </a:lnTo>
                  <a:lnTo>
                    <a:pt x="182" y="430"/>
                  </a:lnTo>
                  <a:lnTo>
                    <a:pt x="174" y="424"/>
                  </a:lnTo>
                  <a:lnTo>
                    <a:pt x="168" y="424"/>
                  </a:lnTo>
                  <a:lnTo>
                    <a:pt x="160" y="416"/>
                  </a:lnTo>
                  <a:lnTo>
                    <a:pt x="154" y="408"/>
                  </a:lnTo>
                  <a:lnTo>
                    <a:pt x="146" y="408"/>
                  </a:lnTo>
                  <a:lnTo>
                    <a:pt x="138" y="402"/>
                  </a:lnTo>
                  <a:lnTo>
                    <a:pt x="132" y="394"/>
                  </a:lnTo>
                  <a:lnTo>
                    <a:pt x="124" y="386"/>
                  </a:lnTo>
                  <a:lnTo>
                    <a:pt x="116" y="380"/>
                  </a:lnTo>
                  <a:lnTo>
                    <a:pt x="102" y="372"/>
                  </a:lnTo>
                  <a:lnTo>
                    <a:pt x="94" y="364"/>
                  </a:lnTo>
                  <a:lnTo>
                    <a:pt x="88" y="358"/>
                  </a:lnTo>
                  <a:lnTo>
                    <a:pt x="80" y="350"/>
                  </a:lnTo>
                  <a:lnTo>
                    <a:pt x="72" y="342"/>
                  </a:lnTo>
                  <a:lnTo>
                    <a:pt x="66" y="336"/>
                  </a:lnTo>
                  <a:lnTo>
                    <a:pt x="58" y="328"/>
                  </a:lnTo>
                  <a:lnTo>
                    <a:pt x="50" y="320"/>
                  </a:lnTo>
                  <a:lnTo>
                    <a:pt x="44" y="314"/>
                  </a:lnTo>
                  <a:lnTo>
                    <a:pt x="44" y="306"/>
                  </a:lnTo>
                  <a:lnTo>
                    <a:pt x="36" y="298"/>
                  </a:lnTo>
                  <a:lnTo>
                    <a:pt x="30" y="292"/>
                  </a:lnTo>
                  <a:lnTo>
                    <a:pt x="30" y="278"/>
                  </a:lnTo>
                  <a:lnTo>
                    <a:pt x="22" y="270"/>
                  </a:lnTo>
                  <a:lnTo>
                    <a:pt x="14" y="262"/>
                  </a:lnTo>
                  <a:lnTo>
                    <a:pt x="14" y="256"/>
                  </a:lnTo>
                  <a:lnTo>
                    <a:pt x="14" y="240"/>
                  </a:lnTo>
                  <a:lnTo>
                    <a:pt x="8" y="240"/>
                  </a:lnTo>
                  <a:lnTo>
                    <a:pt x="8" y="234"/>
                  </a:lnTo>
                  <a:lnTo>
                    <a:pt x="8" y="226"/>
                  </a:lnTo>
                  <a:lnTo>
                    <a:pt x="8" y="218"/>
                  </a:lnTo>
                  <a:lnTo>
                    <a:pt x="8" y="212"/>
                  </a:lnTo>
                  <a:lnTo>
                    <a:pt x="8" y="204"/>
                  </a:lnTo>
                  <a:lnTo>
                    <a:pt x="8" y="196"/>
                  </a:lnTo>
                  <a:lnTo>
                    <a:pt x="0" y="190"/>
                  </a:lnTo>
                  <a:lnTo>
                    <a:pt x="0" y="182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8" y="154"/>
                  </a:lnTo>
                  <a:lnTo>
                    <a:pt x="8" y="146"/>
                  </a:lnTo>
                  <a:lnTo>
                    <a:pt x="8" y="138"/>
                  </a:lnTo>
                  <a:lnTo>
                    <a:pt x="8" y="132"/>
                  </a:lnTo>
                  <a:lnTo>
                    <a:pt x="8" y="124"/>
                  </a:lnTo>
                  <a:lnTo>
                    <a:pt x="8" y="116"/>
                  </a:lnTo>
                  <a:lnTo>
                    <a:pt x="14" y="116"/>
                  </a:lnTo>
                  <a:lnTo>
                    <a:pt x="14" y="110"/>
                  </a:lnTo>
                  <a:lnTo>
                    <a:pt x="14" y="102"/>
                  </a:lnTo>
                  <a:lnTo>
                    <a:pt x="22" y="94"/>
                  </a:lnTo>
                  <a:lnTo>
                    <a:pt x="22" y="88"/>
                  </a:lnTo>
                  <a:lnTo>
                    <a:pt x="30" y="88"/>
                  </a:lnTo>
                  <a:lnTo>
                    <a:pt x="30" y="80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44" y="58"/>
                  </a:lnTo>
                  <a:lnTo>
                    <a:pt x="50" y="50"/>
                  </a:lnTo>
                  <a:lnTo>
                    <a:pt x="58" y="44"/>
                  </a:lnTo>
                  <a:lnTo>
                    <a:pt x="66" y="44"/>
                  </a:lnTo>
                  <a:lnTo>
                    <a:pt x="66" y="36"/>
                  </a:lnTo>
                  <a:lnTo>
                    <a:pt x="72" y="28"/>
                  </a:lnTo>
                  <a:lnTo>
                    <a:pt x="80" y="28"/>
                  </a:lnTo>
                  <a:lnTo>
                    <a:pt x="88" y="22"/>
                  </a:lnTo>
                  <a:lnTo>
                    <a:pt x="94" y="22"/>
                  </a:lnTo>
                  <a:lnTo>
                    <a:pt x="94" y="14"/>
                  </a:lnTo>
                  <a:lnTo>
                    <a:pt x="102" y="14"/>
                  </a:lnTo>
                  <a:lnTo>
                    <a:pt x="110" y="8"/>
                  </a:lnTo>
                  <a:lnTo>
                    <a:pt x="116" y="8"/>
                  </a:lnTo>
                  <a:lnTo>
                    <a:pt x="124" y="8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34" y="8"/>
                  </a:lnTo>
                  <a:lnTo>
                    <a:pt x="240" y="8"/>
                  </a:lnTo>
                  <a:lnTo>
                    <a:pt x="248" y="8"/>
                  </a:lnTo>
                  <a:lnTo>
                    <a:pt x="256" y="14"/>
                  </a:lnTo>
                  <a:lnTo>
                    <a:pt x="262" y="14"/>
                  </a:lnTo>
                  <a:lnTo>
                    <a:pt x="262" y="22"/>
                  </a:lnTo>
                  <a:lnTo>
                    <a:pt x="270" y="22"/>
                  </a:lnTo>
                  <a:lnTo>
                    <a:pt x="278" y="22"/>
                  </a:lnTo>
                  <a:lnTo>
                    <a:pt x="278" y="28"/>
                  </a:lnTo>
                  <a:lnTo>
                    <a:pt x="284" y="28"/>
                  </a:lnTo>
                  <a:lnTo>
                    <a:pt x="284" y="36"/>
                  </a:lnTo>
                  <a:lnTo>
                    <a:pt x="292" y="36"/>
                  </a:lnTo>
                  <a:lnTo>
                    <a:pt x="300" y="44"/>
                  </a:lnTo>
                  <a:lnTo>
                    <a:pt x="306" y="50"/>
                  </a:lnTo>
                  <a:lnTo>
                    <a:pt x="314" y="58"/>
                  </a:lnTo>
                  <a:lnTo>
                    <a:pt x="320" y="66"/>
                  </a:lnTo>
                  <a:lnTo>
                    <a:pt x="320" y="72"/>
                  </a:lnTo>
                  <a:lnTo>
                    <a:pt x="328" y="72"/>
                  </a:lnTo>
                  <a:lnTo>
                    <a:pt x="328" y="80"/>
                  </a:lnTo>
                  <a:lnTo>
                    <a:pt x="336" y="80"/>
                  </a:lnTo>
                  <a:lnTo>
                    <a:pt x="336" y="88"/>
                  </a:lnTo>
                  <a:lnTo>
                    <a:pt x="336" y="94"/>
                  </a:lnTo>
                  <a:lnTo>
                    <a:pt x="342" y="94"/>
                  </a:lnTo>
                  <a:lnTo>
                    <a:pt x="342" y="102"/>
                  </a:lnTo>
                  <a:lnTo>
                    <a:pt x="342" y="110"/>
                  </a:lnTo>
                  <a:lnTo>
                    <a:pt x="350" y="116"/>
                  </a:lnTo>
                  <a:lnTo>
                    <a:pt x="350" y="124"/>
                  </a:lnTo>
                  <a:lnTo>
                    <a:pt x="350" y="132"/>
                  </a:lnTo>
                  <a:lnTo>
                    <a:pt x="350" y="138"/>
                  </a:lnTo>
                  <a:lnTo>
                    <a:pt x="350" y="146"/>
                  </a:lnTo>
                  <a:lnTo>
                    <a:pt x="350" y="154"/>
                  </a:lnTo>
                  <a:lnTo>
                    <a:pt x="350" y="160"/>
                  </a:lnTo>
                  <a:lnTo>
                    <a:pt x="350" y="168"/>
                  </a:lnTo>
                  <a:lnTo>
                    <a:pt x="350" y="174"/>
                  </a:lnTo>
                  <a:lnTo>
                    <a:pt x="350" y="182"/>
                  </a:lnTo>
                  <a:lnTo>
                    <a:pt x="342" y="190"/>
                  </a:lnTo>
                  <a:lnTo>
                    <a:pt x="342" y="196"/>
                  </a:lnTo>
                  <a:lnTo>
                    <a:pt x="342" y="204"/>
                  </a:lnTo>
                  <a:lnTo>
                    <a:pt x="336" y="212"/>
                  </a:lnTo>
                  <a:lnTo>
                    <a:pt x="336" y="218"/>
                  </a:lnTo>
                  <a:lnTo>
                    <a:pt x="328" y="226"/>
                  </a:lnTo>
                  <a:lnTo>
                    <a:pt x="328" y="234"/>
                  </a:lnTo>
                  <a:lnTo>
                    <a:pt x="320" y="240"/>
                  </a:lnTo>
                  <a:lnTo>
                    <a:pt x="320" y="248"/>
                  </a:lnTo>
                  <a:lnTo>
                    <a:pt x="314" y="248"/>
                  </a:lnTo>
                  <a:lnTo>
                    <a:pt x="306" y="256"/>
                  </a:lnTo>
                  <a:lnTo>
                    <a:pt x="300" y="262"/>
                  </a:lnTo>
                  <a:lnTo>
                    <a:pt x="292" y="270"/>
                  </a:lnTo>
                  <a:lnTo>
                    <a:pt x="284" y="270"/>
                  </a:lnTo>
                  <a:lnTo>
                    <a:pt x="284" y="278"/>
                  </a:lnTo>
                  <a:lnTo>
                    <a:pt x="278" y="278"/>
                  </a:lnTo>
                  <a:lnTo>
                    <a:pt x="270" y="278"/>
                  </a:lnTo>
                  <a:lnTo>
                    <a:pt x="262" y="284"/>
                  </a:lnTo>
                  <a:lnTo>
                    <a:pt x="256" y="284"/>
                  </a:lnTo>
                  <a:lnTo>
                    <a:pt x="248" y="284"/>
                  </a:lnTo>
                  <a:lnTo>
                    <a:pt x="240" y="292"/>
                  </a:lnTo>
                  <a:lnTo>
                    <a:pt x="234" y="292"/>
                  </a:lnTo>
                  <a:lnTo>
                    <a:pt x="226" y="292"/>
                  </a:lnTo>
                  <a:lnTo>
                    <a:pt x="218" y="292"/>
                  </a:lnTo>
                  <a:lnTo>
                    <a:pt x="212" y="292"/>
                  </a:lnTo>
                  <a:lnTo>
                    <a:pt x="204" y="292"/>
                  </a:lnTo>
                  <a:lnTo>
                    <a:pt x="196" y="292"/>
                  </a:lnTo>
                  <a:lnTo>
                    <a:pt x="190" y="292"/>
                  </a:lnTo>
                  <a:lnTo>
                    <a:pt x="182" y="292"/>
                  </a:lnTo>
                  <a:lnTo>
                    <a:pt x="174" y="284"/>
                  </a:lnTo>
                  <a:lnTo>
                    <a:pt x="168" y="284"/>
                  </a:lnTo>
                  <a:lnTo>
                    <a:pt x="160" y="284"/>
                  </a:lnTo>
                  <a:lnTo>
                    <a:pt x="154" y="278"/>
                  </a:lnTo>
                  <a:lnTo>
                    <a:pt x="146" y="278"/>
                  </a:lnTo>
                  <a:lnTo>
                    <a:pt x="146" y="270"/>
                  </a:lnTo>
                  <a:lnTo>
                    <a:pt x="138" y="270"/>
                  </a:lnTo>
                  <a:lnTo>
                    <a:pt x="132" y="262"/>
                  </a:lnTo>
                  <a:lnTo>
                    <a:pt x="124" y="256"/>
                  </a:lnTo>
                  <a:lnTo>
                    <a:pt x="116" y="248"/>
                  </a:lnTo>
                  <a:lnTo>
                    <a:pt x="110" y="240"/>
                  </a:lnTo>
                  <a:lnTo>
                    <a:pt x="110" y="234"/>
                  </a:lnTo>
                  <a:lnTo>
                    <a:pt x="102" y="234"/>
                  </a:lnTo>
                  <a:lnTo>
                    <a:pt x="102" y="226"/>
                  </a:lnTo>
                  <a:lnTo>
                    <a:pt x="94" y="218"/>
                  </a:lnTo>
                  <a:lnTo>
                    <a:pt x="94" y="212"/>
                  </a:lnTo>
                  <a:lnTo>
                    <a:pt x="88" y="204"/>
                  </a:lnTo>
                  <a:lnTo>
                    <a:pt x="88" y="196"/>
                  </a:lnTo>
                  <a:lnTo>
                    <a:pt x="88" y="190"/>
                  </a:lnTo>
                  <a:lnTo>
                    <a:pt x="88" y="182"/>
                  </a:lnTo>
                  <a:lnTo>
                    <a:pt x="88" y="174"/>
                  </a:lnTo>
                  <a:lnTo>
                    <a:pt x="88" y="168"/>
                  </a:lnTo>
                  <a:lnTo>
                    <a:pt x="88" y="160"/>
                  </a:lnTo>
                  <a:lnTo>
                    <a:pt x="88" y="154"/>
                  </a:lnTo>
                  <a:lnTo>
                    <a:pt x="88" y="146"/>
                  </a:lnTo>
                  <a:lnTo>
                    <a:pt x="88" y="138"/>
                  </a:lnTo>
                  <a:lnTo>
                    <a:pt x="88" y="132"/>
                  </a:lnTo>
                  <a:lnTo>
                    <a:pt x="94" y="132"/>
                  </a:lnTo>
                  <a:lnTo>
                    <a:pt x="94" y="124"/>
                  </a:lnTo>
                  <a:lnTo>
                    <a:pt x="94" y="116"/>
                  </a:lnTo>
                  <a:lnTo>
                    <a:pt x="102" y="116"/>
                  </a:lnTo>
                  <a:lnTo>
                    <a:pt x="102" y="110"/>
                  </a:lnTo>
                  <a:lnTo>
                    <a:pt x="110" y="102"/>
                  </a:lnTo>
                  <a:lnTo>
                    <a:pt x="110" y="94"/>
                  </a:lnTo>
                  <a:lnTo>
                    <a:pt x="116" y="94"/>
                  </a:lnTo>
                  <a:lnTo>
                    <a:pt x="116" y="88"/>
                  </a:lnTo>
                  <a:lnTo>
                    <a:pt x="124" y="88"/>
                  </a:lnTo>
                  <a:lnTo>
                    <a:pt x="124" y="80"/>
                  </a:lnTo>
                  <a:lnTo>
                    <a:pt x="132" y="80"/>
                  </a:lnTo>
                  <a:lnTo>
                    <a:pt x="138" y="72"/>
                  </a:lnTo>
                  <a:lnTo>
                    <a:pt x="146" y="72"/>
                  </a:lnTo>
                  <a:lnTo>
                    <a:pt x="154" y="66"/>
                  </a:lnTo>
                  <a:lnTo>
                    <a:pt x="160" y="66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82" y="66"/>
                  </a:lnTo>
                  <a:lnTo>
                    <a:pt x="190" y="66"/>
                  </a:lnTo>
                  <a:lnTo>
                    <a:pt x="196" y="66"/>
                  </a:lnTo>
                  <a:lnTo>
                    <a:pt x="204" y="66"/>
                  </a:lnTo>
                  <a:lnTo>
                    <a:pt x="204" y="72"/>
                  </a:lnTo>
                  <a:lnTo>
                    <a:pt x="212" y="72"/>
                  </a:lnTo>
                  <a:lnTo>
                    <a:pt x="218" y="72"/>
                  </a:lnTo>
                  <a:lnTo>
                    <a:pt x="218" y="80"/>
                  </a:lnTo>
                  <a:lnTo>
                    <a:pt x="226" y="80"/>
                  </a:lnTo>
                  <a:lnTo>
                    <a:pt x="234" y="88"/>
                  </a:lnTo>
                  <a:lnTo>
                    <a:pt x="240" y="88"/>
                  </a:lnTo>
                  <a:lnTo>
                    <a:pt x="240" y="94"/>
                  </a:lnTo>
                  <a:lnTo>
                    <a:pt x="248" y="94"/>
                  </a:lnTo>
                  <a:lnTo>
                    <a:pt x="248" y="102"/>
                  </a:lnTo>
                  <a:lnTo>
                    <a:pt x="256" y="102"/>
                  </a:lnTo>
                  <a:lnTo>
                    <a:pt x="256" y="110"/>
                  </a:lnTo>
                  <a:lnTo>
                    <a:pt x="256" y="116"/>
                  </a:lnTo>
                  <a:lnTo>
                    <a:pt x="256" y="124"/>
                  </a:lnTo>
                  <a:lnTo>
                    <a:pt x="262" y="124"/>
                  </a:lnTo>
                  <a:lnTo>
                    <a:pt x="262" y="132"/>
                  </a:lnTo>
                  <a:lnTo>
                    <a:pt x="262" y="138"/>
                  </a:lnTo>
                  <a:lnTo>
                    <a:pt x="262" y="146"/>
                  </a:lnTo>
                  <a:lnTo>
                    <a:pt x="262" y="154"/>
                  </a:lnTo>
                  <a:lnTo>
                    <a:pt x="256" y="154"/>
                  </a:lnTo>
                  <a:lnTo>
                    <a:pt x="256" y="160"/>
                  </a:lnTo>
                  <a:lnTo>
                    <a:pt x="256" y="168"/>
                  </a:lnTo>
                  <a:lnTo>
                    <a:pt x="248" y="174"/>
                  </a:lnTo>
                  <a:lnTo>
                    <a:pt x="248" y="182"/>
                  </a:lnTo>
                  <a:lnTo>
                    <a:pt x="240" y="182"/>
                  </a:lnTo>
                  <a:lnTo>
                    <a:pt x="240" y="190"/>
                  </a:lnTo>
                  <a:lnTo>
                    <a:pt x="234" y="190"/>
                  </a:lnTo>
                  <a:lnTo>
                    <a:pt x="226" y="196"/>
                  </a:lnTo>
                  <a:lnTo>
                    <a:pt x="218" y="196"/>
                  </a:lnTo>
                  <a:lnTo>
                    <a:pt x="212" y="196"/>
                  </a:lnTo>
                  <a:lnTo>
                    <a:pt x="204" y="196"/>
                  </a:lnTo>
                  <a:lnTo>
                    <a:pt x="196" y="196"/>
                  </a:lnTo>
                  <a:lnTo>
                    <a:pt x="190" y="196"/>
                  </a:lnTo>
                  <a:lnTo>
                    <a:pt x="182" y="196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0" y="182"/>
                  </a:lnTo>
                  <a:lnTo>
                    <a:pt x="182" y="154"/>
                  </a:lnTo>
                  <a:lnTo>
                    <a:pt x="182" y="160"/>
                  </a:lnTo>
                  <a:lnTo>
                    <a:pt x="190" y="160"/>
                  </a:lnTo>
                  <a:lnTo>
                    <a:pt x="196" y="160"/>
                  </a:lnTo>
                  <a:lnTo>
                    <a:pt x="196" y="168"/>
                  </a:lnTo>
                  <a:lnTo>
                    <a:pt x="204" y="168"/>
                  </a:lnTo>
                  <a:lnTo>
                    <a:pt x="212" y="168"/>
                  </a:lnTo>
                  <a:lnTo>
                    <a:pt x="212" y="160"/>
                  </a:lnTo>
                  <a:lnTo>
                    <a:pt x="218" y="160"/>
                  </a:lnTo>
                  <a:lnTo>
                    <a:pt x="218" y="154"/>
                  </a:lnTo>
                  <a:lnTo>
                    <a:pt x="226" y="154"/>
                  </a:lnTo>
                  <a:lnTo>
                    <a:pt x="226" y="146"/>
                  </a:lnTo>
                  <a:lnTo>
                    <a:pt x="226" y="138"/>
                  </a:lnTo>
                  <a:lnTo>
                    <a:pt x="226" y="132"/>
                  </a:lnTo>
                  <a:lnTo>
                    <a:pt x="226" y="124"/>
                  </a:lnTo>
                  <a:lnTo>
                    <a:pt x="218" y="124"/>
                  </a:lnTo>
                  <a:lnTo>
                    <a:pt x="218" y="116"/>
                  </a:lnTo>
                  <a:lnTo>
                    <a:pt x="212" y="116"/>
                  </a:lnTo>
                  <a:lnTo>
                    <a:pt x="212" y="110"/>
                  </a:lnTo>
                  <a:lnTo>
                    <a:pt x="204" y="110"/>
                  </a:lnTo>
                  <a:lnTo>
                    <a:pt x="204" y="102"/>
                  </a:lnTo>
                  <a:lnTo>
                    <a:pt x="196" y="102"/>
                  </a:lnTo>
                  <a:lnTo>
                    <a:pt x="190" y="102"/>
                  </a:lnTo>
                  <a:lnTo>
                    <a:pt x="182" y="102"/>
                  </a:lnTo>
                  <a:lnTo>
                    <a:pt x="174" y="102"/>
                  </a:lnTo>
                  <a:lnTo>
                    <a:pt x="168" y="102"/>
                  </a:lnTo>
                  <a:lnTo>
                    <a:pt x="160" y="102"/>
                  </a:lnTo>
                  <a:lnTo>
                    <a:pt x="154" y="102"/>
                  </a:lnTo>
                  <a:lnTo>
                    <a:pt x="154" y="110"/>
                  </a:lnTo>
                  <a:lnTo>
                    <a:pt x="146" y="110"/>
                  </a:lnTo>
                  <a:lnTo>
                    <a:pt x="146" y="116"/>
                  </a:lnTo>
                  <a:lnTo>
                    <a:pt x="138" y="116"/>
                  </a:lnTo>
                  <a:lnTo>
                    <a:pt x="138" y="124"/>
                  </a:lnTo>
                  <a:lnTo>
                    <a:pt x="132" y="124"/>
                  </a:lnTo>
                  <a:lnTo>
                    <a:pt x="132" y="132"/>
                  </a:lnTo>
                  <a:lnTo>
                    <a:pt x="132" y="138"/>
                  </a:lnTo>
                  <a:lnTo>
                    <a:pt x="124" y="138"/>
                  </a:lnTo>
                  <a:lnTo>
                    <a:pt x="124" y="146"/>
                  </a:lnTo>
                  <a:lnTo>
                    <a:pt x="124" y="154"/>
                  </a:lnTo>
                  <a:lnTo>
                    <a:pt x="124" y="160"/>
                  </a:lnTo>
                  <a:lnTo>
                    <a:pt x="116" y="160"/>
                  </a:lnTo>
                  <a:lnTo>
                    <a:pt x="116" y="168"/>
                  </a:lnTo>
                  <a:lnTo>
                    <a:pt x="116" y="174"/>
                  </a:lnTo>
                  <a:lnTo>
                    <a:pt x="116" y="182"/>
                  </a:lnTo>
                  <a:lnTo>
                    <a:pt x="116" y="190"/>
                  </a:lnTo>
                  <a:lnTo>
                    <a:pt x="124" y="190"/>
                  </a:lnTo>
                  <a:lnTo>
                    <a:pt x="124" y="196"/>
                  </a:lnTo>
                  <a:lnTo>
                    <a:pt x="124" y="204"/>
                  </a:lnTo>
                  <a:lnTo>
                    <a:pt x="132" y="204"/>
                  </a:lnTo>
                  <a:lnTo>
                    <a:pt x="132" y="212"/>
                  </a:lnTo>
                  <a:lnTo>
                    <a:pt x="132" y="218"/>
                  </a:lnTo>
                  <a:lnTo>
                    <a:pt x="138" y="218"/>
                  </a:lnTo>
                  <a:lnTo>
                    <a:pt x="138" y="226"/>
                  </a:lnTo>
                  <a:lnTo>
                    <a:pt x="146" y="226"/>
                  </a:lnTo>
                  <a:lnTo>
                    <a:pt x="146" y="234"/>
                  </a:lnTo>
                  <a:lnTo>
                    <a:pt x="154" y="234"/>
                  </a:lnTo>
                  <a:lnTo>
                    <a:pt x="154" y="240"/>
                  </a:lnTo>
                  <a:lnTo>
                    <a:pt x="160" y="240"/>
                  </a:lnTo>
                  <a:lnTo>
                    <a:pt x="168" y="248"/>
                  </a:lnTo>
                  <a:lnTo>
                    <a:pt x="174" y="248"/>
                  </a:lnTo>
                  <a:lnTo>
                    <a:pt x="174" y="256"/>
                  </a:lnTo>
                  <a:lnTo>
                    <a:pt x="182" y="256"/>
                  </a:lnTo>
                  <a:lnTo>
                    <a:pt x="190" y="256"/>
                  </a:lnTo>
                  <a:lnTo>
                    <a:pt x="196" y="256"/>
                  </a:lnTo>
                  <a:lnTo>
                    <a:pt x="204" y="256"/>
                  </a:lnTo>
                  <a:lnTo>
                    <a:pt x="204" y="262"/>
                  </a:lnTo>
                  <a:lnTo>
                    <a:pt x="212" y="262"/>
                  </a:lnTo>
                  <a:lnTo>
                    <a:pt x="218" y="256"/>
                  </a:lnTo>
                  <a:lnTo>
                    <a:pt x="226" y="256"/>
                  </a:lnTo>
                  <a:lnTo>
                    <a:pt x="234" y="256"/>
                  </a:lnTo>
                  <a:lnTo>
                    <a:pt x="240" y="256"/>
                  </a:lnTo>
                  <a:lnTo>
                    <a:pt x="248" y="256"/>
                  </a:lnTo>
                  <a:lnTo>
                    <a:pt x="248" y="248"/>
                  </a:lnTo>
                  <a:lnTo>
                    <a:pt x="256" y="248"/>
                  </a:lnTo>
                  <a:lnTo>
                    <a:pt x="262" y="248"/>
                  </a:lnTo>
                  <a:lnTo>
                    <a:pt x="262" y="240"/>
                  </a:lnTo>
                  <a:lnTo>
                    <a:pt x="270" y="240"/>
                  </a:lnTo>
                  <a:lnTo>
                    <a:pt x="278" y="240"/>
                  </a:lnTo>
                  <a:lnTo>
                    <a:pt x="278" y="234"/>
                  </a:lnTo>
                  <a:lnTo>
                    <a:pt x="284" y="234"/>
                  </a:lnTo>
                  <a:lnTo>
                    <a:pt x="284" y="226"/>
                  </a:lnTo>
                  <a:lnTo>
                    <a:pt x="292" y="218"/>
                  </a:lnTo>
                  <a:lnTo>
                    <a:pt x="300" y="212"/>
                  </a:lnTo>
                  <a:lnTo>
                    <a:pt x="300" y="204"/>
                  </a:lnTo>
                  <a:lnTo>
                    <a:pt x="306" y="204"/>
                  </a:lnTo>
                  <a:lnTo>
                    <a:pt x="306" y="196"/>
                  </a:lnTo>
                  <a:lnTo>
                    <a:pt x="306" y="190"/>
                  </a:lnTo>
                  <a:lnTo>
                    <a:pt x="314" y="182"/>
                  </a:lnTo>
                  <a:lnTo>
                    <a:pt x="314" y="174"/>
                  </a:lnTo>
                  <a:lnTo>
                    <a:pt x="314" y="168"/>
                  </a:lnTo>
                  <a:lnTo>
                    <a:pt x="314" y="160"/>
                  </a:lnTo>
                  <a:lnTo>
                    <a:pt x="314" y="154"/>
                  </a:lnTo>
                  <a:lnTo>
                    <a:pt x="314" y="146"/>
                  </a:lnTo>
                  <a:lnTo>
                    <a:pt x="314" y="138"/>
                  </a:lnTo>
                  <a:lnTo>
                    <a:pt x="314" y="132"/>
                  </a:lnTo>
                  <a:lnTo>
                    <a:pt x="314" y="124"/>
                  </a:lnTo>
                  <a:lnTo>
                    <a:pt x="314" y="116"/>
                  </a:lnTo>
                  <a:lnTo>
                    <a:pt x="314" y="110"/>
                  </a:lnTo>
                  <a:lnTo>
                    <a:pt x="306" y="110"/>
                  </a:lnTo>
                  <a:lnTo>
                    <a:pt x="306" y="102"/>
                  </a:lnTo>
                  <a:lnTo>
                    <a:pt x="300" y="94"/>
                  </a:lnTo>
                  <a:lnTo>
                    <a:pt x="300" y="88"/>
                  </a:lnTo>
                  <a:lnTo>
                    <a:pt x="292" y="88"/>
                  </a:lnTo>
                  <a:lnTo>
                    <a:pt x="292" y="80"/>
                  </a:lnTo>
                  <a:lnTo>
                    <a:pt x="284" y="80"/>
                  </a:lnTo>
                  <a:lnTo>
                    <a:pt x="284" y="72"/>
                  </a:lnTo>
                  <a:lnTo>
                    <a:pt x="278" y="72"/>
                  </a:lnTo>
                  <a:lnTo>
                    <a:pt x="278" y="66"/>
                  </a:lnTo>
                  <a:lnTo>
                    <a:pt x="270" y="66"/>
                  </a:lnTo>
                  <a:lnTo>
                    <a:pt x="270" y="58"/>
                  </a:lnTo>
                  <a:lnTo>
                    <a:pt x="262" y="58"/>
                  </a:lnTo>
                  <a:lnTo>
                    <a:pt x="256" y="50"/>
                  </a:lnTo>
                  <a:lnTo>
                    <a:pt x="248" y="50"/>
                  </a:lnTo>
                  <a:lnTo>
                    <a:pt x="248" y="44"/>
                  </a:lnTo>
                  <a:lnTo>
                    <a:pt x="240" y="44"/>
                  </a:lnTo>
                  <a:lnTo>
                    <a:pt x="234" y="44"/>
                  </a:lnTo>
                  <a:lnTo>
                    <a:pt x="234" y="36"/>
                  </a:lnTo>
                  <a:lnTo>
                    <a:pt x="226" y="36"/>
                  </a:lnTo>
                  <a:lnTo>
                    <a:pt x="218" y="36"/>
                  </a:lnTo>
                  <a:lnTo>
                    <a:pt x="212" y="36"/>
                  </a:lnTo>
                  <a:lnTo>
                    <a:pt x="204" y="28"/>
                  </a:lnTo>
                  <a:lnTo>
                    <a:pt x="196" y="28"/>
                  </a:lnTo>
                  <a:lnTo>
                    <a:pt x="190" y="28"/>
                  </a:lnTo>
                  <a:lnTo>
                    <a:pt x="182" y="28"/>
                  </a:lnTo>
                  <a:lnTo>
                    <a:pt x="174" y="28"/>
                  </a:lnTo>
                  <a:lnTo>
                    <a:pt x="168" y="28"/>
                  </a:lnTo>
                  <a:lnTo>
                    <a:pt x="160" y="28"/>
                  </a:lnTo>
                  <a:lnTo>
                    <a:pt x="154" y="28"/>
                  </a:lnTo>
                  <a:lnTo>
                    <a:pt x="146" y="28"/>
                  </a:lnTo>
                  <a:lnTo>
                    <a:pt x="146" y="36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24" y="36"/>
                  </a:lnTo>
                  <a:lnTo>
                    <a:pt x="124" y="44"/>
                  </a:lnTo>
                  <a:lnTo>
                    <a:pt x="116" y="44"/>
                  </a:lnTo>
                  <a:lnTo>
                    <a:pt x="110" y="44"/>
                  </a:lnTo>
                  <a:lnTo>
                    <a:pt x="110" y="50"/>
                  </a:lnTo>
                  <a:lnTo>
                    <a:pt x="102" y="50"/>
                  </a:lnTo>
                  <a:lnTo>
                    <a:pt x="94" y="50"/>
                  </a:lnTo>
                  <a:lnTo>
                    <a:pt x="94" y="58"/>
                  </a:lnTo>
                  <a:lnTo>
                    <a:pt x="88" y="58"/>
                  </a:lnTo>
                  <a:lnTo>
                    <a:pt x="80" y="66"/>
                  </a:lnTo>
                  <a:lnTo>
                    <a:pt x="80" y="72"/>
                  </a:lnTo>
                  <a:lnTo>
                    <a:pt x="72" y="72"/>
                  </a:lnTo>
                  <a:lnTo>
                    <a:pt x="72" y="80"/>
                  </a:lnTo>
                  <a:lnTo>
                    <a:pt x="66" y="88"/>
                  </a:lnTo>
                  <a:lnTo>
                    <a:pt x="58" y="94"/>
                  </a:lnTo>
                  <a:lnTo>
                    <a:pt x="58" y="102"/>
                  </a:lnTo>
                  <a:lnTo>
                    <a:pt x="50" y="102"/>
                  </a:lnTo>
                  <a:lnTo>
                    <a:pt x="50" y="110"/>
                  </a:lnTo>
                  <a:lnTo>
                    <a:pt x="50" y="116"/>
                  </a:lnTo>
                  <a:lnTo>
                    <a:pt x="44" y="116"/>
                  </a:lnTo>
                  <a:lnTo>
                    <a:pt x="44" y="124"/>
                  </a:lnTo>
                  <a:lnTo>
                    <a:pt x="44" y="132"/>
                  </a:lnTo>
                  <a:lnTo>
                    <a:pt x="44" y="138"/>
                  </a:lnTo>
                  <a:lnTo>
                    <a:pt x="36" y="138"/>
                  </a:lnTo>
                  <a:lnTo>
                    <a:pt x="36" y="146"/>
                  </a:lnTo>
                  <a:lnTo>
                    <a:pt x="36" y="154"/>
                  </a:lnTo>
                  <a:lnTo>
                    <a:pt x="36" y="160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2"/>
                  </a:lnTo>
                  <a:lnTo>
                    <a:pt x="36" y="190"/>
                  </a:lnTo>
                  <a:lnTo>
                    <a:pt x="36" y="196"/>
                  </a:lnTo>
                  <a:lnTo>
                    <a:pt x="36" y="204"/>
                  </a:lnTo>
                  <a:lnTo>
                    <a:pt x="36" y="212"/>
                  </a:lnTo>
                  <a:lnTo>
                    <a:pt x="44" y="212"/>
                  </a:lnTo>
                  <a:lnTo>
                    <a:pt x="44" y="218"/>
                  </a:lnTo>
                  <a:lnTo>
                    <a:pt x="44" y="226"/>
                  </a:lnTo>
                  <a:lnTo>
                    <a:pt x="44" y="234"/>
                  </a:lnTo>
                  <a:lnTo>
                    <a:pt x="44" y="240"/>
                  </a:lnTo>
                  <a:lnTo>
                    <a:pt x="50" y="248"/>
                  </a:lnTo>
                  <a:lnTo>
                    <a:pt x="50" y="256"/>
                  </a:lnTo>
                  <a:lnTo>
                    <a:pt x="58" y="262"/>
                  </a:lnTo>
                  <a:lnTo>
                    <a:pt x="58" y="270"/>
                  </a:lnTo>
                  <a:lnTo>
                    <a:pt x="66" y="278"/>
                  </a:lnTo>
                  <a:lnTo>
                    <a:pt x="72" y="284"/>
                  </a:lnTo>
                  <a:lnTo>
                    <a:pt x="72" y="292"/>
                  </a:lnTo>
                  <a:lnTo>
                    <a:pt x="80" y="298"/>
                  </a:lnTo>
                  <a:lnTo>
                    <a:pt x="88" y="306"/>
                  </a:lnTo>
                  <a:lnTo>
                    <a:pt x="94" y="314"/>
                  </a:lnTo>
                  <a:lnTo>
                    <a:pt x="94" y="320"/>
                  </a:lnTo>
                  <a:lnTo>
                    <a:pt x="102" y="328"/>
                  </a:lnTo>
                  <a:lnTo>
                    <a:pt x="110" y="328"/>
                  </a:lnTo>
                  <a:lnTo>
                    <a:pt x="116" y="336"/>
                  </a:lnTo>
                  <a:lnTo>
                    <a:pt x="124" y="342"/>
                  </a:lnTo>
                  <a:lnTo>
                    <a:pt x="132" y="350"/>
                  </a:lnTo>
                  <a:lnTo>
                    <a:pt x="138" y="358"/>
                  </a:lnTo>
                  <a:lnTo>
                    <a:pt x="146" y="364"/>
                  </a:lnTo>
                  <a:lnTo>
                    <a:pt x="154" y="372"/>
                  </a:lnTo>
                  <a:lnTo>
                    <a:pt x="160" y="372"/>
                  </a:lnTo>
                  <a:lnTo>
                    <a:pt x="168" y="380"/>
                  </a:lnTo>
                  <a:lnTo>
                    <a:pt x="174" y="386"/>
                  </a:lnTo>
                  <a:lnTo>
                    <a:pt x="182" y="394"/>
                  </a:lnTo>
                  <a:lnTo>
                    <a:pt x="196" y="402"/>
                  </a:lnTo>
                  <a:lnTo>
                    <a:pt x="204" y="402"/>
                  </a:lnTo>
                  <a:lnTo>
                    <a:pt x="212" y="408"/>
                  </a:lnTo>
                  <a:lnTo>
                    <a:pt x="218" y="416"/>
                  </a:lnTo>
                  <a:lnTo>
                    <a:pt x="234" y="416"/>
                  </a:lnTo>
                  <a:lnTo>
                    <a:pt x="240" y="424"/>
                  </a:lnTo>
                  <a:lnTo>
                    <a:pt x="240" y="4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テキスト ボックス 16"/>
          <p:cNvSpPr/>
          <p:nvPr/>
        </p:nvSpPr>
        <p:spPr>
          <a:xfrm>
            <a:off x="1018800" y="8713800"/>
            <a:ext cx="6488640" cy="173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138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おいしいケーキで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138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　　　　おもてなし。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3:48:20Z</dcterms:created>
  <dc:creator>seisaku</dc:creator>
  <dc:description/>
  <dc:language>en-US</dc:language>
  <cp:lastModifiedBy>seisaku</cp:lastModifiedBy>
  <dcterms:modified xsi:type="dcterms:W3CDTF">2012-05-15T03:58:23Z</dcterms:modified>
  <cp:revision>2</cp:revision>
  <dc:subject/>
  <dc:title>スライド 1</dc:title>
</cp:coreProperties>
</file>